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575E-E23E-4BF6-9841-243A9AB8C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B230-E6CE-4B1B-9B63-80673D608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FA46-30CC-4A08-94C4-5B349BAC8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4067-3160-48EE-BB06-20F38323E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EA4A2-EF65-43F5-8955-BA8C57CC4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19176-5E57-4D0A-81F2-8F2E0530F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443E7-59B4-470C-BA06-36EB89F01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56689-B7FD-4F6F-B46C-54189958C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47B26-6EB7-4D34-AB2C-9B3024415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A6940-31B7-4263-8ABB-E5E7622B3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73418-F05C-4452-915A-4BD1453B8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3213-2F6C-4C53-9539-052844957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A9894-479C-4847-A686-226EFC50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D06ED-088E-436F-97D9-09B72F93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42E81-6F10-43AF-B324-1D57F1BDE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E1F30-5499-4C49-87E8-0F9987026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A52C1-73AE-4D45-A207-6A97B8D83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1052-D233-4579-8992-4553FDD2F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A8B5-AF8E-403D-BBF5-54D28DE58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6DA3-1879-4A01-B8DA-854893E33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E554-E711-4CA4-9BE9-A16659888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A90B-D376-4997-8A15-791397A5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F639-37B0-48AE-A6C2-FD9A88EA6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60CC-9A6A-4F7C-ABC9-FD7247014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16997-A86D-4235-92CE-C6C44CC350D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A0666-0D1D-496E-9E49-F4142551600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c.permkultura.ru/getImage.do?object=1804205677&amp;original=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allery.permonline.ru/exhibitions/archive/40/f1.htm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gallery.permonline.ru/exhibitions/archive/40/f1.htm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allery.permonline.ru/exhibitions/archive/40/f1.htm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cc"/>
                </a:solidFill>
                <a:latin typeface="Tahoma"/>
              </a:rPr>
              <a:t>СОЧИНЕНИЕ ПО КАРТИНЕ</a:t>
            </a:r>
            <a:br>
              <a:rPr sz="4800"/>
            </a:br>
            <a:r>
              <a:rPr b="1" lang="ru-RU" sz="4800" spc="-1" strike="noStrike">
                <a:solidFill>
                  <a:srgbClr val="ffffcc"/>
                </a:solidFill>
                <a:latin typeface="Tahoma"/>
              </a:rPr>
              <a:t>Е. Н. ШИРОКОВА «ДРУЗЬЯ»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усский язык – 7 кл.                  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TextBox 5"/>
          <p:cNvSpPr/>
          <p:nvPr/>
        </p:nvSpPr>
        <p:spPr>
          <a:xfrm>
            <a:off x="5543640" y="593424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Шевцова Л.Г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Прямоугольник 4"/>
          <p:cNvSpPr/>
          <p:nvPr/>
        </p:nvSpPr>
        <p:spPr>
          <a:xfrm>
            <a:off x="611280" y="4149720"/>
            <a:ext cx="820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59"/>
                </a:solidFill>
                <a:latin typeface="Tahoma"/>
              </a:rPr>
              <a:t>Цели: </a:t>
            </a:r>
            <a:r>
              <a:rPr b="0" lang="ru-RU" sz="2400" spc="-1" strike="noStrike">
                <a:solidFill>
                  <a:srgbClr val="ffff59"/>
                </a:solidFill>
                <a:latin typeface="Tahoma"/>
              </a:rPr>
              <a:t>совершенствовать навыки описания произведений живопис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59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59"/>
                </a:solidFill>
                <a:latin typeface="Tahoma"/>
              </a:rPr>
              <a:t>развивать воображение учеников, навыки устной и письменной реч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Беседа по вопросам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Как вы считаете, почему художник </a:t>
            </a: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так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назвал свою картину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Что значит по-вашему </a:t>
            </a: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дружба, друзья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толковом словаре Ожегова читаем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Друг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1) тот, кто связан с кем-нибудь дружбо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) сторонник, защитник кого-нибудь или чего-нибуд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Дружб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близкие отношения, основанные на взаимном доверии, привязанности, общности интерес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Какие пословицы о дружбе вы знаете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79280" y="1413000"/>
            <a:ext cx="896472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- Старый друг лучше новых дву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- Без друга  в жизни туг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- Без друга на сердце вьюг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- Верному другу цены не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- Дружба не гриб, в лесу не найдеш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- Друга ищи, а найдешь – берег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- Крепкую дружбу и топором не разрубиш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- Человек без друзей – что дерево без корн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- Друга иметь – себя не жале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- Для хорошего друга не жаль ни хлеба, ни досуга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8964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го мы видим на картине?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Каким настроением проникнуты персонажи картины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ие жесты, выражение лица, глаза мальчика говорят о том, что он огорчен?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могло произойти до того момента, который изображен на картине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ое настроение возникло у вас при рассматривании картины? Почему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457200" y="620640"/>
          <a:ext cx="8229600" cy="5904000"/>
        </p:xfrm>
        <a:graphic>
          <a:graphicData uri="http://schemas.openxmlformats.org/drawingml/2006/table">
            <a:tbl>
              <a:tblPr/>
              <a:tblGrid>
                <a:gridCol w="2459160"/>
                <a:gridCol w="5770440"/>
              </a:tblGrid>
              <a:tr h="176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альчик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редства художественной выразительности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ицо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лаза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з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дежда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457200" y="620640"/>
          <a:ext cx="8229600" cy="5904000"/>
        </p:xfrm>
        <a:graphic>
          <a:graphicData uri="http://schemas.openxmlformats.org/drawingml/2006/table">
            <a:tbl>
              <a:tblPr/>
              <a:tblGrid>
                <a:gridCol w="2459160"/>
                <a:gridCol w="5770440"/>
              </a:tblGrid>
              <a:tr h="176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альчик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редства художественной выразительности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Лицо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лаза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рустное, открытое, доброе, смуглое, худощаво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адумчивые, опущенный вниз взгляд, глядящие с любовью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з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дежда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идит, подогнув под себя ногу; гладит собак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покойных тонов, сине-серая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 каким вам видится четвероногий друг мальчика? Опишите собак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ие тона, краски использовал художник, чтобы создать определенное настроени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Распределите в два столбика:</a:t>
            </a:r>
            <a:br>
              <a:rPr sz="4400"/>
            </a:b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мальчик , соба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0" name="Содержимое 2" descr=""/>
          <p:cNvPicPr/>
          <p:nvPr/>
        </p:nvPicPr>
        <p:blipFill>
          <a:blip r:embed="rId1"/>
          <a:stretch/>
        </p:blipFill>
        <p:spPr>
          <a:xfrm>
            <a:off x="450720" y="1371600"/>
            <a:ext cx="8242560" cy="50166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3"/>
          <p:cNvSpPr/>
          <p:nvPr/>
        </p:nvSpPr>
        <p:spPr>
          <a:xfrm>
            <a:off x="539640" y="6308640"/>
            <a:ext cx="80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Какие слова и выражения вы не выписали? Почему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пишите рассказ от имени мальчика (можно и от своего имени). Сколько частей будет в вашем сочинени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 чем вы напишете в первой части? Во второй? В третьей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писанию чего вы уделите особое внимани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3"/>
          <p:cNvSpPr/>
          <p:nvPr/>
        </p:nvSpPr>
        <p:spPr>
          <a:xfrm>
            <a:off x="324000" y="692280"/>
            <a:ext cx="864216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ередо мной лежит иллюстрация к картине Е.Широкова «Друзья». Главные персонажи в этой картине - мальчик и собака.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    Мальчик одет в синюю футболку, серые штаны и сандалии. Он нежно гладит своего друга по мягкой шерсти, как будто прося о помощи.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    Собака смотрит на него понимающими глазами, но, к сожалению, не может ничего ответить. Собака черного окраса, только кончики лап белые. Одно ухо у нее прижато к голове, другое приподнято, как будто она хочет вникнуть в проблему хозяина. Она тоже грустит, наверное, потому что грустит ее хозяин.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    Отношения между мальчиком и собакой очень теплые, нежные. Недаром эта картина называется друзья. Ведь у друзей радости и печали одни на двоих. Собака умеет выслушать все проблемы хозяина от двойки в школе, до проблем в доме. Ну, и радоваться она имеет вместе с ним.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    Наверное, мальчик сейчас думает о том, как ему плохо, и надеется, что собака ему поможет своим вниманием и умением слушать.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    Собака, скорее всего, думает о том, как плохо ее хозяину и что надо ему помочь, выслушать его проблему. Еще мне кажется, что она переживает, потому что не может помочь ему по-другому, но я думаю, что умение выслушать – это тоже большая помощь.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    В этой картине очень темные цвета. Наверное, из-за того, что мальчик и собака грустят. Диван, на котором они сидят, красного цвета. Он помят. Стена на этой картине тусклая. Это говорит о грусти тех, кто находится в этой комнате.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    Мне очень понравилась эта картина, потому что она показывает взаимоотношения между мальчиком и собакой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                  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(из Интернета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1187280" y="115920"/>
            <a:ext cx="736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чинение по картине Е.Н.Широкова «Друзья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Евгений Николаевич Широков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0" y="1642680"/>
            <a:ext cx="51436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Евгений Николаевич родился в 1931 году в городе Касли Челябинской области, двенадцатилетним начал работать на всемирно известном заводе художественного литья. Раннее трудовое взросление развило способности понимать жизнь и людей, общение же с искусством привило взгляд на него как на повседневный, обязательный труд, убедительно показало, что красота выходит из усилий работающей руки. Учеба в Свердловском художественном училище, а затем в Ленинградском высшем художественно-промышленном училище им. В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ухиной дала необходимые навыки и знания, утвердила в правильности намеченного себе пути. Местом жизни и работы Широков избрал Пермь (1958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i-main-pic" descr="Картинка 5 из 3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29160" y="1571760"/>
            <a:ext cx="3460680" cy="49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Широков Евгений Николаевич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- художник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  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26.03.1931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родный художник СССР (1986), один из ведущих художников Урала, яркий мастер русского реалистического искусства II пол. XX век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гражден орденами «Знак почета»(1981) и «Петр Великий», дипломом Академии художеств(1979), медалями и грамотами Министерства культуры СССР и РСФСР, Верховного Совета РСФСР(1973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3"/>
          <p:cNvSpPr/>
          <p:nvPr/>
        </p:nvSpPr>
        <p:spPr>
          <a:xfrm>
            <a:off x="826920" y="145800"/>
            <a:ext cx="71298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Произведения Широкова хранятся более чем в 15 музеях России, в том числе в главной сокровищнице национального искусства - Государственной Третьяковской галерее. Есть его работы и в частных собраниях России и за рубежом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Содержимое 6" descr="http://www.gallery.permonline.ru/exhibitions/pic/40/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4200" y="2357280"/>
            <a:ext cx="3000600" cy="385776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8"/>
          <p:cNvSpPr/>
          <p:nvPr/>
        </p:nvSpPr>
        <p:spPr>
          <a:xfrm>
            <a:off x="-104400" y="6286680"/>
            <a:ext cx="48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ртрет писателя В.П.Астафьева 1969го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Рисунок 9" descr="http://www.gallery.permonline.ru/exhibitions/pic/40/3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143240" y="2500200"/>
            <a:ext cx="4762800" cy="372456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10"/>
          <p:cNvSpPr/>
          <p:nvPr/>
        </p:nvSpPr>
        <p:spPr>
          <a:xfrm>
            <a:off x="4877640" y="6286680"/>
            <a:ext cx="432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ртрет актера Е. Капеляна 1973 го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Прямоугольник 11"/>
          <p:cNvSpPr/>
          <p:nvPr/>
        </p:nvSpPr>
        <p:spPr>
          <a:xfrm>
            <a:off x="285840" y="357120"/>
            <a:ext cx="86439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59"/>
                </a:solidFill>
                <a:latin typeface="Tahoma"/>
              </a:rPr>
              <a:t>Портретные образы известных деятелей культуры, которым посвятил свои труды и дни Е. Н. Широков- свидетельство интереса автора к проблемам поиска человеком самого себя, своего места в духовной жизни общества.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дной из наиболее востребованной тематической разновидностью портрета почти на десятилетие станет портрет-раздумь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Содержимое 3" descr="http://www.gallery.permonline.ru/exhibitions/pic/40/4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5840" y="2786040"/>
            <a:ext cx="4500360" cy="342900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4"/>
          <p:cNvSpPr/>
          <p:nvPr/>
        </p:nvSpPr>
        <p:spPr>
          <a:xfrm>
            <a:off x="0" y="6286680"/>
            <a:ext cx="47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ртрет Д. Кабалевского 1971го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i-main-pic" descr="Картинка 7 из 31"/>
          <p:cNvPicPr/>
          <p:nvPr/>
        </p:nvPicPr>
        <p:blipFill>
          <a:blip r:embed="rId3"/>
          <a:stretch/>
        </p:blipFill>
        <p:spPr>
          <a:xfrm>
            <a:off x="5786280" y="1143000"/>
            <a:ext cx="3114720" cy="507204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6"/>
          <p:cNvSpPr/>
          <p:nvPr/>
        </p:nvSpPr>
        <p:spPr>
          <a:xfrm>
            <a:off x="4401000" y="6286680"/>
            <a:ext cx="480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ртрет художника Т.Коваленко 1972го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Rectangle 1"/>
          <p:cNvSpPr/>
          <p:nvPr/>
        </p:nvSpPr>
        <p:spPr>
          <a:xfrm>
            <a:off x="214200" y="156240"/>
            <a:ext cx="53578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59"/>
                </a:solidFill>
                <a:latin typeface="Arial"/>
                <a:ea typeface="Times New Roman"/>
              </a:rPr>
              <a:t>Творчество Широкова может свидетельствовать о прошедших днях тем, кто придет после нас. Ибо, помимо чисто эстетических и пластических достоинств, его работы содержат в себе волнующий человеческий документ, отпечаток личности их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создателя, живущего напряженно и активно. И это большой и достойный уважения дар - не опережать свое время и не отставать от него, а идти с ним вровень, не отклоняясь от его забот. Этим даром природа наградила Е.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  <a:ea typeface="Times New Roman"/>
              </a:rPr>
              <a:t> 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Н.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  <a:ea typeface="Times New Roman"/>
              </a:rPr>
              <a:t> 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Широкова в полной мер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5" descr="http://www.gallery.permonline.ru/exhibitions/pic/40/7.jpg"/>
          <p:cNvPicPr/>
          <p:nvPr/>
        </p:nvPicPr>
        <p:blipFill>
          <a:blip r:embed="rId1"/>
          <a:stretch/>
        </p:blipFill>
        <p:spPr>
          <a:xfrm>
            <a:off x="5364000" y="620640"/>
            <a:ext cx="3780000" cy="568800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6"/>
          <p:cNvSpPr/>
          <p:nvPr/>
        </p:nvSpPr>
        <p:spPr>
          <a:xfrm>
            <a:off x="2888280" y="6211800"/>
            <a:ext cx="29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ртрет балерины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ди Павловой 1976 го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Рисунок 7" descr="http://www.gallery.permonline.ru/exhibitions/pic/40/8.jpg"/>
          <p:cNvPicPr/>
          <p:nvPr/>
        </p:nvPicPr>
        <p:blipFill>
          <a:blip r:embed="rId2"/>
          <a:stretch/>
        </p:blipFill>
        <p:spPr>
          <a:xfrm>
            <a:off x="179280" y="476280"/>
            <a:ext cx="4537080" cy="403236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8"/>
          <p:cNvSpPr/>
          <p:nvPr/>
        </p:nvSpPr>
        <p:spPr>
          <a:xfrm>
            <a:off x="2738160" y="4437000"/>
            <a:ext cx="289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Юный хоккеист 1971го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Содержимое 3" descr="http://www.gallery.permonline.ru/exhibitions/pic/40/9.jpg"/>
          <p:cNvPicPr/>
          <p:nvPr/>
        </p:nvPicPr>
        <p:blipFill>
          <a:blip r:embed="rId1"/>
          <a:stretch/>
        </p:blipFill>
        <p:spPr>
          <a:xfrm>
            <a:off x="214200" y="2357280"/>
            <a:ext cx="3571920" cy="371484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оугольник 4"/>
          <p:cNvSpPr/>
          <p:nvPr/>
        </p:nvSpPr>
        <p:spPr>
          <a:xfrm>
            <a:off x="546840" y="6215040"/>
            <a:ext cx="29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среди России 1983го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Рисунок 5" descr="http://www.gallery.permonline.ru/exhibitions/pic/40/6.jpg"/>
          <p:cNvPicPr/>
          <p:nvPr/>
        </p:nvPicPr>
        <p:blipFill>
          <a:blip r:embed="rId2"/>
          <a:stretch/>
        </p:blipFill>
        <p:spPr>
          <a:xfrm>
            <a:off x="3929040" y="142920"/>
            <a:ext cx="4762440" cy="293364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6"/>
          <p:cNvSpPr/>
          <p:nvPr/>
        </p:nvSpPr>
        <p:spPr>
          <a:xfrm>
            <a:off x="172080" y="428760"/>
            <a:ext cx="359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20000"/>
                </a:solidFill>
                <a:latin typeface="Tahoma"/>
              </a:rPr>
              <a:t>Баллада о художнике 1976 го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i-main-pic" descr="Картинка 2 из 31"/>
          <p:cNvPicPr/>
          <p:nvPr/>
        </p:nvPicPr>
        <p:blipFill>
          <a:blip r:embed="rId3"/>
          <a:stretch/>
        </p:blipFill>
        <p:spPr>
          <a:xfrm>
            <a:off x="6215040" y="3214800"/>
            <a:ext cx="2728800" cy="342900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8"/>
          <p:cNvSpPr/>
          <p:nvPr/>
        </p:nvSpPr>
        <p:spPr>
          <a:xfrm>
            <a:off x="3774960" y="5643720"/>
            <a:ext cx="256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втопортрет 1983го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755640" y="378000"/>
            <a:ext cx="7726320" cy="64800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4"/>
          <p:cNvSpPr/>
          <p:nvPr/>
        </p:nvSpPr>
        <p:spPr>
          <a:xfrm>
            <a:off x="826920" y="476280"/>
            <a:ext cx="33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«Друзья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20:59:25Z</dcterms:created>
  <dc:creator>USER</dc:creator>
  <dc:description/>
  <dc:language>en-US</dc:language>
  <cp:lastModifiedBy>Пользователь</cp:lastModifiedBy>
  <dcterms:modified xsi:type="dcterms:W3CDTF">2017-01-11T18:20:11Z</dcterms:modified>
  <cp:revision>22</cp:revision>
  <dc:subject/>
  <dc:title>СОЧИНЕНИЕ ПО КАРТИНЕ Е. М. ШИРОКОВА «ДРУЗЬЯ»</dc:title>
</cp:coreProperties>
</file>