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8D8-3D1E-44A5-A588-51384D17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3FBA-5514-4C73-ADD6-D5E7DFF8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35A-5261-43D6-AF1A-40275F1D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F83-68B7-4B55-B0C6-10D0A2BB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55EA-E487-40BB-AE53-AACB5D0E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4540-FF7A-472C-B8C6-BB529778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0BFD-ADD5-4F45-929F-8301B33A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3400-51E8-4F34-81D2-6279DC4B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FE0D-4BE9-4EFA-91DC-91F3A34F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D315-2B51-428C-B85D-FF9CC6EC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57AF-F0ED-45F5-91A1-4963FEB1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2CD-9A98-495A-AEDA-5FEBB3E0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1BA6-E580-4AC4-A52B-E8AE4270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08EF-F498-423E-B702-5E9D40B6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DAB2-420E-4060-A7F1-37232222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34FD-2AF1-4876-BBEC-CF411246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B32D-59EA-4361-8C36-1EE1E88A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475-840A-4729-A498-22EE9825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0D8-5E55-4FA7-8585-5B2129C9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BC2D-AA7B-4F86-AC7E-164AE4F1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FAE-2D2C-4592-8937-4A5B6B12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930-EDB3-4252-A590-E1F8788A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D0B-FD82-4889-8ED1-FE234C00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50A-BA08-47EA-BC9C-83750FBC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0080-62AF-491F-B4E4-69BA43E6FCA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DFF3-3100-4BC4-BBEE-68EE1561A85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c.permkultura.ru/getImage.do?object=1804205677&amp;original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llery.permonline.ru/exhibitions/archive/40/f1.ht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allery.permonline.ru/exhibitions/archive/40/f1.htm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allery.permonline.ru/exhibitions/archive/40/f1.htm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СОЧИНЕНИЕ ПО КАРТИНЕ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Е. Н. ШИРОКОВА «ДРУЗЬЯ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усский язык – 7 кл.                 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5543640" y="593424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евцова Л.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611280" y="414972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59"/>
                </a:solidFill>
                <a:latin typeface="Tahoma"/>
              </a:rPr>
              <a:t>Цели: </a:t>
            </a:r>
            <a:r>
              <a:rPr b="0" lang="ru-RU" sz="2400" spc="-1" strike="noStrike">
                <a:solidFill>
                  <a:srgbClr val="ffff59"/>
                </a:solidFill>
                <a:latin typeface="Tahoma"/>
              </a:rPr>
              <a:t>совершенствовать навыки описания произведений живопис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5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59"/>
                </a:solidFill>
                <a:latin typeface="Tahoma"/>
              </a:rPr>
              <a:t>развивать воображение учеников, навыки устной и письменной р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Беседа по вопросам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ак вы считаете, почему художник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так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назвал свою картину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то значит по-вашему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дружба, друзь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толковом словаре Ожегова читае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ру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1) тот, кто связан с кем-нибудь дружбо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сторонник, защитник кого-нибудь или чего-нибуд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ружб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близкие отношения, основанные на взаимном доверии, привязанности, общности интере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кие пословицы о дружбе вы знает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79280" y="1413000"/>
            <a:ext cx="896472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Старый друг лучше новых дву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Без друга  в жизни ту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Без друга на сердце вью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Верному другу цены н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Дружба не гриб, в лесу не найдеш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Друга ищи, а найдешь – бере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Крепкую дружбу и топором не разрубиш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Человек без друзей – что дерево без корн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Друга иметь – себя не жале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Для хорошего друга не жаль ни хлеба, ни досуг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о мы видим на картине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м настроением проникнуты персонажи картины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жесты, выражение лица, глаза мальчика говорят о том, что он огорчен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могло произойти до того момента, который изображен на картин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е настроение возникло у вас при рассматривании картины? Почему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620640"/>
          <a:ext cx="8229600" cy="5904000"/>
        </p:xfrm>
        <a:graphic>
          <a:graphicData uri="http://schemas.openxmlformats.org/drawingml/2006/table">
            <a:tbl>
              <a:tblPr/>
              <a:tblGrid>
                <a:gridCol w="2459160"/>
                <a:gridCol w="5770440"/>
              </a:tblGrid>
              <a:tr h="17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льчик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ства художественной выразительност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ц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лаз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з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ежд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620640"/>
          <a:ext cx="8229600" cy="5904000"/>
        </p:xfrm>
        <a:graphic>
          <a:graphicData uri="http://schemas.openxmlformats.org/drawingml/2006/table">
            <a:tbl>
              <a:tblPr/>
              <a:tblGrid>
                <a:gridCol w="2459160"/>
                <a:gridCol w="5770440"/>
              </a:tblGrid>
              <a:tr h="17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льчик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ства художественной выразительност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ц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лаз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устное, открытое, доброе, смуглое, худощав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умчивые, опущенный вниз взгляд, глядящие с любовью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з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ежд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дит, подогнув под себя ногу; гладит собак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окойных тонов, сине-сера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каким вам видится четвероногий друг мальчика? Опишите соба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тона, краски использовал художник, чтобы создать определенное настро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спределите в два столбика: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альчик , соба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Содержимое 2" descr=""/>
          <p:cNvPicPr/>
          <p:nvPr/>
        </p:nvPicPr>
        <p:blipFill>
          <a:blip r:embed="rId1"/>
          <a:stretch/>
        </p:blipFill>
        <p:spPr>
          <a:xfrm>
            <a:off x="450720" y="1371600"/>
            <a:ext cx="8242560" cy="50166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539640" y="630864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Какие слова и выражения вы не выписали? Почему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ишите рассказ от имени мальчика (можно и от своего имени). Сколько частей будет в вашем сочине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 чем вы напишете в первой части? Во второй? В треть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исанию чего вы уделите особое вним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324000" y="692280"/>
            <a:ext cx="86421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ередо мной лежит иллюстрация к картине Е.Широкова «Друзья». Главные персонажи в этой картине - мальчик и собака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Мальчик одет в синюю футболку, серые штаны и сандалии. Он нежно гладит своего друга по мягкой шерсти, как будто прося о помощи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Собака смотрит на него понимающими глазами, но, к сожалению, не может ничего ответить. Собака черного окраса, только кончики лап белые. Одно ухо у нее прижато к голове, другое приподнято, как будто она хочет вникнуть в проблему хозяина. Она тоже грустит, наверное, потому что грустит ее хозяин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Отношения между мальчиком и собакой очень теплые, нежные. Недаром эта картина называется друзья. Ведь у друзей радости и печали одни на двоих. Собака умеет выслушать все проблемы хозяина от двойки в школе, до проблем в доме. Ну, и радоваться она имеет вместе с ним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Наверное, мальчик сейчас думает о том, как ему плохо, и надеется, что собака ему поможет своим вниманием и умением слушат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Собака, скорее всего, думает о том, как плохо ее хозяину и что надо ему помочь, выслушать его проблему. Еще мне кажется, что она переживает, потому что не может помочь ему по-другому, но я думаю, что умение выслушать – это тоже большая помощ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В этой картине очень темные цвета. Наверное, из-за того, что мальчик и собака грустят. Диван, на котором они сидят, красного цвета. Он помят. Стена на этой картине тусклая. Это говорит о грусти тех, кто находится в этой комнате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Мне очень понравилась эта картина, потому что она показывает взаимоотношения между мальчиком и собак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(из Интернет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187280" y="115920"/>
            <a:ext cx="73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чинение по картине Е.Н.Широкова «Друзь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Евгений Николаевич Широк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642680"/>
            <a:ext cx="5143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вгений Николаевич родился в 1931 году в городе Касли Челябинской области, двенадцатилетним начал работать на всемирно известном заводе художественного литья. Раннее трудовое взросление развило способности понимать жизнь и людей, общение же с искусством привило взгляд на него как на повседневный, обязательный труд, убедительно показало, что красота выходит из усилий работающей руки. Учеба в Свердловском художественном училище, а затем в Ленинградском высшем художественно-промышленном училище им. В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хиной дала необходимые навыки и знания, утвердила в правильности намеченного себе пути. Местом жизни и работы Широков избрал Пермь (1958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i-main-pic" descr="Картинка 5 из 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1571760"/>
            <a:ext cx="346068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Широков Евгений Николаевич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- художник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26.03.1931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одный художник СССР (1986), один из ведущих художников Урала, яркий мастер русского реалистического искусства II пол. XX 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гражден орденами «Знак почета»(1981) и «Петр Великий», дипломом Академии художеств(1979), медалями и грамотами Министерства культуры СССР и РСФСР, Верховного Совета РСФСР(197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826920" y="145800"/>
            <a:ext cx="71298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оизведения Широкова хранятся более чем в 15 музеях России, в том числе в главной сокровищнице национального искусства - Государственной Третьяковской галерее. Есть его работы и в частных собраниях России и за рубежом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6" descr="http://www.gallery.permonline.ru/exhibitions/pic/40/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357280"/>
            <a:ext cx="3000600" cy="38577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8"/>
          <p:cNvSpPr/>
          <p:nvPr/>
        </p:nvSpPr>
        <p:spPr>
          <a:xfrm>
            <a:off x="-104400" y="6286680"/>
            <a:ext cx="48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ртрет писателя В.П.Астафьева 1969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Рисунок 9" descr="http://www.gallery.permonline.ru/exhibitions/pic/40/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3240" y="2500200"/>
            <a:ext cx="4762800" cy="37245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0"/>
          <p:cNvSpPr/>
          <p:nvPr/>
        </p:nvSpPr>
        <p:spPr>
          <a:xfrm>
            <a:off x="4877640" y="6286680"/>
            <a:ext cx="43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ртрет актера Е. Капеляна 1973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285840" y="357120"/>
            <a:ext cx="864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59"/>
                </a:solidFill>
                <a:latin typeface="Tahoma"/>
              </a:rPr>
              <a:t>Портретные образы известных деятелей культуры, которым посвятил свои труды и дни Е. Н. Широков- свидетельство интереса автора к проблемам поиска человеком самого себя, своего места в духовной жизни общества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ной из наиболее востребованной тематической разновидностью портрета почти на десятилетие станет портрет-раздумь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3" descr="http://www.gallery.permonline.ru/exhibitions/pic/40/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786040"/>
            <a:ext cx="4500360" cy="3429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0" y="628668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ртрет Д. Кабалевского 1971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i-main-pic" descr="Картинка 7 из 31"/>
          <p:cNvPicPr/>
          <p:nvPr/>
        </p:nvPicPr>
        <p:blipFill>
          <a:blip r:embed="rId3"/>
          <a:stretch/>
        </p:blipFill>
        <p:spPr>
          <a:xfrm>
            <a:off x="5786280" y="1143000"/>
            <a:ext cx="3114720" cy="50720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6"/>
          <p:cNvSpPr/>
          <p:nvPr/>
        </p:nvSpPr>
        <p:spPr>
          <a:xfrm>
            <a:off x="4401000" y="6286680"/>
            <a:ext cx="48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ртрет художника Т.Коваленко 1972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214200" y="156240"/>
            <a:ext cx="53578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59"/>
                </a:solidFill>
                <a:latin typeface="Arial"/>
                <a:ea typeface="Times New Roman"/>
              </a:rPr>
              <a:t>Творчество Широкова может свидетельствовать о прошедших днях тем, кто придет после нас. Ибо, помимо чисто эстетических и пластических достоинств, его работы содержат в себе волнующий человеческий документ, отпечаток личности их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оздателя, живущего напряженно и активно. И это большой и достойный уважения дар - не опережать свое время и не отставать от него, а идти с ним вровень, не отклоняясь от его забот. Этим даром природа наградила Е.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.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Широкова в полной мер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5" descr="http://www.gallery.permonline.ru/exhibitions/pic/40/7.jpg"/>
          <p:cNvPicPr/>
          <p:nvPr/>
        </p:nvPicPr>
        <p:blipFill>
          <a:blip r:embed="rId1"/>
          <a:stretch/>
        </p:blipFill>
        <p:spPr>
          <a:xfrm>
            <a:off x="5364000" y="620640"/>
            <a:ext cx="3780000" cy="5688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2888280" y="6211800"/>
            <a:ext cx="29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ртрет балери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ди Павловой 1976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Рисунок 7" descr="http://www.gallery.permonline.ru/exhibitions/pic/40/8.jpg"/>
          <p:cNvPicPr/>
          <p:nvPr/>
        </p:nvPicPr>
        <p:blipFill>
          <a:blip r:embed="rId2"/>
          <a:stretch/>
        </p:blipFill>
        <p:spPr>
          <a:xfrm>
            <a:off x="179280" y="476280"/>
            <a:ext cx="4537080" cy="40323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8"/>
          <p:cNvSpPr/>
          <p:nvPr/>
        </p:nvSpPr>
        <p:spPr>
          <a:xfrm>
            <a:off x="2738160" y="443700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ный хоккеист 1971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3" descr="http://www.gallery.permonline.ru/exhibitions/pic/40/9.jpg"/>
          <p:cNvPicPr/>
          <p:nvPr/>
        </p:nvPicPr>
        <p:blipFill>
          <a:blip r:embed="rId1"/>
          <a:stretch/>
        </p:blipFill>
        <p:spPr>
          <a:xfrm>
            <a:off x="214200" y="2357280"/>
            <a:ext cx="3571920" cy="37148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546840" y="621504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реди России 1983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5" descr="http://www.gallery.permonline.ru/exhibitions/pic/40/6.jpg"/>
          <p:cNvPicPr/>
          <p:nvPr/>
        </p:nvPicPr>
        <p:blipFill>
          <a:blip r:embed="rId2"/>
          <a:stretch/>
        </p:blipFill>
        <p:spPr>
          <a:xfrm>
            <a:off x="3929040" y="142920"/>
            <a:ext cx="4762440" cy="29336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6"/>
          <p:cNvSpPr/>
          <p:nvPr/>
        </p:nvSpPr>
        <p:spPr>
          <a:xfrm>
            <a:off x="172080" y="428760"/>
            <a:ext cx="35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00"/>
                </a:solidFill>
                <a:latin typeface="Tahoma"/>
              </a:rPr>
              <a:t>Баллада о художнике 1976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i-main-pic" descr="Картинка 2 из 31"/>
          <p:cNvPicPr/>
          <p:nvPr/>
        </p:nvPicPr>
        <p:blipFill>
          <a:blip r:embed="rId3"/>
          <a:stretch/>
        </p:blipFill>
        <p:spPr>
          <a:xfrm>
            <a:off x="6215040" y="3214800"/>
            <a:ext cx="2728800" cy="3429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8"/>
          <p:cNvSpPr/>
          <p:nvPr/>
        </p:nvSpPr>
        <p:spPr>
          <a:xfrm>
            <a:off x="3774960" y="564372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портрет 1983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755640" y="378000"/>
            <a:ext cx="7726320" cy="6480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826920" y="476280"/>
            <a:ext cx="33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«Друзья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0:59:25Z</dcterms:created>
  <dc:creator>USER</dc:creator>
  <dc:description/>
  <dc:language>en-US</dc:language>
  <cp:lastModifiedBy>Пользователь</cp:lastModifiedBy>
  <dcterms:modified xsi:type="dcterms:W3CDTF">2017-01-11T18:20:11Z</dcterms:modified>
  <cp:revision>22</cp:revision>
  <dc:subject/>
  <dc:title>СОЧИНЕНИЕ ПО КАРТИНЕ Е. М. ШИРОКОВА «ДРУЗЬЯ»</dc:title>
</cp:coreProperties>
</file>