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ADD-79C2-4C36-A8DF-AB9C0BF1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FAE-F813-43B1-B04F-A034071B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0B3-4F80-41C4-A0D4-F35212C1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FC4-BB9C-440C-9564-BB471503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AE7-C493-4EF7-9160-CC124346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34E-3F26-4106-95AE-17E61B6B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2E1-C67B-4845-ADC3-30E86FE5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563-E95D-4C40-9326-E8C93C54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D1D-31FB-4975-9F77-9AB6E626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497-0F33-4290-9F74-96BFF3DC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0D8-6D73-4DF9-A299-35992D43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B96-20C8-4B7A-B36D-875911DF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7AA7-8D8F-4B92-B587-EF6D76C4A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нципы русской орфограф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ий вечер, прежние хозяева, нечто новое, что-то известное, вечный зов, сделать нарочно, сердечный приступ, новая прачечная, пустячный случай, конечно исполнишь, довольно скучно, наши сверстники, участвовать в параде, чувствовать ответственность.</a:t>
            </a:r>
            <a:r>
              <a:rPr b="0" lang="ru-RU" sz="40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280" y="228600"/>
          <a:ext cx="8915400" cy="6473880"/>
        </p:xfrm>
        <a:graphic>
          <a:graphicData uri="http://schemas.openxmlformats.org/drawingml/2006/table">
            <a:tbl>
              <a:tblPr/>
              <a:tblGrid>
                <a:gridCol w="2229120"/>
                <a:gridCol w="2228760"/>
                <a:gridCol w="2228760"/>
                <a:gridCol w="2228760"/>
              </a:tblGrid>
              <a:tr h="65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38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ав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352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емл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352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дом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38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р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одн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352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и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далек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1"/>
          <p:cNvSpPr/>
          <p:nvPr/>
        </p:nvSpPr>
        <p:spPr>
          <a:xfrm>
            <a:off x="2286000" y="311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ческие чередования зву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523880"/>
          <a:ext cx="8610480" cy="530388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898560"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ласные зву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5320"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о//-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е//-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//о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э//и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ы//о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э//о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//им//м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у//он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х - мх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ь - корн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р - загоре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реть - замир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шать - вздо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зти - вози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ь - понимать - пойм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 - зв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0880" y="228600"/>
          <a:ext cx="8458200" cy="640080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677880"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гласные зву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22920"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п//пл; м//мл; б//бл; в//вл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с//ш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з//ж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х//ш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д//с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ц//ч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ск//ст//щ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т//ч//щ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д//ж//жд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к//ц//ч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ить - куплю, земной - зем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ить - нош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ить - вож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ой - су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ёт - в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ц - оте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еск - блестеть - блещ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 - свеча - осв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рада - огорожу - ограж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лик - клич - восклиц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нетические на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960" y="10666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ния ПРИСТАВОК на -З (-С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безбрежный - бесплановы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ние приставки РАЗ- (РАС-) - РОЗ- (РОС-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: разыскать - розыск, расписать - роспись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писание Ы вместо начального И после приставок на твёрдый согласный (см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АСНЫЕ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Ы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и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ОСЛЕ ПРИСТАВО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подыскать, безыдейны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нетические (позиционные) чер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600200"/>
          <a:ext cx="8839440" cy="510552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2876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ласные зв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</a:tr>
              <a:tr h="193500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о//Λ//ъ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//Λ//ъ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о//и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ь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//и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ь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э//и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ь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о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ый - 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Λ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да - 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ъ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а - т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Λ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 - т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ъ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вя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о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- 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и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ёт - 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ь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 - п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и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 - п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тидесят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э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ь -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и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 -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ь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десят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ласные зв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</a:tr>
              <a:tr h="231156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онкий - глухой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ж//ш]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ёрдый - мягкий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л//л’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ж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- н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ш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[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- м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л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]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ующие написани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зные написания, служащие для различения на письме 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омоним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жог (имя существительное) - поджёг (прошедшее время глагола). Сравните слова: бал - балл, кампания - комп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напис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писание буквы И после твёрдых шипящих Ж и Ш (жить, шить), которое объясняется тем, что в древнерусском языке звуки [ж] и [ш] были мягкими и написание ЖИ и ШИ соответствовало произношению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писание мягкого знака после шипящих во втором лице единственного числа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глагол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читаешь) , в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наречиях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стежь, вскачь) , что объясняется наличием когда-то конечного гласного, впоследствии редуцированного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писание окончания родительного падежа единственного числа прилагательных - ОГО, произносящегося со звуком [в] на месте буквы Г (большого, доброго); написание безударных гласных в таких словах, как КОРОВА, СОБАКА, не поддерживаемое современным литературным произношени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1:49:13Z</dcterms:created>
  <dc:creator>Василий</dc:creator>
  <dc:description/>
  <dc:language>en-US</dc:language>
  <cp:lastModifiedBy>Василий</cp:lastModifiedBy>
  <dcterms:modified xsi:type="dcterms:W3CDTF">2016-10-30T12:18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