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1485-A0EF-49DB-829F-0D8F5BA0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33DE-70E6-4516-ACAA-D002F5E1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239-3C08-40D4-A942-09BB01E1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FCD-3013-4C92-9C7C-9A68D51F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6E26-2DF0-49F9-811C-4D407801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582-F5A3-4D4B-B7F0-51332553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F49-9D79-4A25-A957-0DB4891A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B25-1E65-4CDD-BAD3-1D64C383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8965-5C97-4A9B-B00C-E5F261EF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FAF-BEB9-44CB-B5A7-214C9C2D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40C-F391-41C5-AE4E-F1C6B0C9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E81E-AE51-4A2E-9325-3AA8BA0D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F5B-B42D-43A6-A19C-E8260D9F3E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ципы русской орфограф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дний вечер, прежние хозяева, нечто новое, что-то известное, вечный зов, сделать нарочно, сердечный приступ, новая прачечная, пустячный случай, конечно исполнишь, довольно скучно, наши сверстники, участвовать в параде, чувствовать ответственность.</a:t>
            </a:r>
            <a:r>
              <a:rPr b="0" lang="ru-RU" sz="40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52280" y="228600"/>
          <a:ext cx="8915400" cy="6473880"/>
        </p:xfrm>
        <a:graphic>
          <a:graphicData uri="http://schemas.openxmlformats.org/drawingml/2006/table">
            <a:tbl>
              <a:tblPr/>
              <a:tblGrid>
                <a:gridCol w="2229120"/>
                <a:gridCol w="2228760"/>
                <a:gridCol w="2228760"/>
                <a:gridCol w="2228760"/>
              </a:tblGrid>
              <a:tr h="65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8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тав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ы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земл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ис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ом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8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ран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ш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одн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63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ират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зк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и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далеком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1"/>
          <p:cNvSpPr/>
          <p:nvPr/>
        </p:nvSpPr>
        <p:spPr>
          <a:xfrm>
            <a:off x="2286000" y="31100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ческие чередования зву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28600" y="1523880"/>
          <a:ext cx="8610480" cy="530388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89856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ласные зв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532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//-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е//-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о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//и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ы//о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//о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им//м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у//он]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х - мх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нь - корн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ар - загоре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реть - замира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шать - вздо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зти - вози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нять - понимать - пойм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ук - зв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80880" y="228600"/>
          <a:ext cx="8458200" cy="6400800"/>
        </p:xfrm>
        <a:graphic>
          <a:graphicData uri="http://schemas.openxmlformats.org/drawingml/2006/table">
            <a:tbl>
              <a:tblPr/>
              <a:tblGrid>
                <a:gridCol w="4229280"/>
                <a:gridCol w="4228920"/>
              </a:tblGrid>
              <a:tr h="67788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гласные зву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22920"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п//пл; м//мл; б//бл; в//вл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с//ш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з//ж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х//ш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д//с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ц//ч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ск//ст//щ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т//ч//щ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д//ж//жд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к//ц//ч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79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пить - куплю, земной - зем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ить - нош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ить - вож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ой - су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ёт - ве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ц - отече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еск - блестеть - блещ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т - свеча - осв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града - огорожу - огражд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лик - клич - восклиц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920" marR="792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нетические напи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960" y="10666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ия ПРИСТАВОК на -З (-С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безбрежный - бесплановы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ние приставки РАЗ- (РАС-) - РОЗ- (РОС-)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: разыскать - розыск, расписать - роспис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исание Ы вместо начального И после приставок на твёрдый согласный (см.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ЛАСНЫЕ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Ы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и </a:t>
            </a: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ОСЛЕ ПРИСТАВОК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подыскать, безыдейный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онетические (позиционные) чер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600200"/>
          <a:ext cx="8839440" cy="510552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2876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ласные зв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  <a:tr h="19350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//Λ//ъ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Λ//ъ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//и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ь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//и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ь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//и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/ь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ый - 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да - в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ъ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я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а - т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Λ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 - т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ъ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вян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о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- 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и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ёт - н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ь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а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 - 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и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 - п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тидеся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э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ь -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и</a:t>
                      </a:r>
                      <a:r>
                        <a:rPr b="1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 - с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ь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десят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гласные зву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име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  <a:tr h="231156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онкий - глухой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ж//ш]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вёрдый - мягкий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л//л’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ж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- н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ш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[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]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- мо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л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]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4320">
                      <a:solidFill>
                        <a:srgbClr val="a2969c"/>
                      </a:solidFill>
                    </a:lnL>
                    <a:lnR w="4320">
                      <a:solidFill>
                        <a:srgbClr val="a2969c"/>
                      </a:solidFill>
                    </a:lnR>
                    <a:lnT w="4320">
                      <a:solidFill>
                        <a:srgbClr val="a2969c"/>
                      </a:solidFill>
                    </a:lnT>
                    <a:lnB w="4320">
                      <a:solidFill>
                        <a:srgbClr val="a2969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04920" y="38052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ующие написания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азные написания, служащие для различения на письме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омонимов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жог (имя существительное) - поджёг (прошедшее время глагола). Сравните слова: бал - балл, кампания - комп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е напис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52280" y="91404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аписание буквы И после твёрдых шипящих Ж и Ш (жить, шить), которое объясняется тем, что в древнерусском языке звуки [ж] и [ш] были мягкими и написание ЖИ и ШИ соответствовало произношению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написание мягкого знака после шипящих во втором лице единственного числа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глагол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читаешь) , в </a:t>
            </a:r>
            <a:r>
              <a:rPr b="0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наречиях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стежь, вскачь) , что объясняется наличием когда-то конечного гласного, впоследствии редуцированного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аписание окончания родительного падежа единственного числа прилагательных - ОГО, произносящегося со звуком [в] на месте буквы Г (большого, доброго); написание безударных гласных в таких словах, как КОРОВА, СОБАКА, не поддерживаемое современным литературным произношени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1:49:13Z</dcterms:created>
  <dc:creator>Василий</dc:creator>
  <dc:description/>
  <dc:language>en-US</dc:language>
  <cp:lastModifiedBy>Василий</cp:lastModifiedBy>
  <dcterms:modified xsi:type="dcterms:W3CDTF">2016-10-30T12:18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