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1A8-51DF-4852-B3E3-8977028E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ADA-9B8F-446D-8776-2842C145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D9D-E1F3-423D-B03F-1E51EB6F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9DB-ED51-43B4-8F1B-158FAFCA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B6D2-139C-4229-A3FA-86C4CB7E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7290-2A65-4F75-A0F4-74C44D4E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FF57-BA46-4901-B469-E780983B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55DA-8D4F-46C9-9F06-616604B2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81D1-C336-45CD-80E0-6CC5C238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7C5F-89A1-48D2-9BD8-0447A0B5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76A8-A260-4357-AFE3-925295D6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6F05-8104-407A-942E-AE7E319F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8442-BABD-4ACB-862E-829EDAF7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49AB-BBF0-46B3-9530-76A5B99F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0D8A-2A95-4E1E-977F-A38631E3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6A31-807B-45CF-A4DE-B892CDB7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6A3F-C5CC-4C2F-8D78-2B4BB4A9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8FB90-8ED6-4EBF-8643-5E281C1B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53A1-F38C-497C-B4FB-6184DF46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E33BC-D6DA-4759-858B-5F5D22F6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498B4-528D-4E8A-9B5B-64BFD523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947A2-BD5A-4293-9692-3829627B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5D2-A0E1-46D2-8328-B73E10D9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7C39E-BEED-4A85-A6AE-7F58CF15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899F2-4EEE-4936-A034-626BA369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158DE-FCBC-4529-A358-D305D141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30501-BD85-405A-9367-D4F485AD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6E12E-01B0-447A-BF56-A2271D80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E292E-3C08-44C7-90A3-047D16D0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973C3-8DBA-4860-ACC4-CFD5938C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5FABC-BF9A-4E74-A549-1DCC86AB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C0C63-3C73-4F56-8164-C032B5C9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520CC-13BE-4761-A19F-8706BC23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565-313C-4AB3-986B-FF1FB4BA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69B6C-1FCD-42FD-A25B-CB36E67E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C8E6F-01BC-4942-9BD7-788777EF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15EAC-6085-4D0A-A6A8-407F2CE3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E9222-6949-4AFE-9CD0-E9AED830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869DA-9B9B-467C-AE54-2D0B19F8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13B6A-49E3-4A10-BFEC-879137BB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151F5-2B0B-46AA-8944-3389156A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E17D1-EA6D-4019-811B-6BC37597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509B4-7ACD-4769-AB15-FBCCD109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05C6C-8484-4212-8A56-76A6E053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483B-9F85-4650-990D-CF2F8AA7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5A838-B089-4F0B-864B-7E99DD59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A0A0E-52A9-49F1-A70D-6B876CDF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39C02-8C65-42D5-92CA-D6431F36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58C03-BE72-4BFF-81E2-7CC0C3CE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C06D5-B6DB-4D66-9BD0-833DB2CC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C4E03-6CD0-4E8C-8E47-2B8F4025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4AB9A-BA48-4007-B3BD-A0F52EF4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978AC-66C4-4FA6-B68D-6083F57B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63EC9-B10C-4EB7-95F7-4A5645F0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4CF1D-FFA8-46E6-AF5F-41A454EB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F9C-5F0A-47A7-BC00-E592937C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C89BE-7A2C-44CE-8647-1171249C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824A8-66B3-4EC2-9DFD-B38BD53F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BD197-CA8C-4386-8727-E838489A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76344-A743-4339-B4EC-D9F06F0F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ECF96-B2E5-4998-A56D-A7979435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D4E18-1091-40FE-BCF0-B725DC88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80D9A-0425-4C99-8009-B37F11B1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F8708-8ACB-4BAE-81B5-01C13DD6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3A61A-F4CB-4C1C-8A61-68585250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38716-248E-47AF-8746-DBB11EFE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A918-80B8-41FD-B6A0-6C0E2334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8AF0F-C831-4B83-830C-E4F8BCFB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C1998-FB0D-42B0-8980-F6F4C33E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39ECF-F625-428D-BC6C-ADB90E06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529C-C089-496A-933E-690195D7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82B-D463-493B-9A1E-1FB6BB73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9c9f"/>
            </a:gs>
            <a:gs pos="100000">
              <a:srgbClr val="ddf1f5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13b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95C8-7052-4EB7-B54E-C3199B090E04}" type="slidenum">
              <a:rPr b="0" lang="ru-RU" sz="1000" spc="-1" strike="noStrike">
                <a:solidFill>
                  <a:srgbClr val="31313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9c9f"/>
            </a:gs>
            <a:gs pos="100000">
              <a:srgbClr val="ddf1f5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13b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5192-F059-48E8-8CB9-A34BE73D36FF}" type="slidenum">
              <a:rPr b="0" lang="ru-RU" sz="1000" spc="-1" strike="noStrike">
                <a:solidFill>
                  <a:srgbClr val="31313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9c9f"/>
            </a:gs>
            <a:gs pos="100000">
              <a:srgbClr val="ddf1f5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13b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CDA1-2B72-4068-9E7B-F6EB9CD294D2}" type="slidenum">
              <a:rPr b="0" lang="ru-RU" sz="1000" spc="-1" strike="noStrike">
                <a:solidFill>
                  <a:srgbClr val="31313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9c9f"/>
            </a:gs>
            <a:gs pos="100000">
              <a:srgbClr val="ddf1f5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13b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66D9-3A3C-4500-AAE0-0073F09EF083}" type="slidenum">
              <a:rPr b="0" lang="ru-RU" sz="1000" spc="-1" strike="noStrike">
                <a:solidFill>
                  <a:srgbClr val="31313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9c9f"/>
            </a:gs>
            <a:gs pos="100000">
              <a:srgbClr val="ddf1f5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13b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181D-69EE-4213-8914-07670927702C}" type="slidenum">
              <a:rPr b="0" lang="ru-RU" sz="1000" spc="-1" strike="noStrike">
                <a:solidFill>
                  <a:srgbClr val="31313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9c9f"/>
            </a:gs>
            <a:gs pos="100000">
              <a:srgbClr val="ddf1f5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13b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7ACB-13B0-4F5F-B6C0-5A35C3F8C55E}" type="slidenum">
              <a:rPr b="0" lang="ru-RU" sz="1000" spc="-1" strike="noStrike">
                <a:solidFill>
                  <a:srgbClr val="31313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071720" y="182412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rcRect l="0" t="0" r="8529" b="0"/>
          <a:stretch/>
        </p:blipFill>
        <p:spPr>
          <a:xfrm>
            <a:off x="6786720" y="4214880"/>
            <a:ext cx="2234880" cy="2643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8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6429240" cy="44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mbria"/>
              </a:rPr>
              <a:t>Инновационные модели деятельности учителя информатики в условиях введения ФГОС нового поколения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1000080" y="5214960"/>
            <a:ext cx="56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МБОУ лиц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Зернограда Моисеенко В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785880" y="43020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Адаптивная модель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оугольник 8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5"/>
          <p:cNvSpPr/>
          <p:nvPr/>
        </p:nvSpPr>
        <p:spPr>
          <a:xfrm>
            <a:off x="571680" y="1214280"/>
            <a:ext cx="7358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ая модель дает возможность учителю перевести свою деятельность из режима информирования в режим консультирования и управления, а ученикам обеспечить возможность выбора пути движения с учетом своих возможностей и способност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дуктивность опыта заключается в том, что такая система работы позволяет создавать между учителем и учащимися атмосферу сотрудничества и взаимодействия, учит взаимоконтролю и самоконтролю, приемам исследовательской деятельности, умению добывать информацию, обобщать и делать выводы, воздействовать на эмоциональную сферу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714240" y="67932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rcRect l="0" t="0" r="8529" b="0"/>
          <a:stretch/>
        </p:blipFill>
        <p:spPr>
          <a:xfrm>
            <a:off x="6786720" y="4214880"/>
            <a:ext cx="2234880" cy="2643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8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571680" y="857160"/>
            <a:ext cx="757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удоемкость опыта определяется следующими составляющи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агностика первоначальных знаний и умений по предм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ление технологических кар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бор разноуровневых зад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чение навыкам самоконтроля и  взаимоконтро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ниторинг деятельност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уровня обучаемости 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тоговая диагностика знаний и ум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групповой и пар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714240" y="67932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8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5"/>
          <p:cNvSpPr/>
          <p:nvPr/>
        </p:nvSpPr>
        <p:spPr>
          <a:xfrm>
            <a:off x="885960" y="357120"/>
            <a:ext cx="77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Эвристическая модель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6"/>
          <p:cNvSpPr/>
          <p:nvPr/>
        </p:nvSpPr>
        <p:spPr>
          <a:xfrm>
            <a:off x="500040" y="1143000"/>
            <a:ext cx="8215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ждому педагогу знаком такой метод преподавания, как эвристическая беседа. «Эврика» в переводе с греческого – нашел. Такой метод обучения часто применяется при объяснении нового матер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, беседуя с детьми, задавая вопросы, подводит учеников к правильному пониманию материала и самостоятельной формулировки определений, понятий, законов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акой модели применяются вполне традиционные формы организации деятельности: урок-объяснение нового материала, урок-практикум, урок-семинар. Однако, каждый такой урок строится на основе эвристических методов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714240" y="67932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8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5"/>
          <p:cNvSpPr/>
          <p:nvPr/>
        </p:nvSpPr>
        <p:spPr>
          <a:xfrm>
            <a:off x="857160" y="214200"/>
            <a:ext cx="803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Модель разноуровневого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6"/>
          <p:cNvSpPr/>
          <p:nvPr/>
        </p:nvSpPr>
        <p:spPr>
          <a:xfrm>
            <a:off x="500040" y="1444680"/>
            <a:ext cx="7572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 разноуровневым обучением понимают такую организацию учебного процесса, при которой каждый ученик имеет возможность овладеть учебным материалом на разном уровне, но не ниже базового, в зависимости от его способностей и индивидуальных особенностей. При этом за критерий оценки деятельности учащегося принимаются его усилия по овладению этим материалом, творческому его примен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ноуровневое обучение даёт шанс каждому ученику организовать обучение так, чтобы максимально использовать возможности, которые несет в себе дифференциация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C:\Users\Сергей и Ирина\Downloads\Картинки\019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3"/>
          <a:stretch/>
        </p:blipFill>
        <p:spPr>
          <a:xfrm>
            <a:off x="4643280" y="3571920"/>
            <a:ext cx="3495960" cy="292896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6"/>
          <p:cNvSpPr/>
          <p:nvPr/>
        </p:nvSpPr>
        <p:spPr>
          <a:xfrm>
            <a:off x="3286080" y="285840"/>
            <a:ext cx="5500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призван быть творцом своих уроков. Новый стандарт, обозначив требования к образовательным результатам, предоставляет почву для новых идей и новых творческих находок. Но если учитель знает, что прежние методы работы помогают реализовать требования нового стандарта, не стоит отбрасывать их совсем. Необходимо найти им применение наряду с новыми педагогическими технологиями в новой образовательной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8" descr="C:\Users\Сергей и Ирина\Downloads\Картинки\015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1071720" y="182412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8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Franklin Gothic Book"/>
              </a:rPr>
              <a:t>Важнейшая задача современной системы образования –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Franklin Gothic Book"/>
              </a:rPr>
              <a:t>«научить учиться»,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56760" y="5214960"/>
            <a:ext cx="63579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3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3"/>
          <p:cNvSpPr/>
          <p:nvPr/>
        </p:nvSpPr>
        <p:spPr>
          <a:xfrm>
            <a:off x="1214280" y="928800"/>
            <a:ext cx="64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mbria"/>
              </a:rPr>
              <a:t>Когда людей станут учить не тому, что они должны думать, а тому, как они должны думать, то тогда исчезнут всякие недоразум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mbria"/>
              </a:rPr>
              <a:t>                                              </a:t>
            </a:r>
            <a:r>
              <a:rPr b="1" i="1" lang="ru-RU" sz="2800" spc="-1" strike="noStrike">
                <a:solidFill>
                  <a:srgbClr val="002060"/>
                </a:solidFill>
                <a:latin typeface="Cambria"/>
              </a:rPr>
              <a:t>Г. Лихтенбе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rcRect l="33440" t="-4265" r="0" b="0"/>
          <a:stretch/>
        </p:blipFill>
        <p:spPr>
          <a:xfrm>
            <a:off x="2428920" y="3571920"/>
            <a:ext cx="3062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7" descr="C:\Users\Сергей и Ирина\Downloads\Картинки\014.jpg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"/>
          <p:cNvSpPr/>
          <p:nvPr/>
        </p:nvSpPr>
        <p:spPr>
          <a:xfrm>
            <a:off x="642960" y="310932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4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85520" y="500040"/>
            <a:ext cx="57862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-363240">
              <a:lnSpc>
                <a:spcPct val="100000"/>
              </a:lnSpc>
              <a:spcBef>
                <a:spcPts val="499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mbria"/>
              </a:rPr>
              <a:t>Учитель информатики должен стать конструктом новых педагогических ситуаций, новых заданий, направленных на использование обобщенных способов деятельности и создание учащимися собственных продуктов в освоении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99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mbria"/>
              </a:rPr>
              <a:t> </a:t>
            </a:r>
            <a:r>
              <a:rPr b="0" lang="ru-RU" sz="2000" spc="-1" strike="noStrike">
                <a:solidFill>
                  <a:srgbClr val="002060"/>
                </a:solidFill>
                <a:latin typeface="Cambria"/>
              </a:rPr>
              <a:t>Чтобы решать эти задачи, каждому учителю важно понять, </a:t>
            </a:r>
            <a:r>
              <a:rPr b="1" i="1" lang="ru-RU" sz="2000" spc="-1" strike="noStrike">
                <a:solidFill>
                  <a:srgbClr val="002060"/>
                </a:solidFill>
                <a:latin typeface="Cambria"/>
              </a:rPr>
              <a:t>что</a:t>
            </a:r>
            <a:r>
              <a:rPr b="0" lang="ru-RU" sz="2000" spc="-1" strike="noStrike">
                <a:solidFill>
                  <a:srgbClr val="002060"/>
                </a:solidFill>
                <a:latin typeface="Cambria"/>
              </a:rPr>
              <a:t>, </a:t>
            </a:r>
            <a:r>
              <a:rPr b="1" i="1" lang="ru-RU" sz="2000" spc="-1" strike="noStrike">
                <a:solidFill>
                  <a:srgbClr val="002060"/>
                </a:solidFill>
                <a:latin typeface="Cambria"/>
              </a:rPr>
              <a:t>зачем и каким образом изменить</a:t>
            </a:r>
            <a:r>
              <a:rPr b="0" lang="ru-RU" sz="2000" spc="-1" strike="noStrike">
                <a:solidFill>
                  <a:srgbClr val="002060"/>
                </a:solidFill>
                <a:latin typeface="Cambria"/>
              </a:rPr>
              <a:t> в своей деятельности. Особое внимание должно быть уделено изменению методики преподавания информатики, ориентированной на формирование как предметных, так и метапредметных и личностн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rcRect l="0" t="0" r="8523" b="0"/>
          <a:stretch/>
        </p:blipFill>
        <p:spPr>
          <a:xfrm>
            <a:off x="7000920" y="4581360"/>
            <a:ext cx="2143080" cy="227664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"/>
          <p:cNvSpPr/>
          <p:nvPr/>
        </p:nvSpPr>
        <p:spPr>
          <a:xfrm>
            <a:off x="1500120" y="21600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Calibri"/>
              </a:rPr>
              <a:t>Модель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428760" y="1308600"/>
            <a:ext cx="6500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о из ключевых употребляемых далее понятий -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дель обучения.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нятие - модель обучения предлагается, в инструментальном значении, как обозначение схемы или плана действий педагога при осуществлении учебного процесса, ее основу составляет преобладающая деятельность учащихся, которую организует, выстраивает учитель. Модель обучения состоит из верхнего яруса – это методы и формы обучения, отраженные в тематическом плане и нижнего яруса – педагогической техники, т.е. средств и приемов, с помощью которых будут реализованы дидактические методы и ф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00040" y="107676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8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714240" y="588600"/>
            <a:ext cx="678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Нужно, чтобы дети, по возможности, учились самостоятельно, а учитель руководил этим самостоятельным процессом и давал для него материал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   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К.Д. Уш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rcRect l="0" t="0" r="8529" b="0"/>
          <a:stretch/>
        </p:blipFill>
        <p:spPr>
          <a:xfrm>
            <a:off x="6786720" y="4214880"/>
            <a:ext cx="2234880" cy="2643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8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714240" y="67932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rcRect l="0" t="0" r="8529" b="0"/>
          <a:stretch/>
        </p:blipFill>
        <p:spPr>
          <a:xfrm>
            <a:off x="6908760" y="4214880"/>
            <a:ext cx="2235240" cy="2643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8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5"/>
          <p:cNvSpPr/>
          <p:nvPr/>
        </p:nvSpPr>
        <p:spPr>
          <a:xfrm>
            <a:off x="714240" y="357120"/>
            <a:ext cx="7286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зовым основанием для разграничения моделей является заложенный в них в качестве основного ориентира характер учеб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делили два типа таких ориентир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следование заданным эталонам (т.е.репродуктивная деятельность, усвоение и воспроизведение учащимися фиксированных знаний и способов деятельности), что соответствует традиционным дидактическим целям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родуктивная, поисковая деятельность, направленная на создание учащимися нового продукта (прежде всего, интеллектуального, познавательного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714240" y="67932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rcRect l="0" t="0" r="8529" b="0"/>
          <a:stretch/>
        </p:blipFill>
        <p:spPr>
          <a:xfrm>
            <a:off x="6786720" y="4214880"/>
            <a:ext cx="2234880" cy="26431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8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5"/>
          <p:cNvSpPr/>
          <p:nvPr/>
        </p:nvSpPr>
        <p:spPr>
          <a:xfrm>
            <a:off x="928800" y="28584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Calibri"/>
              </a:rPr>
              <a:t>Личностно-ориентированные модели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6"/>
          <p:cNvSpPr/>
          <p:nvPr/>
        </p:nvSpPr>
        <p:spPr>
          <a:xfrm>
            <a:off x="428760" y="1714680"/>
            <a:ext cx="771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уже было сказано выше, инновационные модели обучения преимущественно направлены на развитие индивидуальных особенностей личности. Все их можно объединить в понятие личностно-ориентированное обу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7"/>
          <p:cNvSpPr/>
          <p:nvPr/>
        </p:nvSpPr>
        <p:spPr>
          <a:xfrm>
            <a:off x="642960" y="378612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мотрим нескольких моделей личностно-ориентированного обучения, которые активно используются на уроках инфор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714240" y="67932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rcRect l="0" t="0" r="8529" b="0"/>
          <a:stretch/>
        </p:blipFill>
        <p:spPr>
          <a:xfrm>
            <a:off x="6786720" y="4214880"/>
            <a:ext cx="2234880" cy="264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8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5"/>
          <p:cNvSpPr/>
          <p:nvPr/>
        </p:nvSpPr>
        <p:spPr>
          <a:xfrm>
            <a:off x="1383840" y="428760"/>
            <a:ext cx="58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Проектн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"/>
          <p:cNvSpPr/>
          <p:nvPr/>
        </p:nvSpPr>
        <p:spPr>
          <a:xfrm>
            <a:off x="500040" y="1507680"/>
            <a:ext cx="714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жнейшая из таких моделей – проектная деятельность. На уроках информатики существуют широкие возможности применения проект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Чижик Ирина Николаевна</dc:creator>
  <dc:description/>
  <dc:language>en-US</dc:language>
  <cp:lastModifiedBy>Русик</cp:lastModifiedBy>
  <dcterms:modified xsi:type="dcterms:W3CDTF">2015-10-20T18:59:53Z</dcterms:modified>
  <cp:revision>44</cp:revision>
  <dc:subject/>
  <dc:title>Слайд 1</dc:title>
</cp:coreProperties>
</file>