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29B-9560-4345-999F-95070EC8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1F72-C17D-4B68-A6A6-066EEEF6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55D-D7A2-4AB4-AFA6-78DB19181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E2B-0CD9-4F12-BDF6-E9416249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0F21-A229-49DE-AC33-40F3872E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12D8-D349-4A9A-99BD-ED6D67E3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7EE-61B8-419C-8501-6537CE8D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C52E-17F4-48E4-B548-5F48DC2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BEBF-36EC-414A-88BB-7FD794D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9ABA-DC07-469F-94E5-F1364299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7FD0-4553-4EB0-AD64-F5C24A84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5E24-59BC-4815-8F71-2B032A9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B26E5-A713-4FEB-8869-4205BE15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81CA-6A3B-4A24-8CC4-D8F7AE2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D7E2-3AA0-4A13-B90D-EF1D0407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A115-364E-426A-995E-78E6584C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7C05-7455-4252-BADA-497CB416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890BE-CB98-4841-958B-09900295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987B5-4023-403B-B461-3E0C3934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099F-A64C-4278-8D06-E4089C868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9275-A048-4659-AF5E-61662795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8153-C2CE-4F76-B75C-C4F14051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B5E-5EFC-4A31-995A-60A90333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E951A-7531-4C64-9BA4-2D63BE19B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FC953-3D4A-4E0B-83D5-F0FA3223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71698-358D-439D-BDD7-D0D1460E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B5FA1-A483-455C-B28C-DE4F2D87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476F-959E-46F5-A682-E6860CCFA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BFFAF-1391-4816-8F1B-F7FF0176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2148-35BD-4598-B6FE-E18E4CE3A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69799-29B0-4462-B28E-82DF9FC72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847B-A977-4BC9-B02D-DEE5BD8D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102D-33D4-4E92-9F87-86334534F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585-8E41-4AA2-A8BA-57F6887C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5E64-9979-4829-BDB2-6434243A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0238-4F68-409D-80C5-EC750CA0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5C15-71A8-4701-9915-9DEB7A3C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9B900-0B78-4529-9002-43E58E5A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F9590-2129-463E-A985-0EB92D2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77E2C-E55C-4561-8020-F0CBABD7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D166-3B5D-48F0-82D4-33A01CD9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4755F-A0A2-480A-B469-82B58C80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0ACC2-CB47-400B-913E-042D85A6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C35EE-0DE2-4D21-9F6E-2901F2FD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5C39-6354-49D9-9D77-28B1AB0D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67340-B90A-437E-9485-7CB71F19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87EA8-F29B-4D62-8C7B-842E4A6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339F-E8F0-4C1F-9495-C9C056E4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6E2FF-F943-4527-9C50-4101A1B0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A0A48-2F98-4AA3-B5B6-ADF85624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601F-86B5-4C6C-96E1-60C58807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72376-F8F4-4494-AC27-3588561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B26E2-7B3A-475B-BCAF-CDBA0F7D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B132A-050F-48D1-9274-1655C1D2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FA0F-1392-40A0-939E-DF5CDF6C1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C77-BC69-4420-9DF8-78475189B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CC365-25C0-4F14-A2CA-1E6E3019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E069E-5791-4751-A107-EAAEA6F5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B1E7-F53F-4171-8426-5411F922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98451-D530-4121-89CC-CC652A49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8CD33-54B9-4613-B28B-190D6692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AA86A-A788-4622-90CB-B17D6946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01FD-3188-487A-9131-58356C71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A67B6-2DBA-4EF8-8E17-3B142D91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D5941-A63C-46C8-AD04-1DE27F8D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143E9-8F2E-4B64-AE51-51883573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DB9-CDA7-45BF-AFAD-85E31A6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8D5E0-3BB2-4D77-8272-D2DCB7FD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A0221-8B50-4619-9422-16AAD487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D7B8C-CD76-444C-A3EA-D44278E8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F86-7695-4A5B-A586-6D077ED4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55D-C1D3-4794-AD1E-E6549F7E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C712-1497-4AE6-9273-91C7A8EC11B5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FB63-157D-47D1-A063-D4FB890038B8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519B-7FB7-4891-A8E0-76EB9299E9DC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3E20-984E-4BD3-AA3E-DFE17111D39A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ffffff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56F7-B1ED-4C2A-B3EF-5D599CF1832B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9c9f"/>
            </a:gs>
            <a:gs pos="100000">
              <a:srgbClr val="ddf1f5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727c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9fb8c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c32d2e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4aa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1313b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31313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A05C-DEDE-4C23-BCD2-476FC902571A}" type="slidenum">
              <a:rPr b="0" lang="ru-RU" sz="1000" spc="-1" strike="noStrike">
                <a:solidFill>
                  <a:srgbClr val="31313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1071720" y="1824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2600" y="428400"/>
            <a:ext cx="6429240" cy="442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mbria"/>
              </a:rPr>
              <a:t>Инновационные модели деятельности учителя информатики в условиях введения ФГОС нового поколения</a:t>
            </a:r>
            <a:endParaRPr b="0" lang="en-US" sz="4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1000080" y="5214960"/>
            <a:ext cx="56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нформатики МБОУ лиц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Зернограда Моисеенко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785880" y="43020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Адаптивная модель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5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5"/>
          <p:cNvSpPr/>
          <p:nvPr/>
        </p:nvSpPr>
        <p:spPr>
          <a:xfrm>
            <a:off x="571680" y="1214280"/>
            <a:ext cx="7358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ая модель дает возможность учителю перевести свою деятельность из режима информирования в режим консультирования и управления, а ученикам обеспечить возможность выбора пути движения с учетом своих возможностей и способносте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дуктивность опыта заключается в том, что такая система работы позволяет создавать между учителем и учащимися атмосферу сотрудничества и взаимодействия, учит взаимоконтролю и самоконтролю, приемам исследовательской деятельности, умению добывать информацию, обобщать и делать выводы, воздействовать на эмоциональную сферу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0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5"/>
          <p:cNvSpPr/>
          <p:nvPr/>
        </p:nvSpPr>
        <p:spPr>
          <a:xfrm>
            <a:off x="571680" y="857160"/>
            <a:ext cx="757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удоемкость опыта определяется следующими составляющи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иагностика первоначальных знаний и умени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ление технологических кар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бор разноуровневых зад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навыкам самоконтроля и  взаимо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ниторинг деятельности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уровня обучаемости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тоговая диагностика знаний и ум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групповой и пар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4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885960" y="357120"/>
            <a:ext cx="77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Эвристическая модель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500040" y="1143000"/>
            <a:ext cx="821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ому педагогу знаком такой метод преподавания, как эвристическая беседа. «Эврика» в переводе с греческого – нашел. Такой метод обучения часто применяется при объяснении нового матери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, беседуя с детьми, задавая вопросы, подводит учеников к правильному пониманию материала и самостоятельной формулировки определений, понятий, законов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акой модели применяются вполне традиционные формы организации деятельности: урок-объяснение нового материала, урок-практикум, урок-семинар. Однако, каждый такой урок строится на основе эвристических методов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19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5"/>
          <p:cNvSpPr/>
          <p:nvPr/>
        </p:nvSpPr>
        <p:spPr>
          <a:xfrm>
            <a:off x="857160" y="214200"/>
            <a:ext cx="803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Модель разноуровневого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6"/>
          <p:cNvSpPr/>
          <p:nvPr/>
        </p:nvSpPr>
        <p:spPr>
          <a:xfrm>
            <a:off x="500040" y="1444680"/>
            <a:ext cx="757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разноуровневым обучением понимают такую организацию учебного процесса, при которой каждый ученик имеет возможность овладеть учебным материалом на разном уровне, но не ниже базового, в зависимости от его способностей и индивидуальных особенностей. При этом за критерий оценки деятельности учащегося принимаются его усилия по овладению этим материалом, творческому его приме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ноуровневое обучение даёт шанс каждому ученику организовать обучение так, чтобы максимально использовать возможности, которые несет в себе дифференциация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6" descr="C:\Users\Сергей и Ирина\Downloads\Картинки\019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2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3"/>
          <a:stretch/>
        </p:blipFill>
        <p:spPr>
          <a:xfrm>
            <a:off x="4643280" y="3571920"/>
            <a:ext cx="3495960" cy="2928960"/>
          </a:xfrm>
          <a:prstGeom prst="rect">
            <a:avLst/>
          </a:prstGeom>
          <a:ln w="0">
            <a:noFill/>
          </a:ln>
        </p:spPr>
      </p:pic>
      <p:sp>
        <p:nvSpPr>
          <p:cNvPr id="326" name="Прямоугольник 6"/>
          <p:cNvSpPr/>
          <p:nvPr/>
        </p:nvSpPr>
        <p:spPr>
          <a:xfrm>
            <a:off x="3286080" y="285840"/>
            <a:ext cx="5500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призван быть творцом своих уроков. Новый стандарт, обозначив требования к образовательным результатам, предоставляет почву для новых идей и новых творческих находок. Но если учитель знает, что прежние методы работы помогают реализовать требования нового стандарта, не стоит отбрасывать их совсем. Необходимо найти им применение наряду с новыми педагогическими технологиями в новой образовательной сре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C:\Users\Сергей и Ирина\Downloads\Картинки\015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1071720" y="182412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Важнейшая задача современной системы образования –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Franklin Gothic Book"/>
              </a:rPr>
              <a:t>«научить учиться»,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56760" y="5214960"/>
            <a:ext cx="63579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3"/>
          <p:cNvSpPr/>
          <p:nvPr/>
        </p:nvSpPr>
        <p:spPr>
          <a:xfrm>
            <a:off x="1214280" y="928800"/>
            <a:ext cx="64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Когда людей станут учить не тому, что они должны думать, а тому, как они должны думать, то тогда исчезнут всякие недоразум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Cambria"/>
              </a:rPr>
              <a:t>Г. Лихтенбер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2"/>
          <a:srcRect l="33440" t="-4265" r="0" b="0"/>
          <a:stretch/>
        </p:blipFill>
        <p:spPr>
          <a:xfrm>
            <a:off x="2428920" y="3571920"/>
            <a:ext cx="30621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7" descr="C:\Users\Сергей и Ирина\Downloads\Картинки\014.jpg"/>
          <p:cNvPicPr/>
          <p:nvPr/>
        </p:nvPicPr>
        <p:blipFill>
          <a:blip r:embed="rId1"/>
          <a:stretch/>
        </p:blipFill>
        <p:spPr>
          <a:xfrm>
            <a:off x="3492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1"/>
          <p:cNvSpPr/>
          <p:nvPr/>
        </p:nvSpPr>
        <p:spPr>
          <a:xfrm>
            <a:off x="642960" y="3109320"/>
            <a:ext cx="83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73" name="Прямоугольник 4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785520" y="500040"/>
            <a:ext cx="57862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7800" indent="-3632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Учитель информатики должен стать конструктом новых педагогических ситуаций, новых заданий, направленных на использование обобщенных способов деятельности и создание учащимися собственных продуктов в освоении зна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-363240">
              <a:lnSpc>
                <a:spcPct val="100000"/>
              </a:lnSpc>
              <a:spcBef>
                <a:spcPts val="499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 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Чтобы решать эти задачи, каждому учителю важно понять, </a:t>
            </a: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что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, </a:t>
            </a:r>
            <a:r>
              <a:rPr b="1" i="1" lang="ru-RU" sz="2000" spc="-1" strike="noStrike">
                <a:solidFill>
                  <a:srgbClr val="002060"/>
                </a:solidFill>
                <a:latin typeface="Cambria"/>
              </a:rPr>
              <a:t>зачем и каким образом изменить</a:t>
            </a:r>
            <a:r>
              <a:rPr b="0" lang="ru-RU" sz="2000" spc="-1" strike="noStrike">
                <a:solidFill>
                  <a:srgbClr val="002060"/>
                </a:solidFill>
                <a:latin typeface="Cambria"/>
              </a:rPr>
              <a:t> в своей деятельности. Особое внимание должно быть уделено изменению методики преподавания информатики, ориентированной на формирование как предметных, так и метапредметных и личност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7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"/>
          <p:cNvPicPr/>
          <p:nvPr/>
        </p:nvPicPr>
        <p:blipFill>
          <a:blip r:embed="rId1"/>
          <a:srcRect l="0" t="0" r="8523" b="0"/>
          <a:stretch/>
        </p:blipFill>
        <p:spPr>
          <a:xfrm>
            <a:off x="7000920" y="4581360"/>
            <a:ext cx="2143080" cy="22766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"/>
          <p:cNvSpPr/>
          <p:nvPr/>
        </p:nvSpPr>
        <p:spPr>
          <a:xfrm>
            <a:off x="1500120" y="2160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Calibri"/>
              </a:rPr>
              <a:t>Модель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428760" y="1308600"/>
            <a:ext cx="6500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дно из ключевых употребляемых далее понятий -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дель обучения.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Понятие - модель обучения предлагается, в инструментальном значении, как обозначение схемы или плана действий педагога при осуществлении учебного процесса, ее основу составляет преобладающая деятельность учащихся, которую организует, выстраивает учитель. Модель обучения состоит из верхнего яруса – это методы и формы обучения, отраженные в тематическом плане и нижнего яруса – педагогической техники, т.е. средств и приемов, с помощью которых будут реализованы дидактические методы и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00040" y="107676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714240" y="588600"/>
            <a:ext cx="678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Нужно, чтобы дети, по возможности, учились самостоятельно, а учитель руководил этим самостоятельным процессом и давал для него материал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К.Д.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84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908760" y="4214880"/>
            <a:ext cx="2235240" cy="26431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5"/>
          <p:cNvSpPr/>
          <p:nvPr/>
        </p:nvSpPr>
        <p:spPr>
          <a:xfrm>
            <a:off x="714240" y="357120"/>
            <a:ext cx="72867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азовым основанием для разграничения моделей является заложенный в них в качестве основного ориентира характер учеб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делили два типа таких ориентир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) следование заданным эталонам (т.е.репродуктивная деятельность, усвоение и воспроизведение учащимися фиксированных знаний и способов деятельности), что соответствует традиционным дидактическим целям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) продуктивная, поисковая деятельность, направленная на создание учащимися нового продукта (прежде всего, интеллектуального, познавательного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5"/>
          <p:cNvSpPr/>
          <p:nvPr/>
        </p:nvSpPr>
        <p:spPr>
          <a:xfrm>
            <a:off x="928800" y="28584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Calibri"/>
              </a:rPr>
              <a:t>Личностно-ориентированные модели обу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6"/>
          <p:cNvSpPr/>
          <p:nvPr/>
        </p:nvSpPr>
        <p:spPr>
          <a:xfrm>
            <a:off x="428760" y="1714680"/>
            <a:ext cx="771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уже было сказано выше, инновационные модели обучения преимущественно направлены на развитие индивидуальных особенностей личности. Все их можно объединить в понятие личностно-ориентированное обу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7"/>
          <p:cNvSpPr/>
          <p:nvPr/>
        </p:nvSpPr>
        <p:spPr>
          <a:xfrm>
            <a:off x="642960" y="3786120"/>
            <a:ext cx="628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смотрим нескольких моделей личностно-ориентированного обучения, которые активно используются на уроках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714240" y="67932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"/>
          <p:cNvPicPr/>
          <p:nvPr/>
        </p:nvPicPr>
        <p:blipFill>
          <a:blip r:embed="rId1"/>
          <a:srcRect l="0" t="0" r="8529" b="0"/>
          <a:stretch/>
        </p:blipFill>
        <p:spPr>
          <a:xfrm>
            <a:off x="6786720" y="4214880"/>
            <a:ext cx="2234880" cy="26431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642960" cy="77148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8"/>
          <p:cNvSpPr/>
          <p:nvPr/>
        </p:nvSpPr>
        <p:spPr>
          <a:xfrm>
            <a:off x="0" y="714240"/>
            <a:ext cx="6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ГОС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5"/>
          <p:cNvSpPr/>
          <p:nvPr/>
        </p:nvSpPr>
        <p:spPr>
          <a:xfrm>
            <a:off x="1383840" y="428760"/>
            <a:ext cx="58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Проектн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"/>
          <p:cNvSpPr/>
          <p:nvPr/>
        </p:nvSpPr>
        <p:spPr>
          <a:xfrm>
            <a:off x="500040" y="150768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жнейшая из таких моделей – проектная деятельность. На уроках информатики существуют широкие возможности применения проек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Чижик Ирина Николаевна</dc:creator>
  <dc:description/>
  <dc:language>en-US</dc:language>
  <cp:lastModifiedBy>Русик</cp:lastModifiedBy>
  <dcterms:modified xsi:type="dcterms:W3CDTF">2015-10-20T18:59:53Z</dcterms:modified>
  <cp:revision>44</cp:revision>
  <dc:subject/>
  <dc:title>Слайд 1</dc:title>
</cp:coreProperties>
</file>