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C098-908C-4710-A96B-3BAB2C92F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2F1D-9BE1-48C6-BAE0-1F1AC9F4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971C-596A-4F1C-B7BE-0D7184A42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3574-67BB-4687-8770-BED57D114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271B-7929-478A-ACDF-E54CD6C1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ADFE-A545-439C-9F77-C09A43B4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9421-9D5D-4F43-AC48-609F4F4A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58B6-3C61-4F5E-A7E5-B550031F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466E-C4F7-4106-8BE6-18EAC865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96C6-1F85-44FC-8503-0C4BE798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5B53-7414-4040-BA48-B63A75DF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AEF3-D507-4EDD-97B2-EDC8108A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58C9-DF1A-4494-A78E-2F0BD2C08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D SQU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24000" y="692280"/>
            <a:ext cx="82296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cow is the capital of Russia. Red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uare is the heart of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19280" y="1989000"/>
            <a:ext cx="5637240" cy="43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5057640"/>
            <a:ext cx="843588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onumen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Minin and Pozharsky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818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63640" y="404640"/>
            <a:ext cx="554508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.Basil’s Cathedral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51-1561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0" t="0" r="0" b="45450"/>
          <a:stretch/>
        </p:blipFill>
        <p:spPr>
          <a:xfrm>
            <a:off x="1187280" y="1341360"/>
            <a:ext cx="684072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passkaya Tower of the Kreml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0" t="7609" r="0" b="0"/>
          <a:stretch/>
        </p:blipFill>
        <p:spPr>
          <a:xfrm>
            <a:off x="1763640" y="1557360"/>
            <a:ext cx="57276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enin Mausole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79200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te History Muse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76728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tate Department Store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M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97212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bnoye Mes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3440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12:10:22Z</dcterms:created>
  <dc:creator>Курсы</dc:creator>
  <dc:description/>
  <dc:language>en-US</dc:language>
  <cp:lastModifiedBy>Zvuchi</cp:lastModifiedBy>
  <dcterms:modified xsi:type="dcterms:W3CDTF">2011-11-07T10:26:41Z</dcterms:modified>
  <cp:revision>12</cp:revision>
  <dc:subject/>
  <dc:title>Слайд 1</dc:title>
</cp:coreProperties>
</file>