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303-089D-4D8F-96D3-12DCF816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620-0EF2-49B5-B2C6-5170226E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4D2-DF43-4B99-BE43-EF7074BD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57C5-25AC-4E49-9570-5AF26E8A9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5D1-ED70-4E96-8E43-545D6B04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8CA5-4B30-4C3E-B72E-B70E7271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7DF-0695-4400-AB2C-3FEC85E48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32ED-38AE-47C7-815F-E96E708B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823D-022D-4219-8A9A-6A148687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721-AF3E-496C-85F5-AF6086FB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D13-6EC9-47F1-B53D-D0AEB677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3EC-2708-4DB2-9D9C-34D3F74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CAFF-9CF6-433A-80AF-20E1EBF9A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D SQU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cow is the capital of Russia. Red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 is the heart of 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6372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5057640"/>
            <a:ext cx="843588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onu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Minin and Pozharsky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404640"/>
            <a:ext cx="554508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.Basil’s Cathedral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51-1561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0" r="0" b="45450"/>
          <a:stretch/>
        </p:blipFill>
        <p:spPr>
          <a:xfrm>
            <a:off x="1187280" y="1341360"/>
            <a:ext cx="68407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passkaya Tower of the Kreml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7609" r="0" b="0"/>
          <a:stretch/>
        </p:blipFill>
        <p:spPr>
          <a:xfrm>
            <a:off x="1763640" y="1557360"/>
            <a:ext cx="5727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enin Mausol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9200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e History Muse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7672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State Department Store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UM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972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33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bnoye Me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344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2:10:22Z</dcterms:created>
  <dc:creator>Курсы</dc:creator>
  <dc:description/>
  <dc:language>en-US</dc:language>
  <cp:lastModifiedBy>Zvuchi</cp:lastModifiedBy>
  <dcterms:modified xsi:type="dcterms:W3CDTF">2011-11-07T10:26:41Z</dcterms:modified>
  <cp:revision>12</cp:revision>
  <dc:subject/>
  <dc:title>Слайд 1</dc:title>
</cp:coreProperties>
</file>