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6FD4-C314-4876-8EA4-57BFF083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3782-26F0-4FE8-9510-51BF856C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B2D3-25EB-4430-AC4F-869A2E87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6EF2-AA96-4BD2-9C26-46D52A92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C55A-0055-4D18-9030-D951FABB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DBB-A80A-4ACF-997B-513B62C3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FE3F-756F-4970-AF30-3F215159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8458-F730-4158-ABF0-128424FB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749-599B-432C-A74A-C1C6DC7A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8F4E-688D-4381-BD3F-4C5A1E7F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A6A2-B77A-4B30-9C12-AB4A04E8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8D4-15ED-4417-8670-9B24B108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4ECC-D291-4A70-8557-833028D8FF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mmc24410@yandex.ru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47640" y="1125360"/>
            <a:ext cx="6336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жрайонный фестиваль КВ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КВН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y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050920" y="5589720"/>
            <a:ext cx="5329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уководитель проекта: Трущенко Наталь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95280" y="404640"/>
            <a:ext cx="835344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рганизовать межрайонный фестиваль «КВН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y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в парке «Горка» п. Абан, с целью популяризации движения КВН на территории Абанского рай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2268360" y="3141720"/>
            <a:ext cx="502128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ктуальност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Группа 2"/>
          <p:cNvGrpSpPr/>
          <p:nvPr/>
        </p:nvGrpSpPr>
        <p:grpSpPr>
          <a:xfrm>
            <a:off x="195120" y="1060560"/>
            <a:ext cx="8904600" cy="3987720"/>
            <a:chOff x="195120" y="1060560"/>
            <a:chExt cx="8904600" cy="3987720"/>
          </a:xfrm>
        </p:grpSpPr>
        <p:sp>
          <p:nvSpPr>
            <p:cNvPr id="47" name="Овал 1"/>
            <p:cNvSpPr/>
            <p:nvPr/>
          </p:nvSpPr>
          <p:spPr>
            <a:xfrm>
              <a:off x="195120" y="2811960"/>
              <a:ext cx="2941560" cy="22363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3"/>
            <p:cNvSpPr/>
            <p:nvPr/>
          </p:nvSpPr>
          <p:spPr>
            <a:xfrm>
              <a:off x="561240" y="3681720"/>
              <a:ext cx="254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расноярский кра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" name="Прямая со стрелкой 5"/>
            <p:cNvCxnSpPr/>
            <p:nvPr/>
          </p:nvCxnSpPr>
          <p:spPr>
            <a:xfrm>
              <a:off x="2210760" y="1803960"/>
              <a:ext cx="2942280" cy="214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" name="Прямая со стрелкой 7"/>
            <p:cNvCxnSpPr/>
            <p:nvPr/>
          </p:nvCxnSpPr>
          <p:spPr>
            <a:xfrm>
              <a:off x="2379240" y="2029320"/>
              <a:ext cx="2942280" cy="214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" name="Прямая со стрелкой 8"/>
            <p:cNvCxnSpPr/>
            <p:nvPr/>
          </p:nvCxnSpPr>
          <p:spPr>
            <a:xfrm>
              <a:off x="2547360" y="2254320"/>
              <a:ext cx="2942280" cy="214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" name="Прямая со стрелкой 9"/>
            <p:cNvCxnSpPr/>
            <p:nvPr/>
          </p:nvCxnSpPr>
          <p:spPr>
            <a:xfrm>
              <a:off x="2715840" y="2479680"/>
              <a:ext cx="2942280" cy="214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" name="Прямая со стрелкой 10"/>
            <p:cNvCxnSpPr/>
            <p:nvPr/>
          </p:nvCxnSpPr>
          <p:spPr>
            <a:xfrm>
              <a:off x="2883960" y="2705040"/>
              <a:ext cx="2942280" cy="214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Прямая со стрелкой 11"/>
            <p:cNvCxnSpPr/>
            <p:nvPr/>
          </p:nvCxnSpPr>
          <p:spPr>
            <a:xfrm>
              <a:off x="3052440" y="2930400"/>
              <a:ext cx="2942280" cy="214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Прямая со стрелкой 12"/>
            <p:cNvCxnSpPr/>
            <p:nvPr/>
          </p:nvCxnSpPr>
          <p:spPr>
            <a:xfrm>
              <a:off x="3220560" y="3155400"/>
              <a:ext cx="2942280" cy="214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" name="Прямая со стрелкой 13"/>
            <p:cNvCxnSpPr/>
            <p:nvPr/>
          </p:nvCxnSpPr>
          <p:spPr>
            <a:xfrm>
              <a:off x="3389040" y="3380760"/>
              <a:ext cx="2942280" cy="214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Прямая со стрелкой 14"/>
            <p:cNvCxnSpPr/>
            <p:nvPr/>
          </p:nvCxnSpPr>
          <p:spPr>
            <a:xfrm>
              <a:off x="3557160" y="3606120"/>
              <a:ext cx="2942280" cy="214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Прямая со стрелкой 15"/>
            <p:cNvCxnSpPr/>
            <p:nvPr/>
          </p:nvCxnSpPr>
          <p:spPr>
            <a:xfrm>
              <a:off x="3725640" y="3831480"/>
              <a:ext cx="2942280" cy="214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Прямая со стрелкой 16"/>
            <p:cNvCxnSpPr/>
            <p:nvPr/>
          </p:nvCxnSpPr>
          <p:spPr>
            <a:xfrm>
              <a:off x="3893760" y="4056480"/>
              <a:ext cx="2942280" cy="214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Прямая со стрелкой 17"/>
            <p:cNvCxnSpPr/>
            <p:nvPr/>
          </p:nvCxnSpPr>
          <p:spPr>
            <a:xfrm>
              <a:off x="4062240" y="4281840"/>
              <a:ext cx="2942280" cy="214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Овал 6"/>
            <p:cNvSpPr/>
            <p:nvPr/>
          </p:nvSpPr>
          <p:spPr>
            <a:xfrm>
              <a:off x="6082560" y="1060560"/>
              <a:ext cx="3017160" cy="300132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8"/>
            <p:cNvSpPr/>
            <p:nvPr/>
          </p:nvSpPr>
          <p:spPr>
            <a:xfrm>
              <a:off x="6222960" y="2017800"/>
              <a:ext cx="27766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Arial"/>
                </a:rPr>
                <a:t>КВН-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part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Arial"/>
                </a:rPr>
                <a:t>п. Абан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ханизмы реализа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здать рабочую групп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вязаться с командами КВ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говорится о месте провед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писать сценар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вести фестивал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187280" y="1484280"/>
            <a:ext cx="2449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меющиеся ресур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716360" y="1557360"/>
            <a:ext cx="4032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рашиваемая су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 flipH="1">
            <a:off x="3276720" y="1052640"/>
            <a:ext cx="5745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5148360" y="105264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5630760" y="2532240"/>
            <a:ext cx="31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8 900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6156360" y="311472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"/>
          <p:cNvPicPr/>
          <p:nvPr/>
        </p:nvPicPr>
        <p:blipFill>
          <a:blip r:embed="rId2"/>
          <a:stretch/>
        </p:blipFill>
        <p:spPr>
          <a:xfrm>
            <a:off x="5796000" y="4724280"/>
            <a:ext cx="2484360" cy="18655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"/>
          <p:cNvPicPr/>
          <p:nvPr/>
        </p:nvPicPr>
        <p:blipFill>
          <a:blip r:embed="rId3"/>
          <a:stretch/>
        </p:blipFill>
        <p:spPr>
          <a:xfrm>
            <a:off x="468360" y="2835360"/>
            <a:ext cx="510228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агополучатели: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0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влечённые: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 челове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(команды Абанской лиги КВН «Периферия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формационный охват: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31 400 ч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жрайонный фестиваль КВН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«КВН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y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»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рущенко Наталь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909720" y="3789360"/>
            <a:ext cx="73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ел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: 8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96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754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mc24410@yandex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контакте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http://vk.com/id1418985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9T09:03:30Z</dcterms:created>
  <dc:creator>Наталья</dc:creator>
  <dc:description/>
  <dc:language>en-US</dc:language>
  <cp:lastModifiedBy>Наталья</cp:lastModifiedBy>
  <dcterms:modified xsi:type="dcterms:W3CDTF">2015-05-13T08:51:51Z</dcterms:modified>
  <cp:revision>14</cp:revision>
  <dc:subject/>
  <dc:title>Слайд 1</dc:title>
</cp:coreProperties>
</file>