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DF8-568E-4654-A533-C54B577E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27A2-B056-462A-B4AB-683A0B83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D7D-8705-4B15-8960-7F9871230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D9E-D5E3-4D19-A22D-A4E08479A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E9D-623B-44C9-9BDB-D7CB22B3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321-FCE2-4A58-BC83-2D8173C6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42FC-8604-4DC9-8098-5795D538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735-845C-4A68-B6EC-B085D2AF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E50-D224-4D53-A571-96D418AF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CC8D-8666-4E48-95CD-1F05226B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2FCD-0FBC-4143-BAA4-EF28E042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E7C-EDCB-4511-A198-0F6688E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24B6-A12E-41F6-86A7-0810979DE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mmc24410@yandex.r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47640" y="1125360"/>
            <a:ext cx="6336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жрайонный фестиваль КВ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ВН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2050920" y="5589720"/>
            <a:ext cx="5329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уководитель проекта: Трущенко Наталь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404640"/>
            <a:ext cx="835344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рганизовать межрайонный фестиваль «КВН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в парке «Горка» п. Абан, с целью популяризации движения КВН на территории Абанского райо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2268360" y="3141720"/>
            <a:ext cx="502128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ктуальност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Группа 2"/>
          <p:cNvGrpSpPr/>
          <p:nvPr/>
        </p:nvGrpSpPr>
        <p:grpSpPr>
          <a:xfrm>
            <a:off x="195120" y="1060560"/>
            <a:ext cx="8904600" cy="3987720"/>
            <a:chOff x="195120" y="1060560"/>
            <a:chExt cx="8904600" cy="3987720"/>
          </a:xfrm>
        </p:grpSpPr>
        <p:sp>
          <p:nvSpPr>
            <p:cNvPr id="47" name="Овал 1"/>
            <p:cNvSpPr/>
            <p:nvPr/>
          </p:nvSpPr>
          <p:spPr>
            <a:xfrm>
              <a:off x="195120" y="2811960"/>
              <a:ext cx="2941560" cy="2236320"/>
            </a:xfrm>
            <a:prstGeom prst="ellipse">
              <a:avLst/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Box 3"/>
            <p:cNvSpPr/>
            <p:nvPr/>
          </p:nvSpPr>
          <p:spPr>
            <a:xfrm>
              <a:off x="561240" y="3681720"/>
              <a:ext cx="254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расноярский кра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" name="Прямая со стрелкой 5"/>
            <p:cNvCxnSpPr/>
            <p:nvPr/>
          </p:nvCxnSpPr>
          <p:spPr>
            <a:xfrm>
              <a:off x="2210760" y="180396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" name="Прямая со стрелкой 7"/>
            <p:cNvCxnSpPr/>
            <p:nvPr/>
          </p:nvCxnSpPr>
          <p:spPr>
            <a:xfrm>
              <a:off x="2379240" y="202932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" name="Прямая со стрелкой 8"/>
            <p:cNvCxnSpPr/>
            <p:nvPr/>
          </p:nvCxnSpPr>
          <p:spPr>
            <a:xfrm>
              <a:off x="2547360" y="225432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" name="Прямая со стрелкой 9"/>
            <p:cNvCxnSpPr/>
            <p:nvPr/>
          </p:nvCxnSpPr>
          <p:spPr>
            <a:xfrm>
              <a:off x="2715840" y="247968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" name="Прямая со стрелкой 10"/>
            <p:cNvCxnSpPr/>
            <p:nvPr/>
          </p:nvCxnSpPr>
          <p:spPr>
            <a:xfrm>
              <a:off x="2883960" y="270504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Прямая со стрелкой 11"/>
            <p:cNvCxnSpPr/>
            <p:nvPr/>
          </p:nvCxnSpPr>
          <p:spPr>
            <a:xfrm>
              <a:off x="3052440" y="293040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Прямая со стрелкой 12"/>
            <p:cNvCxnSpPr/>
            <p:nvPr/>
          </p:nvCxnSpPr>
          <p:spPr>
            <a:xfrm>
              <a:off x="3220560" y="315540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" name="Прямая со стрелкой 13"/>
            <p:cNvCxnSpPr/>
            <p:nvPr/>
          </p:nvCxnSpPr>
          <p:spPr>
            <a:xfrm>
              <a:off x="3389040" y="338076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" name="Прямая со стрелкой 14"/>
            <p:cNvCxnSpPr/>
            <p:nvPr/>
          </p:nvCxnSpPr>
          <p:spPr>
            <a:xfrm>
              <a:off x="3557160" y="360612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" name="Прямая со стрелкой 15"/>
            <p:cNvCxnSpPr/>
            <p:nvPr/>
          </p:nvCxnSpPr>
          <p:spPr>
            <a:xfrm>
              <a:off x="3725640" y="383148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Прямая со стрелкой 16"/>
            <p:cNvCxnSpPr/>
            <p:nvPr/>
          </p:nvCxnSpPr>
          <p:spPr>
            <a:xfrm>
              <a:off x="3893760" y="405648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Прямая со стрелкой 17"/>
            <p:cNvCxnSpPr/>
            <p:nvPr/>
          </p:nvCxnSpPr>
          <p:spPr>
            <a:xfrm>
              <a:off x="4062240" y="4281840"/>
              <a:ext cx="2942280" cy="214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Овал 6"/>
            <p:cNvSpPr/>
            <p:nvPr/>
          </p:nvSpPr>
          <p:spPr>
            <a:xfrm>
              <a:off x="6082560" y="1060560"/>
              <a:ext cx="3017160" cy="300132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6222960" y="2017800"/>
              <a:ext cx="277668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Arial"/>
                </a:rPr>
                <a:t>КВН-</a:t>
              </a: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party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Arial"/>
                </a:rPr>
                <a:t>п. Абан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ханизмы ре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здать рабочую групп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вязаться с командами КВ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оговорится о месте провед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исать сценари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вести фестивал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187280" y="1484280"/>
            <a:ext cx="244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ющиеся ресурс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4716360" y="1557360"/>
            <a:ext cx="403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апрашиваемая сум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H="1">
            <a:off x="3276720" y="1052640"/>
            <a:ext cx="5745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5148360" y="105264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630760" y="2532240"/>
            <a:ext cx="31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8 900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6156360" y="311472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5796000" y="4724280"/>
            <a:ext cx="2484360" cy="18655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"/>
          <p:cNvPicPr/>
          <p:nvPr/>
        </p:nvPicPr>
        <p:blipFill>
          <a:blip r:embed="rId3"/>
          <a:stretch/>
        </p:blipFill>
        <p:spPr>
          <a:xfrm>
            <a:off x="468360" y="2835360"/>
            <a:ext cx="510228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агополучатели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0 челов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влечённые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 челове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(команды Абанской лиги КВН «Периферия»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онный охват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31 400 ч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жрайонный фестиваль КВН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КВН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y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» 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рущенко Наталь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909720" y="3789360"/>
            <a:ext cx="734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л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: 8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96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75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mc24410@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контакте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http://vk.com/id1418985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9T09:03:30Z</dcterms:created>
  <dc:creator>Наталья</dc:creator>
  <dc:description/>
  <dc:language>en-US</dc:language>
  <cp:lastModifiedBy>Наталья</cp:lastModifiedBy>
  <dcterms:modified xsi:type="dcterms:W3CDTF">2015-05-13T08:51:51Z</dcterms:modified>
  <cp:revision>14</cp:revision>
  <dc:subject/>
  <dc:title>Слайд 1</dc:title>
</cp:coreProperties>
</file>