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D5F-9A10-4B7B-8CB3-C08F9171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330-AE5D-4081-902C-2A41FFA7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61F-5D34-45B4-A324-414EDD99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ACC-4D96-4047-ACED-8B6F470B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A0C-7568-471C-B69A-47C5723C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A0AD-87C6-4C2B-ADFD-A560F7BE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92AB-6B5A-4108-A8FA-E2C759B0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0B3-C53A-44A6-BC7E-985E7A80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6D4D-2459-4216-BC14-FE61D481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E15-91DC-450D-B256-68A2F78B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FE5-00D1-4478-8EF6-65E14ADC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3CC-137E-480F-AF92-042EEB34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444A2-F4DC-472B-8E28-6403196C49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2400" y="107928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99284c"/>
                </a:solidFill>
                <a:latin typeface="Arial"/>
              </a:rPr>
              <a:t>           </a:t>
            </a:r>
            <a:r>
              <a:rPr b="1" i="1" lang="ru-RU" sz="6000" spc="-1" strike="noStrike">
                <a:solidFill>
                  <a:srgbClr val="99284c"/>
                </a:solidFill>
                <a:latin typeface="Arial"/>
              </a:rPr>
              <a:t>ДАНИЯ</a:t>
            </a:r>
            <a:endParaRPr b="1" i="1" lang="en-US" sz="6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62120" y="2257200"/>
            <a:ext cx="8418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284c"/>
                </a:solidFill>
                <a:latin typeface="Arial"/>
              </a:rPr>
              <a:t>1932 год</a:t>
            </a:r>
            <a:endParaRPr b="0" lang="en-US" sz="44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99284c"/>
                </a:solidFill>
                <a:latin typeface="Arial"/>
              </a:rPr>
              <a:t>ОЛЕ КИРК КРИСТИАНСЕН</a:t>
            </a:r>
            <a:endParaRPr b="0" lang="en-US" sz="40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20720" y="900000"/>
            <a:ext cx="3060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ЗАВОД В ДАНИИ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60440" y="1824120"/>
            <a:ext cx="721692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риемная в штаб-квартире Lego.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60520" y="2138400"/>
            <a:ext cx="71438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ИЗГОТОВЛЕНИЕ ДЕТАЛЕЙ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1440" y="2138400"/>
            <a:ext cx="71820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87520" y="2138400"/>
            <a:ext cx="70880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1897200"/>
            <a:ext cx="8418240" cy="45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00360" y="161928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5T16:32:48Z</dcterms:created>
  <dc:creator/>
  <dc:description/>
  <dc:language>en-US</dc:language>
  <cp:lastModifiedBy/>
  <cp:revision>1</cp:revision>
  <dc:subject/>
  <dc:title/>
</cp:coreProperties>
</file>