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7018-EFCF-4CEA-96B6-9DFD1E94C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F81-A6B9-44F3-85E4-2F11D1BF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40A0-20F9-45B1-A986-C813DB92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0DC-5709-43ED-86DA-BE081DAE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C9F-EFA4-4AA7-8705-1721A8D1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9E7F-5B0E-4A2C-B18F-DFBC02FE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C73-1098-465A-9E0E-720EAD09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674-80A8-48A6-ADA7-654715CC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072-7843-4AE2-A212-B87A28E4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2A4E-A28F-40EF-83A0-134F6C2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364-F66C-4099-ADF0-F076141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A8B5-FAF6-41F8-B36B-BE78CFF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9CDD3-5CEA-42E3-8A08-A641475C8B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2400" y="107928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          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ДАНИЯ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762120" y="2257200"/>
            <a:ext cx="8418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Arial"/>
              </a:rPr>
              <a:t>1932 год</a:t>
            </a:r>
            <a:endParaRPr b="0" lang="en-US" sz="44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99284c"/>
                </a:solidFill>
                <a:latin typeface="Arial"/>
              </a:rPr>
              <a:t>ОЛЕ КИРК КРИСТИАНСЕН</a:t>
            </a: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20720" y="900000"/>
            <a:ext cx="3060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ЗАВОД В ДАНИИ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360440" y="1824120"/>
            <a:ext cx="721692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иемная в штаб-квартире Lego.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60520" y="2138400"/>
            <a:ext cx="71438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ИЗГОТОВЛЕНИЕ ДЕТАЛЕЙ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1440" y="2138400"/>
            <a:ext cx="71820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87520" y="2138400"/>
            <a:ext cx="7088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1897200"/>
            <a:ext cx="8418240" cy="45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800360" y="1619280"/>
            <a:ext cx="6350040" cy="476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5T16:32:48Z</dcterms:created>
  <dc:creator/>
  <dc:description/>
  <dc:language>en-US</dc:language>
  <cp:lastModifiedBy/>
  <cp:revision>1</cp:revision>
  <dc:subject/>
  <dc:title/>
</cp:coreProperties>
</file>