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BC8C-8055-48E6-BFE5-BE5BB10C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4655-9A29-466B-900E-8CF2E221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0FC-D47C-499F-8DB1-EA515675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C3B-EB1D-475C-8B21-A3F69F26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26A-7B9D-468A-9FE0-19F439B1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64A0-884D-4124-971C-E8216737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12A-5DB6-4219-9A52-D066DB2E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9914-8243-4BFB-B31B-82DD32DD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B0C-13D9-4117-BBFB-2024CAB3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DD1C-3881-499E-BE06-64CC833D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D04B-8059-4F81-971E-4105025F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29B-EF67-4EA7-BDBF-9B193089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C51A-5080-4C82-9820-249243FFCE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500120"/>
            <a:ext cx="814392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исследовательский проект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«Мой прадед-  еще одна страничка в истории  моей стран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14680" y="428400"/>
            <a:ext cx="5688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Monotype Corsiva"/>
              </a:rPr>
              <a:t>Отдел образования администрации Тюльга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Monotype Corsiva"/>
              </a:rPr>
              <a:t>муниципальное бюджетное общеобразовательное учреждени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Monotype Corsiva"/>
              </a:rPr>
              <a:t>«Аллабердинская средняя общеобразовательная школа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324000" y="3789360"/>
            <a:ext cx="39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e3ce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14240" y="47109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Хисамов Вильдан</a:t>
            </a:r>
            <a:r>
              <a:rPr b="1" lang="en-US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Ильясович,   4 клас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руководитель: Хисамова Л.И.,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76720" y="476280"/>
            <a:ext cx="5688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     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Каждый год в День Победы мы произносим имена аллабердинцев – солдат Великой Отечественной войны.  Я с гордостью называю  имя моего прадеда, написанное  на красной звездочке. Моя звездочка с именем прадеда горит на стенде Победы вместе  с 125 красными именными звездами. Память о 125 солдатах Великой Отечественной войны  села Аллабердино жива. Она будет жить в сердцах детей, внуков, правнуков, односельчан. Мы обязаны помнить, чтить память тех, кто подарил нам этот ми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5" descr="C:\Документы\фото\фото конкурс Сания\фото школьные\100_2254.jpg"/>
          <p:cNvPicPr/>
          <p:nvPr/>
        </p:nvPicPr>
        <p:blipFill>
          <a:blip r:embed="rId1"/>
          <a:srcRect l="0" t="14292" r="0" b="0"/>
          <a:stretch/>
        </p:blipFill>
        <p:spPr>
          <a:xfrm>
            <a:off x="539640" y="1052640"/>
            <a:ext cx="2732040" cy="2160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F:\Documents and Settings\Admin\Мои документы\Мои рисунки\Изображение\Изображение 332.jpg"/>
          <p:cNvPicPr/>
          <p:nvPr/>
        </p:nvPicPr>
        <p:blipFill>
          <a:blip r:embed="rId2"/>
          <a:srcRect l="17934" t="15395" r="26624" b="24963"/>
          <a:stretch/>
        </p:blipFill>
        <p:spPr>
          <a:xfrm>
            <a:off x="539640" y="3645000"/>
            <a:ext cx="2808360" cy="201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F:\Documents and Settings\Admin\Мои документы\Мои рисунки\Изображение\Изображение 381.jpg"/>
          <p:cNvPicPr/>
          <p:nvPr/>
        </p:nvPicPr>
        <p:blipFill>
          <a:blip r:embed="rId3"/>
          <a:srcRect l="12598" t="9858" r="11801" b="0"/>
          <a:stretch/>
        </p:blipFill>
        <p:spPr>
          <a:xfrm>
            <a:off x="3708360" y="4797360"/>
            <a:ext cx="2592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4"/>
          <p:cNvSpPr/>
          <p:nvPr/>
        </p:nvSpPr>
        <p:spPr>
          <a:xfrm>
            <a:off x="1071720" y="1357200"/>
            <a:ext cx="7072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Monotype Corsiva"/>
              </a:rPr>
              <a:t>Чтобы не повторилась эта страшная война, чтобы жизнь на земле не содрогнула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Monotype Corsiva"/>
              </a:rPr>
              <a:t>от разрывов бомб, снарядов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Monotype Corsiva"/>
              </a:rPr>
              <a:t>чтобы не плакали матери, помните –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Monotype Corsiva"/>
              </a:rPr>
              <a:t>какой ценой досталась 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Побед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Берегите мир! Берегите памя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857160" y="578880"/>
            <a:ext cx="828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Цель работы</a:t>
            </a: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изучить жизнь  прадеда – солд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Великой Отечественной войны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571680" y="2332800"/>
            <a:ext cx="8572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етоды </a:t>
            </a:r>
            <a:r>
              <a:rPr b="0" lang="ru-RU" sz="24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проведённых исследова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Monotype Corsiva"/>
                <a:ea typeface="Lucida Sans Unicode"/>
              </a:rPr>
              <a:t>Работа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Lucida Sans Unicode"/>
              </a:rPr>
              <a:t> в школьном музее</a:t>
            </a:r>
            <a:r>
              <a:rPr b="0" lang="en-US" sz="2400" spc="-1" strike="noStrike">
                <a:solidFill>
                  <a:srgbClr val="0000ff"/>
                </a:solidFill>
                <a:latin typeface="Monotype Corsiva"/>
                <a:ea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Monotype Corsiva"/>
                <a:ea typeface="Lucida Sans Unicode"/>
              </a:rPr>
              <a:t>Работа с компьют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Lucida Sans Unicode"/>
              </a:rPr>
              <a:t>Изучение Интернет-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Lucida Sans Unicode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Lucida Sans Unicode"/>
              </a:rPr>
              <a:t>Беседы с сыновьями праде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Lucida Sans Unicode"/>
              </a:rPr>
              <a:t>дедушка Мурат ,дядя Хайдар и дочерью – тетя Зи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Основные результаты</a:t>
            </a:r>
            <a:r>
              <a:rPr b="0" lang="ru-RU" sz="24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 исследова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Установлены некоторые подробности  биографии  участника Великой  Отечественной войны Хисамова Шамсутдина Гаязови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5" descr="SAM_7544.JPG"/>
          <p:cNvPicPr/>
          <p:nvPr/>
        </p:nvPicPr>
        <p:blipFill>
          <a:blip r:embed="rId1"/>
          <a:srcRect l="9371" t="5214" r="31252" b="21874"/>
          <a:stretch/>
        </p:blipFill>
        <p:spPr>
          <a:xfrm>
            <a:off x="6072120" y="692280"/>
            <a:ext cx="28209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500040" y="114300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Объект исследования</a:t>
            </a: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фотоальбомы,  архивные материалы, воспоминания  детей прадеда, дедушек и бабушек - старожил с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57120" y="1522800"/>
            <a:ext cx="821556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План 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1этап – Обсуждение темы , составление плана 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2этап - Создание творческой груп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3этап – Изучение  материала по теме, работа с разными источниками информации. Интервью с детьми прадедуш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4 этап - Анализ полученных данных и обобщение матери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5 этап – Создание  презентации о моем прадедуш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5286240" y="714240"/>
            <a:ext cx="3427560" cy="52279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285840" y="1268280"/>
            <a:ext cx="4857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Прадед  Хисамов Шамсутдин Гаяз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1911 года рождения,  в 1941 году был призван на фронт в числе первых с нашего Аллаберди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К сожалению не сохранилось ни одной его фотографии, но говорят что мой дед Хисамов Мурат Шамсутдинович очень похож на него. Поэтому прадеда я  представляю себе по фото моего дедушки Мурата. По рассказам прабабушки  он очень любил свою семью, детей.  Был высоким, красивым, трудолюби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00680" y="1643040"/>
            <a:ext cx="464328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В своих письмах прадед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расспрашивал  о детях, о каждом отдельно, советовал, давал наказы : «Учитесь лучше, трудитесь, не ленитесь, да маму берегите, слушайтесь. Вот скоро, уже скоро война кончится – мы домой вернемся с победой и заживём  с вами лучше прежнего..»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А это был только 1942 год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гиб прадедушка в марте 1942 года. 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928800" y="3718080"/>
            <a:ext cx="2963880" cy="2611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1071720" y="1000080"/>
            <a:ext cx="302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611280" y="1773360"/>
            <a:ext cx="410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Прадед погиб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Где похоронен? Как похоронил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Ответы на эти вопросы долго искала прабабушка. Она завещала  сыновьям найти могилу от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Нашли. Родной человек  был  захоронен  вместе с другими воинами-освободителями  в братской могил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в далекой Тамбовской обла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932360" y="765000"/>
            <a:ext cx="3749760" cy="244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4932360" y="2852640"/>
            <a:ext cx="374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ратская могила. Тамбовская об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3714840" y="785880"/>
            <a:ext cx="5072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Когда он уходил на фронт, у него дома оставались пятеро детей: Шарафетдин, Мурат-мой  дедушка, Зифа- единственная дочь, Хайдар  и Шаукат – самый младший. Ему было всего 6 месяцев. Голодали, жили в холоде, но для фронта отправляли все, что могли, верили в побе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Победа… И  вся жизнь пошла по-другому. Ушло детство с войной. Некогда было играть, учиться. Нужно было помогать матери растить младших детей, вести  домашнее хозяйство и помогать ей на трудной колхозной рабо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2890800" cy="38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2"/>
          <p:cNvSpPr/>
          <p:nvPr/>
        </p:nvSpPr>
        <p:spPr>
          <a:xfrm>
            <a:off x="285840" y="1143000"/>
            <a:ext cx="5438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Моя прабабушка Мадина Гаязовна 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1914 года рождения ,осталась одна с маленькими детьми на руках. Всю жизнь ждала своего единственного Шамсутдина. Эта  любовь помогала жить и поднимать на ноги всех пятерых  детей. Она воспитывала их на примере от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2987640" y="4286160"/>
            <a:ext cx="60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Вспоминает Зифа иняй  (единственная дочь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«Мама больше не вышла замуж. Она очень любила моего отца, поэтому всю жизнь хранила ему верность. Мама говорила: «Кроме вашего папы мне никто не нужен…Он вернется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715000" y="500040"/>
            <a:ext cx="2516040" cy="3105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928800" y="414324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500040" y="1413000"/>
            <a:ext cx="49356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Мой дедушка – Хисамов Мурат  Шамсутдинович.  Когда началась война, ему было всего 8 лет. Он со старшим братом Шарафетдином были главной опорой прабаб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Всю жизнь проработал в родном колхозе животноводом. В селе уважают дедушку за доброту, отзывчивость, золотые руки. Мой дедушка никогда не оставит  человека в беде. Этому учит и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SAM_7557.JPG"/>
          <p:cNvPicPr/>
          <p:nvPr/>
        </p:nvPicPr>
        <p:blipFill>
          <a:blip r:embed="rId1"/>
          <a:srcRect l="25003" t="34376" r="26563" b="0"/>
          <a:stretch/>
        </p:blipFill>
        <p:spPr>
          <a:xfrm>
            <a:off x="5580000" y="2852640"/>
            <a:ext cx="3375000" cy="3429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CCI19032015_0002.jpg"/>
          <p:cNvPicPr/>
          <p:nvPr/>
        </p:nvPicPr>
        <p:blipFill>
          <a:blip r:embed="rId2"/>
          <a:srcRect l="3126" t="0" r="42188" b="38859"/>
          <a:stretch/>
        </p:blipFill>
        <p:spPr>
          <a:xfrm>
            <a:off x="5435640" y="189000"/>
            <a:ext cx="3571920" cy="2800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8:35:42Z</dcterms:created>
  <dc:creator>user1</dc:creator>
  <dc:description/>
  <dc:language>en-US</dc:language>
  <cp:lastModifiedBy>аллабердино</cp:lastModifiedBy>
  <dcterms:modified xsi:type="dcterms:W3CDTF">2017-01-11T09:24:20Z</dcterms:modified>
  <cp:revision>45</cp:revision>
  <dc:subject/>
  <dc:title>Презентация PowerPoint</dc:title>
</cp:coreProperties>
</file>