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B31-3618-4D4E-8F92-FBC14CC6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51F-056D-4B3F-9CDF-DB0A9E71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3CA-7BEE-439D-B2C4-1A837581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7D6-C6FA-4F06-8D2D-77033B9F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697-C748-45BC-B844-2064B834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36C-836D-4EC2-B104-CD89CE11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33C-BEC4-43F6-A528-7B64CC1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794-A780-4D5E-89CC-028F0504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8D7-BC53-4455-9198-C8806278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16B-8F75-48C6-A213-4195CF71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A5C-0D06-40B7-A2D0-388653BB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A3A-4730-42BF-82FF-DBBD3361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ED68-2962-44FB-AEB7-0B8B31A90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040" y="404640"/>
            <a:ext cx="7961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Я – геометрическая фигура, у которой все стороны равны.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Что я за фигу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928800" y="3357720"/>
            <a:ext cx="2143080" cy="2071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357200" y="2714760"/>
            <a:ext cx="1357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714840" y="2928960"/>
            <a:ext cx="1571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4071960" y="4000680"/>
            <a:ext cx="392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+4+4+4=16 (с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"/>
          <p:cNvSpPr/>
          <p:nvPr/>
        </p:nvSpPr>
        <p:spPr>
          <a:xfrm>
            <a:off x="1763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52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2"/>
          <p:cNvSpPr/>
          <p:nvPr/>
        </p:nvSpPr>
        <p:spPr>
          <a:xfrm>
            <a:off x="1835280" y="3141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78035E-007 C -1.66667E-006 -0.20948 0.04045 -0.38289 0.08924 -0.38289 C 0.14063 -0.38289 0.1809 -0.20948 0.1809 5.78035E-007 C 0.1809 0.20971 0.22118 0.38243 0.26945 0.38243 C 0.3184 0.38243 0.35868 0.20971 0.35868 5.78035E-007 C 0.35868 -0.20948 0.39896 -0.38289 0.44792 -0.38289 C 0.49601 -0.38289 0.53629 -0.20948 0.53629 5.78035E-007 C 0.53629 0.20971 0.57674 0.38243 0.62795 0.38243 C 0.67743 0.38243 0.71667 0.20971 0.71667 5.78035E-007 C 0.71667 -0.20948 0.67743 -0.38289 0.62795 -0.38289 C 0.57674 -0.38289 0.53629 -0.20948 0.53629 5.78035E-007 C 0.53629 0.20971 0.49601 0.38243 0.44792 0.38243 C 0.39896 0.38243 0.35868 0.20971 0.35868 5.78035E-007 C 0.35868 -0.20948 0.3184 -0.38289 0.26945 -0.38289 C 0.22118 -0.38289 0.1809 -0.20948 0.1809 5.78035E-007 C 0.1809 0.20971 0.14063 0.38243 0.08924 0.38243 C 0.04045 0.38243 -1.66667E-006 0.20971 -1.66667E-006 5.78035E-007 Z">
                                      <p:cBhvr>
                                        <p:cTn id="538" dur="5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2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551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260280"/>
            <a:ext cx="814068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6000" spc="-1" strike="noStrike">
                <a:solidFill>
                  <a:srgbClr val="4f81bd"/>
                </a:solidFill>
                <a:latin typeface="Arial"/>
                <a:ea typeface="Arial"/>
              </a:rPr>
              <a:t>№</a:t>
            </a:r>
            <a:r>
              <a:rPr b="0" lang="ru-RU" sz="6000" spc="-1" strike="noStrike">
                <a:solidFill>
                  <a:srgbClr val="4f81bd"/>
                </a:solidFill>
                <a:latin typeface="Arial"/>
                <a:ea typeface="Arial"/>
              </a:rPr>
              <a:t>5 стр.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857160" y="1928880"/>
            <a:ext cx="228600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357120" y="2143080"/>
            <a:ext cx="221472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857160" y="2286000"/>
            <a:ext cx="7858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79646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5000760" y="2286000"/>
            <a:ext cx="3000240" cy="12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5214960" y="2428920"/>
            <a:ext cx="2214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79646"/>
                </a:solidFill>
                <a:latin typeface="Arial"/>
              </a:rPr>
              <a:t>а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60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19"/>
          <p:cNvCxnSpPr/>
          <p:nvPr/>
        </p:nvCxnSpPr>
        <p:spPr>
          <a:xfrm>
            <a:off x="2928600" y="2499840"/>
            <a:ext cx="18579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Прямая со стрелкой 21"/>
          <p:cNvCxnSpPr/>
          <p:nvPr/>
        </p:nvCxnSpPr>
        <p:spPr>
          <a:xfrm flipH="1" flipV="1">
            <a:off x="2856960" y="3071520"/>
            <a:ext cx="18579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9" name="TextBox 22"/>
          <p:cNvSpPr/>
          <p:nvPr/>
        </p:nvSpPr>
        <p:spPr>
          <a:xfrm>
            <a:off x="3214800" y="1714680"/>
            <a:ext cx="1214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3357720" y="3286080"/>
            <a:ext cx="7855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4"/>
          <p:cNvSpPr/>
          <p:nvPr/>
        </p:nvSpPr>
        <p:spPr>
          <a:xfrm>
            <a:off x="2214720" y="4857840"/>
            <a:ext cx="4714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79646"/>
                </a:solidFill>
                <a:latin typeface="Arial"/>
              </a:rPr>
              <a:t>а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8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8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5"/>
          <p:cNvSpPr/>
          <p:nvPr/>
        </p:nvSpPr>
        <p:spPr>
          <a:xfrm>
            <a:off x="5429160" y="4786200"/>
            <a:ext cx="6969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79646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Операции </a:t>
            </a:r>
            <a:r>
              <a:rPr b="0" lang="ru-RU" sz="6600" spc="-1" strike="noStrike">
                <a:solidFill>
                  <a:srgbClr val="00b0f0"/>
                </a:solidFill>
                <a:latin typeface="Arial"/>
                <a:ea typeface="Arial"/>
              </a:rPr>
              <a:t>прибавления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ru-RU" sz="6600" spc="-1" strike="noStrike">
                <a:solidFill>
                  <a:srgbClr val="00b0f0"/>
                </a:solidFill>
                <a:latin typeface="Arial"/>
                <a:ea typeface="Arial"/>
              </a:rPr>
              <a:t>вычитания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обратны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 друг другу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6600" spc="-1" strike="noStrike">
                <a:solidFill>
                  <a:srgbClr val="00b0f0"/>
                </a:solidFill>
                <a:latin typeface="Arial"/>
                <a:ea typeface="Arial"/>
              </a:rPr>
              <a:t>№</a:t>
            </a:r>
            <a:r>
              <a:rPr b="0" lang="ru-RU" sz="6600" spc="-1" strike="noStrike">
                <a:solidFill>
                  <a:srgbClr val="00b0f0"/>
                </a:solidFill>
                <a:latin typeface="Arial"/>
                <a:ea typeface="Arial"/>
              </a:rPr>
              <a:t>6 стр.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928800" y="2857680"/>
            <a:ext cx="16430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87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2643120" y="2857680"/>
            <a:ext cx="1571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26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4286160" y="2714760"/>
            <a:ext cx="998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429160" y="2786040"/>
            <a:ext cx="714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572160" y="3357720"/>
            <a:ext cx="1843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7858080" y="2857680"/>
            <a:ext cx="498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6429240" y="2786040"/>
            <a:ext cx="12146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500120" y="714240"/>
            <a:ext cx="3643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-543=3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357200" y="1785960"/>
            <a:ext cx="3214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=305+5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357200" y="2857680"/>
            <a:ext cx="3071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=8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1285920" y="4143240"/>
            <a:ext cx="428616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Х+15=27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3214800" y="5572080"/>
            <a:ext cx="2357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f81bd"/>
                </a:solidFill>
                <a:latin typeface="Arial"/>
              </a:rPr>
              <a:t>Х=2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15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2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24000" y="549000"/>
            <a:ext cx="8362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В автобусе было 28 человек. На первой остановке вышли 7 человек, а вошли – 4 человека. На второй остановке вышли 4 человека, а зашли 7 человек. Сколько человек стало в автобус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№8(а) стр. 5, №9 стр. 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Я – геометрическая фигура, у которой противоположные стороны равны.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Что я за фигу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142920" y="4000680"/>
            <a:ext cx="3357360" cy="17856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1214280" y="3286080"/>
            <a:ext cx="1428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571920" y="4786200"/>
            <a:ext cx="121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5434560" y="3500280"/>
            <a:ext cx="932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 flipV="1" rot="10800000">
            <a:off x="4285800" y="5226480"/>
            <a:ext cx="44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+3+6+3=18(с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AG00315_"/>
          <p:cNvPicPr/>
          <p:nvPr/>
        </p:nvPicPr>
        <p:blipFill>
          <a:blip r:embed="rId2"/>
          <a:stretch/>
        </p:blipFill>
        <p:spPr>
          <a:xfrm>
            <a:off x="755640" y="260280"/>
            <a:ext cx="4970520" cy="6262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pjat"/>
          <p:cNvPicPr/>
          <p:nvPr/>
        </p:nvPicPr>
        <p:blipFill>
          <a:blip r:embed="rId3"/>
          <a:stretch/>
        </p:blipFill>
        <p:spPr>
          <a:xfrm>
            <a:off x="3645000" y="3857760"/>
            <a:ext cx="2808360" cy="26049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8"/>
          <p:cNvSpPr txBox="1"/>
          <p:nvPr/>
        </p:nvSpPr>
        <p:spPr>
          <a:xfrm>
            <a:off x="5148360" y="1989000"/>
            <a:ext cx="3456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ff3399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0560" y="549000"/>
            <a:ext cx="84358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4800" spc="-1" strike="noStrike">
                <a:solidFill>
                  <a:srgbClr val="c0504d"/>
                </a:solidFill>
                <a:latin typeface="Arial"/>
                <a:ea typeface="Arial"/>
              </a:rPr>
              <a:t>17, 26, 37, 44, 8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731880" y="2500200"/>
            <a:ext cx="406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8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кругл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810720" y="3500280"/>
            <a:ext cx="73479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4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в записи числа использов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а циф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954720" y="4929120"/>
            <a:ext cx="583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37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сумма цифр равна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549360"/>
            <a:ext cx="8291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  <a:ea typeface="Arial"/>
              </a:rPr>
              <a:t>Реши задачу и составь обрат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14200" y="2428920"/>
            <a:ext cx="52149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ыло - ? пирож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ъели – 9 пирож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талось – 7 пирож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5786280" y="2428920"/>
            <a:ext cx="1428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16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7143840" y="2428920"/>
            <a:ext cx="1714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16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000840" y="3000240"/>
            <a:ext cx="1285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?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5929200" y="3500280"/>
            <a:ext cx="1071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7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7358040" y="2928960"/>
            <a:ext cx="1785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9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7429680" y="3500280"/>
            <a:ext cx="1571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?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428760" y="464328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задача: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+7=16 (п.) -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428760" y="5357880"/>
            <a:ext cx="5786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2 задача: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16-7=9 (п.) - съ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00040" y="6072120"/>
            <a:ext cx="6286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3 задача: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16-9=7 (п.) - ост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ьте все возможные равенства из чисел</a:t>
            </a:r>
            <a:br>
              <a:rPr sz="4400"/>
            </a:b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46, 60,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357280" y="2428920"/>
            <a:ext cx="45007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=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=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0" y="4214880"/>
            <a:ext cx="2786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ы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18"/>
          <p:cNvCxnSpPr/>
          <p:nvPr/>
        </p:nvCxnSpPr>
        <p:spPr>
          <a:xfrm>
            <a:off x="999720" y="4571640"/>
            <a:ext cx="14295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extBox 21"/>
          <p:cNvSpPr/>
          <p:nvPr/>
        </p:nvSpPr>
        <p:spPr>
          <a:xfrm>
            <a:off x="2428920" y="2143080"/>
            <a:ext cx="1325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81bd"/>
                </a:solidFill>
                <a:latin typeface="Arial"/>
              </a:rPr>
              <a:t>оп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5214960" y="4000680"/>
            <a:ext cx="3714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24"/>
          <p:cNvCxnSpPr/>
          <p:nvPr/>
        </p:nvCxnSpPr>
        <p:spPr>
          <a:xfrm flipH="1" flipV="1">
            <a:off x="4571280" y="2928600"/>
            <a:ext cx="150084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26"/>
          <p:cNvCxnSpPr/>
          <p:nvPr/>
        </p:nvCxnSpPr>
        <p:spPr>
          <a:xfrm flipH="1" flipV="1">
            <a:off x="4571280" y="3857400"/>
            <a:ext cx="150084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28"/>
          <p:cNvCxnSpPr/>
          <p:nvPr/>
        </p:nvCxnSpPr>
        <p:spPr>
          <a:xfrm flipH="1">
            <a:off x="4500000" y="4428000"/>
            <a:ext cx="157212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30"/>
          <p:cNvCxnSpPr/>
          <p:nvPr/>
        </p:nvCxnSpPr>
        <p:spPr>
          <a:xfrm flipH="1">
            <a:off x="4500000" y="4429080"/>
            <a:ext cx="157212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32"/>
          <p:cNvCxnSpPr/>
          <p:nvPr/>
        </p:nvCxnSpPr>
        <p:spPr>
          <a:xfrm flipV="1">
            <a:off x="785520" y="2928600"/>
            <a:ext cx="157212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34"/>
          <p:cNvCxnSpPr/>
          <p:nvPr/>
        </p:nvCxnSpPr>
        <p:spPr>
          <a:xfrm flipV="1">
            <a:off x="857160" y="3857040"/>
            <a:ext cx="164376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36"/>
          <p:cNvCxnSpPr/>
          <p:nvPr/>
        </p:nvCxnSpPr>
        <p:spPr>
          <a:xfrm>
            <a:off x="1000080" y="4572000"/>
            <a:ext cx="135792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2920" y="2643120"/>
            <a:ext cx="87868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785880" y="2714760"/>
            <a:ext cx="70009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58   56   54   52   50   48   46   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    Б     Р     А     Т     Н    Ы   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TextBox 10" descr=""/>
          <p:cNvPicPr/>
          <p:nvPr/>
        </p:nvPicPr>
        <p:blipFill>
          <a:blip r:embed="rId2"/>
          <a:stretch/>
        </p:blipFill>
        <p:spPr>
          <a:xfrm>
            <a:off x="781200" y="85680"/>
            <a:ext cx="3200400" cy="901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1"/>
          <p:cNvSpPr/>
          <p:nvPr/>
        </p:nvSpPr>
        <p:spPr>
          <a:xfrm>
            <a:off x="3786120" y="214200"/>
            <a:ext cx="40719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Arial"/>
              </a:rPr>
              <a:t>оп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6357960" y="5357880"/>
            <a:ext cx="46080" cy="245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6929280" y="5214960"/>
            <a:ext cx="142920" cy="245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428760" y="1357200"/>
            <a:ext cx="164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50-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1571760" y="1357200"/>
            <a:ext cx="71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6"/>
          <p:cNvSpPr/>
          <p:nvPr/>
        </p:nvSpPr>
        <p:spPr>
          <a:xfrm>
            <a:off x="357120" y="17780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46+4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1571760" y="1785960"/>
            <a:ext cx="78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9"/>
          <p:cNvSpPr/>
          <p:nvPr/>
        </p:nvSpPr>
        <p:spPr>
          <a:xfrm>
            <a:off x="2500200" y="13572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76-2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3786120" y="1357200"/>
            <a:ext cx="9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2428920" y="18572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8+3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2"/>
          <p:cNvSpPr/>
          <p:nvPr/>
        </p:nvSpPr>
        <p:spPr>
          <a:xfrm>
            <a:off x="4500720" y="13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1-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3"/>
          <p:cNvSpPr/>
          <p:nvPr/>
        </p:nvSpPr>
        <p:spPr>
          <a:xfrm>
            <a:off x="4572000" y="1857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38+6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4"/>
          <p:cNvSpPr/>
          <p:nvPr/>
        </p:nvSpPr>
        <p:spPr>
          <a:xfrm>
            <a:off x="6786720" y="13572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3+29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5"/>
          <p:cNvSpPr/>
          <p:nvPr/>
        </p:nvSpPr>
        <p:spPr>
          <a:xfrm>
            <a:off x="6715080" y="1785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-14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6"/>
          <p:cNvSpPr/>
          <p:nvPr/>
        </p:nvSpPr>
        <p:spPr>
          <a:xfrm>
            <a:off x="3857760" y="1857240"/>
            <a:ext cx="571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5643720" y="1357200"/>
            <a:ext cx="78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8"/>
          <p:cNvSpPr/>
          <p:nvPr/>
        </p:nvSpPr>
        <p:spPr>
          <a:xfrm>
            <a:off x="5786280" y="1857240"/>
            <a:ext cx="642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8143920" y="1357200"/>
            <a:ext cx="78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8072280" y="1785960"/>
            <a:ext cx="74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5280" y="549360"/>
            <a:ext cx="8291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071720" y="714240"/>
            <a:ext cx="142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81bd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214960" y="714240"/>
            <a:ext cx="1285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5"/>
          <p:cNvCxnSpPr/>
          <p:nvPr/>
        </p:nvCxnSpPr>
        <p:spPr>
          <a:xfrm>
            <a:off x="2356920" y="1285920"/>
            <a:ext cx="26442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8" name="TextBox 6"/>
          <p:cNvSpPr/>
          <p:nvPr/>
        </p:nvSpPr>
        <p:spPr>
          <a:xfrm>
            <a:off x="1071720" y="2786040"/>
            <a:ext cx="1147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286240" y="2786040"/>
            <a:ext cx="1005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81bd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9"/>
          <p:cNvCxnSpPr/>
          <p:nvPr/>
        </p:nvCxnSpPr>
        <p:spPr>
          <a:xfrm>
            <a:off x="2428920" y="3285720"/>
            <a:ext cx="264384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1" name="TextBox 10"/>
          <p:cNvSpPr/>
          <p:nvPr/>
        </p:nvSpPr>
        <p:spPr>
          <a:xfrm>
            <a:off x="1000080" y="5286240"/>
            <a:ext cx="1004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81bd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3357720" y="5286240"/>
            <a:ext cx="93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5786280" y="5286240"/>
            <a:ext cx="1076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81bd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14"/>
          <p:cNvCxnSpPr/>
          <p:nvPr/>
        </p:nvCxnSpPr>
        <p:spPr>
          <a:xfrm>
            <a:off x="2142720" y="5857920"/>
            <a:ext cx="107244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5" name="Прямая со стрелкой 16"/>
          <p:cNvCxnSpPr/>
          <p:nvPr/>
        </p:nvCxnSpPr>
        <p:spPr>
          <a:xfrm>
            <a:off x="4357800" y="5785920"/>
            <a:ext cx="13579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TextBox 17"/>
          <p:cNvSpPr/>
          <p:nvPr/>
        </p:nvSpPr>
        <p:spPr>
          <a:xfrm>
            <a:off x="2786040" y="642960"/>
            <a:ext cx="18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я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8"/>
          <p:cNvSpPr/>
          <p:nvPr/>
        </p:nvSpPr>
        <p:spPr>
          <a:xfrm>
            <a:off x="2714760" y="2428920"/>
            <a:ext cx="207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я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1643040" y="5072040"/>
            <a:ext cx="1785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я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4286160" y="5000760"/>
            <a:ext cx="278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я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Если выполнить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операцию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, а потом </a:t>
            </a:r>
            <a:r>
              <a:rPr b="0" lang="ru-RU" sz="6000" spc="-1" strike="noStrike">
                <a:solidFill>
                  <a:srgbClr val="00b050"/>
                </a:solidFill>
                <a:latin typeface="Calibri"/>
              </a:rPr>
              <a:t>обратную операцию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, то всё станет как и </a:t>
            </a: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было раньш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Найдите обратные операци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357280" y="2428920"/>
            <a:ext cx="45007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=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=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0" y="4214880"/>
            <a:ext cx="27860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1"/>
          <p:cNvSpPr/>
          <p:nvPr/>
        </p:nvSpPr>
        <p:spPr>
          <a:xfrm>
            <a:off x="2428920" y="2143080"/>
            <a:ext cx="132552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5214960" y="4000680"/>
            <a:ext cx="37148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08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12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Фидалина</cp:lastModifiedBy>
  <dcterms:modified xsi:type="dcterms:W3CDTF">2010-12-05T15:48:46Z</dcterms:modified>
  <cp:revision>568</cp:revision>
  <dc:subject/>
  <dc:title>Слайд 1</dc:title>
</cp:coreProperties>
</file>