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A11-5D45-4E23-8B58-7EADD2F9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C1E-B93D-45DA-87A6-B17EE3C7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55B-2E68-4A39-BE99-0D79BE60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37DE-EFE4-4519-8370-65CC7444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1F12-9A88-45E9-9AEE-CD6B6C45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9B3-2F51-4CA6-8F23-1E08AC8B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54A2-47E6-44FC-A505-56EFDA87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338-1563-4074-90EF-29EFB4D0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F8C-E56E-4046-8DED-6A53C77F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1508-A7FA-4D46-8AEF-573A51D5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322-CEA2-4660-8974-DACBBCA3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245B-2F5F-4689-B8D6-1FAB2C9F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695C-2A5E-49A0-A68B-4BA9D1101C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DC15477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0" y="404640"/>
            <a:ext cx="89647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Физкультурные праздники и досуги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МАДОУ "Детский сад №3".</a:t>
            </a:r>
            <a:endParaRPr b="1" lang="en-US" sz="32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SAM_23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5"/>
          <p:cNvSpPr txBox="1"/>
          <p:nvPr/>
        </p:nvSpPr>
        <p:spPr>
          <a:xfrm>
            <a:off x="1979640" y="476280"/>
            <a:ext cx="568800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0012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еленый огонек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10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8"/>
          <p:cNvSpPr txBox="1"/>
          <p:nvPr/>
        </p:nvSpPr>
        <p:spPr>
          <a:xfrm>
            <a:off x="468360" y="5734080"/>
            <a:ext cx="806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Масленица</a:t>
            </a:r>
            <a:endParaRPr b="1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10500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395280" y="5805360"/>
            <a:ext cx="84978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Times New Roman"/>
              </a:rPr>
              <a:t>Космическое путешествие</a:t>
            </a:r>
            <a:endParaRPr b="1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DC14429"/>
          <p:cNvPicPr/>
          <p:nvPr/>
        </p:nvPicPr>
        <p:blipFill>
          <a:blip r:embed="rId1"/>
          <a:stretch/>
        </p:blipFill>
        <p:spPr>
          <a:xfrm>
            <a:off x="0" y="0"/>
            <a:ext cx="2916360" cy="3068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SDC17549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2997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SDC17152"/>
          <p:cNvPicPr/>
          <p:nvPr/>
        </p:nvPicPr>
        <p:blipFill>
          <a:blip r:embed="rId3"/>
          <a:stretch/>
        </p:blipFill>
        <p:spPr>
          <a:xfrm>
            <a:off x="0" y="3500280"/>
            <a:ext cx="2916360" cy="335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SDC14735"/>
          <p:cNvPicPr/>
          <p:nvPr/>
        </p:nvPicPr>
        <p:blipFill>
          <a:blip r:embed="rId4"/>
          <a:stretch/>
        </p:blipFill>
        <p:spPr>
          <a:xfrm>
            <a:off x="5940360" y="3500280"/>
            <a:ext cx="3203640" cy="3357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SDC16674"/>
          <p:cNvPicPr/>
          <p:nvPr/>
        </p:nvPicPr>
        <p:blipFill>
          <a:blip r:embed="rId5"/>
          <a:stretch/>
        </p:blipFill>
        <p:spPr>
          <a:xfrm>
            <a:off x="3059280" y="0"/>
            <a:ext cx="2808000" cy="299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SDC16668"/>
          <p:cNvPicPr/>
          <p:nvPr/>
        </p:nvPicPr>
        <p:blipFill>
          <a:blip r:embed="rId6"/>
          <a:stretch/>
        </p:blipFill>
        <p:spPr>
          <a:xfrm>
            <a:off x="2987640" y="3500280"/>
            <a:ext cx="2879640" cy="335772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250920" y="2997360"/>
            <a:ext cx="88930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ртивные мероприятия </a:t>
            </a:r>
            <a:endParaRPr b="1" lang="en-US" sz="2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 родителями</a:t>
            </a:r>
            <a:endParaRPr b="1" lang="en-US" sz="2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179280" y="549360"/>
            <a:ext cx="878544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внимание!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глашаем вас 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 наш детский сад!</a:t>
            </a:r>
            <a:endParaRPr b="1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0" y="189000"/>
            <a:ext cx="9144000" cy="70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ауменко Любовь Викторовна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Инструктор по физкультуре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АДОУ «Детский сад №3» г. Черды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Тезисы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изкультурные праздники и досуги в детском саду - одна из наиболее эффективных форм работы с детьми физкультурно – оздоровительной направленности».                                                                                                                                                                                                    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ейшим фактором, оказывающим всестороннее влияние на укрепление детского организма, является физическая культура. Актуальность проблемы заключается в том, что в современных условиях наблюдается резкое ухудшение здоровья детей. Так как фундамент активного здорового долголетия закладывается в период дошкольного возраста, растет необходимость в разнообразии средств физического развития, пропаганды здорового образа жизни. Сохранение здоровья детей в процессе воспитания и обучения является одной из приоритетных задач, стоящих перед педагогами нашего дошкольного учреждения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рограмме «Детство», по которой работает наш детский сад,  имеются разделы, посвященные изучению организма человека, обеспечению безопасности его жизнедеятельности. Задача педагогов – помочь детям выработать собственные жизненные ориентиры в выборе здорового образа жизни, научить оценивать свои физические возможности, видеть перспективы их развития, осознать ответственность за свое здоровье. Создана предметно – развивающая среда, оборудованы  физкультурные уголки в группах, есть спортивный зал, спортивное оборудование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ним из средств, эффективно способствующих формированию здоровья дошкольников и выработке правильных привычек, является специально-организованная досуговая деятельность, которая предполагает объединение взрослых и детей, увлеченных общими интересами, на основе свободного детского выбора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возможно представить себе жизнь ребенка в детском саду без веселых, интересных, увлекательных и шумных праздников и соревнований. Одни развивают сообразительность, другие - смекалку, третьи - воображение и творчество, но объединяет их общее - воспитание у ребенка потребности в движениях и эмоциональном восприятии жизни. Двигаясь, ребенок познает окружающий мир, учится любить его и целенаправленно действовать в нем, совершенствуя опыт организации игр, поскольку игра для дошкольника - это творческая переработка имевших место впечатлений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зкультурный праздник нацелен не на оттачивание техники выполнения тех или иных движений и упражнений, а на воспитание положительных эмоций, высокую двигательную активность детей, свободное и непринужденно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нимание. Красочность внешнего 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0" y="301680"/>
            <a:ext cx="914400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я, доступность, отсутствие строгой регламентации деятельности участников, возможности широкого проявления эмоций и индивидуальных способностей делают подобные мероприятия весьма популярными среди детей детского сада. Поэтому проведение их стало  традиционным в нашем саду и предусматривается общим планом работы  нашего дошкольного учреждения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минирующей задаче считаю целесообразным выделить следующие праздники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то тематические праздники, целью которых является формирование здорового образа жизни: «Будьте здоровы» - для детей старшей группы, « В страну Витаминию» - для детей  младшей группы, «День Здоровья» - для детей средней группы, « Чистюля  и его друзья» - для детей средней группы,  «В гостях у Айболита», «У нас в гостях веселые гномы» и  другие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спитывающие стойкий интерес к физкультуре и спорту, к личным достижениям, к спортивным событиям нашей страны и всего мира. Характерными особенностями этих праздников является включение в программу игр с элементами командного и личного соревнования и эстафет. Большая роль отводится  подбору познавательного материала, направленного на систематизацию знаний детей о видах спорта, олимпийском движении, российских спортсменах и много другого познавательного материала: «Олимпийские игры дошколят» - для детей подготовительной группы», «Путешествие в Спортландию» - для детей старшей, подготовительной группы, «Веселые старты» - для детей старшей, подготовительной группы, игра – путешествие « По материкам и странам» и другие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Это шуточные праздники-развлечения с целью позабавить детей, доставить им удовольствие,  хорошее настроение от игр, аттракционов, совместной со взрослыми деятельности, музыкального сопровождения, забавных атрибутов:  «Путешествие в сказку» - для детей средней группы, «Сорока-белобока» - для детей младшей группы,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 веселая игрушка, а зовут меня Петрушка» - для младших ребят, «Зимнее путешествие Колобка»- для  детей средней группы, «Клоун Клепа в гостях у ребят» - для детей старшей и подготовительной группы, « День смеха» - для детей  средней – подготовительной группы, «День хорошего настроения» - для детей подготовительной группы и др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рока-белобока» - для детей младшей группы -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портивные праздники и развлечения,  воспитывающие нравственные качества, развивающие творческую активность, инициативу, коммуникативные способности: «В поисках волшебной книги» - для детей подготовительной группы, « Выручаем Снегурочку» - для детей средней группы, «Лесное путешествие» - для детей старшей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0" y="270000"/>
            <a:ext cx="9144000" cy="68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руппы, « Путешествие на банановый остров» - для детей  старшей и подготовительной группы, « Волшебный кубик», «Зов Джунглей» и др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Спортивные достижения. Такие  праздники обычно совмещается с итоговыми событиями в жизни детей: окончание учебного года, выпуск из детского  - или сезонными изменениями: конец зимы, лета: «Здравствуй, лето!» -  для детей всех возрастных групп, « Зеленый огонек», « Математика – это весело» - для детей подготовительной группы, и др.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Праздники, целью которых является   воспитание  интереса у детей к народным традициям. Эти фольклорные по тематике и содержанию праздники: « Рождество», «Масленица» - для детей старших групп, «Светлая Пасха»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Спортивные мероприятия, приуроченные к календарным датам «Космическое путешествие» - для детей подготовительной группы, « Бравые солдаты» - для детей  старшей группы. «Богатырская наша сила» - для детей средней группы, «Звездный десант» - для детей старшей группы, «Мамина страна» - подготовительная группа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Физкультурные праздники и досуги являются одними из самых любимых видов отдыха в нашем детском саду. Потому что не только воспитатели, но и родители принимают активное участие в их проведении. Совместная работа детского сада и семьи всегда дает отличный результат в развитии наших детей, как физическом, так и духовном: «23 Февраля – праздник наших пап», «Супер – папа 2013», «Зов джунглей», «Богатырская наша сила»,  «8 Марта», «Веселые старты для детей и родителей» 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езультатам анкетирования  наши родители считают наиболее эффективной и перспективной формой работы по физическому развитию детей такие формы как, совместные  спортивные праздники и досуги, и открытые занятия. Очень эффективной  и полезной для них я считаю открытие в нашем саду мастер- классов для родителей, на котором в первой половине этого мероприятия родители смотрят открытое занятие, а во второй половине занимаются вместе со мной ОРУ, пальчиковой гимнастикой (1-2 упр.), дыхательной гимнастикой (1 -2 упр.), играют в подвижные игры, смотрят презентации на интересующую их тему,  задают вопросы, родителям предлагаются памятки с комплексами упражнений, игры, занятия по профилактике плоскостопия,  информация о закаливании и многое другое. Родители могут использовать эту информацию  в играх с детьми дома.</a:t>
            </a:r>
            <a:endParaRPr b="1" lang="en-US" sz="1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Чтобы сделать ребенка умным и рассудительным, сделайте его крепким и здоровым: пусть он работает, действует, бегает, кричит, пусть он находится в постоянном движении!»   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Жан – Жак – Руссо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SDC17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5"/>
          <p:cNvSpPr txBox="1"/>
          <p:nvPr/>
        </p:nvSpPr>
        <p:spPr>
          <a:xfrm>
            <a:off x="250920" y="260280"/>
            <a:ext cx="3744720" cy="936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еселые гномы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DC156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619200" y="189000"/>
            <a:ext cx="7905600" cy="273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Летние Олимпийские игры дошколят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SDC170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5"/>
          <p:cNvSpPr txBox="1"/>
          <p:nvPr/>
        </p:nvSpPr>
        <p:spPr>
          <a:xfrm>
            <a:off x="1763640" y="260280"/>
            <a:ext cx="525636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378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орока - белобока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SDC16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611280" y="620640"/>
            <a:ext cx="41767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Путешествие на </a:t>
            </a:r>
            <a:endParaRPr b="1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банановый остров</a:t>
            </a:r>
            <a:endParaRPr b="1" lang="en-US" sz="2400" spc="1" strike="noStrike">
              <a:ln w="9360">
                <a:solidFill>
                  <a:srgbClr val="00ffff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SAM_22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5"/>
          <p:cNvSpPr txBox="1"/>
          <p:nvPr/>
        </p:nvSpPr>
        <p:spPr>
          <a:xfrm>
            <a:off x="1619280" y="260280"/>
            <a:ext cx="5761080" cy="11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9739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Здравствуй, лето!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1T04:30:44Z</dcterms:created>
  <dc:creator>Пользователь</dc:creator>
  <dc:description/>
  <dc:language>en-US</dc:language>
  <cp:lastModifiedBy>Любовь</cp:lastModifiedBy>
  <dcterms:modified xsi:type="dcterms:W3CDTF">2017-01-11T06:31:22Z</dcterms:modified>
  <cp:revision>17</cp:revision>
  <dc:subject/>
  <dc:title>Слайд 1</dc:title>
</cp:coreProperties>
</file>