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CCBE49-0EB8-487B-A0E0-CD140919291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4DBA2-E0E8-460F-810A-2D99101A9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BBD58-F5F4-49BC-94A0-5A2B80133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B5127-03AA-4503-99BA-51380A2B2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5BA02-EC84-433B-AE1C-F7C7D7A41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10D60-B049-4D37-B0A9-19F18AD58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1F172-BAE1-42F4-AA72-0C3CC0D63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E2C11-8CF6-4946-ACDA-AAD02D3B3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7F44C-2269-48FF-9851-7B6C28107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95066-95CC-409D-BE5A-D1E5727EB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ECA9F-F86C-427E-8E09-5E2BC3381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23EBB-2E72-4C09-A4AF-A3239EA2C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31446-775B-49AE-8ECF-8CA03E9B4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F1CC33-D575-493B-B569-C1381000E4CA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610000" y="792000"/>
            <a:ext cx="5310000" cy="482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376360" y="216000"/>
            <a:ext cx="5668920" cy="7154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19T06:00:51Z</dcterms:created>
  <dc:creator/>
  <dc:description/>
  <dc:language>en-US</dc:language>
  <cp:lastModifiedBy/>
  <cp:revision>0</cp:revision>
  <dc:subject/>
  <dc:title/>
</cp:coreProperties>
</file>