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2DA04-14EE-4B78-A5F1-E04B620DB8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34D5-56B9-44FA-BB32-BD9E0972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F95D-5F6F-4729-9AC6-26039AB2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282-0D1C-4DEF-AC70-ED3586C09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1284-34D4-43E9-BDB9-370C6CA6A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016A-092B-42E6-A653-DBB6BEF9D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17FD-5FDF-4EAE-ABC9-5AAA1272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C912-D5E9-484E-9D15-7C0AE695C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875-A3BD-417A-B92E-1022C677F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A08-AE3B-418B-95B8-41EB3D56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B9A-05F3-426E-9216-8D96D3E4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E2C8-7F87-45A5-A947-F49E22D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7A1-0B40-4F7A-B9A8-B434CD9E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FE04-B1CE-4C56-A629-45B4C30E2D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610000" y="792000"/>
            <a:ext cx="5310000" cy="48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76360" y="216000"/>
            <a:ext cx="5668920" cy="71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06:00:51Z</dcterms:created>
  <dc:creator/>
  <dc:description/>
  <dc:language>en-US</dc:language>
  <cp:lastModifiedBy/>
  <cp:revision>0</cp:revision>
  <dc:subject/>
  <dc:title/>
</cp:coreProperties>
</file>