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10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76B-DD24-431E-B8D6-FAF45C2A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39E6-6F9D-4CE4-8E61-F6470AED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A22-6B5D-4FFE-B7FF-54388ED1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044-1FBA-4C60-90E8-9AEF03B6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C6D7-A268-4A89-9118-B3DC0234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2F7D-C819-454B-ABE7-3A099633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EC5E-E743-4C43-813B-41DC3208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74D-35B3-45C3-9547-DAAE99F2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3EF-6A85-4632-8D37-88C561AD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01B4-0E88-414F-B950-BE9938E0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3F3-9A57-4AF4-BFE4-86963480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2411-6EAC-4C34-8212-20F22A3C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F0C3-1E28-45D0-A519-67AD9E7FFB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28400" y="428400"/>
            <a:ext cx="42145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ь общее назва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роды состоя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времени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висит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2000160" y="29289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о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14920" cy="415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небе туч.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хмуритс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пустела ул..ца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в..тофор не унывает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д д..ждём ст..ит, моргает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 погоду никогд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н не об..жается.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ри в..сёлых ог..ньк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лужах отражают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642960" y="270000"/>
            <a:ext cx="542916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и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            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е            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3286080" y="1757520"/>
            <a:ext cx="428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3000240" y="3214800"/>
            <a:ext cx="428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5" descr="63558431_smayl.gif"/>
          <p:cNvPicPr/>
          <p:nvPr/>
        </p:nvPicPr>
        <p:blipFill>
          <a:blip r:embed="rId1"/>
          <a:stretch/>
        </p:blipFill>
        <p:spPr>
          <a:xfrm>
            <a:off x="6143760" y="4384800"/>
            <a:ext cx="270036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Содержимое 3" descr="737886605.gif"/>
          <p:cNvPicPr/>
          <p:nvPr/>
        </p:nvPicPr>
        <p:blipFill>
          <a:blip r:embed="rId1"/>
          <a:stretch/>
        </p:blipFill>
        <p:spPr>
          <a:xfrm>
            <a:off x="1136520" y="0"/>
            <a:ext cx="693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300" spc="-1" strike="noStrike">
                <a:solidFill>
                  <a:srgbClr val="000000"/>
                </a:solidFill>
                <a:latin typeface="Times New Roman"/>
              </a:rPr>
              <a:t>Здра..ствуйте, в..робьи, м..рко..ь, су....ота, ..зык, ..вёс, сах..р, м..г..зин, ..льбом, вмест.., вес..ло, в..юга, р..бота, ж..лтый, сп..сибо, д..рога, хле.., м..роз, до св..дан..я, х..р..шо, изв..ните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"/>
          <p:cNvSpPr/>
          <p:nvPr/>
        </p:nvSpPr>
        <p:spPr>
          <a:xfrm>
            <a:off x="428760" y="1297080"/>
            <a:ext cx="142848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2714760" y="1285920"/>
            <a:ext cx="20714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1500120" y="1785960"/>
            <a:ext cx="1428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ь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б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000680" y="1285920"/>
            <a:ext cx="19285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ё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4357800" y="1828800"/>
            <a:ext cx="50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5357880" y="1785960"/>
            <a:ext cx="50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8"/>
          <p:cNvSpPr/>
          <p:nvPr/>
        </p:nvSpPr>
        <p:spPr>
          <a:xfrm>
            <a:off x="6858000" y="2257560"/>
            <a:ext cx="50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5429160" y="1285920"/>
            <a:ext cx="24289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в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10"/>
          <p:cNvSpPr/>
          <p:nvPr/>
        </p:nvSpPr>
        <p:spPr>
          <a:xfrm>
            <a:off x="6646680" y="2786040"/>
            <a:ext cx="390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1"/>
          <p:cNvSpPr/>
          <p:nvPr/>
        </p:nvSpPr>
        <p:spPr>
          <a:xfrm>
            <a:off x="7000920" y="1285920"/>
            <a:ext cx="15001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бб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е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300" spc="-1" strike="noStrike">
                <a:solidFill>
                  <a:srgbClr val="ff0000"/>
                </a:solidFill>
                <a:latin typeface="Times New Roman"/>
              </a:rPr>
              <a:t>о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Рисунок 12" descr="839367035.gif"/>
          <p:cNvPicPr/>
          <p:nvPr/>
        </p:nvPicPr>
        <p:blipFill>
          <a:blip r:embed="rId1"/>
          <a:stretch/>
        </p:blipFill>
        <p:spPr>
          <a:xfrm>
            <a:off x="7072200" y="4786200"/>
            <a:ext cx="1595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6760" y="85716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Times New Roman"/>
              </a:rPr>
              <a:t>1 вариан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1.С моря ду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удё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тер (холодный, прохладный). 2. В синем небе ярк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веркаю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вёзды (мигают, сияют). 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</a:rPr>
              <a:t>2 вариан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3. Стояло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арк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то (безоблачное, знойное). 4. По улиц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неслас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жарная машина (проехала, промчалась)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Овал 2"/>
          <p:cNvSpPr/>
          <p:nvPr/>
        </p:nvSpPr>
        <p:spPr>
          <a:xfrm>
            <a:off x="2643120" y="92880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Овал 3"/>
          <p:cNvSpPr/>
          <p:nvPr/>
        </p:nvSpPr>
        <p:spPr>
          <a:xfrm>
            <a:off x="4572000" y="2928960"/>
            <a:ext cx="500040" cy="5000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85880" y="714240"/>
            <a:ext cx="30002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удёный    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еркают    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Жаркое         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неслась 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3500280" y="1143000"/>
            <a:ext cx="2928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лод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ияю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зоблачно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мчалас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5" descr="597864246.gif"/>
          <p:cNvPicPr/>
          <p:nvPr/>
        </p:nvPicPr>
        <p:blipFill>
          <a:blip r:embed="rId1"/>
          <a:stretch/>
        </p:blipFill>
        <p:spPr>
          <a:xfrm>
            <a:off x="6222960" y="4500720"/>
            <a:ext cx="24400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14240" y="642960"/>
            <a:ext cx="65008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 моря дул холодный ветер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2"/>
          <p:cNvSpPr/>
          <p:nvPr/>
        </p:nvSpPr>
        <p:spPr>
          <a:xfrm>
            <a:off x="2500200" y="2357280"/>
            <a:ext cx="6286680" cy="4143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.      сущ.      глаг.          прил.                    сущ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оря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ду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холодны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вете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етер (какой?) холод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ул (откуда?) с моря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Рисунок 3" descr="839367035.gif"/>
          <p:cNvPicPr/>
          <p:nvPr/>
        </p:nvPicPr>
        <p:blipFill>
          <a:blip r:embed="rId1"/>
          <a:stretch/>
        </p:blipFill>
        <p:spPr>
          <a:xfrm>
            <a:off x="7429680" y="5214960"/>
            <a:ext cx="10951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148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По улице промчалась пожарная машина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Скругленный прямоугольник 4"/>
          <p:cNvGrpSpPr/>
          <p:nvPr/>
        </p:nvGrpSpPr>
        <p:grpSpPr>
          <a:xfrm>
            <a:off x="2378160" y="2328840"/>
            <a:ext cx="6394320" cy="4243320"/>
            <a:chOff x="2378160" y="2328840"/>
            <a:chExt cx="6394320" cy="4243320"/>
          </a:xfrm>
        </p:grpSpPr>
        <p:pic>
          <p:nvPicPr>
            <p:cNvPr id="102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378160" y="2328840"/>
              <a:ext cx="6394320" cy="42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630520" y="2558880"/>
              <a:ext cx="5883120" cy="37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.         сущ.                  глаг.    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По </a:t>
              </a:r>
              <a:r>
                <a:rPr b="0" lang="ru-RU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улице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ромчалась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ил.                   сущ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пожарная</a:t>
              </a: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машина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машина (какая?) пожарная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промчалась (где?) по улиц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br>
                <a:rPr sz="2800"/>
              </a:br>
              <a:br>
                <a:rPr sz="2800"/>
              </a:b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Рисунок 5" descr="63558431_smayl.gif"/>
          <p:cNvPicPr/>
          <p:nvPr/>
        </p:nvPicPr>
        <p:blipFill>
          <a:blip r:embed="rId2"/>
          <a:stretch/>
        </p:blipFill>
        <p:spPr>
          <a:xfrm>
            <a:off x="7215120" y="5143680"/>
            <a:ext cx="1671840" cy="13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3" descr="1.gif"/>
          <p:cNvPicPr/>
          <p:nvPr/>
        </p:nvPicPr>
        <p:blipFill>
          <a:blip r:embed="rId1"/>
          <a:stretch/>
        </p:blipFill>
        <p:spPr>
          <a:xfrm>
            <a:off x="4572000" y="2714760"/>
            <a:ext cx="37670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п..го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3857760" y="1428840"/>
            <a:ext cx="785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 u="sng">
                <a:solidFill>
                  <a:srgbClr val="ff0000"/>
                </a:solidFill>
                <a:uFillTx/>
                <a:latin typeface="Monotype Corsiva"/>
              </a:rPr>
              <a:t>о</a:t>
            </a:r>
            <a:r>
              <a:rPr b="0" lang="ru-RU" sz="7200" spc="-1" strike="noStrike">
                <a:solidFill>
                  <a:srgbClr val="ff0000"/>
                </a:solidFill>
                <a:latin typeface="Monotype Corsiva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4717800" y="1428840"/>
            <a:ext cx="36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</a:rPr>
              <a:t>′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5" descr="839367035.gif"/>
          <p:cNvPicPr/>
          <p:nvPr/>
        </p:nvPicPr>
        <p:blipFill>
          <a:blip r:embed="rId1"/>
          <a:stretch/>
        </p:blipFill>
        <p:spPr>
          <a:xfrm>
            <a:off x="6786720" y="4643280"/>
            <a:ext cx="17618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1642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н</a:t>
            </a:r>
            <a:r>
              <a:rPr b="0" lang="ru-RU" sz="6600" spc="-1" strike="noStrike" u="sng">
                <a:solidFill>
                  <a:srgbClr val="000000"/>
                </a:solidFill>
                <a:uFillTx/>
                <a:latin typeface="Monotype Corsiva"/>
              </a:rPr>
              <a:t>еп</a:t>
            </a:r>
            <a:r>
              <a:rPr b="0" lang="ru-RU" sz="6600" spc="-1" strike="noStrike">
                <a:solidFill>
                  <a:srgbClr val="ff0000"/>
                </a:solidFill>
                <a:latin typeface="Monotype Corsiva"/>
              </a:rPr>
              <a:t>о</a:t>
            </a:r>
            <a:r>
              <a:rPr b="0" lang="ru-RU" sz="6600" spc="-1" strike="noStrike">
                <a:solidFill>
                  <a:srgbClr val="000000"/>
                </a:solidFill>
                <a:latin typeface="Monotype Corsiva"/>
              </a:rPr>
              <a:t>гό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Рисунок 2" descr="597864246.gif"/>
          <p:cNvPicPr/>
          <p:nvPr/>
        </p:nvPicPr>
        <p:blipFill>
          <a:blip r:embed="rId1"/>
          <a:stretch/>
        </p:blipFill>
        <p:spPr>
          <a:xfrm>
            <a:off x="6500880" y="4640400"/>
            <a:ext cx="2162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ньше словом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го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ли только хорошее, ясное, сухое время. Люди тогда говорили: «Сей под погоду, будешь есть хлеб год от году». А время, когда шёл дождь или мела метель, называл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погод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«Зашумела, разгулялась в поле непогода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797256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«Грустный клоун громко плач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есёлый клоун скач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т подвиг совершить –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чет рёву рассмешить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«Долго рисовала Даш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иц оранжевой гуашью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вмешался Дима в дело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орон – чёрный, голубь – белый»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3. «Очень толстый червяч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Яблоку погрыз бочо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С тонким он теперь сосед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О скворцах ведёт беседу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25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рустный – весёл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ёрный – белый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лстый – тонк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авая фигурная скобка 3"/>
          <p:cNvSpPr/>
          <p:nvPr/>
        </p:nvSpPr>
        <p:spPr>
          <a:xfrm>
            <a:off x="5000760" y="1357200"/>
            <a:ext cx="285480" cy="164304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1643040"/>
              <a:gd name="textAreaBottom" fmla="*/ 163584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7"/>
                  <a:pt x="10800" y="313"/>
                </a:cubicBezTo>
                <a:lnTo>
                  <a:pt x="10800" y="10487"/>
                </a:lnTo>
                <a:cubicBezTo>
                  <a:pt x="10800" y="10644"/>
                  <a:pt x="16200" y="10800"/>
                  <a:pt x="21600" y="10800"/>
                </a:cubicBezTo>
                <a:cubicBezTo>
                  <a:pt x="16200" y="10800"/>
                  <a:pt x="10800" y="10957"/>
                  <a:pt x="10800" y="11113"/>
                </a:cubicBezTo>
                <a:lnTo>
                  <a:pt x="10800" y="21287"/>
                </a:lnTo>
                <a:cubicBezTo>
                  <a:pt x="10800" y="2144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TextBox 4" descr=""/>
          <p:cNvPicPr/>
          <p:nvPr/>
        </p:nvPicPr>
        <p:blipFill>
          <a:blip r:embed="rId1"/>
          <a:stretch/>
        </p:blipFill>
        <p:spPr>
          <a:xfrm>
            <a:off x="5211720" y="1670040"/>
            <a:ext cx="4297320" cy="8287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63558431_smayl.gif"/>
          <p:cNvPicPr/>
          <p:nvPr/>
        </p:nvPicPr>
        <p:blipFill>
          <a:blip r:embed="rId2"/>
          <a:stretch/>
        </p:blipFill>
        <p:spPr>
          <a:xfrm>
            <a:off x="6072120" y="4370400"/>
            <a:ext cx="2629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29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Прямая со стрелкой 4"/>
          <p:cNvCxnSpPr/>
          <p:nvPr/>
        </p:nvCxnSpPr>
        <p:spPr>
          <a:xfrm flipH="1">
            <a:off x="1785600" y="1284840"/>
            <a:ext cx="1715040" cy="8578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7" name="Прямая со стрелкой 6"/>
          <p:cNvCxnSpPr/>
          <p:nvPr/>
        </p:nvCxnSpPr>
        <p:spPr>
          <a:xfrm flipH="1">
            <a:off x="3642480" y="1356840"/>
            <a:ext cx="429480" cy="786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8" name="Прямая со стрелкой 9"/>
          <p:cNvCxnSpPr/>
          <p:nvPr/>
        </p:nvCxnSpPr>
        <p:spPr>
          <a:xfrm>
            <a:off x="4856760" y="1285560"/>
            <a:ext cx="500760" cy="8578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59" name="Прямая со стрелкой 11"/>
          <p:cNvCxnSpPr/>
          <p:nvPr/>
        </p:nvCxnSpPr>
        <p:spPr>
          <a:xfrm>
            <a:off x="5643720" y="1285560"/>
            <a:ext cx="1643760" cy="8578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pic>
        <p:nvPicPr>
          <p:cNvPr id="60" name="TextBox 13" descr=""/>
          <p:cNvPicPr/>
          <p:nvPr/>
        </p:nvPicPr>
        <p:blipFill>
          <a:blip r:embed="rId1"/>
          <a:stretch/>
        </p:blipFill>
        <p:spPr>
          <a:xfrm>
            <a:off x="3425760" y="4962600"/>
            <a:ext cx="3157560" cy="822240"/>
          </a:xfrm>
          <a:prstGeom prst="rect">
            <a:avLst/>
          </a:prstGeom>
          <a:ln w="0">
            <a:noFill/>
          </a:ln>
        </p:spPr>
      </p:pic>
      <p:sp>
        <p:nvSpPr>
          <p:cNvPr id="61" name="Правая фигурная скобка 15"/>
          <p:cNvSpPr/>
          <p:nvPr/>
        </p:nvSpPr>
        <p:spPr>
          <a:xfrm rot="5400000">
            <a:off x="4821840" y="1392840"/>
            <a:ext cx="428760" cy="6500880"/>
          </a:xfrm>
          <a:custGeom>
            <a:avLst/>
            <a:gdLst>
              <a:gd name="textAreaLeft" fmla="*/ 0 w 428760"/>
              <a:gd name="textAreaRight" fmla="*/ 154800 w 428760"/>
              <a:gd name="textAreaTop" fmla="*/ 20520 h 6500880"/>
              <a:gd name="textAreaBottom" fmla="*/ 6480360 h 650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453"/>
                </a:lnTo>
                <a:cubicBezTo>
                  <a:pt x="10800" y="10562"/>
                  <a:pt x="16200" y="10671"/>
                  <a:pt x="21600" y="10671"/>
                </a:cubicBezTo>
                <a:cubicBezTo>
                  <a:pt x="16200" y="10671"/>
                  <a:pt x="10800" y="10780"/>
                  <a:pt x="10800" y="10889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3377880" y="48744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ПО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12" descr="839367035.gif"/>
          <p:cNvPicPr/>
          <p:nvPr/>
        </p:nvPicPr>
        <p:blipFill>
          <a:blip r:embed="rId2"/>
          <a:stretch/>
        </p:blipFill>
        <p:spPr>
          <a:xfrm>
            <a:off x="6786720" y="4643280"/>
            <a:ext cx="1761840" cy="1778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10"/>
          <p:cNvSpPr/>
          <p:nvPr/>
        </p:nvSpPr>
        <p:spPr>
          <a:xfrm>
            <a:off x="428760" y="2214720"/>
            <a:ext cx="2000160" cy="15001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ьюга – снежная бур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14"/>
          <p:cNvSpPr/>
          <p:nvPr/>
        </p:nvSpPr>
        <p:spPr>
          <a:xfrm>
            <a:off x="2571840" y="2214720"/>
            <a:ext cx="2071440" cy="16430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ран – снежная буря, метель в степ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16"/>
          <p:cNvSpPr/>
          <p:nvPr/>
        </p:nvSpPr>
        <p:spPr>
          <a:xfrm>
            <a:off x="6858000" y="2214720"/>
            <a:ext cx="2071800" cy="2000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ря – ненастье с сильным разрушительным вет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7"/>
          <p:cNvSpPr/>
          <p:nvPr/>
        </p:nvSpPr>
        <p:spPr>
          <a:xfrm>
            <a:off x="4714920" y="2214720"/>
            <a:ext cx="2071800" cy="1928520"/>
          </a:xfrm>
          <a:prstGeom prst="rect">
            <a:avLst/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ель – сильный ветер со снегом, вьюг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171360" y="208080"/>
            <a:ext cx="88264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357192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нте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ный -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вый     -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переди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</a:rPr>
              <a:t>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у́жество   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7720" y="928800"/>
            <a:ext cx="3286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ним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ль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екра́сны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з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у́сос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4" descr="597864246.gif"/>
          <p:cNvPicPr/>
          <p:nvPr/>
        </p:nvPicPr>
        <p:blipFill>
          <a:blip r:embed="rId1"/>
          <a:stretch/>
        </p:blipFill>
        <p:spPr>
          <a:xfrm>
            <a:off x="6500880" y="4640400"/>
            <a:ext cx="21621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3-09-25T18:39:24Z</dcterms:modified>
  <cp:revision>32</cp:revision>
  <dc:subject/>
  <dc:title>Слайд 1</dc:title>
</cp:coreProperties>
</file>