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E53-FF45-4675-8C1D-1ED49B93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C86-099F-47FE-A2F3-86BB4233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5E9-3599-4B1B-ACE9-5FF86FB5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97A-8FB2-4649-AC26-1C53A2AD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1E7-0AA3-4E6D-AC80-9DB4332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6DE-799C-4808-B2E4-6D12988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220-EA58-427E-B55B-8105EB1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1C5-982F-48F7-B7D9-012AF2B3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872-4FB9-4068-B90F-7C61CD10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6F1-A20E-4A5A-BCF0-74ABBAE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997-BBBE-4775-851D-A4522C2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383-4025-4548-B4DC-EA091BF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C23-AAE7-4044-9698-1B79EE0F20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4214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ь общее назв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ы состоя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времени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000160" y="29289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1492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небе туч.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муритс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пустела ул..ц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в..тофор не унывает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 д..ждём ст..ит, моргает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 погоду никогд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н не об..жаетс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и в..сёлых ог..ньк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лужах отражаю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42960" y="270000"/>
            <a:ext cx="5429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           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          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86080" y="1757520"/>
            <a:ext cx="428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000240" y="3214800"/>
            <a:ext cx="428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5" descr="63558431_smayl.gif"/>
          <p:cNvPicPr/>
          <p:nvPr/>
        </p:nvPicPr>
        <p:blipFill>
          <a:blip r:embed="rId1"/>
          <a:stretch/>
        </p:blipFill>
        <p:spPr>
          <a:xfrm>
            <a:off x="6143760" y="4384800"/>
            <a:ext cx="27003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Содержимое 3" descr="737886605.gif"/>
          <p:cNvPicPr/>
          <p:nvPr/>
        </p:nvPicPr>
        <p:blipFill>
          <a:blip r:embed="rId1"/>
          <a:stretch/>
        </p:blipFill>
        <p:spPr>
          <a:xfrm>
            <a:off x="1136520" y="0"/>
            <a:ext cx="693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Здра..ствуйте, в..робьи, м..рко..ь, су....ота, ..зык, ..вёс, сах..р, м..г..зин, ..льбом, вмест.., вес..ло, в..юга, р..бота, ж..лтый, сп..сибо, д..рога, хле.., м..роз, до св..дан..я, х..р..шо, изв..ните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28760" y="1297080"/>
            <a:ext cx="14284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714760" y="1285920"/>
            <a:ext cx="2071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00120" y="1785960"/>
            <a:ext cx="1428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000680" y="1285920"/>
            <a:ext cx="1928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ё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82880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357880" y="178596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858000" y="225756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29160" y="1285920"/>
            <a:ext cx="24289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6646680" y="2786040"/>
            <a:ext cx="39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7000920" y="1285920"/>
            <a:ext cx="1500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б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12" descr="839367035.gif"/>
          <p:cNvPicPr/>
          <p:nvPr/>
        </p:nvPicPr>
        <p:blipFill>
          <a:blip r:embed="rId1"/>
          <a:stretch/>
        </p:blipFill>
        <p:spPr>
          <a:xfrm>
            <a:off x="7072200" y="4786200"/>
            <a:ext cx="1595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85716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Times New Roman"/>
              </a:rPr>
              <a:t>1 вариан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1.С моря ду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удё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тер (холодный, прохладный). 2. В синем небе ярк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к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вёзды (мигают, сияют). 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</a:rPr>
              <a:t>2 вариан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3. Стоял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рк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 (безоблачное, знойное). 4. По улиц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несла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жарная машина (проехала, промчалась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2"/>
          <p:cNvSpPr/>
          <p:nvPr/>
        </p:nvSpPr>
        <p:spPr>
          <a:xfrm>
            <a:off x="2643120" y="92880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4572000" y="29289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3000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ёный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кают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ркое    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неслась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500280" y="114300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блач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м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5" descr="597864246.gif"/>
          <p:cNvPicPr/>
          <p:nvPr/>
        </p:nvPicPr>
        <p:blipFill>
          <a:blip r:embed="rId1"/>
          <a:stretch/>
        </p:blipFill>
        <p:spPr>
          <a:xfrm>
            <a:off x="6222960" y="4500720"/>
            <a:ext cx="2440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6500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 моря дул холодный ве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2500200" y="2357280"/>
            <a:ext cx="6286680" cy="414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.      сущ.      глаг.          прил.                    сущ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ор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у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холод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те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тер (какой?) холод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ул (откуда?) с моря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3" descr="839367035.gif"/>
          <p:cNvPicPr/>
          <p:nvPr/>
        </p:nvPicPr>
        <p:blipFill>
          <a:blip r:embed="rId1"/>
          <a:stretch/>
        </p:blipFill>
        <p:spPr>
          <a:xfrm>
            <a:off x="7429680" y="5214960"/>
            <a:ext cx="1095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48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о улице промчалась пожарная машина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кругленный прямоугольник 4"/>
          <p:cNvGrpSpPr/>
          <p:nvPr/>
        </p:nvGrpSpPr>
        <p:grpSpPr>
          <a:xfrm>
            <a:off x="2378160" y="2328840"/>
            <a:ext cx="6394320" cy="4243320"/>
            <a:chOff x="2378160" y="2328840"/>
            <a:chExt cx="6394320" cy="4243320"/>
          </a:xfrm>
        </p:grpSpPr>
        <p:pic>
          <p:nvPicPr>
            <p:cNvPr id="10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378160" y="2328840"/>
              <a:ext cx="639432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630520" y="2558880"/>
              <a:ext cx="5883120" cy="37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.         сущ.                  глаг.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о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улице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омчалась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ил.                   сущ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жарная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ашин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машина (какая?) пожарна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омчалась (где?) по улиц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800"/>
              </a:br>
              <a:br>
                <a:rPr sz="28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Рисунок 5" descr="63558431_smayl.gif"/>
          <p:cNvPicPr/>
          <p:nvPr/>
        </p:nvPicPr>
        <p:blipFill>
          <a:blip r:embed="rId2"/>
          <a:stretch/>
        </p:blipFill>
        <p:spPr>
          <a:xfrm>
            <a:off x="7215120" y="5143680"/>
            <a:ext cx="167184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1.gif"/>
          <p:cNvPicPr/>
          <p:nvPr/>
        </p:nvPicPr>
        <p:blipFill>
          <a:blip r:embed="rId1"/>
          <a:stretch/>
        </p:blipFill>
        <p:spPr>
          <a:xfrm>
            <a:off x="4572000" y="2714760"/>
            <a:ext cx="37670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п..го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857760" y="1428840"/>
            <a:ext cx="78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о</a:t>
            </a: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717800" y="1428840"/>
            <a:ext cx="36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5" descr="839367035.gif"/>
          <p:cNvPicPr/>
          <p:nvPr/>
        </p:nvPicPr>
        <p:blipFill>
          <a:blip r:embed="rId1"/>
          <a:stretch/>
        </p:blipFill>
        <p:spPr>
          <a:xfrm>
            <a:off x="6786720" y="4643280"/>
            <a:ext cx="17618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н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еп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гό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2" descr="597864246.gif"/>
          <p:cNvPicPr/>
          <p:nvPr/>
        </p:nvPicPr>
        <p:blipFill>
          <a:blip r:embed="rId1"/>
          <a:stretch/>
        </p:blipFill>
        <p:spPr>
          <a:xfrm>
            <a:off x="6500880" y="4640400"/>
            <a:ext cx="2162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ньше слово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г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ли только хорошее, ясное, сухое время. Люди тогда говорили: «Сей под погоду, будешь есть хлеб год от году». А время, когда шёл дождь или мела метель,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год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«Зашумела, разгулялась в поле непогод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«Грустный клоун громко плач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есёлый клоун скач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подвиг совершить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рёву рассмешить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«Долго рисовала Даш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 оранжевой гуашь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мешался Дима в дел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орон – чёрный, голубь – белый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3. «Очень толстый червяч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Яблоку погрыз боч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С тонким он теперь сосед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О скворцах ведёт бесед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стный – весёл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ёрный – бел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лстый – тон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авая фигурная скобка 3"/>
          <p:cNvSpPr/>
          <p:nvPr/>
        </p:nvSpPr>
        <p:spPr>
          <a:xfrm>
            <a:off x="5000760" y="1357200"/>
            <a:ext cx="285480" cy="164304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extBox 4" descr=""/>
          <p:cNvPicPr/>
          <p:nvPr/>
        </p:nvPicPr>
        <p:blipFill>
          <a:blip r:embed="rId1"/>
          <a:stretch/>
        </p:blipFill>
        <p:spPr>
          <a:xfrm>
            <a:off x="5211720" y="1670040"/>
            <a:ext cx="429732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63558431_smayl.gif"/>
          <p:cNvPicPr/>
          <p:nvPr/>
        </p:nvPicPr>
        <p:blipFill>
          <a:blip r:embed="rId2"/>
          <a:stretch/>
        </p:blipFill>
        <p:spPr>
          <a:xfrm>
            <a:off x="6072120" y="4370400"/>
            <a:ext cx="2629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Прямая со стрелкой 4"/>
          <p:cNvCxnSpPr/>
          <p:nvPr/>
        </p:nvCxnSpPr>
        <p:spPr>
          <a:xfrm flipH="1">
            <a:off x="1785600" y="1284840"/>
            <a:ext cx="171504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7" name="Прямая со стрелкой 6"/>
          <p:cNvCxnSpPr/>
          <p:nvPr/>
        </p:nvCxnSpPr>
        <p:spPr>
          <a:xfrm flipH="1">
            <a:off x="3642480" y="1356840"/>
            <a:ext cx="429480" cy="786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8" name="Прямая со стрелкой 9"/>
          <p:cNvCxnSpPr/>
          <p:nvPr/>
        </p:nvCxnSpPr>
        <p:spPr>
          <a:xfrm>
            <a:off x="4856760" y="1285560"/>
            <a:ext cx="50076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9" name="Прямая со стрелкой 11"/>
          <p:cNvCxnSpPr/>
          <p:nvPr/>
        </p:nvCxnSpPr>
        <p:spPr>
          <a:xfrm>
            <a:off x="5643720" y="1285560"/>
            <a:ext cx="164376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60" name="TextBox 13" descr=""/>
          <p:cNvPicPr/>
          <p:nvPr/>
        </p:nvPicPr>
        <p:blipFill>
          <a:blip r:embed="rId1"/>
          <a:stretch/>
        </p:blipFill>
        <p:spPr>
          <a:xfrm>
            <a:off x="3425760" y="4962600"/>
            <a:ext cx="3157560" cy="822240"/>
          </a:xfrm>
          <a:prstGeom prst="rect">
            <a:avLst/>
          </a:prstGeom>
          <a:ln w="0">
            <a:noFill/>
          </a:ln>
        </p:spPr>
      </p:pic>
      <p:sp>
        <p:nvSpPr>
          <p:cNvPr id="61" name="Правая фигурная скобка 15"/>
          <p:cNvSpPr/>
          <p:nvPr/>
        </p:nvSpPr>
        <p:spPr>
          <a:xfrm rot="5400000">
            <a:off x="4821840" y="1392840"/>
            <a:ext cx="428760" cy="6500880"/>
          </a:xfrm>
          <a:custGeom>
            <a:avLst/>
            <a:gdLst>
              <a:gd name="textAreaLeft" fmla="*/ 0 w 428760"/>
              <a:gd name="textAreaRight" fmla="*/ 154800 w 428760"/>
              <a:gd name="textAreaTop" fmla="*/ 20520 h 6500880"/>
              <a:gd name="textAreaBottom" fmla="*/ 648036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453"/>
                </a:lnTo>
                <a:cubicBezTo>
                  <a:pt x="10800" y="10562"/>
                  <a:pt x="16200" y="10671"/>
                  <a:pt x="21600" y="10671"/>
                </a:cubicBezTo>
                <a:cubicBezTo>
                  <a:pt x="16200" y="10671"/>
                  <a:pt x="10800" y="10780"/>
                  <a:pt x="10800" y="10889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377880" y="4874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12" descr="839367035.gif"/>
          <p:cNvPicPr/>
          <p:nvPr/>
        </p:nvPicPr>
        <p:blipFill>
          <a:blip r:embed="rId2"/>
          <a:stretch/>
        </p:blipFill>
        <p:spPr>
          <a:xfrm>
            <a:off x="6786720" y="4643280"/>
            <a:ext cx="1761840" cy="1778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28760" y="2214720"/>
            <a:ext cx="2000160" cy="15001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ьюга – снежная бур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571840" y="2214720"/>
            <a:ext cx="2071440" cy="1643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ран – снежная буря, метель в сте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6858000" y="2214720"/>
            <a:ext cx="2071800" cy="2000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ря – ненастье с сильным разрушительным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4714920" y="2214720"/>
            <a:ext cx="2071800" cy="1928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ель – сильный ветер со снегом, вью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71360" y="208080"/>
            <a:ext cx="88264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5719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те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ный -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вый     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еди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у́жество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7720" y="928800"/>
            <a:ext cx="328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кра́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́с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4" descr="597864246.gif"/>
          <p:cNvPicPr/>
          <p:nvPr/>
        </p:nvPicPr>
        <p:blipFill>
          <a:blip r:embed="rId1"/>
          <a:stretch/>
        </p:blipFill>
        <p:spPr>
          <a:xfrm>
            <a:off x="6500880" y="4640400"/>
            <a:ext cx="2162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3-09-25T18:39:24Z</dcterms:modified>
  <cp:revision>32</cp:revision>
  <dc:subject/>
  <dc:title>Слайд 1</dc:title>
</cp:coreProperties>
</file>