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F7B-F19C-4B91-8686-5046005D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CF9-7A55-4FE1-8209-5955C906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244-2717-48AD-BAD1-33BD2909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223-08E0-44EF-9190-2EB3B8EB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753-91AB-4F90-A974-42DD097E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F0E-8247-4364-941D-8E79637B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865-14F0-4535-89F9-FD326A59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88C-301F-48F8-B83E-6D8B9110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9E4-1C0E-45E9-B557-CC203F64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08A9-8A6B-4D8C-AAEF-18F604B8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94D-DDE8-4F7A-9DC3-2DBF82A6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555-9DF4-4F5B-A37A-258B4B33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8E92-659B-42C8-8E21-A1D17FB6A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glish-films.com/luchshie-filmy-2016-goda/786-the-secret-life-of-pets-2016-hd-720-ru-eng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зентация уро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глийского языка с использованием художественного мультфильм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 учебнику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Starlight 3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ласс (1 час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Тема урока «Части те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9700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ch the cartoon and match the names of pets with the pictur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lo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eetp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3421080" cy="2291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2484360" y="1755720"/>
            <a:ext cx="38829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 этап - после демонстрацио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еся, используя свои заметки  и слова по изученной теме (на листочке мини словарь), составляют текст-описание понравившегося героя используя вопросы как пла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’s his/ her na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it a dog, a cat or a bir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color is the pe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does the pet look like? (He/ She has got … eyes, …..nose, … he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do you like this pe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Обобщение и систематизация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которые учащиеся по очереди рассказывают свои тексты-описания не называя имени героя, а остальным нужно догадаться, о каком животном идет ре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 Контроль усвоения, обсуждение допущенных ошибок и их коррек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учитель подводит итоги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ктивизация изученной лексики по теме «Части тела» в устной и письменной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е - повторить слова «Части тела и головы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щие – развитие навыков аудирования и говор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ьные – умение слуш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онный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приветствует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Good mornin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y dear pupil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morning, good morning, good morning to yo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morning, good mornin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’m glad to see yo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I’m glad to see you too! Sit down, p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ка целей и задач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: Какие слова мы выучили по теме «Части тела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и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d, eyes, ear, mouth, nose, hand, arm, leg, foot (fee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: О чем мы можем говорить, используя эти сло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и: О том, как мы выглядим и как выглядят другие лю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: Посмотрите на этот постер, как вы думаете, что мы сегодня будем делать на уроке, используя изученные слов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и: Мы будем составлять описание домашнего животного (как оно выгляди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: А для того, чтобы составить описание домашнего животного, что нужно зн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и: Нужно знать, как произносятся и как пишутся слова «Части тела и головы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Актуализация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торение лексики по теме «Части тел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предлагает игр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Listen and Touch”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которой называет по-английски слов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d, mouth, eyes, ear, nose, hair, leg, arm, hand, foo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учащиеся указывают на соответствующую часть своего тела или голо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 учащиеся работают в парах и выполняют задание на листочках ( эти листочки будут служить мини-словарем подсказкой при составлении высказ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96072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Применение изученной лекс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овторения слов учащимся предлагается посмотреть отрывок художественного мультфильма «Жизнь домашних животных» (15 минут) с английскими субтитрами и составить текст-описание понравившегося героя (5 предложени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этап – перед демонстрацио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Look at the poster of this cartoon and name the pets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s: a cat, a parrot, dog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rab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Did you watch this cartoo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at the poster and name the p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5879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ап – демонстрацио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еся смотрят отрывок мультфильма, отмечая имена главных героев и как они выглядят (какого цвета глаза, большой или маленький нос, какого цвета шерсть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glish-films.com/luchshie-filmy-2016-goda/786-the-secret-life-of-pets-2016-hd-720-ru-eng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сылка на мультфиль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3:21:07Z</dcterms:created>
  <dc:creator>Мария Михайлова</dc:creator>
  <dc:description/>
  <dc:language>en-US</dc:language>
  <cp:lastModifiedBy>Мария Михайлова</cp:lastModifiedBy>
  <cp:lastPrinted>2017-01-11T16:39:52Z</cp:lastPrinted>
  <dcterms:modified xsi:type="dcterms:W3CDTF">2017-01-11T16:58:05Z</dcterms:modified>
  <cp:revision>89</cp:revision>
  <dc:subject/>
  <dc:title>Презентация PowerPoint</dc:title>
</cp:coreProperties>
</file>