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7C9-0437-49C6-AE1E-AF113C14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8F6-0009-44C0-BC55-5D81FA57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0FF0-D892-4736-B9E3-23969E1F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36CA-B18F-4A43-B539-933E9BBB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BEC3-864F-45CD-8E85-2266ACE0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F3D5-21FD-4986-9E3A-78A667A9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911-55F5-44A6-B887-873EC7F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767E-5EA3-4FAB-AB18-E204E628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625-42B5-48D5-AADD-0373205B5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2CD1-A9B6-4FAC-81AE-EE7F6DDD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B527-4088-4E49-9B2D-1F85CAE8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8413-EAF0-4154-8E81-29E2AAE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6F25-DB41-41B8-BB17-C8A3CDD72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glish-films.com/luchshie-filmy-2016-goda/786-the-secret-life-of-pets-2016-hd-720-ru-eng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25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езентация уро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глийского языка с использованием художественного мультфильм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 учебнику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Starlight 3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класс (1 част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Тема урока «Части тел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9700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ch the cartoon and match the names of pets with the picture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k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lo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eetp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684360" y="4221000"/>
            <a:ext cx="3421080" cy="2291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"/>
          <p:cNvPicPr/>
          <p:nvPr/>
        </p:nvPicPr>
        <p:blipFill>
          <a:blip r:embed="rId2"/>
          <a:stretch/>
        </p:blipFill>
        <p:spPr>
          <a:xfrm>
            <a:off x="2484360" y="1755720"/>
            <a:ext cx="38829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 этап - после демонстрацио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еся, используя свои заметки  и слова по изученной теме (на листочке мини словарь), составляют текст-описание понравившегося героя используя вопросы как план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’s his/ her na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it a dog, a cat or a bir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color is the pe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does the pet look like? (He/ She has got … eyes, …..nose, … he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y do you like this pe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Обобщение и систематизация зн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которые учащиеся по очереди рассказывают свои тексты-описания не называя имени героя, а остальным нужно догадаться, о каком животном идет реч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. Контроль усвоения, обсуждение допущенных ошибок и их коррек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Рефлек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ее учитель подводит итоги уро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и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ктивизация изученной лексики по теме «Части тела» в устной и письменной реч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дачи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тельные - повторить слова «Части тела и головы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вающие – развитие навыков аудирования и говор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ательные – умение слуш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рганизационный эта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приветствует учащих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: Good mornin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y dear pupil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morning, good morning, good morning to yo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morning, good morning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’m glad to see you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: I’m glad to see you too! Sit down, pl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ка целей и задач уро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: Какие слова мы выучили по теме «Части тела»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и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d, eyes, ear, mouth, nose, hand, arm, leg, foot (fee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: О чем мы можем говорить, используя эти слов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и: О том, как мы выглядим и как выглядят другие люд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: Посмотрите на этот постер, как вы думаете, что мы сегодня будем делать на уроке, используя изученные слова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и: Мы будем составлять описание домашнего животного (как оно выгляди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: А для того, чтобы составить описание домашнего животного, что нужно знать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еники: Нужно знать, как произносятся и как пишутся слова «Части тела и головы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Актуализация зна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торение лексики по теме «Части тел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итель предлагает игр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Listen and Touch”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которой называет по-английски слова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d, mouth, eyes, ear, nose, hair, leg, arm, hand, foo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учащиеся указывают на соответствующую часть своего тела или голо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лее учащиеся работают в парах и выполняют задание на листочках ( эти листочки будут служить мини-словарем подсказкой при составлении высказывани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96072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3964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Применение изученной лекс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повторения слов учащимся предлагается посмотреть отрывок художественного мультфильма «Жизнь домашних животных» (15 минут) с английскими субтитрами и составить текст-описание понравившегося героя (5 предложени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 этап – перед демонстрацио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: Look at the poster of this cartoon and name the pets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pils: a cat, a parrot, dog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 rabb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: Did you watch this cartoon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ok at the poster and name the pe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58792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од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ап – демонстрационн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еся смотрят отрывок мультфильма, отмечая имена главных героев и как они выглядят (какого цвета глаза, большой или маленький нос, какого цвета шерсть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nglish-films.com/luchshie-filmy-2016-goda/786-the-secret-life-of-pets-2016-hd-720-ru-eng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сылка на мультфиль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1T13:21:07Z</dcterms:created>
  <dc:creator>Мария Михайлова</dc:creator>
  <dc:description/>
  <dc:language>en-US</dc:language>
  <cp:lastModifiedBy>Мария Михайлова</cp:lastModifiedBy>
  <cp:lastPrinted>2017-01-11T16:39:52Z</cp:lastPrinted>
  <dcterms:modified xsi:type="dcterms:W3CDTF">2017-01-11T16:58:05Z</dcterms:modified>
  <cp:revision>89</cp:revision>
  <dc:subject/>
  <dc:title>Презентация PowerPoint</dc:title>
</cp:coreProperties>
</file>