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gif" ContentType="image/gif"/>
  <Override PartName="/ppt/media/image9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0696-FD7E-43E0-B401-4E68585DF8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751E-760B-4127-AAE4-2A86187325F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A68-7741-4308-9E58-4EB9385E5F8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!  Вывод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рифме можно прочесть не только статьи  в словарях, но и в стихотворениях поэтов. Они писал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рифме в рифм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FE9-DBE2-4B56-A0E4-6A46A6494B8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2966-6AE4-4A13-B3C5-6254244ABF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мы узнали и научились распознавать некоторые виды рифм: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н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крёстная, кольцевая (или опоясывающ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BD60-AE9F-43F0-A2D0-DDF7215CE96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F420-5E30-4FE9-A925-BF459577C97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нас интересовал вопрос, легко ли быть поэтом, можн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 самим рифмовать слова,  чтобы получилось стихотворение. Веприцкая Анастасия и Янсуфина Вилена вспомнили, как Незнайка,  герой произведения Н.Н.Носова, решил стать поэтом и  что из этого выш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AF6-B360-49AE-89C1-1F6EC76AFD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еня была самая ответственная роль: собрать все сведения о рифме, которые нашли ребята,  и представить их в вид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F521-5EC5-42AB-B9A9-8F3B24DE85D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871B-91E4-4D4A-BD65-3F26BF593F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E3C-F2DD-427A-9A60-A545D45E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091-9F2D-4701-BEB0-287DD850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690-16EA-4EC9-9A52-856F736E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D2E-64FB-43CD-9429-DA43CB5D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A2A7-D024-459B-A8AD-E2A8331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F4B0-C943-4796-A75A-E939F26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0280-D9E4-47B0-B5E6-63B0D1E2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5138-F5DE-468D-B02C-5224A4EF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B8C6-AF14-452B-84E1-CD7CF667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06F-0BCB-42E5-99AA-8888AA1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7D0F-1717-4BA6-9B02-57900B9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8E2-6545-4081-BF55-6E6E9F0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02D5-E6DD-4C72-944D-A949A51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A0E-CF9E-44B4-8A8F-00BC7F1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65F0-8253-4335-B47D-E8AA94F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308-6BE7-47F1-B307-6EE58FFC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B4B0-16D7-4280-BCDE-62E7BEFC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3B53-6301-428C-9246-87AE9376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19A0-B7EB-4603-84B4-07D1E26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4773-B9DA-4294-9C56-4A330F2E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CF4E-15D1-4C6F-A087-CF58CD8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CC92-FAF9-43CA-B5D4-2C6AD263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55A-7F53-4795-B92E-309150EA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ED878-DF2B-436D-B880-7F890FEF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2874-DBD1-4E6D-8941-B936BE2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70C1-4B60-4662-AB3F-71F295C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7A925-13BC-4A1B-B735-6D2FE0F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88E3-D861-4940-8454-6E10E1FB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8CBA-F1D6-4017-8801-3EED741C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45E9-9564-4D3C-9A52-B3C4CCFB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8FC3-B35A-4C5A-AFEB-02A26D59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F749-7C6F-41B4-B051-1D746C29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EEBD-CD9F-489C-BA8A-613B0F20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EFD-94A4-4DDB-B65F-FE1FBE7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51D3-8C22-4AF6-AB05-AC0DF8A0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0DD6-9F08-4F2B-B822-99687C8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A98B-0A09-458C-89AE-2AE733FD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6D3D-AF60-440A-B501-F9E0A1C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26A7-EEA0-41A1-B675-0C93848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22EA-71F3-44AD-9406-47D25A21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21D3-C7A0-4BEE-A39F-9F60CFF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0BDB-6FF3-44B4-9BD2-DB274F6B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2EE4-A5C1-464D-83E7-559CF0A6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A8B0-1E6B-4859-9AD9-C3595619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7AB-7DA4-4DFF-BEB2-7B17D1E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81E2-F7DF-42E5-B97A-359F376A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3525-EFC8-40C5-8856-537A5B6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B84C-9849-46DB-9220-75CF234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DF334-8311-4655-AAB8-054ABEA3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B362-769D-41CE-BF28-44FA606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7E3C-0472-435D-B35D-A4897A2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523F4-4E46-40EE-9D83-45856D1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4AD3-0D26-480F-9E32-BADE60B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9E2A-6EA7-40F5-9CD9-0CC2C59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EEA1-17F7-4A35-BC72-08C561B4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A18-046D-4492-8E7D-A01AA83A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1F97-D6F0-4E16-8EA9-8A0B9453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42DB-752A-430D-AC7C-2B754A4C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F435-11AD-40FA-8F57-7753BDF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063F4-C059-44A9-B67B-139DB971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2E42F-93B6-46FE-BBEC-9E2D4B6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EB5BF-15C9-4EC9-BB25-A4AA3CD0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B73F-EDB0-4F53-B7E9-4365AC5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35625-2D53-4E7A-BD4D-9C3D0D3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EF274-C1AA-430D-B53F-DB44697C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DBE01-44AE-49FA-B652-7F72F7E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430-EF70-4E9C-8070-B005E0F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EB50-CBB4-45ED-96BC-403B4B3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27C20-F1C2-4ED1-9694-DBD99168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A1B5-4BE6-4F9C-A571-C1264468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FFC26-D77B-4015-A42C-F9C114B6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949B-3A7E-40A4-92DC-AC94555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96B29-C41B-4D41-BD43-BF062BB0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4D0C-3CD7-4D21-B363-3A07975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892A-D6E8-446B-BF45-282BB877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2752-EBE3-4AFE-AE73-4E1E4EB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BA2B-D36B-4360-AE2C-0B6DFCF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25C-A632-4CC8-95F6-FA74A513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33A1E-D702-4D4B-9A50-7418E36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FD055-5110-4025-8A0C-85398C4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6D29-A58D-4BEA-A449-AB925F6B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BF60-6487-4869-9BC7-4A079C79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5A42F-705B-4BA0-AC2A-DB209C00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750-311A-43EC-B170-B414FF0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A8B-A4FC-4B22-9C02-29DA18DD8D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2E52-C1F1-45D0-BE09-2646E245B8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79FA-B4EA-4ED1-900F-823884227D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BF6-0229-4904-9C5F-7817938ED39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867-93BB-480C-B0E2-198D215B9A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D88F-7597-4DF0-81D2-A69CC3B214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50F-E88A-450A-AFF7-0EB89E0A7E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571760" y="357120"/>
            <a:ext cx="6858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Monotype Corsiva"/>
              </a:rPr>
              <a:t>Кто ничего не изучает,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Monotype Corsiva"/>
              </a:rPr>
              <a:t>Тот вечно хнычет и скучает.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еф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entury"/>
              </a:rPr>
              <a:t>   </a:t>
            </a:r>
            <a:r>
              <a:rPr b="1" lang="ru-RU" sz="4300" spc="-1" strike="noStrike">
                <a:solidFill>
                  <a:srgbClr val="7030a0"/>
                </a:solidFill>
                <a:latin typeface="Century"/>
              </a:rPr>
              <a:t>Рассказывают о рифм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71360" y="1356840"/>
            <a:ext cx="778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олковый словарь русского языка под ред. Д. Н. Ушаков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54cc"/>
                </a:solidFill>
                <a:latin typeface="Century"/>
              </a:rPr>
              <a:t>Рифма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рифмы, ж. (греч. rhythmos) (лит.). В стихосложении – созвучие концов стихотворных  стро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9" descr="10313"/>
          <p:cNvPicPr/>
          <p:nvPr/>
        </p:nvPicPr>
        <p:blipFill>
          <a:blip r:embed="rId1"/>
          <a:stretch/>
        </p:blipFill>
        <p:spPr>
          <a:xfrm>
            <a:off x="6858000" y="3571920"/>
            <a:ext cx="192420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Monotype Corsiva"/>
              </a:rPr>
              <a:t>Как    Цветик  учил Незнайку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Рифма- это когда слова в концах стихотворных строчек заканчиваются одинаково, - объяснил Цветик. – Например: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тк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ш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тк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к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оржи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м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оржи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0a0"/>
                </a:solidFill>
                <a:latin typeface="Monotype Corsiva"/>
              </a:rPr>
              <a:t>Поэты о рифме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Рифмы, милые мои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баловни, гордячки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Вы - как будто соловьи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Вы - как музыка за мной 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Вы – как будто шар земной 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лат Окуджав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6" descr="10310"/>
          <p:cNvPicPr/>
          <p:nvPr/>
        </p:nvPicPr>
        <p:blipFill>
          <a:blip r:embed="rId1"/>
          <a:stretch/>
        </p:blipFill>
        <p:spPr>
          <a:xfrm>
            <a:off x="7000920" y="2071800"/>
            <a:ext cx="199872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Monotype Corsiva"/>
              </a:rPr>
              <a:t>Рифма  бывает…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431720" y="2133720"/>
            <a:ext cx="7407000" cy="2171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Белая берёза под моим 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окном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накрылась снегом, точно 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сереб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3384720" y="3475080"/>
            <a:ext cx="0" cy="93492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332000" y="4305240"/>
            <a:ext cx="41036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rbel"/>
              </a:rPr>
              <a:t>парная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7" descr="10313"/>
          <p:cNvPicPr/>
          <p:nvPr/>
        </p:nvPicPr>
        <p:blipFill>
          <a:blip r:embed="rId1"/>
          <a:stretch/>
        </p:blipFill>
        <p:spPr>
          <a:xfrm>
            <a:off x="5508720" y="4076640"/>
            <a:ext cx="29210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Monotype Corsiva"/>
              </a:rPr>
              <a:t>Рифма бывает…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ошка на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окошк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убашку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шьёт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урочка в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сапожках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Избёнку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метё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3367080" y="4402080"/>
            <a:ext cx="0" cy="93492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332000" y="5129280"/>
            <a:ext cx="46800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перекрёстная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7" descr="10313"/>
          <p:cNvPicPr/>
          <p:nvPr/>
        </p:nvPicPr>
        <p:blipFill>
          <a:blip r:embed="rId1"/>
          <a:stretch/>
        </p:blipFill>
        <p:spPr>
          <a:xfrm>
            <a:off x="6257880" y="3429000"/>
            <a:ext cx="256212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572314"/>
                </a:solidFill>
                <a:latin typeface="Monotype Corsiva"/>
              </a:rPr>
              <a:t>Рифма бывает…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1720" y="1267920"/>
            <a:ext cx="6956280" cy="273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прыгунь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Стрекоз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то красное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пропел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глянуться не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успела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ак зима катит в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глаз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3343320" y="3933720"/>
            <a:ext cx="14400" cy="85248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332000" y="4870440"/>
            <a:ext cx="468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опоясывающая (кольцевая)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7" descr="10313"/>
          <p:cNvPicPr/>
          <p:nvPr/>
        </p:nvPicPr>
        <p:blipFill>
          <a:blip r:embed="rId1"/>
          <a:stretch/>
        </p:blipFill>
        <p:spPr>
          <a:xfrm>
            <a:off x="6257880" y="3429000"/>
            <a:ext cx="256212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572314"/>
                </a:solidFill>
                <a:latin typeface="Monotype Corsiva"/>
              </a:rPr>
              <a:t>Рифма встречается 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488960" y="1614240"/>
            <a:ext cx="7407360" cy="70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 фольклорных произведениях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</a:t>
            </a:r>
            <a:r>
              <a:rPr b="0" i="1" lang="ru-RU" sz="3600" spc="-1" strike="noStrike">
                <a:solidFill>
                  <a:srgbClr val="320e04"/>
                </a:solidFill>
                <a:latin typeface="Monotype Corsiva"/>
                <a:ea typeface="Microsoft Himalaya"/>
              </a:rPr>
              <a:t>в загадках , пословицах , потешках ,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20e04"/>
                </a:solidFill>
                <a:latin typeface="Monotype Corsiva"/>
                <a:ea typeface="Microsoft Himalaya"/>
              </a:rPr>
              <a:t>       </a:t>
            </a:r>
            <a:r>
              <a:rPr b="0" i="1" lang="ru-RU" sz="3600" spc="-1" strike="noStrike">
                <a:solidFill>
                  <a:srgbClr val="320e04"/>
                </a:solidFill>
                <a:latin typeface="Monotype Corsiva"/>
                <a:ea typeface="Microsoft Himalaya"/>
              </a:rPr>
              <a:t>закличках , в шутках , прибаутках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стихотворениях</a:t>
            </a:r>
            <a:r>
              <a:rPr b="0" i="1" lang="ru-RU" sz="3600" spc="-1" strike="noStrike">
                <a:solidFill>
                  <a:srgbClr val="320e04"/>
                </a:solidFill>
                <a:latin typeface="Corbel"/>
              </a:rPr>
              <a:t>, </a:t>
            </a: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поэмах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баснях и былинах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песнях и балладах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прозе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6" descr="10310"/>
          <p:cNvPicPr/>
          <p:nvPr/>
        </p:nvPicPr>
        <p:blipFill>
          <a:blip r:embed="rId1"/>
          <a:stretch/>
        </p:blipFill>
        <p:spPr>
          <a:xfrm>
            <a:off x="6732720" y="3933720"/>
            <a:ext cx="1439640" cy="1952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Monotype Corsiva"/>
              </a:rPr>
              <a:t>Рифма умеет 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загадк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разгадыва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  <a:ea typeface="Calibri"/>
              </a:rPr>
              <a:t> 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Живёт спокойно, не спеши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На всякий случай носит щи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Под ним, не зная страх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Гуляет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играть в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Calibri"/>
              </a:rPr>
              <a:t>бурим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т франц. bouts rimes -"зарифмованные концы") - сочинять стихи на заданные риф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  <a:ea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: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цветок- лист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Monotype Corsiva"/>
              </a:rPr>
              <a:t>Мы играли в бурим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Цветок-лист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Под кустом растёт цвето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 него резной листо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Распускается цветок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является листо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572314"/>
                </a:solidFill>
                <a:latin typeface="Monotype Corsiva"/>
              </a:rPr>
              <a:t>Трудно ли сочинять стихи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0328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4" descr="C:\Users\Владелец\Desktop\DSC04521.JPG"/>
          <p:cNvPicPr/>
          <p:nvPr/>
        </p:nvPicPr>
        <p:blipFill>
          <a:blip r:embed="rId1"/>
          <a:stretch/>
        </p:blipFill>
        <p:spPr>
          <a:xfrm>
            <a:off x="1643040" y="164304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499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Творческий проект 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560" y="1856880"/>
            <a:ext cx="7499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Выполнили: 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Ал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мухаметов Вил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ну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р, Атняшева Илона , Зубаирова Миле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ученики 3 клас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БОУ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Бичуринская СОШ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ы уверены, друзья, 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что трудились всё ж не зря!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9720" y="1428480"/>
            <a:ext cx="278604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дулова Лидия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н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шла красавица вес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 и радость принес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сти настала вот пора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 оживает ото сн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етках птички все сидя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будят всех подря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ьи журчат везде, повсюду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рень прекрасная цвете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3786120" y="1571760"/>
            <a:ext cx="250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якаев Дени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шла красавица весн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аял снег вокру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зимушка-зи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дается как всег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, конечно, надо зна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есна идет опя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6357960" y="1571760"/>
            <a:ext cx="250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дулова Айгу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онец  пришла  вес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ровая у нас о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янешь вправо: прошлогодняя трав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янешь влево: начал таять снег вокру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янешь в лес: деревья зеленеют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йдешь в сад: любимые цветы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на  в начале сурова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 конце прекрас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4160" y="499680"/>
            <a:ext cx="70768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Нам было очень интересно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Загадки рифмы постигать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Её в произведеньях разны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Забавно было нам искать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И наши мысли, и старань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Полезны будут нам всегд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А поделиться своим знанье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Нам не составило труд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642680" y="1071720"/>
            <a:ext cx="6784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олковый словарь под ред. C. И. Ожегова и Н.Ю.Шведов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олковый словарь В.И.Да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олковый словарь русского языка под ред. Д. Н. Ушакова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.Носов. Как Незнайка сочинял стих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нет – ресурсы (картинки для презентаци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642680" y="1071720"/>
            <a:ext cx="6784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Monotype Corsiva"/>
              </a:rPr>
              <a:t>Всем спасибо за внимание 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7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Monotype Corsiva"/>
              </a:rPr>
              <a:t>До новой встречи! До свидания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65721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Тема    проекта: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428480" y="3143160"/>
            <a:ext cx="7072200" cy="250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713204"/>
                </a:solidFill>
                <a:latin typeface="Monotype Corsiva"/>
              </a:rPr>
              <a:t>«Я пишу стихотворение»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Цель проекта: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Постичь некоторые секреты написания стихотворения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214280" y="282888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Гипотеза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57200" y="1499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«Может ли третьеклассник написать стихотворение?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Задачи проекта: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йти в разных источниках сведения о рифм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знакомить слушателей с подобранной информацией о рифм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знакомить с творчеством детей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13204"/>
                </a:solidFill>
                <a:latin typeface="Monotype Corsiva"/>
              </a:rPr>
              <a:t>Что мы узнали о рифм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начение слова «рифма»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Какая  бывает рифм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Трудно ли сочинять стих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Monotype Corsiva"/>
              </a:rPr>
              <a:t>Узнали: Что такое «рифма»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4" descr="DSC04647.JPG"/>
          <p:cNvPicPr/>
          <p:nvPr/>
        </p:nvPicPr>
        <p:blipFill>
          <a:blip r:embed="rId1"/>
          <a:stretch/>
        </p:blipFill>
        <p:spPr>
          <a:xfrm>
            <a:off x="1714680" y="1714680"/>
            <a:ext cx="2714400" cy="4071600"/>
          </a:xfrm>
          <a:prstGeom prst="rect">
            <a:avLst/>
          </a:prstGeom>
          <a:ln w="0">
            <a:noFill/>
          </a:ln>
        </p:spPr>
      </p:pic>
      <p:pic>
        <p:nvPicPr>
          <p:cNvPr id="341" name="Содержимое 5" descr="DSC04650.JPG"/>
          <p:cNvPicPr/>
          <p:nvPr/>
        </p:nvPicPr>
        <p:blipFill>
          <a:blip r:embed="rId2"/>
          <a:stretch/>
        </p:blipFill>
        <p:spPr>
          <a:xfrm>
            <a:off x="5072040" y="164304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DSC04649.JPG"/>
          <p:cNvPicPr/>
          <p:nvPr/>
        </p:nvPicPr>
        <p:blipFill>
          <a:blip r:embed="rId3"/>
          <a:stretch/>
        </p:blipFill>
        <p:spPr>
          <a:xfrm>
            <a:off x="5072040" y="421488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entury"/>
              </a:rPr>
              <a:t>   </a:t>
            </a:r>
            <a:r>
              <a:rPr b="1" lang="ru-RU" sz="4300" spc="-1" strike="noStrike">
                <a:solidFill>
                  <a:srgbClr val="7030a0"/>
                </a:solidFill>
                <a:latin typeface="Century"/>
              </a:rPr>
              <a:t>Рассказывают о рифм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71360" y="1356840"/>
            <a:ext cx="778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лковый словарь под ред. C. И. Ожегова и Н.Ю.Шведово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  </a:t>
            </a: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Рифма</a:t>
            </a:r>
            <a:r>
              <a:rPr b="0" lang="ru-RU" sz="32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-ы, ж. </a:t>
            </a:r>
            <a:r>
              <a:rPr b="0" i="1" lang="ru-RU" sz="32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Созвучие концов стихотворных стро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лковый словарь В.И.Дал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 </a:t>
            </a: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Рифм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. греч. Однозвучие конечных слогов в стихах, красный скла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9" descr="10313"/>
          <p:cNvPicPr/>
          <p:nvPr/>
        </p:nvPicPr>
        <p:blipFill>
          <a:blip r:embed="rId1"/>
          <a:stretch/>
        </p:blipFill>
        <p:spPr>
          <a:xfrm>
            <a:off x="6858000" y="2571840"/>
            <a:ext cx="19242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33:04Z</dcterms:created>
  <dc:creator>психолог</dc:creator>
  <dc:description/>
  <dc:language>en-US</dc:language>
  <cp:lastModifiedBy>Admin</cp:lastModifiedBy>
  <dcterms:modified xsi:type="dcterms:W3CDTF">2017-01-11T12:51:03Z</dcterms:modified>
  <cp:revision>113</cp:revision>
  <dc:subject/>
  <dc:title>Тема:</dc:title>
</cp:coreProperties>
</file>