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51D0-629E-4D43-AA59-6DFFDD44B2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F654-3E10-4B66-ABF1-CB0E48F46EF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56F9-0545-4AD5-9F82-55CD02889A2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!  Вывод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рифме можно прочесть не только статьи  в словарях, но и в стихотворениях поэтов. Они писал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 рифме в рифм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F266-D650-46B6-98AC-E3BC4EB9D04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F248-5258-4679-B5B2-9EF9FC5179B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!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вод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: мы узнали и научились распознавать некоторые виды рифм: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на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екрёстная, кольцевая (или опоясывающ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E438-64D0-41AF-BC5C-A2960C8FAF1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7663-A248-44D3-B7ED-F5C723F9713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ещё нас интересовал вопрос, легко ли быть поэтом, можно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 самим рифмовать слова,  чтобы получилось стихотворение. Веприцкая Анастасия и Янсуфина Вилена вспомнили, как Незнайка,  герой произведения Н.Н.Носова, решил стать поэтом и  что из этого вышл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F2B-28E2-4901-AD8E-9DA002E508A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 меня была самая ответственная роль: собрать все сведения о рифме, которые нашли ребята,  и представить их в виде про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7214-4E87-4823-8622-DB562FCA32D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EC34-464C-456E-AEFA-7C589281D3B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9D24-643B-435B-8CFC-44B8651A8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1082-2864-45EC-9C9A-CC05B841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0F0-038B-45A0-A5C7-8FB67104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D50-E8B4-489F-8EBC-359AAC5EF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C848-5935-44B3-A6BB-56F1D01D5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69A9-C428-4E8C-8A64-64EDFFA8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10EF-994B-4E90-91CC-850CF52C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05E9-CFAA-4970-B350-40244DA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4C45-7304-426A-A6C3-ADF4520A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92C0-1FBC-4B97-9CC6-4D031CFE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36BB-A633-4FB5-B1F4-AA72A5FC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27B-3524-4E65-BEC1-5AA3DA79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BE3E-3A92-48CE-BCC8-5FF82AF1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12A9-4417-4D47-83CE-8CDA5C98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92F6-D7CC-44BA-AD42-9C4B9A5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0D66-93DA-4B47-8B5F-0A8FC623E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DD25-ACEF-4BA2-922D-5E7A64D4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92E4-8B9E-4F05-9341-94E792AF3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392A7-7E32-4B39-AEAF-BAF49008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E0BED-2A1D-4E54-9DCF-143CDC00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8D6C4-FBB7-4E87-BE87-2B56B6F8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25643-07F1-4C4A-9B7E-45803401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DA9-90D1-4C52-843F-25FC8DBF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9388-DAA3-4FCB-9361-7FE9E072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94F25-601A-4A8A-8593-B69B37F0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1C94-5E4B-41D1-8660-6D147787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C48B-6036-4519-9699-774E53D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8D06-1A34-4A77-9B51-E600349D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E52E-609E-4E7E-98A9-8FCE642C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4D25E-D924-4AB7-86F8-B1942C8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6091B-0A9C-4D55-A92F-CEEB9704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CCE1-8687-4625-8883-992B968D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8D47-E445-44AE-A889-A3C22289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798-2274-4085-90AD-B12920D9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1956A-5ED7-4D8E-8F65-E54A771A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B87BA-F4A5-466F-ABC5-A11517B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62AD-C6C3-4583-9324-6FCE3E39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5D8AA-D072-40DF-BCA3-FAB6B1B0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2C7C-5445-4B91-B85C-E1BD1B91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F454D-3FFA-4B71-A48C-57128C81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5681A-5FE7-4E67-A0FE-3630ACA1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90F75-62B7-4DEC-86C0-C826D34E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9E069-90BD-45C1-BFF0-B3CFB81F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8ACDC-B47C-40F7-A15F-82415FF75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24DE-E7E4-4034-BE23-D190D8AD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2395E-7D42-4606-9911-1C7EFA45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F8AF5-64EB-4609-9F54-C1CE3E65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C2A6-D8DF-48EF-A676-633C3F90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082E7-DC81-4BC0-8942-FAF82176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82EAC-81DC-4EFF-9789-4AD6669A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D330-CCFC-4194-A22B-A259017E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3F95E-90DF-425F-BD7A-F825D3A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5875F-8390-45E9-B4BD-D57F6BC1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83D56-6A35-4BF6-838F-9E2C3D5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9C7D4-B945-42B0-A83C-49CAB3DF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12D9-7CD6-4EED-9736-EA1EC6D6C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9F61-D318-4777-9D05-787A2E50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954DF-BDCF-4175-A37B-090028CA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1E572-4AF9-4696-8AE6-E5512B96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6F75F-9A90-4E5A-8EF9-CA2A0CA6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68C57-3809-4869-8210-62E12522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DF02-DB80-4DB3-A888-F4A20672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72E09-B929-478B-B514-11C7FD5D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24867-5360-4ED7-AD60-09AA8CC1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285BC-6AC1-4B4A-88AC-665E40FF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07C9B-FCE1-4EF9-AF88-C33E432A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C2F2-FB3A-438B-A5CA-D18A75AD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6CF4C-C561-4C0E-BDBA-46926F2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9FA3D-AB7A-4616-A530-91386475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C2B6C-B47E-462A-8D4D-CF7BEAE4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7E273-217B-412A-99E6-6F7C12D6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5FF8-CD43-4BDF-A1E6-71A0217D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9CCBC-D4DF-48B3-9B38-C8AB2933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8B98B-FE64-4701-88E3-F0D1B783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B312E-21C9-4252-83D8-AE0013C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D4763-4B9B-4BB6-86B0-8107C6AE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75693-ED92-4242-B8E5-CB0E1519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693A-7E6E-4093-AD81-23DF0C22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641E1-8BC0-4AFF-AF62-33DA1721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215E8-D2ED-4026-ACA8-A3B69D0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B7837-29C9-4946-9550-AC583FEF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B63FA-B158-40B5-9AAE-B6985B8D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AE2A7-203F-4EE1-842D-4E50639F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4DD-C78D-4CF6-BDE1-48D8EBAE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7B20-708D-46F0-B042-C26B75DB90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CEE5-15C5-4DC1-B00E-6CF24CCEEF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A652-F336-44E1-8502-9BF7AFEE07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337-CF10-449C-822F-536B97FB8B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FD73-1886-41B1-A468-0BF6A0EB06B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BE1-9BE1-43E5-A6BD-BD68F2641AF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808B-21DE-438F-B347-8544B9267B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571760" y="357120"/>
            <a:ext cx="6858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Monotype Corsiva"/>
              </a:rPr>
              <a:t>Кто ничего не изучает,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Monotype Corsiva"/>
              </a:rPr>
              <a:t>Тот вечно хнычет и скучает.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               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297720" indent="-234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Monotype Corsiva"/>
              </a:rPr>
              <a:t>                     </a:t>
            </a:r>
            <a:r>
              <a:rPr b="0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Сеф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entury"/>
              </a:rPr>
              <a:t>   </a:t>
            </a:r>
            <a:r>
              <a:rPr b="1" lang="ru-RU" sz="4300" spc="-1" strike="noStrike">
                <a:solidFill>
                  <a:srgbClr val="7030a0"/>
                </a:solidFill>
                <a:latin typeface="Century"/>
              </a:rPr>
              <a:t>Рассказывают о рифм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71360" y="1356840"/>
            <a:ext cx="778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Толковый словарь русского языка под ред. Д. Н. Ушакова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54cc"/>
                </a:solidFill>
                <a:latin typeface="Century"/>
              </a:rPr>
              <a:t>Рифма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рифмы, ж. (греч. rhythmos) (лит.). В стихосложении – созвучие концов стихотворных  стр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Picture 9" descr="10313"/>
          <p:cNvPicPr/>
          <p:nvPr/>
        </p:nvPicPr>
        <p:blipFill>
          <a:blip r:embed="rId1"/>
          <a:stretch/>
        </p:blipFill>
        <p:spPr>
          <a:xfrm>
            <a:off x="6858000" y="3571920"/>
            <a:ext cx="1924200" cy="2357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Monotype Corsiva"/>
              </a:rPr>
              <a:t>Как    Цветик  учил Незнайку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434960" y="1447560"/>
            <a:ext cx="749952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Рифма- это когда слова в концах стихотворных строчек заканчиваются одинаково, - объяснил Цветик. – Например: 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т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ш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утка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к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оржи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м</a:t>
            </a: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оржик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7030a0"/>
                </a:solidFill>
                <a:latin typeface="Monotype Corsiva"/>
              </a:rPr>
              <a:t>Поэты о рифме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Рифмы, милые мои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баловни, гордячки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- как будто соловьи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- как музыка за мной 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  <a:ea typeface="Times New Roman"/>
              </a:rPr>
              <a:t>Вы – как будто шар земной 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  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3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лат Окуджава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6" descr="10310"/>
          <p:cNvPicPr/>
          <p:nvPr/>
        </p:nvPicPr>
        <p:blipFill>
          <a:blip r:embed="rId1"/>
          <a:stretch/>
        </p:blipFill>
        <p:spPr>
          <a:xfrm>
            <a:off x="7000920" y="2071800"/>
            <a:ext cx="199872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 бывает…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431720" y="2133720"/>
            <a:ext cx="7407000" cy="2171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Белая берёза под моим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окном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Принакрылась снегом, точно </a:t>
            </a:r>
            <a:r>
              <a:rPr b="1" lang="ru-RU" sz="3200" spc="-1" strike="noStrike">
                <a:solidFill>
                  <a:srgbClr val="7030a0"/>
                </a:solidFill>
                <a:latin typeface="Corbel"/>
              </a:rPr>
              <a:t>сереб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3384720" y="3475080"/>
            <a:ext cx="0" cy="93492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1332000" y="4305240"/>
            <a:ext cx="410364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orbel"/>
              </a:rPr>
              <a:t>парная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8" name="Picture 7" descr="10313"/>
          <p:cNvPicPr/>
          <p:nvPr/>
        </p:nvPicPr>
        <p:blipFill>
          <a:blip r:embed="rId1"/>
          <a:stretch/>
        </p:blipFill>
        <p:spPr>
          <a:xfrm>
            <a:off x="5508720" y="4076640"/>
            <a:ext cx="2921040" cy="223524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бывает…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ошка на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окошке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Рубашку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шьёт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урочка в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апожках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Избёнку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метё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3367080" y="4402080"/>
            <a:ext cx="0" cy="93492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1332000" y="5129280"/>
            <a:ext cx="468000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перекрёстная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3" name="Picture 7" descr="10313"/>
          <p:cNvPicPr/>
          <p:nvPr/>
        </p:nvPicPr>
        <p:blipFill>
          <a:blip r:embed="rId1"/>
          <a:stretch/>
        </p:blipFill>
        <p:spPr>
          <a:xfrm>
            <a:off x="6257880" y="3429000"/>
            <a:ext cx="25621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1720" y="360000"/>
            <a:ext cx="7407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Рифма бывает…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431720" y="1267920"/>
            <a:ext cx="6956280" cy="2737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прыгунья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Стрекоз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Лето красное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пропела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Оглянуться не </a:t>
            </a:r>
            <a:r>
              <a:rPr b="1" lang="ru-RU" sz="3600" spc="-1" strike="noStrike">
                <a:solidFill>
                  <a:srgbClr val="00b050"/>
                </a:solidFill>
                <a:latin typeface="Corbel"/>
              </a:rPr>
              <a:t>успела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Как зима катит в </a:t>
            </a:r>
            <a:r>
              <a:rPr b="1" lang="ru-RU" sz="3600" spc="-1" strike="noStrike">
                <a:solidFill>
                  <a:srgbClr val="7030a0"/>
                </a:solidFill>
                <a:latin typeface="Corbel"/>
              </a:rPr>
              <a:t>глаза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Line 5"/>
          <p:cNvSpPr/>
          <p:nvPr/>
        </p:nvSpPr>
        <p:spPr>
          <a:xfrm>
            <a:off x="3343320" y="3933720"/>
            <a:ext cx="14400" cy="852480"/>
          </a:xfrm>
          <a:prstGeom prst="line">
            <a:avLst/>
          </a:prstGeom>
          <a:ln w="57240">
            <a:solidFill>
              <a:srgbClr val="3891a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1332000" y="4870440"/>
            <a:ext cx="4680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rbel"/>
              </a:rPr>
              <a:t>опоясывающая (кольцевая)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8" name="Picture 7" descr="10313"/>
          <p:cNvPicPr/>
          <p:nvPr/>
        </p:nvPicPr>
        <p:blipFill>
          <a:blip r:embed="rId1"/>
          <a:stretch/>
        </p:blipFill>
        <p:spPr>
          <a:xfrm>
            <a:off x="6257880" y="3429000"/>
            <a:ext cx="256212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Рифма встречается 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488960" y="1614240"/>
            <a:ext cx="7407360" cy="70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 фольклорных произведениях</a:t>
            </a: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         </a:t>
            </a: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в загадках , пословицах , потешках ,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       </a:t>
            </a:r>
            <a:r>
              <a:rPr b="0" i="1" lang="ru-RU" sz="3600" spc="-1" strike="noStrike">
                <a:solidFill>
                  <a:srgbClr val="320e04"/>
                </a:solidFill>
                <a:latin typeface="Monotype Corsiva"/>
                <a:ea typeface="Microsoft Himalaya"/>
              </a:rPr>
              <a:t>закличках , в шутках , прибаутках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стихотворениях</a:t>
            </a:r>
            <a:r>
              <a:rPr b="0" i="1" lang="ru-RU" sz="3600" spc="-1" strike="noStrike">
                <a:solidFill>
                  <a:srgbClr val="320e04"/>
                </a:solidFill>
                <a:latin typeface="Corbel"/>
              </a:rPr>
              <a:t>, </a:t>
            </a: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поэм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баснях и былин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песнях и балладах,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-4572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в </a:t>
            </a: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прозе…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84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1" name="Picture 6" descr="10310"/>
          <p:cNvPicPr/>
          <p:nvPr/>
        </p:nvPicPr>
        <p:blipFill>
          <a:blip r:embed="rId1"/>
          <a:stretch/>
        </p:blipFill>
        <p:spPr>
          <a:xfrm>
            <a:off x="6732720" y="3933720"/>
            <a:ext cx="143964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572314"/>
                </a:solidFill>
                <a:latin typeface="Monotype Corsiva"/>
              </a:rPr>
              <a:t>Рифма умеет </a:t>
            </a:r>
            <a:endParaRPr b="0" lang="en-US" sz="6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</a:rPr>
              <a:t>загадк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разгадыва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orbel"/>
                <a:ea typeface="Calibri"/>
              </a:rPr>
              <a:t> 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Живёт спокойно, не спешит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На всякий случай носит щит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Под ним, не зная страха,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          </a:t>
            </a:r>
            <a:r>
              <a:rPr b="0" lang="ru-RU" sz="3200" spc="-1" strike="noStrike">
                <a:solidFill>
                  <a:srgbClr val="7030a0"/>
                </a:solidFill>
                <a:latin typeface="Corbel"/>
                <a:ea typeface="Calibri"/>
              </a:rPr>
              <a:t>Гуляет ..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играть в </a:t>
            </a:r>
            <a:r>
              <a:rPr b="1" lang="ru-RU" sz="3200" spc="-1" strike="noStrike">
                <a:solidFill>
                  <a:srgbClr val="00b050"/>
                </a:solidFill>
                <a:latin typeface="Corbel"/>
                <a:ea typeface="Calibri"/>
              </a:rPr>
              <a:t>буриме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Calibri"/>
              </a:rPr>
              <a:t>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от франц. bouts rimes -"зарифмованные концы") - сочинять стихи на заданные рифм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  <a:ea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Например: 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  <a:ea typeface="Calibri"/>
              </a:rPr>
              <a:t>цветок- лист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572314"/>
                </a:solidFill>
                <a:latin typeface="Monotype Corsiva"/>
              </a:rPr>
              <a:t>Мы играли в бурим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orbel"/>
              </a:rPr>
              <a:t>Цветок-листок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Под кустом растёт цвето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У него резной листо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«Распускается цветок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оявляется листок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572314"/>
                </a:solidFill>
                <a:latin typeface="Monotype Corsiva"/>
              </a:rPr>
              <a:t>Трудно ли сочинять стихи</a:t>
            </a: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40328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4" descr="C:\Users\Владелец\Desktop\DSC04521.JPG"/>
          <p:cNvPicPr/>
          <p:nvPr/>
        </p:nvPicPr>
        <p:blipFill>
          <a:blip r:embed="rId1"/>
          <a:stretch/>
        </p:blipFill>
        <p:spPr>
          <a:xfrm>
            <a:off x="1643040" y="1643040"/>
            <a:ext cx="70722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7499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7030a0"/>
                </a:solidFill>
                <a:latin typeface="Corbel"/>
              </a:rPr>
              <a:t>Творческий проект 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560" y="1856880"/>
            <a:ext cx="7499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Выполнили: 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Ал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мухаметов Вил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entury"/>
              </a:rPr>
              <a:t>ну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р, Атняшева Илона , Зубаирова Милен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ученики 3 класс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БОУ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8920" indent="-282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Бичуринская СОШ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Мы уверены, друзья, </a:t>
            </a:r>
            <a:br>
              <a:rPr sz="3600"/>
            </a:b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что трудились всё ж не зря!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999720" y="1428480"/>
            <a:ext cx="2786040" cy="28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дулова Лидия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шла красавица весн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пло и радость принесл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сти настала вот пора,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ё оживает ото сн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ветках птички все сидят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будят всех подряд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чьи журчат везде, повсюду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рень прекрасная цвете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6"/>
          <p:cNvSpPr/>
          <p:nvPr/>
        </p:nvSpPr>
        <p:spPr>
          <a:xfrm>
            <a:off x="3786120" y="1571760"/>
            <a:ext cx="2500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якаев Дени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шла красавица весн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аял снег вокр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зимушка-зим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сдается как всегда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, конечно, надо зна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весна идет опя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Прямоугольник 8"/>
          <p:cNvSpPr/>
          <p:nvPr/>
        </p:nvSpPr>
        <p:spPr>
          <a:xfrm>
            <a:off x="6357960" y="1571760"/>
            <a:ext cx="2500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бдулова Айгу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конец  пришла  вес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ровая у нас он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право: прошлогодняя трав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лево: начал таять снег вокру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янешь в лес: деревья зеленеют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йдешь в сад: любимые цветы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на  в начале суровая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 конце прекрас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424160" y="499680"/>
            <a:ext cx="707688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Нам было очень интересно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Загадки рифмы постигать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Её в произведеньях разных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Забавно было нам искать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И наши мысли, и старанья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Полезны будут нам всег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А поделиться своим знаньем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3e21"/>
                </a:solidFill>
                <a:latin typeface="Corbel"/>
              </a:rPr>
              <a:t>Нам не составило труд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642680" y="1071720"/>
            <a:ext cx="6784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тература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олковый словарь под ред. C. И. Ожегова и Н.Ю.Шведовой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олковый словарь В.И.Да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Толковый словарь русского языка под ред. Д. Н. Ушакова 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.Носов. Как Незнайка сочинял стих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нет – ресурсы (картинки для презентации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1642680" y="1071720"/>
            <a:ext cx="6784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7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Monotype Corsiva"/>
              </a:rPr>
              <a:t>Всем спасибо за внимание 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7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Monotype Corsiva"/>
              </a:rPr>
              <a:t>До новой встречи! До свидания!</a:t>
            </a: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65721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Тема   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1428480" y="3143160"/>
            <a:ext cx="7072200" cy="2500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800" spc="-1" strike="noStrike">
                <a:solidFill>
                  <a:srgbClr val="713204"/>
                </a:solidFill>
                <a:latin typeface="Monotype Corsiva"/>
              </a:rPr>
              <a:t>«Я пишу стихотворение»</a:t>
            </a:r>
            <a:endParaRPr b="0" lang="en-US" sz="8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ver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Цель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713204"/>
                </a:solidFill>
                <a:latin typeface="Times New Roman"/>
                <a:ea typeface="Times New Roman"/>
              </a:rPr>
              <a:t>Постичь некоторые секреты написания стихотворения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214280" y="2828880"/>
            <a:ext cx="767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Гипотеза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357200" y="14997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«Может ли третьеклассник написать стихотворение?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Задачи проекта:</a:t>
            </a:r>
            <a:endParaRPr b="0" lang="en-US" sz="7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357200" y="14284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найти в разных источниках сведения о рифм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знакомить слушателей с подобранной информацией о рифме;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познакомить с творчеством детей.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13204"/>
                </a:solidFill>
                <a:latin typeface="Monotype Corsiva"/>
              </a:rPr>
              <a:t>Что мы узнали о рифме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Значение слова «рифма»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Какая  бывает рифма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Трудно ли сочинять стихи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Monotype Corsiva"/>
              </a:rPr>
              <a:t>Узнали: Что такое «рифма»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0" name="Содержимое 4" descr="DSC04647.JPG"/>
          <p:cNvPicPr/>
          <p:nvPr/>
        </p:nvPicPr>
        <p:blipFill>
          <a:blip r:embed="rId1"/>
          <a:stretch/>
        </p:blipFill>
        <p:spPr>
          <a:xfrm>
            <a:off x="1714680" y="1714680"/>
            <a:ext cx="2714400" cy="4071600"/>
          </a:xfrm>
          <a:prstGeom prst="rect">
            <a:avLst/>
          </a:prstGeom>
          <a:ln w="0">
            <a:noFill/>
          </a:ln>
        </p:spPr>
      </p:pic>
      <p:pic>
        <p:nvPicPr>
          <p:cNvPr id="341" name="Содержимое 5" descr="DSC04650.JPG"/>
          <p:cNvPicPr/>
          <p:nvPr/>
        </p:nvPicPr>
        <p:blipFill>
          <a:blip r:embed="rId2"/>
          <a:stretch/>
        </p:blipFill>
        <p:spPr>
          <a:xfrm>
            <a:off x="5072040" y="1643040"/>
            <a:ext cx="2643120" cy="228600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7" descr="DSC04649.JPG"/>
          <p:cNvPicPr/>
          <p:nvPr/>
        </p:nvPicPr>
        <p:blipFill>
          <a:blip r:embed="rId3"/>
          <a:stretch/>
        </p:blipFill>
        <p:spPr>
          <a:xfrm>
            <a:off x="5072040" y="4214880"/>
            <a:ext cx="26431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030a0"/>
                </a:solidFill>
                <a:latin typeface="Century"/>
              </a:rPr>
              <a:t>   </a:t>
            </a:r>
            <a:r>
              <a:rPr b="1" lang="ru-RU" sz="4300" spc="-1" strike="noStrike">
                <a:solidFill>
                  <a:srgbClr val="7030a0"/>
                </a:solidFill>
                <a:latin typeface="Century"/>
              </a:rPr>
              <a:t>Рассказывают о рифм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71360" y="1356840"/>
            <a:ext cx="778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лковый словарь под ред. C. И. Ожегова и Н.Ю.Шведов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  </a:t>
            </a: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Рифма</a:t>
            </a:r>
            <a:r>
              <a:rPr b="0" lang="ru-RU" sz="32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, -ы, ж. </a:t>
            </a:r>
            <a:r>
              <a:rPr b="0" i="1" lang="ru-RU" sz="3200" spc="-1" strike="noStrike">
                <a:solidFill>
                  <a:srgbClr val="7030a0"/>
                </a:solidFill>
                <a:latin typeface="Century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"/>
              </a:rPr>
              <a:t>Созвучие концов стихотворных строк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Толковый словарь В.И.Даля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 </a:t>
            </a:r>
            <a:r>
              <a:rPr b="1" lang="ru-RU" sz="3200" spc="-1" strike="noStrike">
                <a:solidFill>
                  <a:srgbClr val="9954cc"/>
                </a:solidFill>
                <a:latin typeface="Century"/>
              </a:rPr>
              <a:t>Рифм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ж. греч. Однозвучие конечных слогов в стихах, красный склад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9" descr="10313"/>
          <p:cNvPicPr/>
          <p:nvPr/>
        </p:nvPicPr>
        <p:blipFill>
          <a:blip r:embed="rId1"/>
          <a:stretch/>
        </p:blipFill>
        <p:spPr>
          <a:xfrm>
            <a:off x="6858000" y="2571840"/>
            <a:ext cx="1924200" cy="214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3:33:04Z</dcterms:created>
  <dc:creator>психолог</dc:creator>
  <dc:description/>
  <dc:language>en-US</dc:language>
  <cp:lastModifiedBy>Admin</cp:lastModifiedBy>
  <dcterms:modified xsi:type="dcterms:W3CDTF">2017-01-11T12:51:03Z</dcterms:modified>
  <cp:revision>113</cp:revision>
  <dc:subject/>
  <dc:title>Тема:</dc:title>
</cp:coreProperties>
</file>