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9774-70EB-4B0F-A967-5D060926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25CB-D0C0-43CC-B9B1-A1F6F732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EEFB-12A9-451B-8D6D-BE850C20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81BF-B60F-4928-8027-DEC27233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08AB-E9CA-4CB1-95F3-1D5804BC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E4BA-BDC9-4285-A5F2-6590D64F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42AB-6FDE-41D1-8711-2EDEA210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5219-5759-4C95-A4CF-D7D6A51C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0C97-E506-43CD-A803-A3B5B8AC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9340-377B-4FFE-B39F-2B2D0AFD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00D0-7AF0-468F-9AC8-00BA5121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6E1A-6175-44A5-B7B8-D7B8E43F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7B9A-19B6-4AB4-B3F4-FA6D8886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C45C-921A-48E9-984E-0E59D588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DEFE-0162-4450-8FE3-EC3B73BC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803C-EA0D-4EA0-B800-5D551B20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88AA-402A-4653-AABD-0ADEC5F5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DB8EB-FA22-4035-841F-3A61A6E58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29074-21BC-4303-859B-50C8972B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57FF8-2093-4E14-84CB-F48EA868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A8EC5-BBE9-4E0C-9716-4D967186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8C82A-C224-4CA1-8A4C-510CF177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DAA1-EC3D-44DD-B7D2-771206C1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D542D-0FB0-4DB3-948D-45FB9A8B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6C1AD-B490-4A27-9B69-F9258752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6EE55-069A-4DD7-89E4-93B21741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DF482-E052-42DE-BF04-90D20665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76947-A478-4824-BCB1-917D695E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7FECE-737E-4557-BC77-29A0C68D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97B34-3A85-4E1D-8204-B96F2178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A5E80-6A6E-40C9-85DE-F8E3723A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2CC61-BAA5-4EFF-83FF-470F779B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C50D3-2C23-4F3D-9EA6-25F2DB69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A8B5-150D-4825-9D4D-DB3C3A9B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0561C-80E2-4BC0-98D2-463C5907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6404A-B709-47CD-A7C9-245704C9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61E8B-3D65-4202-92FC-7C333626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72A0D-6B55-4F60-9A0C-5F649E0A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9C2A4-7803-492A-B1CC-53881A5A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6D2FE-4B5E-4A80-82AF-8D2C8EE0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60879-2560-4111-827B-3420A2B5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D7DE7-6A68-4ADF-BD7D-A42C62070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3790D-3BE0-4C16-BAED-A7527E367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08F7-F0CB-4CA0-A930-10B1FA19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9455-869F-47AE-BABE-44F92C15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921B-3D37-4093-8433-38C0B47E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41C0-E401-4CED-B404-2657D746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0C36-7361-4302-955D-F2205C74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E70F-4577-492E-935F-2A7BA6028500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1F37-8E86-48E1-A855-5371927F2358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C250-9D15-4D37-BF60-3B1E06AE9501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2244-3FDA-4DD7-AB76-79DE135715C3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8920" y="1916280"/>
            <a:ext cx="7704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3f7819"/>
                </a:solidFill>
                <a:latin typeface="Trebuchet MS"/>
              </a:rPr>
              <a:t>Реализация ФГОС </a:t>
            </a:r>
            <a:br>
              <a:rPr sz="3600"/>
            </a:br>
            <a:r>
              <a:rPr b="1" lang="ru-RU" sz="3600" spc="-1" strike="noStrike">
                <a:solidFill>
                  <a:srgbClr val="3f7819"/>
                </a:solidFill>
                <a:latin typeface="Trebuchet MS"/>
              </a:rPr>
              <a:t>для обучающихся с ОВЗ</a:t>
            </a:r>
            <a:br>
              <a:rPr sz="3600"/>
            </a:br>
            <a:r>
              <a:rPr b="1" lang="ru-RU" sz="3600" spc="-1" strike="noStrike">
                <a:solidFill>
                  <a:srgbClr val="3f7819"/>
                </a:solidFill>
                <a:latin typeface="Trebuchet MS"/>
              </a:rPr>
              <a:t>в условиях общеобразовательной школы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093400" y="4724280"/>
            <a:ext cx="597708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Заголовок 3"/>
          <p:cNvSpPr/>
          <p:nvPr/>
        </p:nvSpPr>
        <p:spPr>
          <a:xfrm>
            <a:off x="1195560" y="844560"/>
            <a:ext cx="77724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179280" y="189000"/>
            <a:ext cx="8280360" cy="57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тегории детей с ОВ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11280" y="692280"/>
          <a:ext cx="7272360" cy="5754600"/>
        </p:xfrm>
        <a:graphic>
          <a:graphicData uri="http://schemas.openxmlformats.org/drawingml/2006/table">
            <a:tbl>
              <a:tblPr/>
              <a:tblGrid>
                <a:gridCol w="3355920"/>
                <a:gridCol w="3916440"/>
              </a:tblGrid>
              <a:tr h="915480">
                <a:tc>
                  <a:txBody>
                    <a:bodyPr lIns="60480" rIns="60480" tIns="30240" bIns="302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тег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с ОВ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ОС Н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хся с ОВ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хие де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,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,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,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слышащие де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,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,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епые де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,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,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, 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бовидящие дети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,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,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с речевыми нарушениям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,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,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с двигательными нарушениям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,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,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,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с задержкой психического развит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,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,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и с расстройствами аутистического спек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,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2,</a:t>
                      </a:r>
                      <a:r>
                        <a:rPr b="0" lang="ru-RU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3,</a:t>
                      </a: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4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ГОС образования обучающихся с умственной отсталостью (интеллектуальными нарушениям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ственно отсталые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0480" rIns="60480" tIns="30240" bIns="3024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480" marR="60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716436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Структура адаптированной основной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rebuchet MS"/>
              </a:rPr>
              <a:t>образовательной программы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50920" y="1196640"/>
            <a:ext cx="8286480" cy="48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rebuchet MS"/>
              </a:rPr>
              <a:t>Содержание образования </a:t>
            </a: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: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Учебный план, включающий календарный график организации учебного процес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Рабочие программы учебных предметов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Программа коррекционной работы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Программа духовно-нравственного развити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Программы специальных курсов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Программа формирования универсальных учебных действий у обучающихся  на ступени начального общего образовани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Программа формирования экологической культуры, здорового и безопасного  образа жизни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 </a:t>
            </a: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Программа внеурочной деятельност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7030a0"/>
                </a:solidFill>
                <a:latin typeface="Trebuchet MS"/>
              </a:rPr>
              <a:t>4</a:t>
            </a: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. </a:t>
            </a:r>
            <a:r>
              <a:rPr b="1" lang="ru-RU" sz="1600" spc="-1" strike="noStrike">
                <a:solidFill>
                  <a:srgbClr val="ff0000"/>
                </a:solidFill>
                <a:latin typeface="Trebuchet MS"/>
              </a:rPr>
              <a:t>Система оценки достижения обучающимися </a:t>
            </a: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планируемых результатов освоения  адаптированной основной образовательной программы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5. </a:t>
            </a:r>
            <a:r>
              <a:rPr b="1" lang="ru-RU" sz="1600" spc="-1" strike="noStrike">
                <a:solidFill>
                  <a:srgbClr val="ff0000"/>
                </a:solidFill>
                <a:latin typeface="Trebuchet MS"/>
              </a:rPr>
              <a:t>Условия реализации ООП:  </a:t>
            </a:r>
            <a:r>
              <a:rPr b="1" lang="ru-RU" sz="1600" spc="-1" strike="noStrike">
                <a:solidFill>
                  <a:srgbClr val="7030a0"/>
                </a:solidFill>
                <a:latin typeface="Trebuchet MS"/>
              </a:rPr>
              <a:t>кадровые условия,   финансово-экономические условия,  материально-технические условия,  учебно-методические условия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2120" indent="-31212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777240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rebuchet MS"/>
              </a:rPr>
              <a:t>Варианты образовательных программ на основе ФГОС с ОВЗ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0" y="691920"/>
            <a:ext cx="3168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rebuchet MS"/>
              </a:rPr>
              <a:t>Вариант образовательной программы (А)  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редназначен для обучающихся с  ограниченными возможностями здоровья, достигшим к моменту поступления  в школу уровня развития, близкого возрастной норме;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Обучающийся,  с  ограниченными  возможностями  здоровья по данному варианту осваивает  </a:t>
            </a:r>
            <a:r>
              <a:rPr b="0" lang="ru-RU" sz="1400" spc="-1" strike="noStrike">
                <a:solidFill>
                  <a:srgbClr val="c00000"/>
                </a:solidFill>
                <a:latin typeface="Trebuchet MS"/>
              </a:rPr>
              <a:t>основную  образовательную  Программу</a:t>
            </a:r>
            <a:r>
              <a:rPr b="0" lang="ru-RU" sz="1400" spc="-1" strike="noStrike">
                <a:solidFill>
                  <a:srgbClr val="404040"/>
                </a:solidFill>
                <a:latin typeface="Trebuchet MS"/>
              </a:rPr>
              <a:t>,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 имеет  право  на прохождение  текущей,  промежуточной  и  государственной  итоговой  аттестации.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о итогам  освоения программы получает аттестат о среднем образовании.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Содержимое 2"/>
          <p:cNvSpPr/>
          <p:nvPr/>
        </p:nvSpPr>
        <p:spPr>
          <a:xfrm>
            <a:off x="2916360" y="765000"/>
            <a:ext cx="3024000" cy="40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rebuchet MS"/>
              </a:rPr>
              <a:t>Вариант образовательной программы (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Обучающийся с ограниченными возможностями здоровья получает  образование, сопоставимое по итоговым достижениям к моменту завершения школьного обучения с образованием здоровых сверстников, но в более  пролонгированные календарные сроки, которые определяются Стандарт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Обучающийся с ограниченными возможностями здоровья, осваивающий  вариант В, имеет право на прохождение текущей, промежуточной и   государственной итоговой аттестации в иных форма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одержимое 2"/>
          <p:cNvSpPr/>
          <p:nvPr/>
        </p:nvSpPr>
        <p:spPr>
          <a:xfrm>
            <a:off x="5759280" y="765000"/>
            <a:ext cx="338472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rebuchet MS"/>
              </a:rPr>
              <a:t>Третий вариант образовательной</a:t>
            </a:r>
            <a:br>
              <a:rPr sz="1400"/>
            </a:br>
            <a:r>
              <a:rPr b="1" lang="ru-RU" sz="1400" spc="-1" strike="noStrike">
                <a:solidFill>
                  <a:srgbClr val="c00000"/>
                </a:solidFill>
                <a:latin typeface="Trebuchet MS"/>
              </a:rPr>
              <a:t> программы (С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Обучающийся  с  ограниченными  возможностями  здоровья  получает  образование,  не  сопоставимое  по  итоговым  достижениям  к  моменту завершения школьного обучения с образованием сверстников без ограничений здоровья,  в  более  пролонгированные  календарные  сро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На  основе  Стандарта  создается  </a:t>
            </a:r>
            <a:r>
              <a:rPr b="1" lang="ru-RU" sz="1400" spc="-1" strike="noStrike">
                <a:solidFill>
                  <a:srgbClr val="c00000"/>
                </a:solidFill>
                <a:latin typeface="Trebuchet MS"/>
              </a:rPr>
              <a:t>адаптированная  образовательная  Программа,  </a:t>
            </a:r>
            <a:r>
              <a:rPr b="1" lang="ru-RU" sz="1400" spc="-1" strike="noStrike">
                <a:solidFill>
                  <a:srgbClr val="000000"/>
                </a:solidFill>
                <a:latin typeface="Trebuchet MS"/>
              </a:rPr>
              <a:t>которая  при  необходимости  индивидуализируется.  К  образовательной  Программе  создаются  несколько учебных планов, в том числе индивидуальные учебные 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ланы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rebuchet MS"/>
              </a:rPr>
              <a:t>Четвёртый вариант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Trebuchet MS"/>
              </a:rPr>
              <a:t> образовательной программы (D)</a:t>
            </a: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98000" y="1654200"/>
            <a:ext cx="867564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rebuchet MS"/>
              </a:rPr>
              <a:t>Обучающийся с ограниченными возможностями здоровья (со сложными и  множественными  нарушениями  развития)  получает  образование  </a:t>
            </a:r>
            <a:r>
              <a:rPr b="1" lang="ru-RU" sz="1800" spc="-1" strike="noStrike">
                <a:solidFill>
                  <a:srgbClr val="c00000"/>
                </a:solidFill>
                <a:latin typeface="Trebuchet MS"/>
              </a:rPr>
              <a:t>по  специальной индивидуальной программе развития (СИПР)</a:t>
            </a: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,  </a:t>
            </a:r>
            <a:r>
              <a:rPr b="1" lang="ru-RU" sz="1800" spc="-1" strike="noStrike">
                <a:solidFill>
                  <a:srgbClr val="7030a0"/>
                </a:solidFill>
                <a:latin typeface="Trebuchet MS"/>
              </a:rPr>
              <a:t>созданной  на  основе  индивидуального  учебного  плана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1800" spc="-1" strike="noStrike">
                <a:solidFill>
                  <a:srgbClr val="7030a0"/>
                </a:solidFill>
                <a:latin typeface="Trebuchet MS"/>
              </a:rPr>
              <a:t>При  значительном снижении содержания  «академического»  компонента  образования  требуется  максимальное  углубление  в  область  развития  жизненной  компетенции.  Обязательной  является  специальная  организация  среды  обучающегося  для  реализации  его  особых  образовательных  потребностей,  развитие  его  жизненной  компетенции  в  разных  социальных  средах  (образовательной, дома и др.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324000" y="1916280"/>
            <a:ext cx="748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c3c43"/>
                </a:solidFill>
                <a:latin typeface="Trebuchet MS"/>
              </a:rPr>
              <a:t>Специальная индивидуальная программа развития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Основные части СИПР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9" name="Содержимое 13" descr=""/>
          <p:cNvPicPr/>
          <p:nvPr/>
        </p:nvPicPr>
        <p:blipFill>
          <a:blip r:embed="rId1"/>
          <a:stretch/>
        </p:blipFill>
        <p:spPr>
          <a:xfrm>
            <a:off x="244440" y="1116000"/>
            <a:ext cx="791208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1"/>
          <p:cNvSpPr/>
          <p:nvPr/>
        </p:nvSpPr>
        <p:spPr>
          <a:xfrm>
            <a:off x="250920" y="333360"/>
            <a:ext cx="8642160" cy="64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c3c43"/>
                </a:solidFill>
                <a:latin typeface="Trebuchet MS"/>
              </a:rPr>
              <a:t>Специальная индивидуальная программа разви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это программа, разработанная для одного конкретного обучающегося, направленная на решение его пробле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Цель, задачи и структура которой определяются индивидуальными возможностями и потребностями  конкретного ребёнка.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108000" y="189000"/>
            <a:ext cx="892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Целью реализации СИП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является формирование общей культуры, обеспечивающей разностороннее развитие  личности ребенка с ОВЗ (нравственное, эстетическое, социально личностное, интеллектуальное, физическое) в соответствии с принятыми в семье и обществе нравственными и социокультурными ценностями; овладение учебной деятельностью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1"/>
          <p:cNvSpPr/>
          <p:nvPr/>
        </p:nvSpPr>
        <p:spPr>
          <a:xfrm>
            <a:off x="324000" y="907920"/>
            <a:ext cx="8351640" cy="58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1.Общие сведения о ребен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2.Характеристику, включающую оценку развития обучающегося на момент составления программы и определяющую приоритетные направления воспитания и обучен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Индивидуальный учебный план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Содержание образования в условиях организации и семь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Условия реализации потребности в уходе и присмотр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Перечень специалистов, участвующих в разработке и реализации СИПР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Перечень возможных задач, мероприятий и форм сотрудничества организации и семьи обучающего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Перечень необходимых технических средств и дидактических материа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.Средства мониторинга и оценки динамики об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"/>
          <p:cNvSpPr/>
          <p:nvPr/>
        </p:nvSpPr>
        <p:spPr>
          <a:xfrm>
            <a:off x="539640" y="11592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rebuchet MS"/>
              </a:rPr>
              <a:t>Структура СИП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324000" y="1360800"/>
            <a:ext cx="7272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 Roman"/>
                <a:ea typeface="Arial Unicode MS"/>
              </a:rPr>
              <a:t>Приоритетные коррекционные зада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 Roman"/>
                <a:ea typeface="Arial Unicode MS"/>
              </a:rPr>
              <a:t>Базовые учебные 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 Roman"/>
                <a:ea typeface="Arial Unicode MS"/>
              </a:rPr>
              <a:t>Предметно-практические действ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 Roman"/>
                <a:ea typeface="Arial Unicode MS"/>
              </a:rPr>
              <a:t>Необходимость привития навыков самообслужи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 Roman"/>
                <a:ea typeface="Arial Unicode MS"/>
              </a:rPr>
              <a:t>Коррекция процессов познавательн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"/>
          <p:cNvSpPr/>
          <p:nvPr/>
        </p:nvSpPr>
        <p:spPr>
          <a:xfrm>
            <a:off x="611280" y="40464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rebuchet MS"/>
              </a:rPr>
              <a:t>СИПР УО-2 вариан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324000" y="620640"/>
            <a:ext cx="7056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Цель: </a:t>
            </a:r>
            <a:r>
              <a:rPr b="0" lang="ru-RU" sz="2400" spc="-1" strike="noStrike">
                <a:solidFill>
                  <a:srgbClr val="2a5010"/>
                </a:solidFill>
                <a:latin typeface="Arial"/>
              </a:rPr>
              <a:t>формирование представления об особенностях реализации ФГОС для обучающихся с ОВЗ в условиях общеобразовательной шко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5010"/>
                </a:solidFill>
                <a:latin typeface="Arial"/>
              </a:rPr>
              <a:t>1. Познакомить учителей начальных классов с ФГОС для обучающихся с ОВ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501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a5010"/>
                </a:solidFill>
                <a:latin typeface="Arial"/>
              </a:rPr>
              <a:t>(НПБ, требования к структуре, к содержанию, к результатам АО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5010"/>
                </a:solidFill>
                <a:latin typeface="Arial"/>
              </a:rPr>
              <a:t>2. Дать представление о разработке и реализации специальной индивидуальной программе развития обучающегося с ОВ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Номер слайда 2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AE40-AF84-4222-965D-CBC174624311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"/>
          <p:cNvSpPr/>
          <p:nvPr/>
        </p:nvSpPr>
        <p:spPr>
          <a:xfrm>
            <a:off x="250920" y="2211120"/>
            <a:ext cx="745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 Roman"/>
                <a:ea typeface="华文新魏"/>
              </a:rPr>
              <a:t>ИНДИВИДУАЛЬНЫЙ УЧЕБНЫЙ 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 Roman"/>
                <a:ea typeface="华文新魏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 Roman"/>
                <a:ea typeface="华文新魏"/>
              </a:rPr>
              <a:t>на 2016-2017 уч.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0" y="-100080"/>
          <a:ext cx="9144000" cy="6958080"/>
        </p:xfrm>
        <a:graphic>
          <a:graphicData uri="http://schemas.openxmlformats.org/drawingml/2006/table">
            <a:tbl>
              <a:tblPr/>
              <a:tblGrid>
                <a:gridCol w="2411280"/>
                <a:gridCol w="3810240"/>
                <a:gridCol w="691920"/>
                <a:gridCol w="971640"/>
                <a:gridCol w="406440"/>
                <a:gridCol w="241200"/>
                <a:gridCol w="611280"/>
              </a:tblGrid>
              <a:tr h="1239840"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Предметные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Учебные предм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л-во часов в неделю по уч.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бязательная нагруз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(ИПР, ПМПК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Часы для с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Инклю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gridSpan="3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бязательная нагруз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.Язык и речевая прак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.1. Речь и альтернативная коммуник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. 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.1. Математические предст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3200"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. Ест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.1. Окружающий природный 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.2. Челов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.3. Домовод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.4. Окружающий социальный ми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3520"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. Искус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.1 Музыка и дви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.2. Изобраз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5. Физическ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5.1 Адаптивная физ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6. Техн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6.1 Профильный тру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7. Коррекционно-развивающие за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Максимально допустимая учебная нагруз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0520">
                <a:tc gridSpan="3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Часть, формируемая участниками образовательных отно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gridSpan="3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ррекционные кур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. Сенсорн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. Предметно-практические дей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3. Двигательн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. Альтернативная коммуник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Итого коррекционные кур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внеуроч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032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32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"/>
          <p:cNvSpPr/>
          <p:nvPr/>
        </p:nvSpPr>
        <p:spPr>
          <a:xfrm>
            <a:off x="324000" y="585000"/>
            <a:ext cx="7524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Основываясь на рекомендациях ПМПК, учитывая индивидуальные особенности  обучающегося Ешиевой Даримы,  8 ч. отводится на обязательную нагрузку (к оплате учителя)  и содержат следующие образовательные област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« Язык и речевая практика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представлена курсо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речь и альтернативная коммуникация- 2 час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« Математика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представлена курсом-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математические представле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-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2час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Окружающий природный мир -1ч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Окружающий социальный мир - 1ч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Домоводство — 2ч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 Данный курс способствует повышению  самостоятельности детей в выполнении хозяйственно-бытовой деятельности.  В основной школе приоритетным в обучении детей с ТМНР и глубокой умственной отсталостью является развитие жизненных компетенций.  Освоенные действия ребенок может в последующем применять как в быту, так и в профессиональной трудной деятельности. Обучение ребенка с умственной отсталостью, с ТМНР ведению домашнего хозяйства является важным направлением подготовки  к самостоятельной жизн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«Корекционно-развивающие занятия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179280" y="692280"/>
          <a:ext cx="7777440" cy="5905440"/>
        </p:xfrm>
        <a:graphic>
          <a:graphicData uri="http://schemas.openxmlformats.org/drawingml/2006/table">
            <a:tbl>
              <a:tblPr/>
              <a:tblGrid>
                <a:gridCol w="1656000"/>
                <a:gridCol w="696960"/>
                <a:gridCol w="5424480"/>
              </a:tblGrid>
              <a:tr h="480960">
                <a:tc gridSpan="3">
                  <a:txBody>
                    <a:bodyPr lIns="4320" rIns="43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Arial Unicode MS"/>
                        </a:rPr>
                        <a:t>Сенсорное развитие - 33 часа  (тьютор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4680"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сновные разделы учебной программ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личество час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Характеристика деятельности учащих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2000"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Зрительное воспри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Фиксирует взглядом объект, следит за передвижением объекта, различает цвет, форму объек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8320"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Слуховое воспри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7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Реагирует на слуховые раздражители неподвижного и перемещающегося источник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7360"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инестетическое воспри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2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пределяет на ощупь форму, материал, температуру, фактуру предмет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720"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Восприятие запах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Реагирует  на запахи различных объект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1720"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Восприятие вку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4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Реагирует на вкус различных объект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8680">
                <a:tc>
                  <a:txBody>
                    <a:bodyPr lIns="4320" rIns="432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иагно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320" rIns="43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заданий и упражнений по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листу  оценки динамики обучения учащего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20" marR="4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0" name="Rectangle 1"/>
          <p:cNvSpPr/>
          <p:nvPr/>
        </p:nvSpPr>
        <p:spPr>
          <a:xfrm>
            <a:off x="900000" y="37080"/>
            <a:ext cx="608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 Roman"/>
                <a:ea typeface="Arial Unicode MS"/>
              </a:rPr>
              <a:t>Содержание программ коррекционных кур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250920" y="549360"/>
          <a:ext cx="7850160" cy="5904000"/>
        </p:xfrm>
        <a:graphic>
          <a:graphicData uri="http://schemas.openxmlformats.org/drawingml/2006/table">
            <a:tbl>
              <a:tblPr/>
              <a:tblGrid>
                <a:gridCol w="1776240"/>
                <a:gridCol w="746280"/>
                <a:gridCol w="5327640"/>
              </a:tblGrid>
              <a:tr h="390600">
                <a:tc gridSpan="3"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Arial Unicode MS"/>
                        </a:rPr>
                        <a:t>Предметно-практические действия -33 часа (психолог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6360"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сновные разделы учебной программ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личество час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Характеристика деятельности учащих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5440">
                <a:tc>
                  <a:txBody>
                    <a:bodyPr lIns="1800" rIns="1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йствия с материал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инание материала (бумага), разрывание материала (бумага), размазывание материала (краска, клейстер), пересыпание материала (крупа, песок, мелкие предметы), переливание материала (вода) ,разминание материала (соленое тесто, пластилин) одной, двумя рук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08400">
                <a:tc>
                  <a:txBody>
                    <a:bodyPr lIns="1800" rIns="1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ействия с предме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хват, удержание, отпускание предметов; вынимание предметов (из коробки) складывание предметов (в коробку), перекладывание предметов (из коробки в коробку); нажимание на предмет всей рукой, вставление предметов (стаканчиков) друг в друга, нанизывание предметов (кольца, шарики, крупные бусины)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жимание предмета (резиновые игрушки, губка, прищепки),толкание предмета, действия с мозаикой, шарикам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3200">
                <a:tc>
                  <a:txBody>
                    <a:bodyPr lIns="1800" rIns="1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иагно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заданий и упражнений по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листу  оценки динамики обучения учащего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79280" y="333360"/>
          <a:ext cx="8713800" cy="6335640"/>
        </p:xfrm>
        <a:graphic>
          <a:graphicData uri="http://schemas.openxmlformats.org/drawingml/2006/table">
            <a:tbl>
              <a:tblPr/>
              <a:tblGrid>
                <a:gridCol w="1981440"/>
                <a:gridCol w="785520"/>
                <a:gridCol w="5946840"/>
              </a:tblGrid>
              <a:tr h="487440">
                <a:tc gridSpan="3"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Arial Unicode MS"/>
                        </a:rPr>
                        <a:t>Двигательное развитие-33 часа (тьютор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>
                  <a:txBody>
                    <a:bodyPr lIns="1800" rIns="1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сновные разделы учебной программ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личество час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Характеристика деятельности учащих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9040">
                <a:tc>
                  <a:txBody>
                    <a:bodyPr lIns="1800" rIns="1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вижения гол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ыполнение движений головой в положении стоя: наклон вправо наклон влево наклон вперед наклон назад в положении лежа на спине/животе, стоя или сидя), "круговые" движения (по часовой стрелке и против часовой стрелки), поворот головой: вправо влево круговые" движения: по часовой стрелке против часовой стрел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9400">
                <a:tc>
                  <a:txBody>
                    <a:bodyPr lIns="1800" rIns="1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вижения рук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движений руками: вперед назад вверх в стороны "круговые" выполнение движений пальцами рук: сгибание фаланг пальцев разгибание фаланг пальцев, сгибание пальцев в кулак разгибание пальцев, опора на предплечья на кисти рук, бросание мяча двумя руками: от груди из-за головы отбивание мяча от пола одной рукой ,ловля мяча на уровне груд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98520">
                <a:tc>
                  <a:txBody>
                    <a:bodyPr lIns="1800" rIns="1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нение по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ложении лежа: поворот со спины на живот, поворот с живота на спину изменение позы в положении сидя: поворот вправо поворот влево наклон вперед, наклон назад, наклон вправо, наклон влево, вставание на четвереньки, ползание на четвереньках, садиться из положения "лежа на спине", ходить на колен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5000">
                <a:tc>
                  <a:txBody>
                    <a:bodyPr lIns="1800" rIns="1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вижения ног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движений ногами: подъем ноги вверх, отведение ноги в сторону, отведение ноги назад, ходьба по наклонной поверхности: вверх с опорой, вверх без опоры, вниз с опорой, вниз без опоры, прыгание на двух ногах, на месте ударение по мячу ногой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1800" rIns="1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иагно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движений по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листу  оценки динамики обучения учащего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179280" y="304920"/>
          <a:ext cx="8785440" cy="6365880"/>
        </p:xfrm>
        <a:graphic>
          <a:graphicData uri="http://schemas.openxmlformats.org/drawingml/2006/table">
            <a:tbl>
              <a:tblPr/>
              <a:tblGrid>
                <a:gridCol w="1997280"/>
                <a:gridCol w="753840"/>
                <a:gridCol w="6034320"/>
              </a:tblGrid>
              <a:tr h="360360">
                <a:tc gridSpan="3"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льтернативная и дополнительная коммуникация-33 часа  (учитель-логопед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3640">
                <a:tc>
                  <a:txBody>
                    <a:bodyPr lIns="1800" rIns="1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сновные разделы учебной программ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личество час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Характеристика деятельности учащихс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43160">
                <a:tc>
                  <a:txBody>
                    <a:bodyPr lIns="1800" rIns="1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ммуник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зрительного контакта с собеседником приветствие собеседника: жестом (пожать руку) словом "Привет" ,реагирование на собственное имя выражение своих желаний: жестом словом "Дай" предложением "Лена, дай" выражение своих желаний: жестом словом "Дай", предложением "Лена, дай", выражение согласия: жестом (кивок головы) словом "Да" выражение несогласия: жестом (покачать головой из стороны в сторону) ,словом "Нет" прощание с собеседником: жестом (помахать рукой) словом "Пока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63440">
                <a:tc>
                  <a:txBody>
                    <a:bodyPr lIns="1800" rIns="1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прессивная реч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личение по именам: членов семьи учащихся класса педагогов ,понимание слов, обозначающих предмет: кружка тарелка ложка стул стол шкаф яблоко банан носки куртка футболка брюки шапка ботинки сандалии мяч понимание слов, указывающих на предмет, его признак: мой твой, понимание простых предложений: нераспространенных ("Оля ест" и др.) распространенных ("Оля ест яблоко" и др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1800" rIns="1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спрессивная реч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ывание своего имени  называние имен: членов семьи педагог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2200">
                <a:tc>
                  <a:txBody>
                    <a:bodyPr lIns="1800" rIns="18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иагно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00" rIns="18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заданий и упражнений по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листу  оценки динамики обучения учащего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" marR="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0" y="476280"/>
          <a:ext cx="9144000" cy="6283440"/>
        </p:xfrm>
        <a:graphic>
          <a:graphicData uri="http://schemas.openxmlformats.org/drawingml/2006/table">
            <a:tbl>
              <a:tblPr/>
              <a:tblGrid>
                <a:gridCol w="236520"/>
                <a:gridCol w="1970280"/>
                <a:gridCol w="5738760"/>
                <a:gridCol w="598320"/>
                <a:gridCol w="600120"/>
              </a:tblGrid>
              <a:tr h="81432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орр.кур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Описание возможных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 полугод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2 полугод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рительное воспри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фиксация взгляда на лице чело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фиксация взгляда на неподвижном предмете, расположенном напротив ребенк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ровне гл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ше уровня гл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е уровня гл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фиксация взгляда на неподвижном предмете,расположенном справ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ровне гл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ше уровня гл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е уровня гл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фиксация взгляда на неподвижном предмете, расположенном слев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уровне гл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ше уровня гл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е уровня гл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слеживание взглядом за движущимся близко расположенным предмето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горизонтали (вправо/влево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ертикали (вверх/вниз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кругу (по/против часовой стрелки); вперед/наз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рослеживание взглядом за движущимся удаленным предмет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560" rIns="43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Rectangle 1"/>
          <p:cNvSpPr/>
          <p:nvPr/>
        </p:nvSpPr>
        <p:spPr>
          <a:xfrm>
            <a:off x="395280" y="36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ahoma"/>
              </a:rPr>
              <a:t>Лист оценки динамики обучения коррекционных кур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400" y="213840"/>
            <a:ext cx="8319960" cy="6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ГОС начального общего образования с ОВЗ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78920" y="765000"/>
            <a:ext cx="7993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52520" indent="-4525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каз Министерства образования  и науки от 19.12.2014г.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 1598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Об утверждении ФГОС НОО обучающихся с ОВЗ»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работан в соответствии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.6 ст.11 ФЗ от 29.12.2012г.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273-ФЗ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бразовании в Российской Федерации»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основе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и РФ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тельства РФ с учетом Конвенции ООН  о правах ребенка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и ООН о правах инвалидов, региональных, национальных и Этнокультурных потребностей народов РФ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452520" indent="-45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5610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rebuchet MS"/>
              </a:rPr>
              <a:t>Дата применения стандарт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94920" y="1413000"/>
            <a:ext cx="6769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rebuchet MS"/>
              </a:rPr>
              <a:t>Стандарт применяется к правоотношениям, возникшим </a:t>
            </a:r>
            <a:r>
              <a:rPr b="0" lang="ru-RU" sz="3200" spc="-1" strike="noStrike" u="sng">
                <a:solidFill>
                  <a:srgbClr val="c00000"/>
                </a:solidFill>
                <a:uFillTx/>
                <a:latin typeface="Trebuchet MS"/>
              </a:rPr>
              <a:t>с 1 сентября 2016 года;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-332640" algn="just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rebuchet MS"/>
              </a:rPr>
              <a:t>Обучение лиц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, </a:t>
            </a:r>
            <a:r>
              <a:rPr b="1" lang="ru-RU" sz="3200" spc="-1" strike="noStrike" u="sng">
                <a:solidFill>
                  <a:srgbClr val="c00000"/>
                </a:solidFill>
                <a:uFillTx/>
                <a:latin typeface="Trebuchet MS"/>
              </a:rPr>
              <a:t>зачисленных</a:t>
            </a:r>
            <a:r>
              <a:rPr b="0" lang="ru-RU" sz="3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Trebuchet MS"/>
              </a:rPr>
              <a:t>ДО 1.09.16г. </a:t>
            </a:r>
            <a:r>
              <a:rPr b="1" lang="ru-RU" sz="3200" spc="-1" strike="noStrike">
                <a:solidFill>
                  <a:srgbClr val="002060"/>
                </a:solidFill>
                <a:latin typeface="Trebuchet MS"/>
              </a:rPr>
              <a:t>для обучения по адаптированным программам</a:t>
            </a: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,</a:t>
            </a:r>
            <a:r>
              <a:rPr b="1" lang="ru-RU" sz="3200" spc="-1" strike="noStrike">
                <a:solidFill>
                  <a:srgbClr val="c00000"/>
                </a:solidFill>
                <a:latin typeface="Trebuchet MS"/>
              </a:rPr>
              <a:t> осуществляется по ним ДО ЗАВЕРШЕНИЯ ОБУЧЕНИЯ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539640" y="549360"/>
            <a:ext cx="6264360" cy="1441440"/>
          </a:xfrm>
          <a:prstGeom prst="rect">
            <a:avLst/>
          </a:prstGeom>
          <a:solidFill>
            <a:srgbClr val="90c226">
              <a:alpha val="68000"/>
            </a:srgbClr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rebuchet MS"/>
                <a:ea typeface="Tahoma"/>
              </a:rPr>
              <a:t>СИСТЕМА ОБРАЗ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Tahoma"/>
              </a:rPr>
              <a:t>обучающихся с</a:t>
            </a:r>
            <a:r>
              <a:rPr b="1" lang="ru-RU" sz="3200" spc="-1" strike="noStrike">
                <a:solidFill>
                  <a:srgbClr val="7030a0"/>
                </a:solidFill>
                <a:latin typeface="Trebuchet MS"/>
                <a:ea typeface="Tahoma"/>
              </a:rPr>
              <a:t> ОВ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250920" y="3141720"/>
            <a:ext cx="3241440" cy="2374920"/>
          </a:xfrm>
          <a:prstGeom prst="rect">
            <a:avLst/>
          </a:prstGeom>
          <a:solidFill>
            <a:srgbClr val="90c226">
              <a:alpha val="27000"/>
            </a:srgbClr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rebuchet MS"/>
                <a:ea typeface="Arial"/>
              </a:rPr>
              <a:t>Традиционные фор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rebuchet MS"/>
                <a:ea typeface="Arial"/>
              </a:rPr>
              <a:t>специальног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rebuchet MS"/>
                <a:ea typeface="Arial"/>
              </a:rPr>
              <a:t>образ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специ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коррекцио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образовате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4140360" y="3141720"/>
            <a:ext cx="3324240" cy="2374920"/>
          </a:xfrm>
          <a:prstGeom prst="rect">
            <a:avLst/>
          </a:prstGeom>
          <a:solidFill>
            <a:srgbClr val="90c226">
              <a:alpha val="27000"/>
            </a:srgbClr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rebuchet MS"/>
                <a:ea typeface="Arial"/>
              </a:rPr>
              <a:t>Инновационны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Trebuchet MS"/>
                <a:ea typeface="Arial"/>
              </a:rPr>
              <a:t>фор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инклюзивное образ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в услов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общеобразователь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Trebuchet MS"/>
                <a:ea typeface="Arial"/>
              </a:rPr>
              <a:t>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4788000" y="1989000"/>
            <a:ext cx="595080" cy="1113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"/>
          <p:cNvSpPr/>
          <p:nvPr/>
        </p:nvSpPr>
        <p:spPr>
          <a:xfrm flipH="1">
            <a:off x="2195640" y="2060640"/>
            <a:ext cx="576000" cy="1112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омер слайда 8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4439-6ABA-486C-8389-306B70B44C6C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rebuchet MS"/>
              </a:rPr>
              <a:t>Понятие ФГОС </a:t>
            </a:r>
            <a:r>
              <a:rPr b="0" i="1" lang="ru-RU" sz="2800" spc="-1" strike="noStrike">
                <a:solidFill>
                  <a:srgbClr val="90c226"/>
                </a:solidFill>
                <a:latin typeface="Times New Roman"/>
                <a:ea typeface="Times New Roman"/>
              </a:rPr>
              <a:t>(далее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)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3640" y="105228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андарт представляет собой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совокупность обязательных требований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реализации адаптированных основных общеобразовательных программ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чального общего образования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алее 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ООП  </a:t>
            </a:r>
            <a:r>
              <a:rPr b="0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ОО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C4CC-28D7-4D21-A4E0-5E5BB4B5C194}" type="slidenum"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rebuchet MS"/>
              </a:rPr>
              <a:t>Требования к кадровым условиям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6840" y="928440"/>
            <a:ext cx="8002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Trebuchet MS"/>
              </a:rPr>
              <a:t>1.Консультации в рамках сетевого взаимодействия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Trebuchet MS"/>
              </a:rPr>
              <a:t>со специалистами медицинских и др.организаций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61720" indent="-26172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rebuchet MS"/>
              </a:rPr>
              <a:t>-проведение дополнительного обследования;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61720" indent="-26172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rebuchet MS"/>
              </a:rPr>
              <a:t>-получение медзаключений о состоянии их здоровья, возможностях лечения, оперативного вмешательства, медреабилитации;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61720" indent="-26172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rebuchet MS"/>
              </a:rPr>
              <a:t>-подбора технических средств коррекции </a:t>
            </a:r>
            <a:r>
              <a:rPr b="0" lang="ru-RU" sz="1700" spc="-1" strike="noStrike">
                <a:solidFill>
                  <a:srgbClr val="000000"/>
                </a:solidFill>
                <a:latin typeface="Trebuchet MS"/>
              </a:rPr>
              <a:t>(средства передвижения для детей с нарушениями ОДА и т.д.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261720" indent="-26172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rebuchet MS"/>
              </a:rPr>
              <a:t>2. </a:t>
            </a:r>
            <a:r>
              <a:rPr b="0" lang="ru-RU" sz="2700" spc="-1" strike="noStrike">
                <a:solidFill>
                  <a:srgbClr val="000000"/>
                </a:solidFill>
                <a:latin typeface="Trebuchet MS"/>
              </a:rPr>
              <a:t>При необходимости, с учетом соответствующих показаний,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Trebuchet MS"/>
              </a:rPr>
              <a:t>в рамках сетевого взаимодействия </a:t>
            </a:r>
            <a:r>
              <a:rPr b="1" lang="ru-RU" sz="2700" spc="-1" strike="noStrike">
                <a:solidFill>
                  <a:srgbClr val="c00000"/>
                </a:solidFill>
                <a:latin typeface="Trebuchet MS"/>
              </a:rPr>
              <a:t>осуществляется медицинское сопровождение обучающихся с ОВЗ.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261720" indent="-26172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604360" cy="58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rebuchet MS"/>
              </a:rPr>
              <a:t>Требования к материально-техническим условиям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1341000"/>
            <a:ext cx="6994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rebuchet MS"/>
              </a:rPr>
              <a:t>Требования к организации пространства </a:t>
            </a: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(доступность)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rebuchet MS"/>
              </a:rPr>
              <a:t>Требования к организации рабочего места </a:t>
            </a: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(возможность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rebuchet MS"/>
              </a:rPr>
              <a:t>ПОСТОЯННО </a:t>
            </a: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находиться в зоне внимания педагога)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rebuchet MS"/>
              </a:rPr>
              <a:t>Требования к </a:t>
            </a:r>
            <a:r>
              <a:rPr b="0" lang="ru-RU" sz="2500" spc="-1" strike="noStrike" u="sng">
                <a:solidFill>
                  <a:srgbClr val="c00000"/>
                </a:solidFill>
                <a:uFillTx/>
                <a:latin typeface="Trebuchet MS"/>
              </a:rPr>
              <a:t>специальным: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учебникам,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тетрадям, 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дидактическим материалам,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rebuchet MS"/>
              </a:rPr>
              <a:t>компьютерным инструментам обучения;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457200" indent="-45720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ru-RU" sz="2500" spc="-1" strike="noStrike">
                <a:solidFill>
                  <a:srgbClr val="c00000"/>
                </a:solidFill>
                <a:latin typeface="Trebuchet MS"/>
              </a:rPr>
              <a:t>С УЧЕТОМ ОСОБЫХ ОБРАЗОВАТЕЛЬНЫХПОТРЕБНОСТЕЙ</a:t>
            </a:r>
            <a:r>
              <a:rPr b="0" i="1" lang="ru-RU" sz="2500" spc="-1" strike="noStrike">
                <a:solidFill>
                  <a:srgbClr val="c00000"/>
                </a:solidFill>
                <a:latin typeface="Trebuchet MS"/>
              </a:rPr>
              <a:t>	</a:t>
            </a:r>
            <a:r>
              <a:rPr b="0" i="1" lang="ru-RU" sz="2500" spc="-1" strike="noStrike">
                <a:solidFill>
                  <a:srgbClr val="c00000"/>
                </a:solidFill>
                <a:latin typeface="Trebuchet MS"/>
              </a:rPr>
              <a:t> ОБУЧАЮЩИХСЯ с ЗПР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мет стандартизации – требования к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15920"/>
            <a:ext cx="822960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руктуре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ООП НОО;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словиям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ООП НОО;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зультатам </a:t>
            </a: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ООП НОО;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6" name="Рисунок 3" descr="LOGOTIP IKP.jpg"/>
          <p:cNvPicPr/>
          <p:nvPr/>
        </p:nvPicPr>
        <p:blipFill>
          <a:blip r:embed="rId1"/>
          <a:stretch/>
        </p:blipFill>
        <p:spPr>
          <a:xfrm>
            <a:off x="179280" y="6237360"/>
            <a:ext cx="785880" cy="409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0T05:35:48Z</dcterms:created>
  <dc:creator>Центр профессионального образования</dc:creator>
  <dc:description/>
  <dc:language>en-US</dc:language>
  <cp:lastModifiedBy>user</cp:lastModifiedBy>
  <dcterms:modified xsi:type="dcterms:W3CDTF">2016-11-10T03:58:33Z</dcterms:modified>
  <cp:revision>60</cp:revision>
  <dc:subject/>
  <dc:title>ФГОС для   обучающихся с ограниченными возможностями здоровья: подходы к разработке, структуре и содержанию</dc:title>
</cp:coreProperties>
</file>