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52D-18E1-49ED-9390-548B0BA4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DD7-AEC1-4A39-B64F-A1174CE3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9E5-02D7-4729-9DF7-CD1C1C0E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664-34A8-4001-8EBB-91888207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1834-C633-4865-8973-68A2D59A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DB51-CACA-44D5-9B75-38AC9AF1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C563-1BBF-4A8E-A75F-AC599FD8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7FDD-91AF-44E1-BF42-1E5B9F47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23D0-4FD6-4A9A-926E-DA08FA0F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0E12-E8EA-46A0-B0B6-04B93A2F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26FC-32B0-4F2B-B74D-5EDDE1D1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2CF-07D7-4B9D-84DF-3649602D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E564-BEB2-41A6-837A-93A6EBC1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310E-2689-4620-B0B5-658FD756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69F8-E56E-4952-A645-7729EF6E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C5DD-3821-403D-9AC1-8E4B0555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5AD2-2F32-4BFD-B85A-55C53BAF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1A8AC-4FD1-4CD8-85E2-E8E1CE34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4CD9-09CB-44BF-850E-E35FE351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01DD-CB06-4EDE-B231-53E8D359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8924-63B6-44BE-BA93-A8673307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1414F-120A-45CF-AD9B-A5DED393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550-7A87-4FA8-BD8E-55B05347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C1CF6-85FD-406E-ACE9-744F1931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23A7-3836-4336-840D-CD499BE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18B4-0DF7-4452-9EDB-A04D9486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8936-534A-4D37-A781-F9D73B77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44FE-200F-4B13-93AD-FD720393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9C6D0-5BF2-4DAC-9080-D454F8F0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B41FE-53CC-4DD3-A084-18463A57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2B8E2-F509-4D7C-9487-03B4C738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0427-06AF-4B9B-B668-309A7E9D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A688D-D0D1-4105-A4AB-FB5BD11D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A32-4568-4552-964B-78C282D7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404E3-D72F-4FE5-B395-1CBA32CB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A186-08C5-4DE8-A3BE-2A9DAFAA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92E1-0F4C-4D37-8939-A488FAFC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F368-3A07-47E2-81DE-C8FEF16E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A27EE-1BA3-4F52-AFAC-CCE9E1DA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7A33-5CB0-4E23-BC8E-6854B052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9536-FE35-476E-A348-714CBDEB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08A9-74A6-4378-B4E4-10AB5DEE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8C2E9-546C-49E4-AEFF-C254E5D6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B2A-5728-4A58-9F5F-9B337B5D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F04-0D99-4354-AE29-B0932F21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DB4-84E3-409A-9F87-3A208634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E0C-105A-4E80-A1A4-A7093FE4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099-B5BA-4BF2-84B7-23C2C63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EF3E-6A3F-4B3D-88DA-AD39E40E2D20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BE11-7CF3-41E9-B62F-F1656562CC5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AEE7-6FD6-4970-8366-9E3F25C09D9D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D7B1-4C63-48B4-A000-49631BBBCF0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1916280"/>
            <a:ext cx="770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Реализация ФГОС </a:t>
            </a:r>
            <a:br>
              <a:rPr sz="3600"/>
            </a:b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для обучающихся с ОВЗ</a:t>
            </a:r>
            <a:br>
              <a:rPr sz="3600"/>
            </a:b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в условиях общеобразовательной школы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093400" y="4724280"/>
            <a:ext cx="5977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Заголовок 3"/>
          <p:cNvSpPr/>
          <p:nvPr/>
        </p:nvSpPr>
        <p:spPr>
          <a:xfrm>
            <a:off x="1195560" y="844560"/>
            <a:ext cx="7772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179280" y="189000"/>
            <a:ext cx="828036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егории детей с ОВ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11280" y="692280"/>
          <a:ext cx="7272360" cy="5754600"/>
        </p:xfrm>
        <a:graphic>
          <a:graphicData uri="http://schemas.openxmlformats.org/drawingml/2006/table">
            <a:tbl>
              <a:tblPr/>
              <a:tblGrid>
                <a:gridCol w="3355920"/>
                <a:gridCol w="3916440"/>
              </a:tblGrid>
              <a:tr h="915480">
                <a:tc>
                  <a:txBody>
                    <a:bodyPr lIns="60480" rIns="60480" tIns="30240" bIns="302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Н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д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слышащие д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 д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видящие дети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с речевыми нарушения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с двигательными нарушения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с задержкой психического разви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,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образования обучающихся с умственной отсталостью (интеллектуальными нарушения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о отсталые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16436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Структура адаптированной основной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бразовательной программы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196640"/>
            <a:ext cx="828648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rebuchet MS"/>
              </a:rPr>
              <a:t>Содержание образования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: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Учебный план, включающий календарный график организации учебного процес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Рабочие программы учебных предметов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а коррекционной работы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а духовно-нравственного развити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ы специальных курсов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а формирования универсальных учебных действий у обучающихся  на ступени начального общего образовани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а формирования экологической культуры, здорового и безопасного  образа жизни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а внеурочной деятельност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rebuchet MS"/>
              </a:rPr>
              <a:t>4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1" lang="ru-RU" sz="1600" spc="-1" strike="noStrike">
                <a:solidFill>
                  <a:srgbClr val="ff0000"/>
                </a:solidFill>
                <a:latin typeface="Trebuchet MS"/>
              </a:rPr>
              <a:t>Система оценки достижения обучающимися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ланируемых результатов освоения  адаптированной основной образовательной программы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5. </a:t>
            </a:r>
            <a:r>
              <a:rPr b="1" lang="ru-RU" sz="1600" spc="-1" strike="noStrike">
                <a:solidFill>
                  <a:srgbClr val="ff0000"/>
                </a:solidFill>
                <a:latin typeface="Trebuchet MS"/>
              </a:rPr>
              <a:t>Условия реализации ООП: 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кадровые условия,   финансово-экономические условия,  материально-технические условия,  учебно-методические услови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Варианты образовательных программ на основе ФГОС с ОВЗ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691920"/>
            <a:ext cx="3168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Вариант образовательной программы (А)  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едназначен для обучающихся с  ограниченными возможностями здоровья, достигшим к моменту поступления  в школу уровня развития, близкого возрастной норме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бучающийся,  с  ограниченными  возможностями  здоровья по данному варианту осваивает  </a:t>
            </a:r>
            <a:r>
              <a:rPr b="0" lang="ru-RU" sz="1400" spc="-1" strike="noStrike">
                <a:solidFill>
                  <a:srgbClr val="c00000"/>
                </a:solidFill>
                <a:latin typeface="Trebuchet MS"/>
              </a:rPr>
              <a:t>основную  образовательную  Программу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имеет  право  на прохождение  текущей,  промежуточной  и  государственной  итоговой  аттестации.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 итогам  освоения программы получает аттестат о среднем образовани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Содержимое 2"/>
          <p:cNvSpPr/>
          <p:nvPr/>
        </p:nvSpPr>
        <p:spPr>
          <a:xfrm>
            <a:off x="2916360" y="765000"/>
            <a:ext cx="3024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rebuchet MS"/>
              </a:rPr>
              <a:t>Вариант образовательной программы (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бучающийся с ограниченными возможностями здоровья получает  образование, сопоставимое по итоговым достижениям к моменту завершения школьного обучения с образованием здоровых сверстников, но в более  пролонгированные календарные сроки, которые определяются Стандарт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бучающийся с ограниченными возможностями здоровья, осваивающий  вариант В, имеет право на прохождение текущей, промежуточной и   государственной итоговой аттестации в иных форм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одержимое 2"/>
          <p:cNvSpPr/>
          <p:nvPr/>
        </p:nvSpPr>
        <p:spPr>
          <a:xfrm>
            <a:off x="5759280" y="765000"/>
            <a:ext cx="338472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rebuchet MS"/>
              </a:rPr>
              <a:t>Третий вариант образовательной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Trebuchet MS"/>
              </a:rPr>
              <a:t> программы (С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Обучающийся  с  ограниченными  возможностями  здоровья  получает  образование,  не  сопоставимое  по  итоговым  достижениям  к  моменту завершения школьного обучения с образованием сверстников без ограничений здоровья,  в  более  пролонгированные  календарные  ср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На  основе  Стандарта  создается  </a:t>
            </a:r>
            <a:r>
              <a:rPr b="1" lang="ru-RU" sz="1400" spc="-1" strike="noStrike">
                <a:solidFill>
                  <a:srgbClr val="c00000"/>
                </a:solidFill>
                <a:latin typeface="Trebuchet MS"/>
              </a:rPr>
              <a:t>адаптированная  образовательная  Программа,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которая  при  необходимости  индивидуализируется.  К  образовательной  Программе  создаются  несколько учебных планов, в том числе индивидуальные учебные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ланы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Четвёртый вариант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 образовательной программы (D)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98000" y="1654200"/>
            <a:ext cx="8675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Обучающийся с ограниченными возможностями здоровья (со сложными и  множественными  нарушениями  развития)  получает  образование 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о  специальной индивидуальной программе развития (СИПР)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,  </a:t>
            </a: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созданной  на  основе  индивидуального  учебного  план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При  значительном снижении содержания  «академического»  компонента  образования  требуется  максимальное  углубление  в  область  развития  жизненной  компетенции.  Обязательной  является  специальная  организация  среды  обучающегося  для  реализации  его  особых  образовательных  потребностей,  развитие  его  жизненной  компетенции  в  разных  социальных  средах  (образовательной, дома и др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324000" y="1916280"/>
            <a:ext cx="74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c3c43"/>
                </a:solidFill>
                <a:latin typeface="Trebuchet MS"/>
              </a:rPr>
              <a:t>Специальная индивидуальная программа развития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Основные части СИПР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Содержимое 13" descr=""/>
          <p:cNvPicPr/>
          <p:nvPr/>
        </p:nvPicPr>
        <p:blipFill>
          <a:blip r:embed="rId1"/>
          <a:stretch/>
        </p:blipFill>
        <p:spPr>
          <a:xfrm>
            <a:off x="244440" y="1116000"/>
            <a:ext cx="791208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50920" y="333360"/>
            <a:ext cx="864216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c3c43"/>
                </a:solidFill>
                <a:latin typeface="Trebuchet MS"/>
              </a:rPr>
              <a:t>Специальная индивидуальная программа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это программа, разработанная для одного конкретного обучающегося, направленная на решение его пробл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Цель, задачи и структура которой определяются индивидуальными возможностями и потребностями  конкретного ребёнка.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08000" y="189000"/>
            <a:ext cx="892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Целью реализации СИ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является формирование общей культуры, обеспечивающей разностороннее развитие  личности ребенка с ОВЗ (нравственное, эстетическое, социально личностное, интеллектуальное, физическое) в соответствии с принятыми в семье и обществе нравственными и социокультурными ценностями; овладение учебной дея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324000" y="907920"/>
            <a:ext cx="8351640" cy="58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1.Общие сведения о ребен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2.Характеристику, включающую оценку развития обучающегося на момент составления программы и определяющую приоритетные направления воспитания и обуч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Индивидуальный учебный пл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Содержание образования в условиях организации и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Условия реализации потребности в уходе и присмот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Перечень специалистов, участвующих в разработке и реализации СИП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Перечень возможных задач, мероприятий и форм сотрудничества организации и семьи обучающего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Перечень необходимых технических средств и дидактических материа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Средства мониторинга и оценки динамик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539640" y="1159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Структура СИП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4000" y="136080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 Roman"/>
                <a:ea typeface="Arial Unicode MS"/>
              </a:rPr>
              <a:t>Приоритетные коррекционны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 Roman"/>
                <a:ea typeface="Arial Unicode MS"/>
              </a:rPr>
              <a:t>Базовые учебные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 Roman"/>
                <a:ea typeface="Arial Unicode MS"/>
              </a:rPr>
              <a:t>Предметно-практические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 Roman"/>
                <a:ea typeface="Arial Unicode MS"/>
              </a:rPr>
              <a:t>Необходимость привития навыков самообслуж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 Roman"/>
                <a:ea typeface="Arial Unicode MS"/>
              </a:rPr>
              <a:t>Коррекция процессов познаватель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611280" y="404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СИПР УО-2 вариан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324000" y="620640"/>
            <a:ext cx="7056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2a5010"/>
                </a:solidFill>
                <a:latin typeface="Arial"/>
              </a:rPr>
              <a:t>формирование представления об особенностях реализации ФГОС для обучающихся с ОВЗ в условиях общеобразовательной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5010"/>
                </a:solidFill>
                <a:latin typeface="Arial"/>
              </a:rPr>
              <a:t>1. Познакомить учителей начальных классов с ФГОС для обучающихся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501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a5010"/>
                </a:solidFill>
                <a:latin typeface="Arial"/>
              </a:rPr>
              <a:t>(НПБ, требования к структуре, к содержанию, к результатам АО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5010"/>
                </a:solidFill>
                <a:latin typeface="Arial"/>
              </a:rPr>
              <a:t>2. Дать представление о разработке и реализации специальной индивидуальной программе развития обучающегося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753E-3870-4846-8D85-C4B3180C3285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250920" y="2211120"/>
            <a:ext cx="74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 Roman"/>
                <a:ea typeface="华文新魏"/>
              </a:rPr>
              <a:t>ИНДИВИДУАЛЬНЫЙ УЧЕБНЫЙ 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 Roman"/>
                <a:ea typeface="华文新魏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 Roman"/>
                <a:ea typeface="华文新魏"/>
              </a:rPr>
              <a:t>на 2016-2017 уч.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-100080"/>
          <a:ext cx="9144000" cy="6958080"/>
        </p:xfrm>
        <a:graphic>
          <a:graphicData uri="http://schemas.openxmlformats.org/drawingml/2006/table">
            <a:tbl>
              <a:tblPr/>
              <a:tblGrid>
                <a:gridCol w="2411280"/>
                <a:gridCol w="3810240"/>
                <a:gridCol w="691920"/>
                <a:gridCol w="971640"/>
                <a:gridCol w="406440"/>
                <a:gridCol w="241200"/>
                <a:gridCol w="611280"/>
              </a:tblGrid>
              <a:tr h="123984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едметные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-во часов в неделю по уч.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бязательная нагру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ИПР, ПМПК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асы для с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нклю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3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бязательная нагру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Язык и речевая пр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1. Речь и альтернативная коммун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 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1. Математические пред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20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 Ест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1. Окружающий природный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2.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3. Домо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4. Окружающий социальный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. Искус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.1 Музыка и дви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.2. Изобраз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. 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.1 Адаптивная физ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.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.1 Профильны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. Коррекционно-развивающие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аксимально допустимая учебная нагру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gridSpan="3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асть, формируемая участниками образовательных отно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3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ррекционные к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 Сенсор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 Предметно-практически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 Двигатель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. Альтернативная коммун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того коррекционные к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неуроч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324000" y="585000"/>
            <a:ext cx="7524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Основываясь на рекомендациях ПМПК, учитывая индивидуальные особенности  обучающегося Ешиевой Даримы,  8 ч. отводится на обязательную нагрузку (к оплате учителя)  и содержат следующие образовательные обла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« Язык и речевая практик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представлена курсо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речь и альтернативная коммуникация- 2 час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« Математик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представлена курсом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математические представ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ч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Окружающий природный мир -1ч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Окружающий социальный мир - 1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Домоводство — 2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 Данный курс способствует повышению  самостоятельности детей в выполнении хозяйственно-бытовой деятельности.  В основной школе приоритетным в обучении детей с ТМНР и глубокой умственной отсталостью является развитие жизненных компетенций.  Освоенные действия ребенок может в последующем применять как в быту, так и в профессиональной трудной деятельности. Обучение ребенка с умственной отсталостью, с ТМНР ведению домашнего хозяйства является важным направлением подготовки  к самостоятель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«Корекционно-развивающие занятия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79280" y="692280"/>
          <a:ext cx="7777440" cy="5905440"/>
        </p:xfrm>
        <a:graphic>
          <a:graphicData uri="http://schemas.openxmlformats.org/drawingml/2006/table">
            <a:tbl>
              <a:tblPr/>
              <a:tblGrid>
                <a:gridCol w="1656000"/>
                <a:gridCol w="696960"/>
                <a:gridCol w="5424480"/>
              </a:tblGrid>
              <a:tr h="480960">
                <a:tc gridSpan="3"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Сенсорное развитие - 33 часа  (тьюто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468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сновные разделы учебной програм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ичест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Характеристика деятельности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200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Зрительное вос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иксирует взглядом объект, следит за передвижением объекта, различает цвет, форму объек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луховое вос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еагирует на слуховые раздражители неподвижного и перемещающегося источ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36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инестетическое вос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2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пределяет на ощупь форму, материал, температуру, фактуру предме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осприятие запа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еагирует  на запахи различных объек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осприятие вк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еагирует на вкус различных объек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и упражнений по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листу  оценки динамики обучения учаще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0" name="Rectangle 1"/>
          <p:cNvSpPr/>
          <p:nvPr/>
        </p:nvSpPr>
        <p:spPr>
          <a:xfrm>
            <a:off x="900000" y="37080"/>
            <a:ext cx="60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 Roman"/>
                <a:ea typeface="Arial Unicode MS"/>
              </a:rPr>
              <a:t>Содержание программ коррекционных кур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250920" y="549360"/>
          <a:ext cx="7850160" cy="5904000"/>
        </p:xfrm>
        <a:graphic>
          <a:graphicData uri="http://schemas.openxmlformats.org/drawingml/2006/table">
            <a:tbl>
              <a:tblPr/>
              <a:tblGrid>
                <a:gridCol w="1776240"/>
                <a:gridCol w="746280"/>
                <a:gridCol w="5327640"/>
              </a:tblGrid>
              <a:tr h="390600">
                <a:tc gridSpan="3"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Предметно-практические действия -33 часа (психоло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360"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сновные разделы учебной програм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ичест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Характеристика деятельности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5440"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материа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инание материала (бумага), разрывание материала (бумага), размазывание материала (краска, клейстер), пересыпание материала (крупа, песок, мелкие предметы), переливание материала (вода) ,разминание материала (соленое тесто, пластилин) одной, двумя ру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0840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ействия с предме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ват, удержание, отпускание предметов; вынимание предметов (из коробки) складывание предметов (в коробку), перекладывание предметов (из коробки в коробку); нажимание на предмет всей рукой, вставление предметов (стаканчиков) друг в друга, нанизывание предметов (кольца, шарики, крупные бусины)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имание предмета (резиновые игрушки, губка, прищепки),толкание предмета, действия с мозаикой, шари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320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и упражнений по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листу  оценки динамики обучения учаще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9280" y="333360"/>
          <a:ext cx="8713800" cy="6335640"/>
        </p:xfrm>
        <a:graphic>
          <a:graphicData uri="http://schemas.openxmlformats.org/drawingml/2006/table">
            <a:tbl>
              <a:tblPr/>
              <a:tblGrid>
                <a:gridCol w="1981440"/>
                <a:gridCol w="785520"/>
                <a:gridCol w="5946840"/>
              </a:tblGrid>
              <a:tr h="487440">
                <a:tc gridSpan="3"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Двигательное развитие-33 часа (тьюто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сновные разделы учебной програм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ичество час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Характеристика деятельности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9040"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вижения го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полнение движений головой в положении стоя: наклон вправо наклон влево наклон вперед наклон назад в положении лежа на спине/животе, стоя или сидя), "круговые" движения (по часовой стрелке и против часовой стрелки), поворот головой: вправо влево круговые" движения: по часовой стрелке против часовой стрел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940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вижения ру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движений руками: вперед назад вверх в стороны "круговые" выполнение движений пальцами рук: сгибание фаланг пальцев разгибание фаланг пальцев, сгибание пальцев в кулак разгибание пальцев, опора на предплечья на кисти рук, бросание мяча двумя руками: от груди из-за головы отбивание мяча от пола одной рукой ,ловля мяча на уровне гру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852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по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ложении лежа: поворот со спины на живот, поворот с живота на спину изменение позы в положении сидя: поворот вправо поворот влево наклон вперед, наклон назад, наклон вправо, наклон влево, вставание на четвереньки, ползание на четвереньках, садиться из положения "лежа на спине", ходить на колен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500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вижения ног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движений ногами: подъем ноги вверх, отведение ноги в сторону, отведение ноги назад, ходьба по наклонной поверхности: вверх с опорой, вверх без опоры, вниз с опорой, вниз без опоры, прыгание на двух ногах, на месте ударение по мячу ногой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движений по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листу  оценки динамики обучения 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79280" y="304920"/>
          <a:ext cx="8785440" cy="6365880"/>
        </p:xfrm>
        <a:graphic>
          <a:graphicData uri="http://schemas.openxmlformats.org/drawingml/2006/table">
            <a:tbl>
              <a:tblPr/>
              <a:tblGrid>
                <a:gridCol w="1997280"/>
                <a:gridCol w="753840"/>
                <a:gridCol w="6034320"/>
              </a:tblGrid>
              <a:tr h="360360">
                <a:tc gridSpan="3"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льтернативная и дополнительная коммуникация-33 часа  (учитель-логопе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сновные разделы учебной програм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ичест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Характеристика деятельности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4316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ммуник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зрительного контакта с собеседником приветствие собеседника: жестом (пожать руку) словом "Привет" ,реагирование на собственное имя выражение своих желаний: жестом словом "Дай" предложением "Лена, дай" выражение своих желаний: жестом словом "Дай", предложением "Лена, дай", выражение согласия: жестом (кивок головы) словом "Да" выражение несогласия: жестом (покачать головой из стороны в сторону) ,словом "Нет" прощание с собеседником: жестом (помахать рукой) словом "Пок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344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рессивная ре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ение по именам: членов семьи учащихся класса педагогов ,понимание слов, обозначающих предмет: кружка тарелка ложка стул стол шкаф яблоко банан носки куртка футболка брюки шапка ботинки сандалии мяч понимание слов, указывающих на предмет, его признак: мой твой, понимание простых предложений: нераспространенных ("Оля ест" и др.) распространенных ("Оля ест яблоко" и д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рессивная ре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ние своего имени  называние имен: членов семьи педагог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20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и упражнений по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листу  оценки динамики обучения учаще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0" y="476280"/>
          <a:ext cx="9144000" cy="6283440"/>
        </p:xfrm>
        <a:graphic>
          <a:graphicData uri="http://schemas.openxmlformats.org/drawingml/2006/table">
            <a:tbl>
              <a:tblPr/>
              <a:tblGrid>
                <a:gridCol w="236520"/>
                <a:gridCol w="1970280"/>
                <a:gridCol w="5738760"/>
                <a:gridCol w="598320"/>
                <a:gridCol w="600120"/>
              </a:tblGrid>
              <a:tr h="81432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рр.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писание возмож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ительное вос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иксация взгляда на лице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иксация взгляда на неподвижном предмете, расположенном напротив ребен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иксация взгляда на неподвижном предмете,расположенном справ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иксация взгляда на неподвижном предмете, расположенном слев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слеживание взглядом за движущимся близко расположенным предмет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горизонтали (вправо/влев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ертикали (вверх/вни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ругу (по/против часовой стрелки); вперед/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слеживание взглядом за движущимся удаленным предм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ahoma"/>
              </a:rPr>
              <a:t>Лист оценки динамики обучения коррекционных кур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1996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ГОС начального общего образования с ОВЗ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8920" y="765000"/>
            <a:ext cx="7993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каз Министерства образования  и науки от 19.12.2014г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1598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б утверждении ФГОС НОО обучающихся с ОВЗ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аботан в соответствии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.6 ст.11 ФЗ от 29.12.2012г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273-Ф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оссийской Федерации»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основе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и РФ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а РФ с учетом Конвенции ООН  о правах ребен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и ООН о правах инвалидов, региональных, национальных и Этнокультурных потребностей народов РФ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5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Дата применения стандар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94920" y="1413000"/>
            <a:ext cx="676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Стандарт применяется к правоотношениям, возникшим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с 1 сентября 2016 года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Обучение лиц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зачисленных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ДО 1.09.16г. </a:t>
            </a: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для обучения по адаптированным программам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 осуществляется по ним ДО ЗАВЕРШЕНИЯ ОБУЧЕ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39640" y="549360"/>
            <a:ext cx="6264360" cy="1441440"/>
          </a:xfrm>
          <a:prstGeom prst="rect">
            <a:avLst/>
          </a:prstGeom>
          <a:solidFill>
            <a:srgbClr val="90c226">
              <a:alpha val="68000"/>
            </a:srgbClr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rebuchet MS"/>
                <a:ea typeface="Tahoma"/>
              </a:rPr>
              <a:t>СИСТЕМА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Tahoma"/>
              </a:rPr>
              <a:t>обучающихся с</a:t>
            </a:r>
            <a:r>
              <a:rPr b="1" lang="ru-RU" sz="3200" spc="-1" strike="noStrike">
                <a:solidFill>
                  <a:srgbClr val="7030a0"/>
                </a:solidFill>
                <a:latin typeface="Trebuchet MS"/>
                <a:ea typeface="Tahoma"/>
              </a:rPr>
              <a:t>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250920" y="3141720"/>
            <a:ext cx="3241440" cy="2374920"/>
          </a:xfrm>
          <a:prstGeom prst="rect">
            <a:avLst/>
          </a:prstGeom>
          <a:solidFill>
            <a:srgbClr val="90c226">
              <a:alpha val="27000"/>
            </a:srgbClr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  <a:ea typeface="Arial"/>
              </a:rPr>
              <a:t>Традиционные фор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  <a:ea typeface="Arial"/>
              </a:rPr>
              <a:t>специальн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  <a:ea typeface="Arial"/>
              </a:rPr>
              <a:t>образ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специ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коррекцио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бразов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140360" y="3141720"/>
            <a:ext cx="3324240" cy="2374920"/>
          </a:xfrm>
          <a:prstGeom prst="rect">
            <a:avLst/>
          </a:prstGeom>
          <a:solidFill>
            <a:srgbClr val="90c226">
              <a:alpha val="27000"/>
            </a:srgbClr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  <a:ea typeface="Arial"/>
              </a:rPr>
              <a:t>Инновацион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  <a:ea typeface="Arial"/>
              </a:rPr>
              <a:t>фор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инклюзивное обра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 услов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бщеобразов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4788000" y="1989000"/>
            <a:ext cx="595080" cy="1113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 flipH="1">
            <a:off x="2195640" y="2060640"/>
            <a:ext cx="576000" cy="1112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8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1F1E-6FB5-401E-9AE1-148725DCF66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Понятие ФГОС </a:t>
            </a:r>
            <a:r>
              <a:rPr b="0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(дале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)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364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ндарт представляет собо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овокупность обязательных требова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реализации адаптированных основных общеобразовательных программ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чального общего образовани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лее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ООП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О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720B-25CD-42A4-93F8-F5E115AA3F55}" type="slidenum"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Требования к кадровым условиям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28440"/>
            <a:ext cx="8002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rebuchet MS"/>
              </a:rPr>
              <a:t>1.Консультации в рамках сетевого взаимодействия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rebuchet MS"/>
              </a:rPr>
              <a:t>со специалистами медицинских и др.организаций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61720" indent="-26172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-проведение дополнительного обследования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61720" indent="-26172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-получение медзаключений о состоянии их здоровья, возможностях лечения, оперативного вмешательства, медреабилитации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61720" indent="-26172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-подбора технических средств коррекции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(средства передвижения для детей с нарушениями ОДА и т.д.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61720" indent="-2617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При необходимости, с учетом соответствующих показаний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rebuchet MS"/>
              </a:rPr>
              <a:t>в рамках сетевого взаимодействия </a:t>
            </a:r>
            <a:r>
              <a:rPr b="1" lang="ru-RU" sz="2700" spc="-1" strike="noStrike">
                <a:solidFill>
                  <a:srgbClr val="c00000"/>
                </a:solidFill>
                <a:latin typeface="Trebuchet MS"/>
              </a:rPr>
              <a:t>осуществляется медицинское сопровождение обучающихся с ОВЗ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61720" indent="-26172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60436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ребования к материально-техническим условиям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341000"/>
            <a:ext cx="6994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rebuchet MS"/>
              </a:rPr>
              <a:t>Требования к организации пространства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(доступность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rebuchet MS"/>
              </a:rPr>
              <a:t>Требования к организации рабочего места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(возможность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ПОСТОЯННО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находиться в зоне внимания педагога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rebuchet MS"/>
              </a:rPr>
              <a:t>Требования к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Trebuchet MS"/>
              </a:rPr>
              <a:t>специальным: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учебникам,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тетрадям,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дидактическим материалам,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компьютерным инструментам обучения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500" spc="-1" strike="noStrike">
                <a:solidFill>
                  <a:srgbClr val="c00000"/>
                </a:solidFill>
                <a:latin typeface="Trebuchet MS"/>
              </a:rPr>
              <a:t>С УЧЕТОМ ОСОБЫХ ОБРАЗОВАТЕЛЬНЫХПОТРЕБНОСТЕЙ</a:t>
            </a:r>
            <a:r>
              <a:rPr b="0" i="1" lang="ru-RU" sz="25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0" i="1" lang="ru-RU" sz="2500" spc="-1" strike="noStrike">
                <a:solidFill>
                  <a:srgbClr val="c00000"/>
                </a:solidFill>
                <a:latin typeface="Trebuchet MS"/>
              </a:rPr>
              <a:t> ОБУЧАЮЩИХСЯ с ЗПР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 стандартизации – требования к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руктуре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ООП НОО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овиям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ООП НОО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зультатам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ООП НОО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Рисунок 3" descr="LOGOTIP IKP.jpg"/>
          <p:cNvPicPr/>
          <p:nvPr/>
        </p:nvPicPr>
        <p:blipFill>
          <a:blip r:embed="rId1"/>
          <a:stretch/>
        </p:blipFill>
        <p:spPr>
          <a:xfrm>
            <a:off x="179280" y="6237360"/>
            <a:ext cx="785880" cy="40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5:35:48Z</dcterms:created>
  <dc:creator>Центр профессионального образования</dc:creator>
  <dc:description/>
  <dc:language>en-US</dc:language>
  <cp:lastModifiedBy>user</cp:lastModifiedBy>
  <dcterms:modified xsi:type="dcterms:W3CDTF">2016-11-10T03:58:33Z</dcterms:modified>
  <cp:revision>60</cp:revision>
  <dc:subject/>
  <dc:title>ФГОС для   обучающихся с ограниченными возможностями здоровья: подходы к разработке, структуре и содержанию</dc:title>
</cp:coreProperties>
</file>