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media/image4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319-F3B8-42D2-A813-727E95B31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CE3-29C5-426F-B176-75BDF392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D12F-B2B2-4971-BF84-088C4D52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97C-F73F-49C4-9208-B5A0AE4E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6430-C5E3-4523-BD07-F498B7BE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77177-BCB3-46DA-A296-07179D85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9843-169E-4FED-8811-5FC44E86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D1C3-6BB8-4A70-9CE8-4456F689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A583B-D499-432D-9939-EC091A6F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7E6A-DE69-4AEF-9ED6-AB8B416E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AB57-C75C-4FC1-8E6C-869E27D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60-8BDA-4A59-AB4C-8019E488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55BB-713C-49DB-9BD0-82BD6401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65C7-1435-467A-A847-D3152DA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0562-5CEA-4047-9A09-E779899F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7154-86B5-4CE5-ACA2-86EEF6FF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1C37-12BD-4460-8243-AC69E506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2C9-2C4C-432C-BA84-D37041C7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511-8F12-40F2-B001-AB6BAF8B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B5A-966E-417A-A67C-A0996571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8B1-4B87-4F67-9AED-F2D9D997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7949-DDEC-413D-AC17-213E22C3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DEA0-AFB5-4F70-A9E0-54D98B2D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DF75-50DE-4A59-BD64-49430DCB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E2E5-3A64-4AE4-9C93-6A40B685DD7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4C1E-8390-46C9-A68D-B001D9C8C09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4920" y="980640"/>
            <a:ext cx="8286840" cy="230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Из опыта работы с одарёнными детьми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учителя математики СОШ № 10 Капустиной С.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916360" y="4076280"/>
            <a:ext cx="52560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5b2ff"/>
                </a:solidFill>
                <a:latin typeface="Monotype Corsiva"/>
              </a:rPr>
              <a:t>Образование – это то, что остаётся, когда всё выученное забыто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5b2ff"/>
                </a:solidFill>
                <a:latin typeface="Monotype Corsiva"/>
              </a:rPr>
              <a:t>Б.Ф. Скинн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Picture 4" descr="j0223770"/>
          <p:cNvPicPr/>
          <p:nvPr/>
        </p:nvPicPr>
        <p:blipFill>
          <a:blip r:embed="rId1"/>
          <a:stretch/>
        </p:blipFill>
        <p:spPr>
          <a:xfrm rot="20530800">
            <a:off x="-317160" y="3946320"/>
            <a:ext cx="32749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9 класс. Тема «Формула суммы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первых членов геометрической прогрессии»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еред выводом формулы рассматривается следующая ситуац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Однажды незнакомец постучался в окно к богатому купцу и предложил такую сделку: «Я буду ежедневно в течение 30 дней приносить тебе по 100000 руб. А ты мне в 1 день за 100000 руб. дашь 1 коп., во 2 день за 100000 руб. – 2 коп. и так каждый день будешь увеличивать предыдущее число денег в 2 раза. Если тебе выгодна сделка, то с завтрашнего дня начнём.» Купец обрадовался такой удаче. Он подсчитал, что за 30 дней получит от незнакомца 3000000руб. На следующий день пошли к нотариусу и узаконили сделк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опрос:  кто в этой сделке проиграл: купец или незнакомец?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8 класс. Тема « Решение задач с помощью уравнений»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стория сохранила нам мало черт биографии замечательного древнего математика Диофанта. Всё, что известно о нём, почерпнуто из надписи на его гробнице – надписи, составленной в форме математической задач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948360" y="8469360"/>
          <a:ext cx="416160" cy="6705720"/>
        </p:xfrm>
        <a:graphic>
          <a:graphicData uri="http://schemas.openxmlformats.org/drawingml/2006/table">
            <a:tbl>
              <a:tblPr/>
              <a:tblGrid>
                <a:gridCol w="218880"/>
                <a:gridCol w="218880"/>
              </a:tblGrid>
              <a:tr h="350388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 языке алгебры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7" name="Picture 33" descr="Image1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9класс. Тема « Сумма бесконечной геометрической прогрессии »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актический эксперимент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Один ученик должен идти от стола учителя к двери по прямой по такому закону: первый шаг он делает длиной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 м, второй – ½ м, третий – ¼ м и т.д. – так, что длина следующего шага в 2 раза меньше длины предыдущего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Вопрос: дойдёт ли ученик к двери, если расстояние от стола до двери по прямой 3м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Monotype Corsiva"/>
              </a:rPr>
              <a:t>Использование задач с практическим содержанием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Занятия ребёнка в музыкальной школе родители оплачивают в банке, внося ежемесячно 2000 руб.  Оплата должна производиться до 15 –го числа каждого месяца, после чего за каждый просроченный день начисляется пеня в размера 2% от просроченной суммы оплаты занят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1. На какой день сумма оплаты превысит исходную сумму на 30%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2. Сколько придётся заплатить родителям, если они просрочат оплату на месяц(30 дней)?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3.  Когда размер оплаты увеличивается быстрее: в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начале или в конце расчётного период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Конкурс знатоков.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« Эврика!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Биолог вывел новую разновидность долгоживущих амёб. Через каждую минуту одна амёба делится на две. Биолог кладёт в пробирку 1 амёбу, и ровно через час вся пробирка до краёв оказывается заполненной амёбами. Через какое время пробирка наполнится до краёв амёбами, если в пробирку положить не одну, а две амёбы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Попробуй свои силы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4" descr="Image2"/>
          <p:cNvPicPr/>
          <p:nvPr/>
        </p:nvPicPr>
        <p:blipFill>
          <a:blip r:embed="rId1"/>
          <a:stretch/>
        </p:blipFill>
        <p:spPr>
          <a:xfrm>
            <a:off x="1332000" y="1197000"/>
            <a:ext cx="626436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Творческие задан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1. Изготовление раздаточного дидактического материал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2.  Составление кроссвордо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3.  Написать сочинение, сказку  на математическую тему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4.  Подготовить сообщение, доклад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5. Сделать ёлочную игрушку с необычной «начинкой» на математический Новый год.</a:t>
            </a: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3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Вопросы важнее ответов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9" name="Picture 6" descr="Image1"/>
          <p:cNvPicPr/>
          <p:nvPr/>
        </p:nvPicPr>
        <p:blipFill>
          <a:blip r:embed="rId1"/>
          <a:stretch/>
        </p:blipFill>
        <p:spPr>
          <a:xfrm>
            <a:off x="755640" y="1844640"/>
            <a:ext cx="7645320" cy="3672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j0282740"/>
          <p:cNvPicPr/>
          <p:nvPr/>
        </p:nvPicPr>
        <p:blipFill>
          <a:blip r:embed="rId2"/>
          <a:stretch/>
        </p:blipFill>
        <p:spPr>
          <a:xfrm rot="20658000">
            <a:off x="-50400" y="3282480"/>
            <a:ext cx="248436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Прояви свой талант!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663732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1. Олимпиад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2. Научно-практические конференции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3. Международная игра «Кенгуру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4. Предпрофильные курс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3" name="Picture 4" descr="j0283860"/>
          <p:cNvPicPr/>
          <p:nvPr/>
        </p:nvPicPr>
        <p:blipFill>
          <a:blip r:embed="rId1"/>
          <a:stretch/>
        </p:blipFill>
        <p:spPr>
          <a:xfrm rot="21378000">
            <a:off x="5651280" y="4508640"/>
            <a:ext cx="2232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84 0.01435 L -0.59444 0.01435 E">
                                      <p:cBhvr>
                                        <p:cTn id="281" dur="2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9280" y="620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Во всех делах при максимуме сложностей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Подход к проблеме всё – таки один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Желание – это  множество возможностей,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А не желание – множество причин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                                              </a:t>
            </a:r>
            <a:r>
              <a:rPr b="0" lang="ru-RU" sz="4000" spc="-1" strike="noStrike">
                <a:solidFill>
                  <a:srgbClr val="eaeaea"/>
                </a:solidFill>
                <a:latin typeface="Monotype Corsiva"/>
              </a:rPr>
              <a:t>Асадов Э.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764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Monotype Corsiva"/>
              </a:rPr>
              <a:t>Одарёнными можно считать таких детей и подростков, уровень интеллекта которых и сложившаяся мотивация позволят им добиться в будущем высоких профессиональных и творческих достижений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2560" y="2781360"/>
            <a:ext cx="6121440" cy="37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6699ff"/>
                </a:solidFill>
                <a:latin typeface="Monotype Corsiva"/>
              </a:rPr>
              <a:t>Проблемы одарённых детей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1.  Развитие креатив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2.  Личностное развитие: трудности общения со сверстникам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3.  Недостаток волевой регуляци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4.  Профессиональное самоопределение – специализац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7" name="Picture 4" descr="j0356713"/>
          <p:cNvPicPr/>
          <p:nvPr/>
        </p:nvPicPr>
        <p:blipFill>
          <a:blip r:embed="rId1"/>
          <a:stretch/>
        </p:blipFill>
        <p:spPr>
          <a:xfrm rot="21176400">
            <a:off x="178920" y="4723920"/>
            <a:ext cx="2017800" cy="171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98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98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98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8" descr="j0205402"/>
          <p:cNvPicPr/>
          <p:nvPr/>
        </p:nvPicPr>
        <p:blipFill>
          <a:blip r:embed="rId1"/>
          <a:stretch/>
        </p:blipFill>
        <p:spPr>
          <a:xfrm rot="20846400">
            <a:off x="97920" y="5273640"/>
            <a:ext cx="2484720" cy="1994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99ff"/>
                </a:solidFill>
                <a:latin typeface="Monotype Corsiva"/>
              </a:rPr>
              <a:t>Цель работы с одарёнными детьми -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0920" y="2276640"/>
            <a:ext cx="7716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Формирование зрелой потребности и способности для реализации их повышенных возможностей в творческой деятельности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Методические приёмы при работе с одарёнными детьм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Нестандартное начало уро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Создание проблемных ситуаци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Творческие зад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Лабораторные работы- исследован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Ролевые игры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Исследовательские работ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( индивидуальные и групповые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Разнообразные типы уроко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Monotype Corsiva"/>
              </a:rPr>
              <a:t>Общие критерии результативности работы с одарёнными деть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6481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 выработка «чувства реальности»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 формирование психологической готовности к преодолению негативных ситуац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Monotype Corsiva"/>
              </a:rPr>
              <a:t>-  приобретение навыков эффективного реагирования на ситуации дискомфорт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Picture 4" descr="j0282747"/>
          <p:cNvPicPr/>
          <p:nvPr/>
        </p:nvPicPr>
        <p:blipFill>
          <a:blip r:embed="rId1"/>
          <a:stretch/>
        </p:blipFill>
        <p:spPr>
          <a:xfrm rot="20413200">
            <a:off x="7092720" y="458136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2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-  развитие и укрепление потребности и способности к проявлению инициативы и принятию ответственности за свою деятельность;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Monotype Corsiva"/>
              </a:rPr>
              <a:t>- формирование особого личностного «сценария победителя», предусматривающего направленность на самоактуализацию в условиях социума и проявляющегося прежде всего в активной, оптимистической творческой деятельности.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Monotype Corsiva"/>
              </a:rPr>
              <a:t>Начало урок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226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Monotype Corsiva"/>
              </a:rPr>
              <a:t>1.</a:t>
            </a: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Предлагается задача, которая решается только с опорой на жизненный опыт ребят, на их смекалку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2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Математическая разминка: блиц- опрос, настроимся на математический лад,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« пробежимся» по страницам учебник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3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Даётся обычная традиционная задача с традиционным решением. Предлагается найти более короткое рациональное решение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4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На доске написано решение какого-либо примера или задачи с наиболее часто встречающимися ошибками. Предлагается  осуществить проверку каждого логического хода реш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5.</a:t>
            </a:r>
            <a:r>
              <a:rPr b="0" lang="ru-RU" sz="2800" spc="-1" strike="noStrike">
                <a:solidFill>
                  <a:srgbClr val="eaeaea"/>
                </a:solidFill>
                <a:latin typeface="Monotype Corsiva"/>
              </a:rPr>
              <a:t>  На доске дан чертёж к сложной задаче и методом «мозгового штурма» осуществляется поиск её реш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6821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6.  Зачитывается высказывание или стих, соответствующий данной тем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7. Описывается конкретная жизненная ситуация,  для  выхода из которой необходимо применить математические знан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8. Урок начинают «солисты», т.е. те учащиеся, которым предоставляется возможность провести исследовательскую работу по новому материал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9.  На столе у каждого ученика лежит чистый лист бумаги. Объяснив тему урока, учитель сообщает, что у конце урока по новому материалу будет проведена проверочная работ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0.  Предлагается написать мини- сочинение на конкретную математическую тем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1. Небольшое театрализованное представление, соответствующее теме урока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2. Экскурс в историю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Monotype Corsiva"/>
              </a:rPr>
              <a:t>13.  Предлагается физическая ( химическая, …) задача, которую надо решить математическими способам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«Большинство жизненных задач решаются как алгебраические уравнения: приведением их к самому простому виду»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Толстой Л.Н. 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корчевав даже целый лес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Вы едва ли извлечёте квадратный корень.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                    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Фольклор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Там,  где Толстой подробно рассказывает, Достоевский логарифмирует. Одна деталь может включать очень многое. Мне это ближе».   Леонов Л.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Связь между синусом и косинусом гораздо глубже, чем между операцией и кооперацией».   Неизвестный авто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В науке нет широкой столбовой дороги и только тот достигнет её сияющих вершин, кто не страшась усталости карабкается по её каменистым тропам».  Маркс К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Совет учиться на ошибках других бесполезен; научиться чему-либо можно только на собственных ошибках».  Бернард Шоу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« Где отсутствует точное знание, там действуют догадки, а из десяти догадок девять – ошибки».  Горький 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5:31:41Z</dcterms:created>
  <dc:creator>Александр</dc:creator>
  <dc:description/>
  <dc:language>en-US</dc:language>
  <cp:lastModifiedBy>Александр</cp:lastModifiedBy>
  <dcterms:modified xsi:type="dcterms:W3CDTF">2017-01-11T13:27:21Z</dcterms:modified>
  <cp:revision>13</cp:revision>
  <dc:subject/>
  <dc:title>Из опыта работы с одарёнными детьми учителя математики СОШ № 10 Капустиной С.А.</dc:title>
</cp:coreProperties>
</file>