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BF1-4F05-4C14-ADB0-290C6797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E4F-27ED-4A9B-BA0D-254CFC8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BA6-6A51-48B0-B53D-46F6C809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114-13DA-4C5F-8237-479EFA01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14FE-15B2-44DA-B755-BF6FBEDB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90DF-1F85-473C-AD7E-7C562BF6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43CB-F030-43B8-86A3-5D986035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515E-D438-4988-9E31-4DD0884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B4A5-F34C-45F6-AF1F-891B55A8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2233-0E42-4899-AD4D-08E4A27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EFCE-99AE-47DF-A7A6-C97FA30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FE2-FC16-4459-BB73-0D3C2FA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029C-7BC4-4381-A4E9-DD54E5D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8F7C-3DFA-4E14-8D9A-F3AD90A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1C9E-406A-4BE1-A8F9-26383DA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893-6C05-4C88-9472-F79F1A3C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10DC-E6B1-4062-9D25-0BB455B6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08A-91DB-4140-9474-F22E994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0BF-F9C3-4554-8ABB-9E01FD3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53A-82EA-4211-8DDC-B5783AF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CC5-41CE-4AE9-BDEF-1EA126F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4BF-6093-4D38-A308-7AFB6AE3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755-BD08-4C2E-B04A-74BC632C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F62-9961-4934-A985-60E3440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177-DCB8-40D3-B9FD-AF63B9C008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DAB-3B87-4DFE-A353-F34415F8233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28684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Из опыта работы с одарёнными детьми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учителя математики СОШ № 10 Капустиной С.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16360" y="4076280"/>
            <a:ext cx="5256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5b2ff"/>
                </a:solidFill>
                <a:latin typeface="Monotype Corsiva"/>
              </a:rPr>
              <a:t>Образование – это то, что остаётся, когда всё выученное забыт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5b2ff"/>
                </a:solidFill>
                <a:latin typeface="Monotype Corsiva"/>
              </a:rPr>
              <a:t>Б.Ф. Скинне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j0223770"/>
          <p:cNvPicPr/>
          <p:nvPr/>
        </p:nvPicPr>
        <p:blipFill>
          <a:blip r:embed="rId1"/>
          <a:stretch/>
        </p:blipFill>
        <p:spPr>
          <a:xfrm rot="20530800">
            <a:off x="-317160" y="3946320"/>
            <a:ext cx="32749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9 класс. Тема «Формула суммы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-первых членов геометрической прогрессии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ед выводом формулы рассматривается следующая ситуац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днажды незнакомец постучался в окно к богатому купцу и предложил такую сделку: «Я буду ежедневно в течение 30 дней приносить тебе по 100000 руб. А ты мне в 1 день за 100000 руб. дашь 1 коп., во 2 день за 100000 руб. – 2 коп. и так каждый день будешь увеличивать предыдущее число денег в 2 раза. Если тебе выгодна сделка, то с завтрашнего дня начнём.» Купец обрадовался такой удаче. Он подсчитал, что за 30 дней получит от незнакомца 3000000руб. На следующий день пошли к нотариусу и узаконили сделк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опрос:  кто в этой сделке проиграл: купец или незнакомец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8 класс. Тема « Решение задач с помощью уравнений»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тория сохранила нам мало черт биографии замечательного древнего математика Диофанта. Всё, что известно о нём, почерпнуто из надписи на его гробнице – надписи, составленной в форме математической задач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948360" y="8469360"/>
          <a:ext cx="416160" cy="6705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35038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 языке алгебр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33" descr="Image1"/>
          <p:cNvPicPr/>
          <p:nvPr/>
        </p:nvPicPr>
        <p:blipFill>
          <a:blip r:embed="rId1"/>
          <a:stretch/>
        </p:blipFill>
        <p:spPr>
          <a:xfrm>
            <a:off x="4500720" y="1628640"/>
            <a:ext cx="4392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9класс. Тема « Сумма бесконечной геометрической прогрессии 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актический эксперимен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Один ученик должен идти от стола учителя к двери по прямой по такому закону: первый шаг он делает длино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 м, второй – ½ м, третий – ¼ м и т.д. – так, что длина следующего шага в 2 раза меньше длины предыдущег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Вопрос: дойдёт ли ученик к двери, если расстояние от стола до двери по прямой 3м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Monotype Corsiva"/>
              </a:rPr>
              <a:t>Использование задач с практическим содержание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Занятия ребёнка в музыкальной школе родители оплачивают в банке, внося ежемесячно 2000 руб.  Оплата должна производиться до 15 –го числа каждого месяца, после чего за каждый просроченный день начисляется пеня в размера 2% от просроченной суммы оплаты занят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1. На какой день сумма оплаты превысит исходную сумму на 30%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2. Сколько придётся заплатить родителям, если они просрочат оплату на месяц(30 дней)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3.  Когда размер оплаты увеличивается быстрее: в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начале или в конце расчётного период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Конкурс знатоков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« Эврика!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Биолог вывел новую разновидность долгоживущих амёб. Через каждую минуту одна амёба делится на две. Биолог кладёт в пробирку 1 амёбу, и ровно через час вся пробирка до краёв оказывается заполненной амёбами. Через какое время пробирка наполнится до краёв амёбами, если в пробирку положить не одну, а две амёбы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Попробуй свои сил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Image2"/>
          <p:cNvPicPr/>
          <p:nvPr/>
        </p:nvPicPr>
        <p:blipFill>
          <a:blip r:embed="rId1"/>
          <a:stretch/>
        </p:blipFill>
        <p:spPr>
          <a:xfrm>
            <a:off x="1332000" y="1197000"/>
            <a:ext cx="626436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Творческие зада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1. Изготовление раздаточного дидактического материал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2.  Составление кроссворд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3.  Написать сочинение, сказку  на математическую тему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4.  Подготовить сообщение, докла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5. Сделать ёлочную игрушку с необычной «начинкой» на математический Новый год.</a:t>
            </a: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Вопросы важнее ответов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6" descr="Image1"/>
          <p:cNvPicPr/>
          <p:nvPr/>
        </p:nvPicPr>
        <p:blipFill>
          <a:blip r:embed="rId1"/>
          <a:stretch/>
        </p:blipFill>
        <p:spPr>
          <a:xfrm>
            <a:off x="755640" y="1844640"/>
            <a:ext cx="7645320" cy="3672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j0282740"/>
          <p:cNvPicPr/>
          <p:nvPr/>
        </p:nvPicPr>
        <p:blipFill>
          <a:blip r:embed="rId2"/>
          <a:stretch/>
        </p:blipFill>
        <p:spPr>
          <a:xfrm rot="20658000">
            <a:off x="-50400" y="3282480"/>
            <a:ext cx="248436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Прояви свой талант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6637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1. Олимпиад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2. Научно-практические конференц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3. Международная игра «Кенгуру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4. Предпрофильные курс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j0283860"/>
          <p:cNvPicPr/>
          <p:nvPr/>
        </p:nvPicPr>
        <p:blipFill>
          <a:blip r:embed="rId1"/>
          <a:stretch/>
        </p:blipFill>
        <p:spPr>
          <a:xfrm rot="21378000">
            <a:off x="5651280" y="4508640"/>
            <a:ext cx="2232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1435 L -0.59444 0.01435 E">
                                      <p:cBhvr>
                                        <p:cTn id="281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Во всех делах при максимуме сложносте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Подход к проблеме всё – таки один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Желание – это  множество возможностей,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А не желание – множество причин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                         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Асадов Э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Monotype Corsiva"/>
              </a:rPr>
              <a:t>Одарёнными можно считать таких детей и подростков, уровень интеллекта которых и сложившаяся мотивация позволят им добиться в будущем высоких профессиональных и творческих достижений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2560" y="2781360"/>
            <a:ext cx="612144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6699ff"/>
                </a:solidFill>
                <a:latin typeface="Monotype Corsiva"/>
              </a:rPr>
              <a:t>Проблемы одарённых дете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1.  Развитие креатив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2.  Личностное развитие: трудности общения со сверстника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3.  Недостаток волевой регуляц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4.  Профессиональное самоопределение – специализац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Picture 4" descr="j0356713"/>
          <p:cNvPicPr/>
          <p:nvPr/>
        </p:nvPicPr>
        <p:blipFill>
          <a:blip r:embed="rId1"/>
          <a:stretch/>
        </p:blipFill>
        <p:spPr>
          <a:xfrm rot="21176400">
            <a:off x="178920" y="4723920"/>
            <a:ext cx="2017800" cy="171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j0205402"/>
          <p:cNvPicPr/>
          <p:nvPr/>
        </p:nvPicPr>
        <p:blipFill>
          <a:blip r:embed="rId1"/>
          <a:stretch/>
        </p:blipFill>
        <p:spPr>
          <a:xfrm rot="20846400">
            <a:off x="97920" y="5273640"/>
            <a:ext cx="2484720" cy="1994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99ff"/>
                </a:solidFill>
                <a:latin typeface="Monotype Corsiva"/>
              </a:rPr>
              <a:t>Цель работы с одарёнными детьми -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7716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Формирование зрелой потребности и способности для реализации их повышенных возможностей в творческой деятельност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Методические приёмы при работе с одарёнными детьм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естандартное начало уро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Создание проблемных ситуац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Творческие зада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Лабораторные работы- исследова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Ролевые иг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Исследовательские работ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( индивидуальные и групповые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Разнообразные типы уроко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Общие критерии результативности работы с одарёнными деть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64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-   выработка «чувства реальности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-   формирование психологической готовности к преодолению негативных ситуац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-  приобретение навыков эффективного реагирования на ситуации дискомфорт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j0282747"/>
          <p:cNvPicPr/>
          <p:nvPr/>
        </p:nvPicPr>
        <p:blipFill>
          <a:blip r:embed="rId1"/>
          <a:stretch/>
        </p:blipFill>
        <p:spPr>
          <a:xfrm rot="20413200">
            <a:off x="7092720" y="458136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2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-  развитие и укрепление потребности и способности к проявлению инициативы и принятию ответственности за свою деятельность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- формирование особого личностного «сценария победителя», предусматривающего направленность на самоактуализацию в условиях социума и проявляющегося прежде всего в активной, оптимистической творческой деятельности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Начало урок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226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1.</a:t>
            </a: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Предлагается задача, которая решается только с опорой на жизненный опыт ребят, на их смекал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2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Математическая разминка: блиц- опрос, настроимся на математический лад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« пробежимся» по страницам учебни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3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Даётся обычная традиционная задача с традиционным решением. Предлагается найти более короткое рациональное реш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4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На доске написано решение какого-либо примера или задачи с наиболее часто встречающимися ошибками. Предлагается  осуществить проверку каждого логического хода реш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5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 На доске дан чертёж к сложной задаче и методом «мозгового штурма» осуществляется поиск её реш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6821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6.  Зачитывается высказывание или стих, соответствующий данной тем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7. Описывается конкретная жизненная ситуация,  для  выхода из которой необходимо применить математические зна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8. Урок начинают «солисты», т.е. те учащиеся, которым предоставляется возможность провести исследовательскую работу по новому материал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9.  На столе у каждого ученика лежит чистый лист бумаги. Объяснив тему урока, учитель сообщает, что у конце урока по новому материалу будет проведена проверочная рабо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0.  Предлагается написать мини- сочинение на конкретную математическую те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1. Небольшое театрализованное представление, соответствующее теме уро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2. Экскурс в истор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3.  Предлагается физическая ( химическая, …) задача, которую надо решить математическими способа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«Большинство жизненных задач решаются как алгебраические уравнения: приведением их к самому простому виду»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Толстой Л.Н.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корчевав даже целый лес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ы едва ли извлечёте квадратный корень.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Фолькло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Там,  где Толстой подробно рассказывает, Достоевский логарифмирует. Одна деталь может включать очень многое. Мне это ближе».   Леонов Л.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Связь между синусом и косинусом гораздо глубже, чем между операцией и кооперацией».   Неизвестный авто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В науке нет широкой столбовой дороги и только тот достигнет её сияющих вершин, кто не страшась усталости карабкается по её каменистым тропам».  Маркс 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Совет учиться на ошибках других бесполезен; научиться чему-либо можно только на собственных ошибках».  Бернард Шо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Где отсутствует точное знание, там действуют догадки, а из десяти догадок девять – ошибки».  Горький 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5:31:41Z</dcterms:created>
  <dc:creator>Александр</dc:creator>
  <dc:description/>
  <dc:language>en-US</dc:language>
  <cp:lastModifiedBy>Александр</cp:lastModifiedBy>
  <dcterms:modified xsi:type="dcterms:W3CDTF">2017-01-11T13:27:21Z</dcterms:modified>
  <cp:revision>13</cp:revision>
  <dc:subject/>
  <dc:title>Из опыта работы с одарёнными детьми учителя математики СОШ № 10 Капустиной С.А.</dc:title>
</cp:coreProperties>
</file>