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0C73-86C6-4504-B9DF-9B16857F9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B596-961C-4317-B2AF-1D2392EC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7D64-7630-4C79-A5C2-EBF75D63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76DF-0EF3-4A3A-A5B0-E548B9B8F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63E8-4432-4B7C-B4FB-20A9A8B4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9CD1-F326-4B99-9075-DF11A25B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B04A-D5EB-4402-AFF4-2E6CBC0E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0166-3C4A-450C-9C06-559447A1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BB1B-C528-4C75-8751-F7FDDB44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603D-77C2-41EC-B5D4-ADD7DF62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4FA0-E47F-498C-B378-AA442D45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DA0-A0CB-4569-82D4-51812201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B1FA-2582-4B7A-89E8-609C607F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C47F-A219-41C1-88DE-B7B14F2C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B51E-B222-4079-8FC0-79EB89FF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633C-7F01-4302-BCAB-B1738F4E7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1226-E268-46A7-A593-9A79C3F8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DBE3-D7B9-4E0D-A4FA-52FED850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D64-2761-49AE-812F-12A4F532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A6BC-3416-4ED2-8992-E69792D2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808B-5BAE-4157-9ED9-A15CA45C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DF0-B8F1-47DB-8A8C-623A79FD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BDC2-2E92-4E3E-B937-CD382DBA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53A0-FE43-4360-89D4-A74B66B0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BA6D-AD3E-410C-8D2E-0165FE46C0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5EC4-3B6C-4883-A572-EEC5D4857C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file://images.yandex.ru/yandsearch%3Ftext=&#1082;&#1072;&#1088;&#1090;&#1080;&#1085;&#1082;&#1080;%20&#1082;%20&#1076;&#1085;&#1102;%20&#1082;&#1086;&#1089;&#1084;&#1086;&#1085;&#1072;&#1074;&#1090;&#1080;&#1082;&#1080;&amp;rpt=simage&amp;img_url=fufel.info%2Fuploads%2Fpics%2F24%2Fpk-17-6.jpg&amp;spsite=fake-046-5951246.ru&amp;p=0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3002/smprokhorov2008.14/0_2ab18_7adbd8fb_XL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file://images.yandex.ru/yandsearch%3Ftext=&#1082;&#1072;&#1088;&#1090;&#1080;&#1085;&#1082;&#1080;%20&#1082;%20&#1076;&#1085;&#1102;%20&#1082;&#1086;&#1089;&#1084;&#1086;&#1085;&#1072;&#1074;&#1090;&#1080;&#1082;&#1080;&amp;rpt=simage&amp;img_url=fufel.info%2Fuploads%2Fpics%2F24%2Fpk-17-6.jpg&amp;spsite=fake-046-5951246.ru&amp;p=0" TargetMode="External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hyperlink" Target="file://images.yandex.ru/yandsearch%3Ftext=&#1082;&#1072;&#1088;&#1090;&#1080;&#1085;&#1082;&#1080;%20&#1082;%20&#1076;&#1085;&#1102;%20&#1082;&#1086;&#1089;&#1084;&#1086;&#1085;&#1072;&#1074;&#1090;&#1080;&#1082;&#1080;&amp;rpt=simage&amp;img_url=fufel.info%2Fuploads%2Fpics%2F24%2Fpk-17-6.jpg&amp;spsite=fake-046-5951246.ru&amp;p=0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asledie-rus.ru/img/820000/820504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irror01.lensart.ru/picturecontent-pid-250ae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-fotki.yandex.ru/get/3000/v-dmitriev59.15/0_21b6e_5d3f0db6_XL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609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104920" y="620640"/>
          <a:ext cx="703908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273760"/>
                <a:gridCol w="2274840"/>
                <a:gridCol w="2274480"/>
              </a:tblGrid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255760" y="3397320"/>
            <a:ext cx="127656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255760" y="33973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09800" y="3117960"/>
            <a:ext cx="1295640" cy="914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42560" y="476280"/>
            <a:ext cx="6769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Gloucester MT Extra Condensed"/>
              </a:rPr>
              <a:t>ТЕМА РОДИНЫ И ПРИРОДЫ В ЛИРИКЕ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ffffff"/>
                </a:solidFill>
                <a:latin typeface="Gloucester MT Extra Condensed"/>
              </a:rPr>
              <a:t>С. А. Есенина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11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1195560"/>
          <a:ext cx="9144000" cy="5173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1800" y="17121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i-main-pic" descr="Картинка 118 из 652"/>
          <p:cNvPicPr/>
          <p:nvPr/>
        </p:nvPicPr>
        <p:blipFill>
          <a:blip r:embed="rId2"/>
          <a:stretch/>
        </p:blipFill>
        <p:spPr>
          <a:xfrm>
            <a:off x="1332000" y="260280"/>
            <a:ext cx="6697440" cy="5106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423880" y="558972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узей-заповедник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Серге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Есенин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7240" y="1523880"/>
            <a:ext cx="9031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i-main-pic" descr="Картинка 76 из 6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260280"/>
            <a:ext cx="7345440" cy="525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900000" y="5300640"/>
          <a:ext cx="8526600" cy="973080"/>
        </p:xfrm>
        <a:graphic>
          <a:graphicData uri="http://schemas.openxmlformats.org/drawingml/2006/table">
            <a:tbl>
              <a:tblPr/>
              <a:tblGrid>
                <a:gridCol w="852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кульптор И.Г. Онищенко. Памятник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гею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сенину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2255760" y="3397320"/>
            <a:ext cx="127656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255760" y="33973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809800" y="3117960"/>
            <a:ext cx="1295640" cy="914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6093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С.А.Есенин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18920" y="6021360"/>
            <a:ext cx="6769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104920" y="512640"/>
          <a:ext cx="7039080" cy="517680"/>
        </p:xfrm>
        <a:graphic>
          <a:graphicData uri="http://schemas.openxmlformats.org/drawingml/2006/table">
            <a:tbl>
              <a:tblPr/>
              <a:tblGrid>
                <a:gridCol w="216000"/>
                <a:gridCol w="2273760"/>
                <a:gridCol w="2274840"/>
                <a:gridCol w="2274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255760" y="3397320"/>
            <a:ext cx="1276560" cy="914400"/>
          </a:xfrm>
          <a:prstGeom prst="rect">
            <a:avLst/>
          </a:prstGeom>
          <a:ln w="0">
            <a:noFill/>
          </a:ln>
        </p:spPr>
      </p:pic>
      <p:pic>
        <p:nvPicPr>
          <p:cNvPr id="92" name="i-main-pic" descr="Картинка 41 из 11084"/>
          <p:cNvPicPr/>
          <p:nvPr/>
        </p:nvPicPr>
        <p:blipFill>
          <a:blip r:embed="rId3"/>
          <a:stretch/>
        </p:blipFill>
        <p:spPr>
          <a:xfrm>
            <a:off x="2195640" y="333360"/>
            <a:ext cx="4680000" cy="5616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2255760" y="33973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09800" y="3117960"/>
            <a:ext cx="1295640" cy="914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kon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72360" cy="43927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405800" y="573408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Константиново - родина великого русского поэт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642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1080752_640" descr="дом где родился и жил великий русский поэт Сергей Александрович Есенин  (1895-1925)"/>
          <p:cNvPicPr/>
          <p:nvPr/>
        </p:nvPicPr>
        <p:blipFill>
          <a:blip r:embed="rId2"/>
          <a:stretch/>
        </p:blipFill>
        <p:spPr>
          <a:xfrm>
            <a:off x="1042920" y="404640"/>
            <a:ext cx="7274160" cy="515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11280" y="5950080"/>
          <a:ext cx="7416720" cy="272880"/>
        </p:xfrm>
        <a:graphic>
          <a:graphicData uri="http://schemas.openxmlformats.org/drawingml/2006/table">
            <a:tbl>
              <a:tblPr/>
              <a:tblGrid>
                <a:gridCol w="74167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ом где родился и жил великий русский поэт Сергей Александрович Есенин (1895-192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 rot="10800000">
            <a:off x="611280" y="-1755360"/>
            <a:ext cx="822960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1080754_640" descr="домик во дворе дома Есениных"/>
          <p:cNvPicPr/>
          <p:nvPr/>
        </p:nvPicPr>
        <p:blipFill>
          <a:blip r:embed="rId2"/>
          <a:stretch/>
        </p:blipFill>
        <p:spPr>
          <a:xfrm>
            <a:off x="755640" y="260280"/>
            <a:ext cx="7632720" cy="5113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124000" y="5661000"/>
          <a:ext cx="5543640" cy="720720"/>
        </p:xfrm>
        <a:graphic>
          <a:graphicData uri="http://schemas.openxmlformats.org/drawingml/2006/table">
            <a:tbl>
              <a:tblPr/>
              <a:tblGrid>
                <a:gridCol w="554364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       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домик во дворе  Есениных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5760" y="155988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2840" y="1523880"/>
            <a:ext cx="8875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i-main-pic" descr="Картинка 16 из 6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19280" y="476280"/>
            <a:ext cx="5977080" cy="481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2771640" y="5157720"/>
          <a:ext cx="6867360" cy="1395000"/>
        </p:xfrm>
        <a:graphic>
          <a:graphicData uri="http://schemas.openxmlformats.org/drawingml/2006/table">
            <a:tbl>
              <a:tblPr/>
              <a:tblGrid>
                <a:gridCol w="6651360"/>
                <a:gridCol w="216000"/>
              </a:tblGrid>
              <a:tr h="69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родине Сергея Есенина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7240" y="1657440"/>
            <a:ext cx="9031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i-main-pic" descr="Картинка 13 из 65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404640"/>
            <a:ext cx="7991640" cy="48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1908000" y="5373720"/>
          <a:ext cx="6943680" cy="1004760"/>
        </p:xfrm>
        <a:graphic>
          <a:graphicData uri="http://schemas.openxmlformats.org/drawingml/2006/table">
            <a:tbl>
              <a:tblPr/>
              <a:tblGrid>
                <a:gridCol w="6943680"/>
              </a:tblGrid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нстантиново, родина Сергея Есен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i-main-pic" descr="Картинка 22 из 1481"/>
          <p:cNvPicPr/>
          <p:nvPr/>
        </p:nvPicPr>
        <p:blipFill>
          <a:blip r:embed="rId2"/>
          <a:stretch/>
        </p:blipFill>
        <p:spPr>
          <a:xfrm>
            <a:off x="826920" y="620640"/>
            <a:ext cx="7704360" cy="537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116000" y="6021360"/>
          <a:ext cx="9269280" cy="517680"/>
        </p:xfrm>
        <a:graphic>
          <a:graphicData uri="http://schemas.openxmlformats.org/drawingml/2006/table">
            <a:tbl>
              <a:tblPr/>
              <a:tblGrid>
                <a:gridCol w="905328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сенью 1909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ге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сенин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тправили учиться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-60120" y="35503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-120600" y="1523880"/>
            <a:ext cx="902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0_21b6e_5d3f0db6_XL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333360"/>
            <a:ext cx="7775280" cy="561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971640" y="5519880"/>
          <a:ext cx="6537240" cy="1035000"/>
        </p:xfrm>
        <a:graphic>
          <a:graphicData uri="http://schemas.openxmlformats.org/drawingml/2006/table">
            <a:tbl>
              <a:tblPr/>
              <a:tblGrid>
                <a:gridCol w="6105240"/>
                <a:gridCol w="216000"/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«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айте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дину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мою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»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ергей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сенин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1914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-119160" y="2603880"/>
            <a:ext cx="22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4:12:37Z</dcterms:created>
  <dc:creator>Admin</dc:creator>
  <dc:description/>
  <dc:language>en-US</dc:language>
  <cp:lastModifiedBy>Admin</cp:lastModifiedBy>
  <dcterms:modified xsi:type="dcterms:W3CDTF">2001-12-31T21:31:18Z</dcterms:modified>
  <cp:revision>6</cp:revision>
  <dc:subject/>
  <dc:title>Слайд 1</dc:title>
</cp:coreProperties>
</file>