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99A-4824-4320-87F5-310D9D26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008-2625-483C-8AE7-ECE17AB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D17-3C0A-43E5-ADE6-D4B129D9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BBA-8D50-4067-A19A-CF401D22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BA8-8CDC-46BF-AB89-4F9D7832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1E6-E0BC-40CE-892A-7DB71DD2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EA8B-C4BE-4F72-B455-DF4EBF2B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A08-6E7B-4112-A480-CE300C8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F9F-53A6-4273-8EBE-BD0F622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142B-ED51-4AEF-89C7-80F4D8F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7C99-7B15-4A18-8478-590A3305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449-6888-4DC5-9E84-91DF9FE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C6DC-B414-47D6-97E4-65047CD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739-E8FE-49BB-BFAB-0214DF38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6F40-F323-4A5C-881D-8311123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37A6-D5E7-4C71-A7B9-E1DF29FE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257A-468D-422A-9388-A68CF382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4F1-219D-4DD9-B316-985F4038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156-052C-4731-AB54-E27045D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CE7-4E97-4D53-AF5D-9507EC3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860-CF14-4FFA-873A-FCE0AFC7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356-6D56-4A0C-B494-F2D3647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A62-B087-4E77-B8BE-46A2061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AE4-EECA-4BFA-A4D0-946258E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918-4AE8-4023-8975-EC8515CFE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A79-BEEB-4B7A-927B-A72FF44DC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2/smprokhorov2008.14/0_2ab18_7adbd8fb_XL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ledie-rus.ru/img/820000/82050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ror01.lensart.ru/picturecontent-pid-250a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0/v-dmitriev59.15/0_21b6e_5d3f0db6_X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04920" y="620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47628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ТЕМА РОДИНЫ И ПРИРОДЫ В ЛИРИК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С. А. Есен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5560"/>
          <a:ext cx="9144000" cy="517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800" y="17121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18 из 652"/>
          <p:cNvPicPr/>
          <p:nvPr/>
        </p:nvPicPr>
        <p:blipFill>
          <a:blip r:embed="rId2"/>
          <a:stretch/>
        </p:blipFill>
        <p:spPr>
          <a:xfrm>
            <a:off x="1332000" y="260280"/>
            <a:ext cx="6697440" cy="510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23880" y="5589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узей-заповед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ге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Есени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240" y="152388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-main-pic" descr="Картинка 7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60280"/>
            <a:ext cx="734544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00000" y="5300640"/>
          <a:ext cx="8526600" cy="973080"/>
        </p:xfrm>
        <a:graphic>
          <a:graphicData uri="http://schemas.openxmlformats.org/drawingml/2006/table">
            <a:tbl>
              <a:tblPr/>
              <a:tblGrid>
                <a:gridCol w="852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ульптор И.Г. Онищенко. Памятник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.А.Есен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18920" y="6021360"/>
            <a:ext cx="67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04920" y="512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i-main-pic" descr="Картинка 41 из 11084"/>
          <p:cNvPicPr/>
          <p:nvPr/>
        </p:nvPicPr>
        <p:blipFill>
          <a:blip r:embed="rId3"/>
          <a:stretch/>
        </p:blipFill>
        <p:spPr>
          <a:xfrm>
            <a:off x="2195640" y="333360"/>
            <a:ext cx="4680000" cy="561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on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5800" y="57340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нстантиново - родина великого русского поэ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642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1080752_640" descr="дом где родился и жил великий русский поэт Сергей Александрович Есенин  (1895-1925)"/>
          <p:cNvPicPr/>
          <p:nvPr/>
        </p:nvPicPr>
        <p:blipFill>
          <a:blip r:embed="rId2"/>
          <a:stretch/>
        </p:blipFill>
        <p:spPr>
          <a:xfrm>
            <a:off x="1042920" y="404640"/>
            <a:ext cx="7274160" cy="515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5950080"/>
          <a:ext cx="7416720" cy="2728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 где родился и жил великий русский поэт Сергей Александрович Есенин (1895-192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0800000">
            <a:off x="611280" y="-175536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1080754_640" descr="домик во дворе дома Есениных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24000" y="5661000"/>
          <a:ext cx="5543640" cy="72072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ик во дворе  Есени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760" y="15598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40" y="1523880"/>
            <a:ext cx="887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-main-pic" descr="Картинка 1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476280"/>
            <a:ext cx="5977080" cy="48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71640" y="5157720"/>
          <a:ext cx="6867360" cy="1395000"/>
        </p:xfrm>
        <a:graphic>
          <a:graphicData uri="http://schemas.openxmlformats.org/drawingml/2006/table">
            <a:tbl>
              <a:tblPr/>
              <a:tblGrid>
                <a:gridCol w="6651360"/>
                <a:gridCol w="21600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одине Сергея Есенин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240" y="165744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-main-pic" descr="Картинка 13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79916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908000" y="5373720"/>
          <a:ext cx="6943680" cy="100476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иново, родина Сергея 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22 из 1481"/>
          <p:cNvPicPr/>
          <p:nvPr/>
        </p:nvPicPr>
        <p:blipFill>
          <a:blip r:embed="rId2"/>
          <a:stretch/>
        </p:blipFill>
        <p:spPr>
          <a:xfrm>
            <a:off x="826920" y="620640"/>
            <a:ext cx="770436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16000" y="6021360"/>
          <a:ext cx="9269280" cy="517680"/>
        </p:xfrm>
        <a:graphic>
          <a:graphicData uri="http://schemas.openxmlformats.org/drawingml/2006/table">
            <a:tbl>
              <a:tblPr/>
              <a:tblGrid>
                <a:gridCol w="905328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енью 1909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тправили учитьс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-60120" y="3550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20600" y="1523880"/>
            <a:ext cx="902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_21b6e_5d3f0db6_X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77528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5519880"/>
          <a:ext cx="6537240" cy="1035000"/>
        </p:xfrm>
        <a:graphic>
          <a:graphicData uri="http://schemas.openxmlformats.org/drawingml/2006/table">
            <a:tbl>
              <a:tblPr/>
              <a:tblGrid>
                <a:gridCol w="610524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о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914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19160" y="2603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2:37Z</dcterms:created>
  <dc:creator>Admin</dc:creator>
  <dc:description/>
  <dc:language>en-US</dc:language>
  <cp:lastModifiedBy>Admin</cp:lastModifiedBy>
  <dcterms:modified xsi:type="dcterms:W3CDTF">2001-12-31T21:31:18Z</dcterms:modified>
  <cp:revision>6</cp:revision>
  <dc:subject/>
  <dc:title>Слайд 1</dc:title>
</cp:coreProperties>
</file>