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0356-2E82-4C52-B04C-24E39053B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29EF-4C31-4429-A0D9-507A50BA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D08-DD1A-4654-8A57-4C315392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D32-BFD6-4C88-BD00-BCA61919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A2D7-058B-4681-AE27-51B80ABF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1D1-F689-457A-8E17-F8AC4313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98B-08A2-4E05-A9DE-CB0C3517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A23-7D9D-46A1-8934-350034C7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22F-9DCE-42EE-939E-480BB67B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0D8-84AE-4EF7-99D9-6DDE4A1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7A3-D822-404F-B87E-BEB60C3B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D95-535F-4845-8751-F0DAA094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400F-4BDA-4ACF-A7E4-97F5D42A4C0A}" type="slidenum">
              <a:rPr b="0" lang="ru-RU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79280" y="333360"/>
            <a:ext cx="896472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Monotype Corsiva"/>
              </a:rPr>
              <a:t>Тема: «Сказки, самое большое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2d8a"/>
                </a:solidFill>
                <a:latin typeface="Monotype Corsiva"/>
              </a:rPr>
              <a:t>наслаждение детства»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Monotype Corsiva"/>
              </a:rPr>
              <a:t>Тип проекта: </a:t>
            </a:r>
            <a:r>
              <a:rPr b="0" lang="en-US" sz="2800" spc="-1" strike="noStrike">
                <a:solidFill>
                  <a:srgbClr val="002060"/>
                </a:solidFill>
                <a:latin typeface="Monotype Corsiva"/>
              </a:rPr>
              <a:t>информационно – творческий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onotype Corsiva"/>
              </a:rPr>
              <a:t>Продолжительность: </a:t>
            </a:r>
            <a:r>
              <a:rPr b="0" lang="en-US" sz="2800" spc="-1" strike="noStrike">
                <a:solidFill>
                  <a:srgbClr val="002060"/>
                </a:solidFill>
                <a:latin typeface="Monotype Corsiva"/>
              </a:rPr>
              <a:t>ноябрь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2015</a:t>
            </a:r>
            <a:r>
              <a:rPr b="0" lang="en-US" sz="2800" spc="-1" strike="noStrike">
                <a:solidFill>
                  <a:srgbClr val="002060"/>
                </a:solidFill>
                <a:latin typeface="Monotype Corsiva"/>
              </a:rPr>
              <a:t> года – май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2016 </a:t>
            </a:r>
            <a:r>
              <a:rPr b="0" lang="en-US" sz="2800" spc="-1" strike="noStrike">
                <a:solidFill>
                  <a:srgbClr val="002060"/>
                </a:solidFill>
                <a:latin typeface="Monotype Corsiva"/>
              </a:rPr>
              <a:t>года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Monotype Corsiva"/>
              </a:rPr>
              <a:t>Выполнила: 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воспитатель   по обучению  татарскому, русскому языкам    МБДОУ  №</a:t>
            </a:r>
            <a:r>
              <a:rPr b="1" i="1" lang="en-US" sz="2800" spc="-1" strike="noStrike">
                <a:solidFill>
                  <a:srgbClr val="002060"/>
                </a:solidFill>
                <a:latin typeface="Arial"/>
              </a:rPr>
              <a:t>33 Егорова Римма      Александровна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2" name="Picture 13" descr=""/>
          <p:cNvPicPr/>
          <p:nvPr/>
        </p:nvPicPr>
        <p:blipFill>
          <a:blip r:embed="rId1"/>
          <a:stretch/>
        </p:blipFill>
        <p:spPr>
          <a:xfrm>
            <a:off x="6877080" y="115920"/>
            <a:ext cx="2114640" cy="21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ды театро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1213200" y="3071880"/>
            <a:ext cx="191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Настольный театр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казка «Репка</a:t>
            </a: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5577840" y="3141720"/>
            <a:ext cx="20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Пальчиковый театр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1258920" y="6021360"/>
            <a:ext cx="258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Театр Кукол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504760" y="60930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атр «Кукол»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66" name="Picture 12" descr="DSCF0113"/>
          <p:cNvPicPr/>
          <p:nvPr/>
        </p:nvPicPr>
        <p:blipFill>
          <a:blip r:embed="rId1"/>
          <a:stretch/>
        </p:blipFill>
        <p:spPr>
          <a:xfrm>
            <a:off x="4788000" y="3573360"/>
            <a:ext cx="341136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SCF0086"/>
          <p:cNvPicPr/>
          <p:nvPr/>
        </p:nvPicPr>
        <p:blipFill>
          <a:blip r:embed="rId2"/>
          <a:stretch/>
        </p:blipFill>
        <p:spPr>
          <a:xfrm>
            <a:off x="755640" y="765000"/>
            <a:ext cx="3193920" cy="2397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3311280" cy="2238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DSCF0122"/>
          <p:cNvPicPr/>
          <p:nvPr/>
        </p:nvPicPr>
        <p:blipFill>
          <a:blip r:embed="rId4"/>
          <a:stretch/>
        </p:blipFill>
        <p:spPr>
          <a:xfrm>
            <a:off x="4859280" y="765000"/>
            <a:ext cx="3384720" cy="23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3"/>
          <p:cNvSpPr/>
          <p:nvPr/>
        </p:nvSpPr>
        <p:spPr>
          <a:xfrm>
            <a:off x="887256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1" name="Text Box 22"/>
          <p:cNvSpPr/>
          <p:nvPr/>
        </p:nvSpPr>
        <p:spPr>
          <a:xfrm>
            <a:off x="900000" y="5950080"/>
            <a:ext cx="28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2" name="Picture 19" descr="DSCF0106"/>
          <p:cNvPicPr/>
          <p:nvPr/>
        </p:nvPicPr>
        <p:blipFill>
          <a:blip r:embed="rId1"/>
          <a:stretch/>
        </p:blipFill>
        <p:spPr>
          <a:xfrm>
            <a:off x="755640" y="3500280"/>
            <a:ext cx="3600360" cy="2737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DSCF0127"/>
          <p:cNvPicPr/>
          <p:nvPr/>
        </p:nvPicPr>
        <p:blipFill>
          <a:blip r:embed="rId2"/>
          <a:stretch/>
        </p:blipFill>
        <p:spPr>
          <a:xfrm>
            <a:off x="755640" y="476280"/>
            <a:ext cx="3600360" cy="2647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DSCF0121"/>
          <p:cNvPicPr/>
          <p:nvPr/>
        </p:nvPicPr>
        <p:blipFill>
          <a:blip r:embed="rId3"/>
          <a:stretch/>
        </p:blipFill>
        <p:spPr>
          <a:xfrm>
            <a:off x="4643280" y="476280"/>
            <a:ext cx="3697560" cy="266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DSCF0123"/>
          <p:cNvPicPr/>
          <p:nvPr/>
        </p:nvPicPr>
        <p:blipFill>
          <a:blip r:embed="rId4"/>
          <a:stretch/>
        </p:blipFill>
        <p:spPr>
          <a:xfrm>
            <a:off x="4643280" y="3500280"/>
            <a:ext cx="3672000" cy="28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ятно 2 10"/>
          <p:cNvSpPr/>
          <p:nvPr/>
        </p:nvSpPr>
        <p:spPr>
          <a:xfrm>
            <a:off x="3419640" y="189000"/>
            <a:ext cx="3000240" cy="2143080"/>
          </a:xfrm>
          <a:prstGeom prst="irregularSeal2">
            <a:avLst/>
          </a:prstGeom>
          <a:solidFill>
            <a:srgbClr val="76a8f2"/>
          </a:solidFill>
          <a:ln w="25560">
            <a:solidFill>
              <a:srgbClr val="557a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Наши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7" name="Пятно 1 12"/>
          <p:cNvSpPr/>
          <p:nvPr/>
        </p:nvSpPr>
        <p:spPr>
          <a:xfrm>
            <a:off x="5435640" y="1916280"/>
            <a:ext cx="3429000" cy="2143080"/>
          </a:xfrm>
          <a:prstGeom prst="irregularSeal1">
            <a:avLst/>
          </a:prstGeom>
          <a:solidFill>
            <a:srgbClr val="76a8f2"/>
          </a:solidFill>
          <a:ln w="25560">
            <a:solidFill>
              <a:srgbClr val="557a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Любимые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8" name="Пятно 1 13"/>
          <p:cNvSpPr/>
          <p:nvPr/>
        </p:nvSpPr>
        <p:spPr>
          <a:xfrm>
            <a:off x="357120" y="4221000"/>
            <a:ext cx="2054160" cy="2279880"/>
          </a:xfrm>
          <a:prstGeom prst="irregularSeal1">
            <a:avLst/>
          </a:prstGeom>
          <a:solidFill>
            <a:srgbClr val="76a8f2"/>
          </a:solidFill>
          <a:ln w="25560">
            <a:solidFill>
              <a:srgbClr val="557a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Сказки</a:t>
            </a:r>
            <a:endParaRPr b="0" lang="en-US" sz="36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79" name="Picture 12" descr="DSC00345"/>
          <p:cNvPicPr/>
          <p:nvPr/>
        </p:nvPicPr>
        <p:blipFill>
          <a:blip r:embed="rId1"/>
          <a:stretch/>
        </p:blipFill>
        <p:spPr>
          <a:xfrm>
            <a:off x="5508720" y="4149720"/>
            <a:ext cx="3322440" cy="254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DSCF0117"/>
          <p:cNvPicPr/>
          <p:nvPr/>
        </p:nvPicPr>
        <p:blipFill>
          <a:blip r:embed="rId2"/>
          <a:stretch/>
        </p:blipFill>
        <p:spPr>
          <a:xfrm>
            <a:off x="179280" y="47628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DSC00459"/>
          <p:cNvPicPr/>
          <p:nvPr/>
        </p:nvPicPr>
        <p:blipFill>
          <a:blip r:embed="rId3"/>
          <a:stretch/>
        </p:blipFill>
        <p:spPr>
          <a:xfrm>
            <a:off x="2411280" y="292428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42210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атарский фольклор необычайно богат и разнообразен. Он представлен, стихами, песнями и танцами, произведениями малых жанров (пословицы, поговорки, загадки).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83" name="Picture 4" descr="DSC00341"/>
          <p:cNvPicPr/>
          <p:nvPr/>
        </p:nvPicPr>
        <p:blipFill>
          <a:blip r:embed="rId1"/>
          <a:stretch/>
        </p:blipFill>
        <p:spPr>
          <a:xfrm>
            <a:off x="108000" y="404640"/>
            <a:ext cx="4174920" cy="3132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IMG_0981"/>
          <p:cNvPicPr/>
          <p:nvPr/>
        </p:nvPicPr>
        <p:blipFill>
          <a:blip r:embed="rId2"/>
          <a:stretch/>
        </p:blipFill>
        <p:spPr>
          <a:xfrm>
            <a:off x="4500720" y="404640"/>
            <a:ext cx="4174920" cy="31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0" descr="DSCF0107"/>
          <p:cNvPicPr/>
          <p:nvPr/>
        </p:nvPicPr>
        <p:blipFill>
          <a:blip r:embed="rId1"/>
          <a:stretch/>
        </p:blipFill>
        <p:spPr>
          <a:xfrm>
            <a:off x="468360" y="33336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DSCF0086"/>
          <p:cNvPicPr/>
          <p:nvPr/>
        </p:nvPicPr>
        <p:blipFill>
          <a:blip r:embed="rId2"/>
          <a:stretch/>
        </p:blipFill>
        <p:spPr>
          <a:xfrm>
            <a:off x="4643280" y="33336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DSC00352"/>
          <p:cNvPicPr/>
          <p:nvPr/>
        </p:nvPicPr>
        <p:blipFill>
          <a:blip r:embed="rId3"/>
          <a:stretch/>
        </p:blipFill>
        <p:spPr>
          <a:xfrm>
            <a:off x="4643280" y="3645000"/>
            <a:ext cx="3961080" cy="280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468360" y="3500280"/>
            <a:ext cx="381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На своих занятиях по обучению татарского языка предлагаю детям среднего возраста игрушки, атрибуты, маски зверей для разыгрывания «Репки», «Колобка» и др., добиваюсь того, чтобы дети передавали настроение, меняли мимик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DSCF0108"/>
          <p:cNvPicPr/>
          <p:nvPr/>
        </p:nvPicPr>
        <p:blipFill>
          <a:blip r:embed="rId1"/>
          <a:stretch/>
        </p:blipFill>
        <p:spPr>
          <a:xfrm>
            <a:off x="1187280" y="333360"/>
            <a:ext cx="6553440" cy="49150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1258920" y="54450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детьми старших групп сочиняем маленькие истории. Поддерживаю коллективное придумывание диалогов.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075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зыковая развивающая среда включает в себя как языковую среду, так и предметную. Предметная среда привлекает ребёнка, вызывает его интерес к языку. Ребёнок знает, что он может подойти, посмотреть, взять в руки то, что ему нужно, вызывает его интерес.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кабинете татарского языка  создана богатая предметно-развивающая среда: персонажи татарских народных сказок, пальчиковый театр, сюжетно-ролевые игры, дидактические игры на развитие речевых  способностей, мелкой моторики рук, тактильного восприятия и интеллектуального развития детей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92" name="Picture 11" descr="DSCF0111"/>
          <p:cNvPicPr/>
          <p:nvPr/>
        </p:nvPicPr>
        <p:blipFill>
          <a:blip r:embed="rId1"/>
          <a:stretch/>
        </p:blipFill>
        <p:spPr>
          <a:xfrm>
            <a:off x="539640" y="301464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DSC02660"/>
          <p:cNvPicPr/>
          <p:nvPr/>
        </p:nvPicPr>
        <p:blipFill>
          <a:blip r:embed="rId2"/>
          <a:stretch/>
        </p:blipFill>
        <p:spPr>
          <a:xfrm>
            <a:off x="4500720" y="3017880"/>
            <a:ext cx="40320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DSC01784"/>
          <p:cNvPicPr/>
          <p:nvPr/>
        </p:nvPicPr>
        <p:blipFill>
          <a:blip r:embed="rId1"/>
          <a:stretch/>
        </p:blipFill>
        <p:spPr>
          <a:xfrm>
            <a:off x="1908000" y="2708280"/>
            <a:ext cx="5324760" cy="3753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7"/>
          <p:cNvSpPr/>
          <p:nvPr/>
        </p:nvSpPr>
        <p:spPr>
          <a:xfrm>
            <a:off x="1258920" y="47628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дведение итогов. Проект способствовал развитию и раскрытию творческих способностей детей. Дети учились продуктивному взаимодействию друг с другом, умению слушать других и выражать свое отношение к его предложению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граждение грамотами и сладкими призами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14760" y="0"/>
            <a:ext cx="5829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брое неразрывно связано с красотой, и любование ею – это лишь первый росток доброго чувства, которое надо развивать, превращая в активное стремление к деятельности.                                  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В.А. Сухомлинский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3285720"/>
            <a:ext cx="8785440" cy="28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казка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это удивительное по силе психологического воздействия, средство работы с внутренним миром ребенка, мощный инструмент развития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64168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6659640" y="4149720"/>
            <a:ext cx="2220840" cy="244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91840" y="404280"/>
            <a:ext cx="855180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600" spc="-1" strike="noStrike">
                <a:solidFill>
                  <a:srgbClr val="002060"/>
                </a:solidFill>
                <a:latin typeface="Monotype Corsiva"/>
              </a:rPr>
              <a:t>Цель:</a:t>
            </a:r>
            <a:r>
              <a:rPr b="0" lang="ru-RU" sz="3600" spc="-1" strike="noStrike">
                <a:solidFill>
                  <a:srgbClr val="002060"/>
                </a:solidFill>
                <a:latin typeface="Monotype Corsiva"/>
              </a:rPr>
              <a:t> </a:t>
            </a:r>
            <a:br>
              <a:rPr sz="3600"/>
            </a:b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приобщение детей к высокохудожественной литературе, формирование у них запас  литературных художественных впечатлений, привитие интерес к театральной деятельности, раскрытие ценности совместного творчества детей и их родителей.  </a:t>
            </a:r>
            <a:br>
              <a:rPr sz="32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8" name="Picture 8" descr="1343633535_tri-porosenka"/>
          <p:cNvPicPr/>
          <p:nvPr/>
        </p:nvPicPr>
        <p:blipFill>
          <a:blip r:embed="rId2"/>
          <a:stretch/>
        </p:blipFill>
        <p:spPr>
          <a:xfrm>
            <a:off x="5076720" y="4076640"/>
            <a:ext cx="38689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2050920" cy="1893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Задачи:</a:t>
            </a:r>
            <a:br>
              <a:rPr sz="32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</a:rPr>
              <a:t>Воспитательные: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воспитывать  партнёрские отношения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между детьми, коммуникативные качества, создать  радостный эмоциональный настрой, поощрять творческую инициативу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</a:rPr>
              <a:t>Развивающие: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- развивать  творческую самостоятельность и эстетический вкус дошкольников в организации театрализованных игр, отчетливость произношения, традиции семейного чтения.</a:t>
            </a:r>
            <a:br>
              <a:rPr sz="2400"/>
            </a:b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</a:rPr>
              <a:t>Обучающие: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</a:rPr>
              <a:t>- </a:t>
            </a:r>
            <a:r>
              <a:rPr b="0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накомить с различными видами сказочных произведений, учить узнавать персонажи сказок, знать название и автора, пересказывать содержание, высказывать свое отношение к героям сказки; закреплять умения использовать средства выразительности (позы, жесты, мимику, интонации, движения) и разные виды театров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РЕДПОЛАГАЕМЫЙ РЕЗУЛЬТАТ:</a:t>
            </a:r>
            <a:br>
              <a:rPr sz="18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ти должны: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проявлять любовь к фольклору,  сказкам и театральной деятельности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нать и называть прочитанные сказочные произведения, песни, их авторов, тексты, персонажей, мораль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знать различные виды фольклора, театров и уметь показывать их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меть использовать различные средства выразительности;</a:t>
            </a:r>
            <a:br>
              <a:rPr sz="2000"/>
            </a:b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уметь самостоятельно выбирать сказку, проводить предварительную работу к ее показу, вживаться в свою роль.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843280" y="4869000"/>
            <a:ext cx="32414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Monotype Corsiva"/>
              </a:rPr>
              <a:t>Этапы работы над проектом: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4000" y="907920"/>
            <a:ext cx="83628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</a:rPr>
              <a:t>Подготовительный этап –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ределение темы, распределение задач между педагогами, сбор информации, литературы, использование компьютерных технологий, подбор иллюстративного материала, художественной литературы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Основной этап  </a:t>
            </a:r>
            <a:r>
              <a:rPr b="1" lang="ru-RU" sz="24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ведение занятий, развлечений,  игр, наблюдений, бесед с детьми (как групповых, так и индивидуальных). Совместная деятельность воспитателей, детей, их родителей, педагогов ДОУ. Оформление выставок поделок и рисунков «В гостях у сказки», книг «Сказки моего детства». Подготовка консультаций для родителей по данной тематике. 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Заключительный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этап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товится и проводится презентация по деятельности данного проекта. Дети, их родители и педагоги ДОУ активно помогают в подготовке презентации, после чего они представляют зрителям продукт собственной деятельности. Оформление творческого проекта и его презентация, на которую приглашаются воспитанники всех групп и сотрудники ДОУ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ведение итогов. Проект способствовал развитию и раскрытию творческих способностей детей. Дети учились продуктивному взаимодействию друг с другом, умению слушать других и выражать свое отношение к его предложению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граждение грамотами и сладкими призами.</a:t>
            </a: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Monotype Corsiva"/>
                <a:ea typeface="Times New Roman"/>
              </a:rPr>
              <a:t>Работа с родителями</a:t>
            </a:r>
            <a:br>
              <a:rPr sz="4000"/>
            </a:b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ка консультаций для родителей по данной тематике. Проведение тематического родительского собрания «Роль сказки в нравственно-эстетическом воспитании дошкольников», викторина «Ах, уж эти сказки! ».</a:t>
            </a: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2124000" y="3357720"/>
            <a:ext cx="4680000" cy="32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от уже 10 лет,совместно с моими любознательными дошкольниками,я постигаю мудрость и многогранность  татарского языка. Работать с детьми интересно : каждый воспитанник уникален и неповторим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Приобщение детей к культуре татарского народа строится на основе бесед, занятии, игровой деятельности, во время которых дети знакомятся с устным народным творчеством( фольклором),играми, традициями, и обычаями татар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Татарский фольклор  имеет огромное познавательное и воспитательное значение.Он представляет  собой большую художественную ценность. Приобщение детей  к татарскому фольклору воспитывает в детях любовь к своему родному краю,его культуре, помогает усваивать высокие нравственные принципы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Для знакомства детей с татарскими народными пословицами, поговорками, загадками отбираю только те, которые доступны детям, смысл которых они смогут понять и усвоить.В повседневной жизни с детьми использую пословицы к месту и ко времени: на занятиях и прогулках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Сказки, пожалуй,самое большое наслаждение детства. С какой огромной радостью и желанием воспринимаются они детьми.Татарские сказки знакомят детей с историческим прошлым татарского народа, особенностями его быта,обычаев, с красотой родной природы,разнообразием животного мира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Сказки по новой программе мы не читаем, а смотрим в виде мультфильмов.Детям очень нравится сказки татарских поэтов.При просмотре мультфильмов обращаю внимание на то, что они воспевают победу добра над злом,мир и дружбу.Забавляя,сказка несет ребенку идеи ,необходимые для нравственного формирования его личности.Из сказок дети узнают о красивых традициях татарского народа: глубокая почтительность и уважение детьми родителей, старших по возрасту, отзывчивость, сострадание к ближнему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В свободное от занятий время и во время занятий провожу татарские народные игры. Игра-естественный спутник жизни ребенка, источник радостных эмоций, обладающий великой воспитательной силой.Главное достоинство игры-самостоятельный характер,что является  положительной основой для проявления творчества, фантазии.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378936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 целью приобщения детей к татарской национальной культуре мы проводим национальные праздники: «Сабантуй», «С</a:t>
            </a:r>
            <a:r>
              <a:rPr b="0" lang="tt-RU" sz="2000" spc="-1" strike="noStrike">
                <a:solidFill>
                  <a:srgbClr val="0000ff"/>
                </a:solidFill>
                <a:latin typeface="Arial"/>
              </a:rPr>
              <a:t>өмбелә”, “Нәүрүз” и др., где дети с бол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ьшим желанием участвуют: рассказывают стихи, поют песни, играют в разные национальные игры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59" name="Picture 4" descr="DSC04177"/>
          <p:cNvPicPr/>
          <p:nvPr/>
        </p:nvPicPr>
        <p:blipFill>
          <a:blip r:embed="rId1"/>
          <a:stretch/>
        </p:blipFill>
        <p:spPr>
          <a:xfrm>
            <a:off x="250920" y="11592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DSC03914"/>
          <p:cNvPicPr/>
          <p:nvPr/>
        </p:nvPicPr>
        <p:blipFill>
          <a:blip r:embed="rId2"/>
          <a:stretch/>
        </p:blipFill>
        <p:spPr>
          <a:xfrm>
            <a:off x="4716360" y="115920"/>
            <a:ext cx="4176720" cy="313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1:55:58Z</dcterms:created>
  <dc:creator>Лариса</dc:creator>
  <dc:description/>
  <dc:language>en-US</dc:language>
  <cp:lastModifiedBy>Наташа</cp:lastModifiedBy>
  <dcterms:modified xsi:type="dcterms:W3CDTF">2017-01-11T16:01:19Z</dcterms:modified>
  <cp:revision>103</cp:revision>
  <dc:subject/>
  <dc:title>Слайд 1</dc:title>
</cp:coreProperties>
</file>