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1CB-F059-48F3-AEBD-DB7F5C8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D25-EE32-4A5B-862B-45CCE94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0DD-7516-42CB-81AF-BCD856EA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5A5-748E-4F55-8FDB-E16FD066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A40-4827-4F10-961A-E6DDD18C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289-DBA5-4D35-A45F-CA67B4B0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E59-1F4F-4F93-A5C4-227FFBF6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601-BCAB-43B1-A424-2A30E074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B21-F461-4A54-9BD6-E94B6FA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885-0FB4-4E73-A177-A582B22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0ED-B08E-4D42-A1A9-A906887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9EF-F523-416C-9825-4924DA1C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51C9-E652-4DEE-8283-ED5624D6B113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9280" y="333360"/>
            <a:ext cx="89647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Monotype Corsiva"/>
              </a:rPr>
              <a:t>Тема: «Сказки, самое большое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Monotype Corsiva"/>
              </a:rPr>
              <a:t>наслаждение детства»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Monotype Corsiva"/>
              </a:rPr>
              <a:t>Тип проекта: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информационно – творческий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Продолжительность: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ноябрь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2015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 года – май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2016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год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Выполнила: 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воспитатель   по обучению  татарскому, русскому языкам    МБДОУ  №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33 Егорова Римма      Александровн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6877080" y="115920"/>
            <a:ext cx="21146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театро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213200" y="3071880"/>
            <a:ext cx="191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Настольный театр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азка «Репк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5577840" y="3141720"/>
            <a:ext cx="20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альчиковый театр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1258920" y="6021360"/>
            <a:ext cx="25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Театр Кукол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504760" y="60930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атр «Кукол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12" descr="DSCF0113"/>
          <p:cNvPicPr/>
          <p:nvPr/>
        </p:nvPicPr>
        <p:blipFill>
          <a:blip r:embed="rId1"/>
          <a:stretch/>
        </p:blipFill>
        <p:spPr>
          <a:xfrm>
            <a:off x="4788000" y="3573360"/>
            <a:ext cx="34113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SCF0086"/>
          <p:cNvPicPr/>
          <p:nvPr/>
        </p:nvPicPr>
        <p:blipFill>
          <a:blip r:embed="rId2"/>
          <a:stretch/>
        </p:blipFill>
        <p:spPr>
          <a:xfrm>
            <a:off x="755640" y="765000"/>
            <a:ext cx="3193920" cy="23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311280" cy="223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DSCF0122"/>
          <p:cNvPicPr/>
          <p:nvPr/>
        </p:nvPicPr>
        <p:blipFill>
          <a:blip r:embed="rId4"/>
          <a:stretch/>
        </p:blipFill>
        <p:spPr>
          <a:xfrm>
            <a:off x="4859280" y="765000"/>
            <a:ext cx="338472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3"/>
          <p:cNvSpPr/>
          <p:nvPr/>
        </p:nvSpPr>
        <p:spPr>
          <a:xfrm>
            <a:off x="887256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900000" y="595008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" name="Picture 19" descr="DSCF0106"/>
          <p:cNvPicPr/>
          <p:nvPr/>
        </p:nvPicPr>
        <p:blipFill>
          <a:blip r:embed="rId1"/>
          <a:stretch/>
        </p:blipFill>
        <p:spPr>
          <a:xfrm>
            <a:off x="75564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DSCF0127"/>
          <p:cNvPicPr/>
          <p:nvPr/>
        </p:nvPicPr>
        <p:blipFill>
          <a:blip r:embed="rId2"/>
          <a:stretch/>
        </p:blipFill>
        <p:spPr>
          <a:xfrm>
            <a:off x="755640" y="47628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DSCF0121"/>
          <p:cNvPicPr/>
          <p:nvPr/>
        </p:nvPicPr>
        <p:blipFill>
          <a:blip r:embed="rId3"/>
          <a:stretch/>
        </p:blipFill>
        <p:spPr>
          <a:xfrm>
            <a:off x="4643280" y="476280"/>
            <a:ext cx="3697560" cy="26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DSCF0123"/>
          <p:cNvPicPr/>
          <p:nvPr/>
        </p:nvPicPr>
        <p:blipFill>
          <a:blip r:embed="rId4"/>
          <a:stretch/>
        </p:blipFill>
        <p:spPr>
          <a:xfrm>
            <a:off x="4643280" y="3500280"/>
            <a:ext cx="367200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ятно 2 10"/>
          <p:cNvSpPr/>
          <p:nvPr/>
        </p:nvSpPr>
        <p:spPr>
          <a:xfrm>
            <a:off x="3419640" y="189000"/>
            <a:ext cx="3000240" cy="2143080"/>
          </a:xfrm>
          <a:prstGeom prst="irregularSeal2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Наши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Пятно 1 12"/>
          <p:cNvSpPr/>
          <p:nvPr/>
        </p:nvSpPr>
        <p:spPr>
          <a:xfrm>
            <a:off x="5435640" y="1916280"/>
            <a:ext cx="3429000" cy="2143080"/>
          </a:xfrm>
          <a:prstGeom prst="irregularSeal1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Любимые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Пятно 1 13"/>
          <p:cNvSpPr/>
          <p:nvPr/>
        </p:nvSpPr>
        <p:spPr>
          <a:xfrm>
            <a:off x="357120" y="4221000"/>
            <a:ext cx="2054160" cy="2279880"/>
          </a:xfrm>
          <a:prstGeom prst="irregularSeal1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казки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9" name="Picture 12" descr="DSC00345"/>
          <p:cNvPicPr/>
          <p:nvPr/>
        </p:nvPicPr>
        <p:blipFill>
          <a:blip r:embed="rId1"/>
          <a:stretch/>
        </p:blipFill>
        <p:spPr>
          <a:xfrm>
            <a:off x="5508720" y="4149720"/>
            <a:ext cx="3322440" cy="254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DSCF0117"/>
          <p:cNvPicPr/>
          <p:nvPr/>
        </p:nvPicPr>
        <p:blipFill>
          <a:blip r:embed="rId2"/>
          <a:stretch/>
        </p:blipFill>
        <p:spPr>
          <a:xfrm>
            <a:off x="179280" y="47628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DSC00459"/>
          <p:cNvPicPr/>
          <p:nvPr/>
        </p:nvPicPr>
        <p:blipFill>
          <a:blip r:embed="rId3"/>
          <a:stretch/>
        </p:blipFill>
        <p:spPr>
          <a:xfrm>
            <a:off x="2411280" y="29242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тарский фольклор необычайно богат и разнообразен. Он представлен, стихами, песнями и танцами, произведениями малых жанров (пословицы, поговорки, загадки)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Picture 4" descr="DSC00341"/>
          <p:cNvPicPr/>
          <p:nvPr/>
        </p:nvPicPr>
        <p:blipFill>
          <a:blip r:embed="rId1"/>
          <a:stretch/>
        </p:blipFill>
        <p:spPr>
          <a:xfrm>
            <a:off x="108000" y="40464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0981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DSCF0107"/>
          <p:cNvPicPr/>
          <p:nvPr/>
        </p:nvPicPr>
        <p:blipFill>
          <a:blip r:embed="rId1"/>
          <a:stretch/>
        </p:blipFill>
        <p:spPr>
          <a:xfrm>
            <a:off x="468360" y="333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DSCF0086"/>
          <p:cNvPicPr/>
          <p:nvPr/>
        </p:nvPicPr>
        <p:blipFill>
          <a:blip r:embed="rId2"/>
          <a:stretch/>
        </p:blipFill>
        <p:spPr>
          <a:xfrm>
            <a:off x="4643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DSC00352"/>
          <p:cNvPicPr/>
          <p:nvPr/>
        </p:nvPicPr>
        <p:blipFill>
          <a:blip r:embed="rId3"/>
          <a:stretch/>
        </p:blipFill>
        <p:spPr>
          <a:xfrm>
            <a:off x="4643280" y="3645000"/>
            <a:ext cx="396108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468360" y="350028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 своих занятиях по обучению татарского языка предлагаю детям среднего возраста игрушки, атрибуты, маски зверей для разыгрывания «Репки», «Колобка» и др., добиваюсь того, чтобы дети передавали настроение, меняли мимик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DSCF0108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258920" y="54450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детьми старших групп сочиняем маленькие истории. Поддерживаю коллективное придумывание диалогов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зыковая развивающая среда включает в себя как языковую среду, так и предметную. Предметная среда привлекает ребёнка, вызывает его интерес к языку. Ребёнок знает, что он может подойти, посмотреть, взять в руки то, что ему нужно, вызывает его интерес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бинете татарского языка  создана богатая предметно-развивающая среда: персонажи татарских народных сказок, пальчиковый театр, сюжетно-ролевые игры, дидактические игры на развитие речевых  способностей, мелкой моторики рук, тактильного восприятия и интеллектуального развития детей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" name="Picture 11" descr="DSCF0111"/>
          <p:cNvPicPr/>
          <p:nvPr/>
        </p:nvPicPr>
        <p:blipFill>
          <a:blip r:embed="rId1"/>
          <a:stretch/>
        </p:blipFill>
        <p:spPr>
          <a:xfrm>
            <a:off x="539640" y="301464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02660"/>
          <p:cNvPicPr/>
          <p:nvPr/>
        </p:nvPicPr>
        <p:blipFill>
          <a:blip r:embed="rId2"/>
          <a:stretch/>
        </p:blipFill>
        <p:spPr>
          <a:xfrm>
            <a:off x="4500720" y="3017880"/>
            <a:ext cx="4032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DSC01784"/>
          <p:cNvPicPr/>
          <p:nvPr/>
        </p:nvPicPr>
        <p:blipFill>
          <a:blip r:embed="rId1"/>
          <a:stretch/>
        </p:blipFill>
        <p:spPr>
          <a:xfrm>
            <a:off x="1908000" y="2708280"/>
            <a:ext cx="532476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258920" y="47628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ведение итогов. Проект способствовал развитию и раскрытию творческих способностей детей. Дети учились продуктивному взаимодействию друг с другом, умению слушать других и выражать свое отношение к его предложению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граждение грамотами и сладкими призам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829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ое неразрывно связано с красотой, и любование ею – это лишь первый росток доброго чувства, которое надо развивать, превращая в активное стремление к деятельности.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В.А. Сухомлинский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3285720"/>
            <a:ext cx="87854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азка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это удивительное по силе психологического воздействия, средство работы с внутренним миром ребенка, мощный инструмент развит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6416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659640" y="4149720"/>
            <a:ext cx="2220840" cy="244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1840" y="404280"/>
            <a:ext cx="8551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приобщение детей к высокохудожественной литературе, формирование у них запас  литературных художественных впечатлений, привитие интерес к театральной деятельности, раскрытие ценности совместного творчества детей и их родителей. 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Picture 8" descr="1343633535_tri-porosenka"/>
          <p:cNvPicPr/>
          <p:nvPr/>
        </p:nvPicPr>
        <p:blipFill>
          <a:blip r:embed="rId2"/>
          <a:stretch/>
        </p:blipFill>
        <p:spPr>
          <a:xfrm>
            <a:off x="5076720" y="4076640"/>
            <a:ext cx="3868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2050920" cy="1893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br>
              <a:rPr sz="32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Воспитательны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ывать  партнёрские отношения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жду детьми, коммуникативные качества, создать  радостный эмоциональный настрой, поощрять творческую инициативу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Развивающи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развивать  творческую самостоятельность и эстетический вкус дошкольников в организации театрализованных игр, отчетливость произношения, традиции семейного чтения.</a:t>
            </a:r>
            <a:br>
              <a:rPr sz="24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Обучающи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 закреплять умения использовать средства выразительности (позы, жесты, мимику, интонации, движения) и разные виды театров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ЕДПОЛАГАЕМЫЙ РЕЗУЛЬТАТ:</a:t>
            </a: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лжны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являть любовь к фольклору,  сказкам и театраль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ть и называть прочитанные сказочные произведения, песни, их авторов, тексты, персонажей, мораль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ть различные виды фольклора, театров и уметь показывать их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ть использовать различные средства вырази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ть самостоятельно выбирать сказку, проводить предварительную работу к ее показу, вживаться в свою роль.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43280" y="4869000"/>
            <a:ext cx="32414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Этапы работы над проектом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Подготовительный этап –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темы, распределение задач между педагогами, сбор информации, литературы, использование компьютерных технологий, подбор иллюстративного материала, художественной литературы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сновной этап 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занятий, развлечений,  игр, наблюдений, бесед с детьми (как групповых, так и индивидуальных). Совместная деятельность воспитателей, детей, их родителей, педагогов ДОУ. Оформление выставок поделок и рисунков «В гостях у сказки», книг «Сказки моего детства». Подготовка консультаций для родителей по данной тематике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Заключительный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этап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ится и проводится презентация по деятельности данного проекта. Дети, их родители и педагоги ДОУ активно помогают в подготовке презентации, после чего они представляют зрителям продукт собственной деятельности. Оформление творческого проекта и его презентация, на которую приглашаются воспитанники всех групп и сотрудники ДОУ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. Проект способствовал развитию и раскрытию творческих способностей детей. Дети учились продуктивному взаимодействию друг с другом, умению слушать других и выражать свое отношение к его предложению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раждение грамотами и сладкими призам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Работа с родителями</a:t>
            </a:r>
            <a:br>
              <a:rPr sz="40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онсультаций для родителей по данной тематике. Проведение тематического родительского собрания «Роль сказки в нравственно-эстетическом воспитании дошкольников», викторина «Ах, уж эти сказки! ».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6800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от уже 10 лет,совместно с моими любознательными дошкольниками,я постигаю мудрость и многогранность  татарского языка. Работать с детьми интересно : каждый воспитанник уникален и неповторим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риобщение детей к культуре татарского народа строится на основе бесед, занятии, игровой деятельности, во время которых дети знакомятся с устным народным творчеством( фольклором),играми, традициями, и обычаями татар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Татарский фольклор  имеет огромное познавательное и воспитательное значение.Он представляет  собой большую художественную ценность. Приобщение детей  к татарскому фольклору воспитывает в детях любовь к своему родному краю,его культуре, помогает усваивать высокие нравственные принципы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Для знакомства детей с татарскими народными пословицами, поговорками, загадками отбираю только те, которые доступны детям, смысл которых они смогут понять и усвоить.В повседневной жизни с детьми использую пословицы к месту и ко времени: на занятиях и прогулках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казки, пожалуй,самое большое наслаждение детства. С какой огромной радостью и желанием воспринимаются они детьми.Татарские сказки знакомят детей с историческим прошлым татарского народа, особенностями его быта,обычаев, с красотой родной природы,разнообразием животного мира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казки по новой программе мы не читаем, а смотрим в виде мультфильмов.Детям очень нравится сказки татарских поэтов.При просмотре мультфильмов обращаю внимание на то, что они воспевают победу добра над злом,мир и дружбу.Забавляя,сказка несет ребенку идеи ,необходимые для нравственного формирования его личности.Из сказок дети узнают о красивых традициях татарского народа: глубокая почтительность и уважение детьми родителей, старших по возрасту, отзывчивость, сострадание к ближнему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свободное от занятий время и во время занятий провожу татарские народные игры. Игра-естественный спутник жизни ребенка, источник радостных эмоций, обладающий великой воспитательной силой.Главное достоинство игры-самостоятельный характер,что является  положительной основой для проявления творчества, фантазии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целью приобщения детей к татарской национальной культуре мы проводим национальные праздники: «Сабантуй», «С</a:t>
            </a:r>
            <a:r>
              <a:rPr b="0" lang="tt-RU" sz="2000" spc="-1" strike="noStrike">
                <a:solidFill>
                  <a:srgbClr val="0000ff"/>
                </a:solidFill>
                <a:latin typeface="Arial"/>
              </a:rPr>
              <a:t>өмбелә”, “Нәүрүз” и др., где дети с бо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ьшим желанием участвуют: рассказывают стихи, поют песни, играют в разные национальные игры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Picture 4" descr="DSC04177"/>
          <p:cNvPicPr/>
          <p:nvPr/>
        </p:nvPicPr>
        <p:blipFill>
          <a:blip r:embed="rId1"/>
          <a:stretch/>
        </p:blipFill>
        <p:spPr>
          <a:xfrm>
            <a:off x="250920" y="1159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SC03914"/>
          <p:cNvPicPr/>
          <p:nvPr/>
        </p:nvPicPr>
        <p:blipFill>
          <a:blip r:embed="rId2"/>
          <a:stretch/>
        </p:blipFill>
        <p:spPr>
          <a:xfrm>
            <a:off x="4716360" y="1159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55:58Z</dcterms:created>
  <dc:creator>Лариса</dc:creator>
  <dc:description/>
  <dc:language>en-US</dc:language>
  <cp:lastModifiedBy>Наташа</cp:lastModifiedBy>
  <dcterms:modified xsi:type="dcterms:W3CDTF">2017-01-11T16:01:19Z</dcterms:modified>
  <cp:revision>103</cp:revision>
  <dc:subject/>
  <dc:title>Слайд 1</dc:title>
</cp:coreProperties>
</file>