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1C2-D0A5-484A-8BE8-F65D31D3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8DA-F00C-4867-8A3A-7452C1D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413-8E66-4C96-B207-D10A6621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433-5BC4-4450-8127-89347F11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7FE-6EF9-4617-8180-EC82CC6D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A43-1A34-4669-AB7E-67E5A07F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D3F-91DC-4346-9802-C12AA0D0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8BE-86B1-49A6-A2C3-96CD2798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D64-4782-4F76-8B73-7170461E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D9B-74B7-4C5F-88A6-EA9AFFB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99B-5577-41B1-B570-26A6F3A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941-EDB6-4DDA-9A14-1C822335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C42E-BB6C-4E36-97A1-1DFF0CAEF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87280" y="289080"/>
            <a:ext cx="64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1:43:02Z</dcterms:created>
  <dc:creator>Пользователь</dc:creator>
  <dc:description/>
  <dc:language>en-US</dc:language>
  <cp:lastModifiedBy>Любовь</cp:lastModifiedBy>
  <dcterms:modified xsi:type="dcterms:W3CDTF">2017-01-11T07:09:27Z</dcterms:modified>
  <cp:revision>65</cp:revision>
  <dc:subject/>
  <dc:title>Слайд 1</dc:title>
</cp:coreProperties>
</file>