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5C21-7FA5-4AD6-AEB5-77D95B00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598-92D2-4508-A6FC-7F66B799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6B3E-EDCE-4D53-88B5-434AAE99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4D2E-E6A6-4AD1-9B14-26DE5C04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7012-61A2-4468-8AF7-627A3A6E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942F-985B-482F-98BF-FFABFABC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DF5-EFB5-4767-87CA-8D7D303F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D45-B62E-48A6-9B41-B647B37A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11A-1089-43CA-AF64-EF8C3BF8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9CB8-1E77-488C-B6D3-DEB3825A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9878-91F7-44E1-960A-4B290141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F37-AEFB-414E-9D61-2261B7E2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A519-429A-402D-BB5E-B768517801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187280" y="289080"/>
            <a:ext cx="64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3T11:43:02Z</dcterms:created>
  <dc:creator>Пользователь</dc:creator>
  <dc:description/>
  <dc:language>en-US</dc:language>
  <cp:lastModifiedBy>Любовь</cp:lastModifiedBy>
  <dcterms:modified xsi:type="dcterms:W3CDTF">2017-01-11T07:09:27Z</dcterms:modified>
  <cp:revision>65</cp:revision>
  <dc:subject/>
  <dc:title>Слайд 1</dc:title>
</cp:coreProperties>
</file>