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F8F2-7BAD-4753-A4DD-84168A8D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5B1A-3823-4840-9561-51DB5B5C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8328-7932-4BD0-B94F-C4DF664A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C8EE-93C1-4E49-AFF2-334D029C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4E01-54FD-487C-A377-0FE38092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D94-F9BA-458A-8D3F-7EB1C317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6E23-E137-4DD9-A36A-DD01BC62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2D3E-1465-4513-B1D4-502964BF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84A3-42B8-4227-85D4-A553092B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866-C027-48FB-95CE-4FD4B6A7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C0FC-49B6-4EA4-B1CE-062C568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5FA8-4C24-4694-970F-7BD2A074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C79C-A398-4B0A-8F81-C8AD6115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9B52-1761-4F9D-8E75-33ADF65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453B-CEF8-4858-8749-1D7F87B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1E2B-1CC1-4803-A842-1E482C91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0821-8BCC-4823-9B55-126487C3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6F2F-7130-4D24-A668-3413EE6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C77E-2C04-4B68-80E9-0A1C4B56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C6FF-F85E-4C1B-BE19-28EB2A58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51F7-FD0B-47C4-A59F-74004298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B8ED-53D9-483B-BBBA-A8565CE1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6028-14CB-4FBA-9068-F2FAC40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EBC5-2B94-425C-9489-23126F1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BA1A-E777-40E0-83A6-AEE1524B4C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84B9-F7ED-4D37-8FD4-32EE745A6D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2349360"/>
            <a:ext cx="8137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449200">
            <a:off x="14040" y="1329840"/>
            <a:ext cx="9307440" cy="28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Monotype Corsiva"/>
              </a:rPr>
              <a:t>Виды алгоритм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4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ведре было 12 л воды. Из него отлили сначала 2 л, а потом ещё 4л. Сколько литров воды осталось в ведр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5661000"/>
            <a:ext cx="684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12 – 2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– 4 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0" spc="-1" strike="noStrike">
                <a:solidFill>
                  <a:srgbClr val="0033cc"/>
                </a:solidFill>
                <a:latin typeface="Monotype Corsiva"/>
              </a:rPr>
              <a:t>Молодцы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840720" cy="3933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39640" y="703440"/>
            <a:ext cx="79200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1413000"/>
            <a:ext cx="1150920" cy="50472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2349360"/>
            <a:ext cx="1224000" cy="64800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3429000"/>
            <a:ext cx="1297080" cy="64764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4581360"/>
            <a:ext cx="1224000" cy="64944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5661000"/>
            <a:ext cx="1224000" cy="57636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11640" y="2708280"/>
          <a:ext cx="4392720" cy="2111400"/>
        </p:xfrm>
        <a:graphic>
          <a:graphicData uri="http://schemas.openxmlformats.org/drawingml/2006/table">
            <a:tbl>
              <a:tblPr/>
              <a:tblGrid>
                <a:gridCol w="1096920"/>
                <a:gridCol w="1100160"/>
                <a:gridCol w="1098720"/>
                <a:gridCol w="10969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435640" y="3860640"/>
            <a:ext cx="86364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3860640"/>
            <a:ext cx="86364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860640"/>
            <a:ext cx="8632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916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407664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5229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04640"/>
            <a:ext cx="77058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67280" y="5829480"/>
            <a:ext cx="4537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78800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1009440"/>
                <a:gridCol w="1011240"/>
                <a:gridCol w="1008000"/>
                <a:gridCol w="1009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050920" y="1557360"/>
            <a:ext cx="1079640" cy="57636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2421000"/>
            <a:ext cx="93672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6200" y="3284640"/>
            <a:ext cx="2016000" cy="7920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1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8200" y="4365720"/>
            <a:ext cx="93672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365720"/>
            <a:ext cx="100800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5229360"/>
            <a:ext cx="1008360" cy="57600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131920"/>
            <a:ext cx="18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4200" y="2997360"/>
            <a:ext cx="18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3645000"/>
            <a:ext cx="57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38560" y="3645000"/>
            <a:ext cx="18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69480" y="3645000"/>
            <a:ext cx="57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9840" y="3645000"/>
            <a:ext cx="18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13992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0920" y="3139920"/>
            <a:ext cx="7192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69840" y="4940280"/>
            <a:ext cx="18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69840" y="5516640"/>
            <a:ext cx="10810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38560" y="4940280"/>
            <a:ext cx="18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59280" y="5516640"/>
            <a:ext cx="10792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333360"/>
            <a:ext cx="7993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азветвляющийся алгорит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88000" y="5589720"/>
            <a:ext cx="435600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67280" y="3141720"/>
            <a:ext cx="8654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14172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14172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00720" y="2781360"/>
          <a:ext cx="4038480" cy="1942920"/>
        </p:xfrm>
        <a:graphic>
          <a:graphicData uri="http://schemas.openxmlformats.org/drawingml/2006/table">
            <a:tbl>
              <a:tblPr/>
              <a:tblGrid>
                <a:gridCol w="1009440"/>
                <a:gridCol w="1011240"/>
                <a:gridCol w="1008000"/>
                <a:gridCol w="1009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258920" y="1413000"/>
            <a:ext cx="1079640" cy="57600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276640"/>
            <a:ext cx="107964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141720"/>
            <a:ext cx="1729080" cy="10080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1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4653000"/>
            <a:ext cx="10810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5589720"/>
            <a:ext cx="1081080" cy="57600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98900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2852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4149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4149720"/>
            <a:ext cx="5050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30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645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76720" y="2565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68000" y="256536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3789360"/>
            <a:ext cx="647640" cy="2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378936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378936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3789360"/>
            <a:ext cx="8632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00360" y="5805360"/>
            <a:ext cx="6264360" cy="72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42920" y="333360"/>
            <a:ext cx="705816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Циклический алгорит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Алгоритм решения уравн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773360"/>
            <a:ext cx="792000" cy="718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1773360"/>
            <a:ext cx="6480000" cy="718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Найти целое и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708280"/>
            <a:ext cx="792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2708280"/>
            <a:ext cx="648000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пределить неизвес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3573360"/>
            <a:ext cx="79200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3573360"/>
            <a:ext cx="561672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рименить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4508640"/>
            <a:ext cx="792000" cy="722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4508640"/>
            <a:ext cx="374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счит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5516640"/>
            <a:ext cx="792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5516640"/>
            <a:ext cx="3744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Решите уравн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+ 42 = 4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– 26 = 3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05520" y="13410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71 – X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1844640"/>
            <a:ext cx="3166920" cy="2089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418 –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3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6 + 42 = 4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8 = 4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285264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916280"/>
            <a:ext cx="3168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271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2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1 – 236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8526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653000"/>
            <a:ext cx="3097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345 +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3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1 – 26 =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5 =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558972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оставь выражения и найди их зна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3516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1)</a:t>
            </a:r>
            <a:r>
              <a:rPr b="0" i="1" lang="en-US" sz="4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одном ведре 8 л воды, а в другом – на 2 л меньше. Сколько воды во втором ведр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5373720"/>
            <a:ext cx="417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8 – 2 = 6 (</a:t>
            </a: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686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2)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одном ведре 8 л воды. Это на 2 л меньше, чем во втором ведре. Сколько воды во втором ведр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4681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8 + 2 = 10 (</a:t>
            </a: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3)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одном ведре 8 л воды, а в другом – на 2 л больше. Сколько воды в двух ведр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941720"/>
            <a:ext cx="6481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8 +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(8 +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= 1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8:48:49Z</dcterms:created>
  <dc:creator>margarita</dc:creator>
  <dc:description/>
  <dc:language>en-US</dc:language>
  <cp:lastModifiedBy>Фидалина</cp:lastModifiedBy>
  <dcterms:modified xsi:type="dcterms:W3CDTF">2010-12-24T18:02:46Z</dcterms:modified>
  <cp:revision>9</cp:revision>
  <dc:subject/>
  <dc:title>Виды алгоритмов</dc:title>
</cp:coreProperties>
</file>