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EB39C-8669-4A07-8B39-A8E6BD458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7EC24-D4AC-4F10-A293-74F59BD74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4298B-CC10-4A4F-A3F9-296C5322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32CBA-689E-47E9-BD7C-61C42BF2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352B-E7D1-42CF-A4D7-E4DABDFD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59D4-CDB0-4EBE-B206-7C601579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6B38E-54A9-440D-8421-C5CC56B7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14FF-6B62-4358-B247-4B880B4C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D6316-ECD6-4710-9656-5DCE2629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954F-942F-4907-B19A-F252018C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CF53-D2E7-410E-955C-7FC53C97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A55E0-27CC-45E5-AF94-41DC91E3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3D98-169E-4835-A324-011789F1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FB80-2119-4300-B8DF-E5C648F5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9217-71B3-4CF8-8E6B-AF555F965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2844-18B1-44CF-B24E-BF87E996C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72EF-44F3-4037-A309-F596E19A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97357-4698-4144-9165-DEF588E5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67C15-4EFE-49A4-BCAA-F0434591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2BC39-EAE0-4A23-879C-614E7B71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C46C5-A459-422C-B5E8-E82D7276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6DD8D-90E3-4B04-B374-C167C607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F86D8-4314-4F3E-8277-8BBE2192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AFBCB-15D7-4BDF-B748-26F9D4A7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6DE5-C5F6-4479-B077-D7CDCBD2D33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6AD5-002A-4EDD-86B6-186E32BE33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84720" y="4005360"/>
            <a:ext cx="2232360" cy="223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11280" y="2349360"/>
            <a:ext cx="8137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0449200">
            <a:off x="14040" y="1329840"/>
            <a:ext cx="9307440" cy="2808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00"/>
                </a:solidFill>
                <a:latin typeface="Monotype Corsiva"/>
              </a:rPr>
              <a:t>Виды алгоритмо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Comic Sans MS"/>
              </a:rPr>
              <a:t>4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В ведре было 12 л воды. Из него отлили сначала 2 л, а потом ещё 4л. Сколько литров воды осталось в ведр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35280" y="5661000"/>
            <a:ext cx="684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12 – 2 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– 4 </a:t>
            </a: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= 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6</a:t>
            </a: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л</a:t>
            </a: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0" spc="-1" strike="noStrike">
                <a:solidFill>
                  <a:srgbClr val="0033cc"/>
                </a:solidFill>
                <a:latin typeface="Monotype Corsiva"/>
              </a:rPr>
              <a:t>Молодцы!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187280" y="2924280"/>
            <a:ext cx="6840720" cy="39337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39640" y="703440"/>
            <a:ext cx="792000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1413000"/>
            <a:ext cx="1150920" cy="504720"/>
          </a:xfrm>
          <a:prstGeom prst="ellipse">
            <a:avLst/>
          </a:prstGeom>
          <a:solidFill>
            <a:srgbClr val="ff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03280" y="2349360"/>
            <a:ext cx="1224000" cy="648000"/>
          </a:xfrm>
          <a:prstGeom prst="rect">
            <a:avLst/>
          </a:prstGeom>
          <a:solidFill>
            <a:srgbClr val="99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3429000"/>
            <a:ext cx="1297080" cy="647640"/>
          </a:xfrm>
          <a:prstGeom prst="rect">
            <a:avLst/>
          </a:prstGeom>
          <a:solidFill>
            <a:srgbClr val="99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4581360"/>
            <a:ext cx="1224000" cy="649440"/>
          </a:xfrm>
          <a:prstGeom prst="rect">
            <a:avLst/>
          </a:prstGeom>
          <a:solidFill>
            <a:srgbClr val="9999ff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2000" y="5661000"/>
            <a:ext cx="1224000" cy="576360"/>
          </a:xfrm>
          <a:prstGeom prst="ellipse">
            <a:avLst/>
          </a:prstGeom>
          <a:solidFill>
            <a:srgbClr val="ff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211640" y="2708280"/>
          <a:ext cx="4392720" cy="2111400"/>
        </p:xfrm>
        <a:graphic>
          <a:graphicData uri="http://schemas.openxmlformats.org/drawingml/2006/table">
            <a:tbl>
              <a:tblPr/>
              <a:tblGrid>
                <a:gridCol w="1096920"/>
                <a:gridCol w="1100160"/>
                <a:gridCol w="1098720"/>
                <a:gridCol w="109692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117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5435640" y="3860640"/>
            <a:ext cx="86364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16720" y="3860640"/>
            <a:ext cx="86364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3860640"/>
            <a:ext cx="863280" cy="792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79640" y="191628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2997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79640" y="407664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79640" y="5229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04640"/>
            <a:ext cx="770580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Линейный алгорит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067280" y="5829480"/>
            <a:ext cx="4537080" cy="37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788000" y="2276640"/>
          <a:ext cx="4038480" cy="1800000"/>
        </p:xfrm>
        <a:graphic>
          <a:graphicData uri="http://schemas.openxmlformats.org/drawingml/2006/table">
            <a:tbl>
              <a:tblPr/>
              <a:tblGrid>
                <a:gridCol w="1009440"/>
                <a:gridCol w="1011240"/>
                <a:gridCol w="1008000"/>
                <a:gridCol w="10098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103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2050920" y="1557360"/>
            <a:ext cx="1079640" cy="576360"/>
          </a:xfrm>
          <a:prstGeom prst="ellipse">
            <a:avLst/>
          </a:prstGeom>
          <a:solidFill>
            <a:srgbClr val="ff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22560" y="2421000"/>
            <a:ext cx="93672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46200" y="3284640"/>
            <a:ext cx="2016000" cy="7920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&lt;18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8200" y="4365720"/>
            <a:ext cx="93672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4365720"/>
            <a:ext cx="1008000" cy="57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0920" y="5229360"/>
            <a:ext cx="1008360" cy="576000"/>
          </a:xfrm>
          <a:prstGeom prst="ellipse">
            <a:avLst/>
          </a:prstGeom>
          <a:solidFill>
            <a:srgbClr val="ff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131920"/>
            <a:ext cx="180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54200" y="2997360"/>
            <a:ext cx="180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562200" y="3645000"/>
            <a:ext cx="576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38560" y="3645000"/>
            <a:ext cx="18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969480" y="3645000"/>
            <a:ext cx="5763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69840" y="3645000"/>
            <a:ext cx="18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26920" y="3139920"/>
            <a:ext cx="7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90920" y="3139920"/>
            <a:ext cx="71928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69840" y="4940280"/>
            <a:ext cx="18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69840" y="5516640"/>
            <a:ext cx="10810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38560" y="4940280"/>
            <a:ext cx="180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059280" y="5516640"/>
            <a:ext cx="10792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333360"/>
            <a:ext cx="799308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Разветвляющийся алгорит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788000" y="5589720"/>
            <a:ext cx="4356000" cy="6476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867280" y="3141720"/>
            <a:ext cx="86544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77080" y="3141720"/>
            <a:ext cx="86364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885080" y="3141720"/>
            <a:ext cx="86364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00720" y="2781360"/>
          <a:ext cx="4038480" cy="1942920"/>
        </p:xfrm>
        <a:graphic>
          <a:graphicData uri="http://schemas.openxmlformats.org/drawingml/2006/table">
            <a:tbl>
              <a:tblPr/>
              <a:tblGrid>
                <a:gridCol w="1009440"/>
                <a:gridCol w="1011240"/>
                <a:gridCol w="1008000"/>
                <a:gridCol w="100980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1258920" y="1413000"/>
            <a:ext cx="1079640" cy="576000"/>
          </a:xfrm>
          <a:prstGeom prst="ellipse">
            <a:avLst/>
          </a:prstGeom>
          <a:solidFill>
            <a:srgbClr val="ff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87280" y="2276640"/>
            <a:ext cx="1079640" cy="57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3141720"/>
            <a:ext cx="1729080" cy="10080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 1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58920" y="4653000"/>
            <a:ext cx="108108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58920" y="5589720"/>
            <a:ext cx="1081080" cy="576000"/>
          </a:xfrm>
          <a:prstGeom prst="ellipse">
            <a:avLst/>
          </a:prstGeom>
          <a:solidFill>
            <a:srgbClr val="ff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3640" y="198900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63640" y="285264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3640" y="4149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4149720"/>
            <a:ext cx="50508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530064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56000" y="364500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276720" y="256500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268000" y="2565360"/>
            <a:ext cx="100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3789360"/>
            <a:ext cx="647640" cy="21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80000" y="3789360"/>
            <a:ext cx="86364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88000" y="3789360"/>
            <a:ext cx="86364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96360" y="3789360"/>
            <a:ext cx="86328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00360" y="5805360"/>
            <a:ext cx="6264360" cy="7207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042920" y="333360"/>
            <a:ext cx="705816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Циклический алгорит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457200"/>
            <a:ext cx="896472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Алгоритм решения уравнен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1773360"/>
            <a:ext cx="792000" cy="718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979640" y="1773360"/>
            <a:ext cx="6480000" cy="718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Найти целое и ча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2708280"/>
            <a:ext cx="792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2708280"/>
            <a:ext cx="6480000" cy="71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Определить неизвест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3573360"/>
            <a:ext cx="792000" cy="719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79640" y="3573360"/>
            <a:ext cx="5616720" cy="720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Применить правил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5640" y="4508640"/>
            <a:ext cx="792000" cy="722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79640" y="4508640"/>
            <a:ext cx="3744720" cy="720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Посчита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5516640"/>
            <a:ext cx="79236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5516640"/>
            <a:ext cx="3744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Провери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Comic Sans MS"/>
              </a:rPr>
              <a:t>Решите уравн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X + 42 = 4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X – 26 = 3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05520" y="134100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71 – X =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1844640"/>
            <a:ext cx="3166920" cy="2089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= 418 – 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= 3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76 + 42 = 4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18 = 4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58920" y="2852640"/>
            <a:ext cx="244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1916280"/>
            <a:ext cx="3168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= 271 –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= 2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71 – 236 =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 =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2852640"/>
            <a:ext cx="28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4653000"/>
            <a:ext cx="3097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= 345 +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= 3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71 – 26 = 3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45 = 3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48000" y="5589720"/>
            <a:ext cx="287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Составь выражения и найди их знач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351640" cy="43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Comic Sans MS"/>
              </a:rPr>
              <a:t>1)</a:t>
            </a:r>
            <a:r>
              <a:rPr b="0" i="1" lang="en-US" sz="4400" spc="-1" strike="noStrike">
                <a:solidFill>
                  <a:srgbClr val="0033cc"/>
                </a:solidFill>
                <a:latin typeface="Comic Sans MS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В одном ведре 8 л воды, а в другом – на 2 л меньше. Сколько воды во втором ведр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3280" y="5373720"/>
            <a:ext cx="417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8 – 2 = 6 (</a:t>
            </a:r>
            <a:r>
              <a:rPr b="1" i="1" lang="en-US" sz="5400" spc="-1" strike="noStrike">
                <a:solidFill>
                  <a:srgbClr val="0033cc"/>
                </a:solidFill>
                <a:latin typeface="Arial"/>
              </a:rPr>
              <a:t>л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868680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Comic Sans MS"/>
              </a:rPr>
              <a:t>2)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В одном ведре 8 л воды. Это на 2 л меньше, чем во втором ведре. Сколько воды во втором ведр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35280" y="5516640"/>
            <a:ext cx="4681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8 + 2 = 10 (</a:t>
            </a:r>
            <a:r>
              <a:rPr b="1" i="1" lang="en-US" sz="5400" spc="-1" strike="noStrike">
                <a:solidFill>
                  <a:srgbClr val="0033cc"/>
                </a:solidFill>
                <a:latin typeface="Arial"/>
              </a:rPr>
              <a:t>л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58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Comic Sans MS"/>
              </a:rPr>
              <a:t>3)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В одном ведре 8 л воды, а в другом – на 2 л больше. Сколько воды в двух ведрах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4941720"/>
            <a:ext cx="6481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8 + 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(8 +</a:t>
            </a: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 = 1</a:t>
            </a: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8</a:t>
            </a: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1" i="1" lang="ru-RU" sz="5400" spc="-1" strike="noStrike">
                <a:solidFill>
                  <a:srgbClr val="0033cc"/>
                </a:solidFill>
                <a:latin typeface="Arial"/>
              </a:rPr>
              <a:t>л</a:t>
            </a:r>
            <a:r>
              <a:rPr b="1" lang="ru-RU" sz="54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08:48:49Z</dcterms:created>
  <dc:creator>margarita</dc:creator>
  <dc:description/>
  <dc:language>en-US</dc:language>
  <cp:lastModifiedBy>Фидалина</cp:lastModifiedBy>
  <dcterms:modified xsi:type="dcterms:W3CDTF">2010-12-24T18:02:46Z</dcterms:modified>
  <cp:revision>9</cp:revision>
  <dc:subject/>
  <dc:title>Виды алгоритмов</dc:title>
</cp:coreProperties>
</file>