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B5B3-FD20-4A76-B5A5-E743BD5E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694-B1D4-4380-8375-4A9FFFA8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9B5C-0832-424C-A808-B6A7DC6F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3AE-C3D2-4B9E-B961-0742FE2A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59ECD-935C-4111-8063-4FB89A28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2DF63-0695-4C8B-8AF3-9F74BF79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B229-7010-4FAD-A508-1B442026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3610-3045-47B1-9495-1724CAB6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2F18-FEE2-4F8C-9B89-70EFF6CA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6C54-9573-4064-BD2E-4FAB9D51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3841-4B30-4665-8945-4212D6CE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7D0-9753-42A7-87E8-A5E800E2B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2BD9-F7E4-458B-89D1-3DCCDC2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A20A-4069-43E5-9CDE-A8D37390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BDB9-5C1A-475A-B0B2-B4618E9B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D379-04BA-4698-AB90-964703837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2136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856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057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22136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856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709E-E6A8-430F-B723-AA43B2F6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838-A82E-4837-BFAC-B5638048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A14-0037-4A95-A20C-0A21838D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EAD-CF4C-4036-BB63-DB4F3367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89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CF5-4F66-4237-A725-93AD83EB5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DE49-1C7A-4666-AF8F-A6EB9450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736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72D-2702-4E13-92F6-0ABFBBA9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40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736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40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E911-097D-4090-AE26-C1243F5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5AC0-68D5-4BC9-9DF2-8B4FA3ED27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2260-1243-4767-9082-0B7C1BDDEB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и работы по развитию речи дет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14040" y="274284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- формирование устной речи и навыков речевого общения с окружающими на основе овладения литературным языком своего на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вное в развитии детского словаря – освоение значений слов и их уместное употребление в соответствии с контекстом высказывания, с ситуацией, в которой происходит общение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ловарная работа в детском саду проводится на основе ознакомления с окружающей жизнью.    Кроме того, важно, чтобы дети освоили сочетаемость слова, его ассоциативные связи (семантическое поле) с другими словами, особенности употребления в речи. В современной методике большое значение придается развитию умений выбирать наиболее подходящие слова для высказывания, употреблять многозначные слова в соответствии с контекстом, а также работе над лексическими средствами выразительности (антонимы, синонимы, метафоры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. Формирование грамматического строя реч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агает формирование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рфологической стороны речи (изменение слов по родам, числам, падежам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особов словообраз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нтаксиса (освоение разных типов словосочетаний и предложени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овладения грамматикой невозможно речевое общ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. Развитие связной речи включает развитие диалогической и монологической речи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диалогической (разговорной) речи. Диалогическая речь является основной формой общения детей дошкольного возраста. Важно учить ребенка вести диалог, развивать умение слушать и понимать обращенную к нему речь, вступать в разговор и поддерживать его, отвечать на вопросы и спрашивать самому, объяснять, пользоваться разнообразными языковыми средствами, вести себя с учетом ситуации общ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б) Развитие связной монологической речи предполагает формирование умений слушать и понимать связные тексты, пересказывать, строить самостоятельные высказывания разных типов. Эти умения формируются на основе элементарных знаний о структуре текста и типах связи внутри его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5. Формирование элементарного осознания явлений языка и речи обеспечивает подготовку детей к обучению грамоте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ознание явлений языка и речи углубляет наблюдения детей над языком, создает условия для саморазвития речи, повышает уровень контроля за речью. При соответствующем руководстве со стороны взрослых оно способствует воспитанию интереса к обсуждению языковых явлений, любви к родному язы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оответствии с традициями отечественной методики в круг задач развития речи включается еще одна задача – ознакомление с художественной литературой, не являющаяся речевой в собственном смысле слова.</a:t>
            </a:r>
            <a:br>
              <a:rPr sz="3200"/>
            </a:b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Скорее ее можно рассматривать как средство осуществления всех задач развития речи ребенка и усвоения языка в его эстетической функции.</a:t>
            </a:r>
            <a:br>
              <a:rPr sz="3200"/>
            </a:br>
            <a:br>
              <a:rPr sz="1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Художественное слово оказывает огромное влияние на воспитание личности, является источником и средством обогащения речи детей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ленение задач развития речи носит условный характер, в работе с детьми они тесно связаны между собой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Вместе с тем центральной, ведущей задачей является развитие связной речи. Это объясняется рядом обстоятельств. Во-первых, в связной речи реализуется основная функция языка и речи – коммуникативная (общения). Во-вторых, в связной речи наиболее ярко выступает взаимосвязь умственного и речевого развития. В-третьих, в связной речи отражены все другие задачи речевого развития: формирование словаря, грамматического строя, фонетической стороны. В ней проявляются все достижения ребенка в овладении родным языком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825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нание педагогом содержания задач имеет большое методическое значение, поскольку от этого зависит правильная организация работы по развитию речи и обучению родному языку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агодарю за вним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онятие правильной речи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и культуры реч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ая речь: а) правильное произношение звуков и слов; б) правильное по смыслу употребление слов; в) умение правильно изменять слова согласно грамматике русск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льтура речи: правильность и коммуникативная целесообразность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ая речь считается необходимой, но низшей ступенью, а коммуникативно-целесообразная речь – высшей ступенью овладения литературным языком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Но правильная речь может быть бедной, с ограниченным словарем, с однообразными синтаксическими конструкциями. Вторая характеризуется как оптимальное использование языка в конкретных условиях общения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216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у вторую, высшую ступень назвали хорошей речью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Признаками хорошей речи являются лексическое богатство, точность, выразительность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Экспериментальные исследования, опыт работы свидетельствуют, что к старшему дошкольному возрасту, дети могут овладеть не только правильной, но и хорошей речью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Три аспекта характеристики задач развития речи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180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ный (формирование разных структурных уровней системы языка – фонетического, лексического, грамматическог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0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ональный, или коммуникативный (формирование навыков владения языком в его коммуникативной функции, развитие связной речи, двух форм речевого общения – диалога и монолог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18036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нитивный, познавательный (формирование способности к элемен-тарному осознанию явлений языка и реч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2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1. Воспитание звуковой культуры речи – многоаспектная задача, в которую входят более частные микрозадачи, связанные с развитием восприятия звуков родной речи и произношения (говорение, речепроизношение)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Она предполагает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речевого слуха, на основе которого происходит восприятие и различение фонологических средств язы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правильному звукопроизношен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питание орфоэпической правильности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ладение средствами звуковой выразительности речи (тон речи, тембр голоса, темп, ударение, сила голоса, интонация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работку чёткой ди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ьшое внимание уделяется культуре речевого поведения. Воспитатель учит детей пользоваться средствами звуковой выразительности с учётом задач и условий общения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Дошкольное детство – наиболее благоприятный период для воспитания звуковой культуры речи. Овладение четким и правильным произношением должно быть завершено в детском саду (к пяти годам).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Развитие словар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владение словарным запасом составляет основу речевого развития детей, поскольку слово является важнейшей единицей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словаре отражается содержание речи. Слова обозначают предметы и явления, их признаки, качества, свойства и действия с ними. Дети усваивают слова, необходимые для их жизнедеятельности и общения с окружающи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</cp:lastModifiedBy>
  <dcterms:modified xsi:type="dcterms:W3CDTF">2014-04-01T16:55:5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