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E28-7AB7-4C08-A132-AF7058E0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82C-A528-404D-85BD-545D18BA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91F-8E7E-407C-9F3A-9D67535A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389-607F-446C-A610-9ED0AD4A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7936-2AF1-47E1-BAF4-A48368C6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3A56-AD6B-47FE-A2CE-0C0F861D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233A-C4C9-49F3-A650-3C177D16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D731-8626-4AA3-A745-9B22E7E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F5B8-3722-4419-A390-3A93D4B9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0E82-E42A-488B-9C6B-A0840DE7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8EBB-C92B-4BC0-BD2F-F42AF1B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162-4847-43CC-924B-EDA41ECC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7482-406E-4703-98F9-58EC41C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4E89-C539-450E-AC87-0956CA2A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4E49-3ED5-40DF-8527-9288493E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46D6-FED0-43CE-89A7-8BFE5F05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AF8F-3B5F-4712-BF22-D9CE7458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260-3CE1-420A-B3EB-0918137D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8E9-6C5A-48BD-A786-91632553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799-2868-4490-8AA4-5EE48067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3C0-E6D1-4E88-836D-FA055A87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D4C-9896-4BCE-9BFA-8637898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851-1150-4FC0-B632-5C63D192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957-9FA1-4517-9115-2FD8C07B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B5FF-9C16-4B96-AF81-81AF13C395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42A5-2A23-4694-964D-87A4442731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и работы по развитию речи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040" y="274284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- формирование устной речи и навыков речевого общения с окружающими на основе овладения литературным языком своего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ое в развитии детского словаря – освоение значений слов и их уместное употребление в соответствии с контекстом высказывания, с ситуацией, в которой происходит общение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оварная работа в детском саду проводится на основе ознакомления с окружающей жизнью.    Кроме того, важно, чтобы дети освоили сочетаемость слова, его ассоциативные связи (семантическое поле) с другими словами, особенности употребления в речи. В современной методике большое значение придается развитию умений выбирать наиболее подходящие слова для высказывания, употреблять многозначные слова в соответствии с контекстом, а также работе над лексическими средствами выразительности (антонимы, синонимы, метафор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. Формирование грамматического строя реч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т формировани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ой стороны речи (изменение слов по родам, числам, падежа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ов слово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таксиса (освоение разных типов словосочетаний и предложен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овладения грамматикой невозможно речевое общ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. Развитие связной речи включает развитие диалогической и монологической речи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диалогической (разговорной) речи. Диалогическая речь является основной формой общения детей дошкольного возраста. Важно учить ребенка вести диалог, развивать умение слушать и понимать обращенную к нему речь, вступать в разговор и поддерживать его, отвечать на вопросы и спрашивать самому, объяснять, пользоваться разнообразными языковыми средствами, вести себя с учетом ситуации общ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б) Развитие связной монологической речи предполагает формирование умений слушать и понимать связные тексты, пересказывать, строить самостоятельные высказывания разных типов. Эти умения формируются на основе элементарных знаний о структуре текста и типах связи внутри его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5. Формирование элементарного осознания явлений языка и речи обеспечивает подготовку детей к обучению грамоте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знание явлений языка и речи углубляет наблюдения детей над языком, создает условия для саморазвития речи, повышает уровень контроля за речью. При соответствующем руководстве со стороны взрослых оно способствует воспитанию интереса к обсуждению языковых явлений, любви к родному язы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ответствии с традициями отечественной методики в круг задач развития речи включается еще одна задача – ознакомление с художественной литературой, не являющаяся речевой в собственном смысле слова.</a:t>
            </a:r>
            <a:br>
              <a:rPr sz="3200"/>
            </a:b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Скорее ее можно рассматривать как средство осуществления всех задач развития речи ребенка и усвоения языка в его эстетической функции.</a:t>
            </a:r>
            <a:br>
              <a:rPr sz="3200"/>
            </a:b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Художественное слово оказывает огромное влияние на воспитание личности, является источником и средством обогащения речи детей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ленение задач развития речи носит условный характер, в работе с детьми они тесно связаны между собой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месте с тем центральной, ведущей задачей является развитие связной речи. Это объясняется рядом обстоятельств. Во-первых, в связной речи реализуется основная функция языка и речи – коммуникативная (общения). Во-вторых, в связной речи наиболее ярко выступает взаимосвязь умственного и речевого развития. В-третьих, в связной речи отражены все другие задачи речевого развития: формирование словаря, грамматического строя, фонетической стороны. В ней проявляются все достижения ребенка в овладении родным языком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825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ние педагогом содержания задач имеет большое методическое значение, поскольку от этого зависит правильная организация работы по развитию речи и обучению родному языку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агодарю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нятие правильной речи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и культуры реч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ая речь: а) правильное произношение звуков и слов; б) правильное по смыслу употребление слов; в) умение правильно изменять слова согласно грамматике русск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ьтура речи: правильность и коммуникативная целесообразность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ая речь считается необходимой, но низшей ступенью, а коммуникативно-целесообразная речь – высшей ступенью овладения литературным языко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Но правильная речь может быть бедной, с ограниченным словарем, с однообразными синтаксическими конструкциями. Вторая характеризуется как оптимальное использование языка в конкретных условиях общения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2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у вторую, высшую ступень назвали хорошей речью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Признаками хорошей речи являются лексическое богатство, точность, выразительность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Экспериментальные исследования, опыт работы свидетельствуют, что к старшему дошкольному возрасту, дети могут овладеть не только правильной, но и хорошей речью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Три аспекта характеристики задач развития речи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180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ный (формирование разных структурных уровней системы языка – фонетического, лексического, грамматическог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0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альный, или коммуникативный (формирование навыков владения языком в его коммуникативной функции, развитие связной речи, двух форм речевого общения – диалога и монолог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0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нитивный, познавательный (формирование способности к элемен-тарному осознанию явлений языка и реч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. Воспитание звуковой культуры речи – многоаспектная задача, в которую входят более частные микрозадачи, связанные с развитием восприятия звуков родной речи и произношения (говорение, речепроизношение)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на предполагает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речевого слуха, на основе которого происходит восприятие и различение фонологических средств язы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правильному звукопроизнош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ние орфоэпической правильности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ладение средствами звуковой выразительности речи (тон речи, тембр голоса, темп, ударение, сила голоса, интонац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отку чёткой ди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ое внимание уделяется культуре речевого поведения. Воспитатель учит детей пользоваться средствами звуковой выразительности с учётом задач и условий общения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Дошкольное детство – наиболее благоприятный период для воспитания звуковой культуры речи. Овладение четким и правильным произношением должно быть завершено в детском саду (к пяти годам)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Развитие словар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ладение словарным запасом составляет основу речевого развития детей, поскольку слово является важнейшей единицей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оваре отражается содержание речи. Слова обозначают предметы и явления, их признаки, качества, свойства и действия с ними. Дети усваивают слова, необходимые для их жизнедеятельности и общения с окружающ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4-04-01T16:55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