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871-90B1-48C4-8479-9B9B3520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3B8-938E-47CF-8B4C-4AB6FDEF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A7A-47F5-431F-BDEB-31B2F3A4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3AF-9718-4E51-8340-A8718ABD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3407-80CB-4883-BE73-698D5CED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A9BD-5A9A-418F-AE49-C041C30F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41A-8EDC-4940-A4F1-6FF8F497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2296-2E7E-4F2B-A8EF-BA1914BC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FC02-4F8F-48F7-ABA4-4941B282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1FAA-C252-4C4C-84FA-2A591616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FB28-DFB2-4049-9A10-1624D5A0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4E4-D906-4B3E-B5A7-B82BE835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6126-4BCA-464F-AF5C-48AD004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9B47-A0F1-4700-97E7-48586943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27A0-99D9-48D2-80CA-7DC88F5D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9D34-45D9-40D2-9E9F-BFB62271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42C6-EF7B-4C4E-BE55-92B0F707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0E80-D192-4677-9CA7-EE0A06CA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AEEF2-07CE-49BD-BD4B-F0AAA7B7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1581-E100-46C1-B64E-8087ECD5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6963-C100-4918-8A49-2B6C3628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5297-F431-4975-97D7-C2832F96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AF7-6494-4A97-B615-D604242E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71A8-4CE7-47C2-9C2B-42D8F010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D8CAA-6C65-4DDC-8E69-8ABB8D31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F6431-95EB-49D9-8D9E-A6A4AEAA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AB53-61B8-4315-A8EE-AE0DE19C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FDA1-CBB5-4C44-92E3-60888148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7BED-AD03-4875-B9B5-C987F1E6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5308-5C28-4EE3-A630-492130B2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96F7D-96AE-4289-9EDE-16CA90AC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0373-C789-4DE0-9201-8558B90E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89E6-1FE6-4BE1-8E11-3A1419EC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BE2-D18E-452B-A1E8-4F0EAC1B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00ABE-8060-4AA0-868B-D2486546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BB9AC-6335-4EBC-8471-7612713B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8DF68-49C6-4BF3-B3EF-129B1817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A5F3A-0638-4BAB-85E2-AB8B6232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E7CF-3BF2-496B-BFEA-2978F3B2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BD22-3AA6-4032-BA49-37B71485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F82E0-166B-411A-9955-9D2BBDFF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965A-15B0-4872-9826-C1995824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CC1C-114D-48BE-AB43-7D3750BC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02634-BB0A-4505-8890-1211342E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9B5-6A17-4890-AA97-C7188D20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A225F-23F0-4943-89F7-D2519037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6E07-1C89-4AC9-8DC2-2137B9D1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BDB7F-996C-4132-8D94-BFC7811C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E1FC3-19B6-4923-B0A8-C7D8B0A5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524AA-593C-4F3A-8D1C-84614DDA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C8649-520D-4AC2-A8C5-15946B1D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401E9-E073-40BF-8D17-7DA94FC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87D9-CC1E-4DF5-A3F9-11F90F34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32E7-8144-4CE0-BE46-58E1A8A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D954F-056F-4335-8179-BD7CE336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FCE-EC30-4DD0-8CB8-A92E8E2A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561D4-C280-4E26-AD21-A06CF6C7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0891-B923-4EEE-95C2-77302550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99D6-70E1-4BCD-BAF6-49C28CF7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35B99-3C0E-4B88-9E0C-F981BE5D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0BD5D-648C-4FAA-8EB7-BCEA187F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5B10A-293D-4BE5-A698-1BCBBFF4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67460-2858-4D7C-83DD-D147359B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15A29-2A3F-4AB0-B3C6-0BBE364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84359-EE7F-4739-9CC9-2C30E74D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61F7-4AE2-4595-81DF-C232DA59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65C-B6EB-41B6-9F3B-B3265402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E7C4E-E353-443F-AA69-06A2F145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46C1-0BF6-472F-A036-7664D336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15B2A-3057-4397-9D8A-07201B2A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F7FF3-9617-4EB2-845C-7572C808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09EDF-AA20-4B7E-94EE-39D194F5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70B94-1ED6-480E-8630-3369FB86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69CA0-9103-42F8-A46D-44C9C03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503D-65D6-45DA-AB0A-F04A878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331A1-E52D-4A83-9715-9EBF47D1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11183-4C14-4411-AD4E-4CB0EEB0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BEB-7046-4535-8CC0-35DA4FF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0F93-E110-4EA8-97E5-902C63E2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FEF90-55D0-48F4-9123-A1B3D4C0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F3DFA-C857-43B2-83CF-2ECAF29B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DAC52-C629-4C79-B88A-F4677097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D35E9-A747-44FB-96C3-8B97E616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18B-3D05-4881-A02E-38778B6A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631F-7687-4B94-AD50-0F0F89D5157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0205-8171-40CC-A5E4-799F03B12B2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A11B-0168-4729-9027-0DA9B810DEF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D570-33D3-4707-898D-F9A983A8BDD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0B8A-CE93-4305-B11D-E6123ABB2DF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5F47-CF51-4C19-93CF-8830147AAEF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587E-0E62-4297-B8BE-A7263223AC8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71320" y="164304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Цель: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накомство с экологическими проблемами на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емле, пробуждать сознательное отношение к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кружающей среде, бережное отношение к природ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ыполнила: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учитель географ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АОУ гимназия города Белореченска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ристенко А.П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Слайд-шоу</a:t>
            </a: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«Земляне»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3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ПАСИТЕ АРАЛЬСКОЕ МОРЕ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6" descr="images"/>
          <p:cNvPicPr/>
          <p:nvPr/>
        </p:nvPicPr>
        <p:blipFill>
          <a:blip r:embed="rId1"/>
          <a:stretch/>
        </p:blipFill>
        <p:spPr>
          <a:xfrm>
            <a:off x="2411280" y="2349360"/>
            <a:ext cx="4905360" cy="270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images"/>
          <p:cNvPicPr/>
          <p:nvPr/>
        </p:nvPicPr>
        <p:blipFill>
          <a:blip r:embed="rId1"/>
          <a:stretch/>
        </p:blipFill>
        <p:spPr>
          <a:xfrm>
            <a:off x="2484360" y="2492280"/>
            <a:ext cx="4926240" cy="33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НЕ СДЕЛАЙТЕ ЗЕМЛЮ ПУСТЫНЕЙ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8540640" cy="63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Чтоб радость завтрашнего дня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Сумел ты ощутить.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Должна быть чистою Земля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И небо чистым бы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А Землю эту, не щадя.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Терзал за веком век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И брал все только для себя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«Разумный» человек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Сейчас же кинулись спасат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«Природную среду»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Но почему ж так поздно мы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очуяли беду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Сквозь фабрик и заводов дым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Нам трудно разглядеть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Все те страданья, что Земле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риходится терпе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Надолго ль хватит нам воды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Коль растворен в ней яд?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Надолго ль хватит тех лесов.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Где топоры стучат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Спасти поля, леса, луга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И чистую гладь рек – всю Землю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Можешь только ты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Разумный человек 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images"/>
          <p:cNvPicPr/>
          <p:nvPr/>
        </p:nvPicPr>
        <p:blipFill>
          <a:blip r:embed="rId1"/>
          <a:stretch/>
        </p:blipFill>
        <p:spPr>
          <a:xfrm>
            <a:off x="971640" y="3573360"/>
            <a:ext cx="405900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4" name="Picture 4" descr="opprydning"/>
          <p:cNvPicPr/>
          <p:nvPr/>
        </p:nvPicPr>
        <p:blipFill>
          <a:blip r:embed="rId2"/>
          <a:stretch/>
        </p:blipFill>
        <p:spPr>
          <a:xfrm>
            <a:off x="5219640" y="3860640"/>
            <a:ext cx="3603600" cy="258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4" descr="images"/>
          <p:cNvPicPr/>
          <p:nvPr/>
        </p:nvPicPr>
        <p:blipFill>
          <a:blip r:embed="rId3"/>
          <a:stretch/>
        </p:blipFill>
        <p:spPr>
          <a:xfrm>
            <a:off x="5076720" y="476280"/>
            <a:ext cx="3776760" cy="2816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images"/>
          <p:cNvPicPr/>
          <p:nvPr/>
        </p:nvPicPr>
        <p:blipFill>
          <a:blip r:embed="rId4"/>
          <a:srcRect l="-404" t="0" r="0" b="7169"/>
          <a:stretch/>
        </p:blipFill>
        <p:spPr>
          <a:xfrm>
            <a:off x="900000" y="476280"/>
            <a:ext cx="407988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images"/>
          <p:cNvPicPr/>
          <p:nvPr/>
        </p:nvPicPr>
        <p:blipFill>
          <a:blip r:embed="rId1"/>
          <a:stretch/>
        </p:blipFill>
        <p:spPr>
          <a:xfrm>
            <a:off x="971640" y="189000"/>
            <a:ext cx="7215120" cy="6669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емляне!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14200" y="1428840"/>
            <a:ext cx="8715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На Земле — много красоты, нужно только уметь её видеть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Всем доступна красота живой природы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Даже в пустыне и в вечных льдах Арктики есть особое очарование!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И в капельках росы, в первых лучах    восходящего солнца, в дождинках, в травинках, в пении птиц, в тоненьком  ясном месяце —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везде можно найти удивительную неповторимую красоту 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И когда люди научатся замечать красоту и радоваться прекрасному, они смогут понять и полюбить живую природу -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как неисчерпаемый источник радости и любви!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9" name="01 - Бах - Ария из сюиты №3 BWV 1069 - Капелла Истраполитана - д. Р.Эдлингер.mp3" descr=""/>
          <p:cNvPicPr/>
          <p:nvPr/>
        </p:nvPicPr>
        <p:blipFill>
          <a:blip r:embed="rId1"/>
          <a:stretch/>
        </p:blipFill>
        <p:spPr>
          <a:xfrm>
            <a:off x="8429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90"/>
          <p:cNvPicPr/>
          <p:nvPr/>
        </p:nvPicPr>
        <p:blipFill>
          <a:blip r:embed="rId1"/>
          <a:stretch/>
        </p:blipFill>
        <p:spPr>
          <a:xfrm>
            <a:off x="2124000" y="1989000"/>
            <a:ext cx="4764240" cy="35737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500040" y="6429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ДУМАЙТЕСЬ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3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images"/>
          <p:cNvPicPr/>
          <p:nvPr/>
        </p:nvPicPr>
        <p:blipFill>
          <a:blip r:embed="rId1"/>
          <a:stretch/>
        </p:blipFill>
        <p:spPr>
          <a:xfrm>
            <a:off x="2556000" y="2349360"/>
            <a:ext cx="4717800" cy="359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БЕРЕГИТЕ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ЛЕС ОТ  ОГНЯ !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4" descr="b_1236171791522"/>
          <p:cNvPicPr/>
          <p:nvPr/>
        </p:nvPicPr>
        <p:blipFill>
          <a:blip r:embed="rId1"/>
          <a:stretch/>
        </p:blipFill>
        <p:spPr>
          <a:xfrm>
            <a:off x="2700360" y="2349360"/>
            <a:ext cx="4573440" cy="343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TextBox 4"/>
          <p:cNvSpPr/>
          <p:nvPr/>
        </p:nvSpPr>
        <p:spPr>
          <a:xfrm>
            <a:off x="714240" y="11430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 БРОСАЙТЕ !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images"/>
          <p:cNvPicPr/>
          <p:nvPr/>
        </p:nvPicPr>
        <p:blipFill>
          <a:blip r:embed="rId1"/>
          <a:stretch/>
        </p:blipFill>
        <p:spPr>
          <a:xfrm>
            <a:off x="2411280" y="1989000"/>
            <a:ext cx="4964400" cy="34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Box 2"/>
          <p:cNvSpPr/>
          <p:nvPr/>
        </p:nvSpPr>
        <p:spPr>
          <a:xfrm>
            <a:off x="395280" y="549360"/>
            <a:ext cx="83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  ЗАСОРЯЙТ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images"/>
          <p:cNvPicPr/>
          <p:nvPr/>
        </p:nvPicPr>
        <p:blipFill>
          <a:blip r:embed="rId1"/>
          <a:stretch/>
        </p:blipFill>
        <p:spPr>
          <a:xfrm>
            <a:off x="2627280" y="2349360"/>
            <a:ext cx="4935600" cy="362916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042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СТАВЬТЕ  РЕКУ В  ПОКОЕ 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images"/>
          <p:cNvPicPr/>
          <p:nvPr/>
        </p:nvPicPr>
        <p:blipFill>
          <a:blip r:embed="rId1"/>
          <a:stretch/>
        </p:blipFill>
        <p:spPr>
          <a:xfrm>
            <a:off x="2700360" y="2276640"/>
            <a:ext cx="4824360" cy="33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5" name="TextBox 2"/>
          <p:cNvSpPr/>
          <p:nvPr/>
        </p:nvSpPr>
        <p:spPr>
          <a:xfrm>
            <a:off x="1785960" y="1071720"/>
            <a:ext cx="59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Т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images"/>
          <p:cNvPicPr/>
          <p:nvPr/>
        </p:nvPicPr>
        <p:blipFill>
          <a:blip r:embed="rId1"/>
          <a:stretch/>
        </p:blipFill>
        <p:spPr>
          <a:xfrm>
            <a:off x="2771640" y="2492280"/>
            <a:ext cx="4403880" cy="32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РЫБЕ НУЖНА ЧИСТАЯ ВОДА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2:09:30Z</dcterms:created>
  <dc:creator>Максим</dc:creator>
  <dc:description/>
  <dc:language>en-US</dc:language>
  <cp:lastModifiedBy>полина</cp:lastModifiedBy>
  <dcterms:modified xsi:type="dcterms:W3CDTF">2017-01-11T19:54:41Z</dcterms:modified>
  <cp:revision>73</cp:revision>
  <dc:subject/>
  <dc:title>Земляне!</dc:title>
</cp:coreProperties>
</file>