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704C-926F-418B-9D59-BEA5B85F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E5F6-A4E0-4BBF-B65D-955858DD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306-CD84-4C26-9E9E-BF32DE12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4E4-C794-48D4-BA3D-34B63EC3F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03CA-33E9-40BD-A853-D03D4E28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FA9A8-04CA-474E-A8BE-28B1D4E2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298A-A87C-41FD-86EA-43C08243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EB14-BA16-442D-8EA9-4DBDD73A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9945-F08D-4B67-8DC2-B64AFB84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75D9-8E2F-4F13-A855-43F89B3A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FBFE-6508-4177-8693-F999C83F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53C-23DA-4198-BF3E-8CADA175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EA38-3C9A-44DF-818E-3CB0EEED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1BFA-A8BB-437F-9465-4F09FBDE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B72F-D2F5-4FC7-8A7E-5C41F334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5928-6ECF-42E1-B83F-6F92F8C5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F4D7-5169-4D53-B1BF-33474545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6822-125D-4D34-95C2-C9248739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B752-2BF5-4B6A-AA87-D4A832B8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A5888-FDB0-4850-A0B0-E3EDAE3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940FB-F2E7-4A12-9CB9-5EDE8216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3494-144F-4CDB-9602-0BEDC2B8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079-D881-4C3E-B396-64CDA6E7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1C67E-48CF-4B44-91CA-F6FCB7D9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1F128-5DC2-44D6-A78C-ED7E76E8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477BD-4248-4A9D-97F6-D1EB828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B03A7-E19C-474E-900C-44CD66DF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954A4-0546-4DCA-86B0-A535886D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51A7D-0E46-49E8-858A-1DB76EFA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F5599-5CB2-4113-BA6D-88102B309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37DC-4684-4FA0-9D65-CB66D323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BDCE-85C6-4A1E-BFCB-2A4A4EBF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44824-68CA-41B7-B97F-657C1416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DDD-1352-4BF3-A289-BC472603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9C27-F93E-4C2B-B4B7-879C1783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43649-BF65-4347-BEE3-23246D43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E60A0-297E-4645-9237-07BAB196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BB21-4D6C-4040-BF03-50CDBD1A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EF41E-C4BC-4F60-8C4A-CFCF0B2F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C546-2F51-48AB-BD83-F84D8D0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3D48D-1A80-4CC6-BF53-58D4027E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0871-E47C-4AAA-803F-3A1AAB70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7E24A-2FD6-44EA-9C2E-9617C5D6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4BC0A-DA00-482F-8FD0-DE88CC5D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1D8C-D40C-436D-9BE0-D4ABE0A0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6C3FF-BB7F-4011-9DA4-9BAFD1F9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71F67-3BE1-423D-8501-92573FF1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1BA93-F72E-4C55-B677-E623CC9B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DE10-0F16-4D02-86A6-4BF11DD1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2B564-F3D6-4246-A2F0-34861A5B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91CAD-3DD1-452E-A32E-913B3FAF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C218A-EC3F-485A-8BE5-19749C0D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94F8-B450-4BEC-8D74-5ADEBF42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402E4-7BCE-4DC8-960A-95DA8A0E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FA320-6B54-47B3-A96B-E67B7606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E4E-45B8-497D-9684-6B2FDEC6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73B6D-40B1-425A-B553-F3919EC3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B0D96-8261-478B-90B7-4F21B01E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85E8C-223B-4699-973E-7B9EFC99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FDCE6-10B8-4089-B1B9-B71B410D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B4911-5236-4C07-8E79-7833FCF0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603A-ADA0-4758-B5BA-79708D27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6D88B-FFAF-4BCD-BCE1-37559F56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08ACC-312E-4E14-8B5B-4404E86C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171C-BF9C-4497-8BFB-1B868CC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72BC19-08C0-401E-AE12-F688C7CB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EE4F-4CFD-4B1B-801B-F0D37B9B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556E0-2088-4528-9859-39A28438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70106-CB32-4DDF-B456-BD6C7860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A430-E312-493B-95F0-F87630EE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7A682-F9B4-47D0-BCDF-DE79934E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24274-6C54-4DFC-A78A-B16BD04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76D0B-F538-4762-8A43-F80AEE22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A26F4-4C95-4A3B-8B1C-4C19B909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E987F-4C54-4DA5-A8AA-9DA7711A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53EC9-69E7-44F4-8F01-8CD529749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221DC-9791-4362-A613-7233F5E8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A5C-BEE2-467F-9F46-9A9E7A1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40FDB-62B8-4E66-BD95-E99143F2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B7AFB-5591-4D25-A839-242271D1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6BFA5-A724-4AFF-95FF-01AB75C9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7322-22D4-4863-957A-FD95AE34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18C68-3141-4A21-8721-2452D405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A91E-C8C6-449F-A881-074F3D3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FE8A-C818-4F0D-B469-1A70E6273EAC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7965-DCFE-4650-BC93-3D395755DF5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>
              <a:gd name="textAreaLeft" fmla="*/ 0 w 2876400"/>
              <a:gd name="textAreaRight" fmla="*/ 2876760 w 287640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>
              <a:gd name="textAreaLeft" fmla="*/ 0 w 5467320"/>
              <a:gd name="textAreaRight" fmla="*/ 5467680 w 5467320"/>
              <a:gd name="textAreaTop" fmla="*/ 0 h 774720"/>
              <a:gd name="textAreaBottom" fmla="*/ 775080 h 774720"/>
            </a:gdLst>
            <a:ahLst/>
            <a:rect l="textAreaLeft" t="textAreaTop" r="textAreaRight" b="textAreaBottom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>
              <a:gd name="textAreaLeft" fmla="*/ 0 w 3306600"/>
              <a:gd name="textAreaRight" fmla="*/ 3306960 w 3306600"/>
              <a:gd name="textAreaTop" fmla="*/ 0 h 652680"/>
              <a:gd name="textAreaBottom" fmla="*/ 653040 h 652680"/>
            </a:gdLst>
            <a:ahLst/>
            <a:rect l="textAreaLeft" t="textAreaTop" r="textAreaRight" b="textAreaBottom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>
              <a:gd name="textAreaLeft" fmla="*/ 0 w 8723520"/>
              <a:gd name="textAreaRight" fmla="*/ 8723880 w 872352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CB22-FAE3-4223-98F2-252B40CB2D81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custGeom>
              <a:avLst/>
              <a:gdLst>
                <a:gd name="textAreaLeft" fmla="*/ 0 w 2876400"/>
                <a:gd name="textAreaRight" fmla="*/ 2876760 w 287640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custGeom>
              <a:avLst/>
              <a:gdLst>
                <a:gd name="textAreaLeft" fmla="*/ 0 w 5543640"/>
                <a:gd name="textAreaRight" fmla="*/ 5544000 w 554364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custGeom>
              <a:avLst/>
              <a:gdLst>
                <a:gd name="textAreaLeft" fmla="*/ 0 w 3308400"/>
                <a:gd name="textAreaRight" fmla="*/ 3308760 w 330840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560"/>
                <a:gd name="textAreaBottom" fmla="*/ 1330920 h 133056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AEA8-E500-4FF2-9571-9C760B6193D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F4F-3A0F-4899-89D2-45BF181A7012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0200"/>
                <a:gd name="textAreaBottom" fmla="*/ 1330560 h 13302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4401-FD47-4A99-8C05-4DDC221AE71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custGeom>
              <a:avLst/>
              <a:gdLst>
                <a:gd name="textAreaLeft" fmla="*/ 0 w 5551560"/>
                <a:gd name="textAreaRight" fmla="*/ 5551920 w 555156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custGeom>
              <a:avLst/>
              <a:gdLst>
                <a:gd name="textAreaLeft" fmla="*/ 0 w 5473800"/>
                <a:gd name="textAreaRight" fmla="*/ 5474160 w 5473800"/>
                <a:gd name="textAreaTop" fmla="*/ 0 h 776520"/>
                <a:gd name="textAreaBottom" fmla="*/ 776880 h 77652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custGeom>
              <a:avLst/>
              <a:gdLst>
                <a:gd name="textAreaLeft" fmla="*/ 0 w 3311640"/>
                <a:gd name="textAreaRight" fmla="*/ 3312000 w 3311640"/>
                <a:gd name="textAreaTop" fmla="*/ 0 h 652680"/>
                <a:gd name="textAreaBottom" fmla="*/ 653040 h 65268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>
                <a:gd name="textAreaLeft" fmla="*/ 0 w 8723520"/>
                <a:gd name="textAreaRight" fmla="*/ 8723880 w 8723520"/>
                <a:gd name="textAreaTop" fmla="*/ 0 h 1332000"/>
                <a:gd name="textAreaBottom" fmla="*/ 1332360 h 133200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F594-358D-4256-907D-08ECB6B1249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57132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Цель: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накомство с экологическими проблемами на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емле, пробуждать сознательное отношение к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кружающей среде, бережное отношение к природ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Выполнила: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учитель географ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МАОУ гимназия города Белореченска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Христенко А.П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ndara"/>
              </a:rPr>
              <a:t>Слайд-шоу</a:t>
            </a:r>
            <a:r>
              <a:rPr b="1" lang="ru-RU" sz="4400" spc="-1" strike="noStrike">
                <a:solidFill>
                  <a:srgbClr val="ff0000"/>
                </a:solidFill>
                <a:latin typeface="Candara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Candara"/>
              </a:rPr>
              <a:t>«Земляне»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3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ПАСИТЕ АРАЛЬСКОЕ МОРЕ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6" descr="images"/>
          <p:cNvPicPr/>
          <p:nvPr/>
        </p:nvPicPr>
        <p:blipFill>
          <a:blip r:embed="rId1"/>
          <a:stretch/>
        </p:blipFill>
        <p:spPr>
          <a:xfrm>
            <a:off x="2411280" y="2349360"/>
            <a:ext cx="4905360" cy="2708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6" descr="images"/>
          <p:cNvPicPr/>
          <p:nvPr/>
        </p:nvPicPr>
        <p:blipFill>
          <a:blip r:embed="rId1"/>
          <a:stretch/>
        </p:blipFill>
        <p:spPr>
          <a:xfrm>
            <a:off x="2484360" y="2492280"/>
            <a:ext cx="4926240" cy="337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НЕ СДЕЛАЙТЕ ЗЕМЛЮ ПУСТЫНЕЙ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3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0" y="285840"/>
            <a:ext cx="8540640" cy="63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Чтоб радость завтрашнего дня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умел ты ощутить.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Должна быть чистою Земля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 небо чистым бы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А Землю эту, не щадя.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Терзал за веком век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 брал все только для себя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«Разумный» человек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ейчас же кинулись спасат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«Природную среду»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о почему ж так поздно мы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очуяли беду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квозь фабрик и заводов дым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ам трудно разглядеть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Все те страданья, что Земле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Приходится терпе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ct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адолго ль хватит нам воды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Коль растворен в ней яд?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Надолго ль хватит тех лесов.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Где топоры стучат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Спасти поля, леса, луга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И чистую гладь рек – всю Землю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Можешь только ты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Разумный человек 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4" descr="images"/>
          <p:cNvPicPr/>
          <p:nvPr/>
        </p:nvPicPr>
        <p:blipFill>
          <a:blip r:embed="rId1"/>
          <a:stretch/>
        </p:blipFill>
        <p:spPr>
          <a:xfrm>
            <a:off x="971640" y="3573360"/>
            <a:ext cx="4059000" cy="29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4" name="Picture 4" descr="opprydning"/>
          <p:cNvPicPr/>
          <p:nvPr/>
        </p:nvPicPr>
        <p:blipFill>
          <a:blip r:embed="rId2"/>
          <a:stretch/>
        </p:blipFill>
        <p:spPr>
          <a:xfrm>
            <a:off x="5219640" y="3860640"/>
            <a:ext cx="3603600" cy="258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4" descr="images"/>
          <p:cNvPicPr/>
          <p:nvPr/>
        </p:nvPicPr>
        <p:blipFill>
          <a:blip r:embed="rId3"/>
          <a:stretch/>
        </p:blipFill>
        <p:spPr>
          <a:xfrm>
            <a:off x="5076720" y="476280"/>
            <a:ext cx="3776760" cy="28162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images"/>
          <p:cNvPicPr/>
          <p:nvPr/>
        </p:nvPicPr>
        <p:blipFill>
          <a:blip r:embed="rId4"/>
          <a:srcRect l="-404" t="0" r="0" b="7169"/>
          <a:stretch/>
        </p:blipFill>
        <p:spPr>
          <a:xfrm>
            <a:off x="900000" y="476280"/>
            <a:ext cx="4079880" cy="292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images"/>
          <p:cNvPicPr/>
          <p:nvPr/>
        </p:nvPicPr>
        <p:blipFill>
          <a:blip r:embed="rId1"/>
          <a:stretch/>
        </p:blipFill>
        <p:spPr>
          <a:xfrm>
            <a:off x="971640" y="189000"/>
            <a:ext cx="7215120" cy="6669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36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емляне!</a:t>
            </a:r>
            <a:endParaRPr b="0" lang="en-US" sz="5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214200" y="1428840"/>
            <a:ext cx="8715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На Земле — много красоты, нужно только уметь её видеть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Всем доступна красота живой природы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Даже в пустыне и в вечных льдах Арктики есть особое очарование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И в капельках росы, в первых лучах    восходящего солнца, в дождинках, в травинках, в пении птиц, в тоненьком  ясном месяце —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везде можно найти удивительную неповторимую красоту 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         </a:t>
            </a: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И когда люди научатся замечать красоту и радоваться прекрасному, они смогут понять и полюбить живую природу -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Candara"/>
              </a:rPr>
              <a:t> как неисчерпаемый источник радости и любви!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9" name="01 - Бах - Ария из сюиты №3 BWV 1069 - Капелла Истраполитана - д. Р.Эдлингер.mp3" descr=""/>
          <p:cNvPicPr/>
          <p:nvPr/>
        </p:nvPicPr>
        <p:blipFill>
          <a:blip r:embed="rId1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4" descr="90"/>
          <p:cNvPicPr/>
          <p:nvPr/>
        </p:nvPicPr>
        <p:blipFill>
          <a:blip r:embed="rId1"/>
          <a:stretch/>
        </p:blipFill>
        <p:spPr>
          <a:xfrm>
            <a:off x="2124000" y="1989000"/>
            <a:ext cx="4764240" cy="35737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4"/>
          <p:cNvSpPr/>
          <p:nvPr/>
        </p:nvSpPr>
        <p:spPr>
          <a:xfrm>
            <a:off x="500040" y="64296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АДУМАЙТЕСЬ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3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images"/>
          <p:cNvPicPr/>
          <p:nvPr/>
        </p:nvPicPr>
        <p:blipFill>
          <a:blip r:embed="rId1"/>
          <a:stretch/>
        </p:blipFill>
        <p:spPr>
          <a:xfrm>
            <a:off x="2556000" y="2349360"/>
            <a:ext cx="4717800" cy="359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БЕРЕГИТЕ</a:t>
            </a:r>
            <a:r>
              <a:rPr b="1" lang="ru-RU" sz="7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ЛЕС ОТ  ОГНЯ !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8" name="Picture 4" descr="b_1236171791522"/>
          <p:cNvPicPr/>
          <p:nvPr/>
        </p:nvPicPr>
        <p:blipFill>
          <a:blip r:embed="rId1"/>
          <a:stretch/>
        </p:blipFill>
        <p:spPr>
          <a:xfrm>
            <a:off x="2700360" y="2349360"/>
            <a:ext cx="4573440" cy="343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9" name="TextBox 4"/>
          <p:cNvSpPr/>
          <p:nvPr/>
        </p:nvSpPr>
        <p:spPr>
          <a:xfrm>
            <a:off x="714240" y="114300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 БРОСАЙТЕ !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3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6" descr="images"/>
          <p:cNvPicPr/>
          <p:nvPr/>
        </p:nvPicPr>
        <p:blipFill>
          <a:blip r:embed="rId1"/>
          <a:stretch/>
        </p:blipFill>
        <p:spPr>
          <a:xfrm>
            <a:off x="2411280" y="1989000"/>
            <a:ext cx="4964400" cy="348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1" name="TextBox 2"/>
          <p:cNvSpPr/>
          <p:nvPr/>
        </p:nvSpPr>
        <p:spPr>
          <a:xfrm>
            <a:off x="395280" y="549360"/>
            <a:ext cx="839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Е  ЗАСОРЯЙТ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3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images"/>
          <p:cNvPicPr/>
          <p:nvPr/>
        </p:nvPicPr>
        <p:blipFill>
          <a:blip r:embed="rId1"/>
          <a:stretch/>
        </p:blipFill>
        <p:spPr>
          <a:xfrm>
            <a:off x="2627280" y="2349360"/>
            <a:ext cx="4935600" cy="362916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4042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СТАВЬТЕ  РЕКУ В  ПОКОЕ 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6" descr="images"/>
          <p:cNvPicPr/>
          <p:nvPr/>
        </p:nvPicPr>
        <p:blipFill>
          <a:blip r:embed="rId1"/>
          <a:stretch/>
        </p:blipFill>
        <p:spPr>
          <a:xfrm>
            <a:off x="2700360" y="2276640"/>
            <a:ext cx="4824360" cy="3360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55" name="TextBox 2"/>
          <p:cNvSpPr/>
          <p:nvPr/>
        </p:nvSpPr>
        <p:spPr>
          <a:xfrm>
            <a:off x="1785960" y="1071720"/>
            <a:ext cx="59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ПАСИТ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3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7" descr="images"/>
          <p:cNvPicPr/>
          <p:nvPr/>
        </p:nvPicPr>
        <p:blipFill>
          <a:blip r:embed="rId1"/>
          <a:stretch/>
        </p:blipFill>
        <p:spPr>
          <a:xfrm>
            <a:off x="2771640" y="2492280"/>
            <a:ext cx="4403880" cy="32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РЫБЕ НУЖНА ЧИСТАЯ ВОДА!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3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2:09:30Z</dcterms:created>
  <dc:creator>Максим</dc:creator>
  <dc:description/>
  <dc:language>en-US</dc:language>
  <cp:lastModifiedBy>полина</cp:lastModifiedBy>
  <dcterms:modified xsi:type="dcterms:W3CDTF">2017-01-11T19:54:41Z</dcterms:modified>
  <cp:revision>73</cp:revision>
  <dc:subject/>
  <dc:title>Земляне!</dc:title>
</cp:coreProperties>
</file>