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70DE-9434-4D39-B371-AACA0E03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790F-1A73-410E-A9F8-7B60836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663B-7FFA-4D49-9334-2F736678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5E7-53E4-4288-87E4-796F7009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4FEE-975E-4541-B228-0AC38D9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4F1F-F285-49B5-AB7A-254CC387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7845-C4FB-4ED9-8DB5-BBAF0ADD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C1C2-A5A6-4BA7-9938-4DDBD45C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F5C9-C1D4-4476-9F6C-320E1805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A580-B82B-44F7-A88B-059644C9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D281-449B-40BD-B030-3165FEF9A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0BB-D28C-4B5F-B7A9-041084AF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604C-B86E-4480-A02A-EA3DE45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F72-CF00-499A-A5EE-79D8F3F5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2D57D-C22B-43A7-AA0B-5F7E78D6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DEC4-E9FD-4A33-87EF-E9254A9AF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020D-5C5B-4D95-9BBB-C5A0F11B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DE9-880B-49A3-B208-2FD45C84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06D-431A-40E8-AFA8-DBB5B78A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9136-6E03-478A-AA67-13F7BDC4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DF7-D19E-462F-8B35-DF398080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348-5110-458E-86B9-BE21F4FE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456-7160-429B-9C75-85D9B38D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1AB-41A9-4FF0-8B9E-FD7BC63E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08E3-3E31-47ED-8A9C-90DC22D864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7369-2019-491D-97A0-D3E6D05811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Знатоки русского язы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ВН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Клуб веселых и находчивых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8600" y="3708360"/>
            <a:ext cx="32767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0280" y="834120"/>
            <a:ext cx="6103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Блицтурнир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553080" y="152280"/>
            <a:ext cx="2362320" cy="1771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2120" y="2687760"/>
            <a:ext cx="8153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3 слогов, а указывает на 33 буквы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семи «я»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3 слогов, а указывает на 7 дне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ое слово состоит из одного слога, а указывает на сто лет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 большой дом превратить в маленький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ом слове «г» слышится 100 раз?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Чем кончается лето и начинается осень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ая бывает речь? (устная и письменна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ом слове спрятались сразу две ноты?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В какие слова залетела оса?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акую ноту кладут в суп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гда приходит аппетит?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Разминк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«Грибная полянка»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ужно положить в корзинку только те грибы, названия которых начинаются со звонкого согласного звук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ята, грузди, боровики, маслята,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олнушки, подосиновики, рыжики, поганки, лисички, подберёзовики, сыроеж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940440" y="2590920"/>
            <a:ext cx="2203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Доскажи волшебное словечко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53080" y="834120"/>
            <a:ext cx="65610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«Ответь на пять!»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ужно в каждом слове сосчитать количество звуков и букв.</a:t>
            </a:r>
            <a:br>
              <a:rPr sz="2800"/>
            </a:b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cccc"/>
                </a:solidFill>
                <a:latin typeface="Arial"/>
              </a:rPr>
              <a:t>Юла, деньки, ям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cc"/>
                </a:solidFill>
                <a:latin typeface="Arial"/>
              </a:rPr>
              <a:t>пеньки, вьюга, поём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943600" y="2971800"/>
            <a:ext cx="2957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10280" y="834120"/>
            <a:ext cx="61038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«Найди слова родные – однокоренны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 каждой строчке прочитать слова и лишнее слово вычеркнут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. Солнце, солнышко, сол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. Водяной, вода, води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. Листик лиственный, ли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4. Небо, небыль, небе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5. Корень, корневой, корз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6. Моряки, морской, моро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095880" y="2895480"/>
            <a:ext cx="27511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1160" y="834120"/>
            <a:ext cx="67132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Доскажи пословицу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25909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Нужно соединить начало пословицы с её окончанием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1. За двумя зайцами погонишься-            не вынешь и рыбку из пру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. Не сиди сложа руки-                               ни одного не поймаеш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3. Без труда -                                               а имей сто друз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4. Не имей сто рублей-                               не будет ску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5. Любишь кататься-                                   коли делать нечег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6. Скучен день до вечера-                          люби и саночки вози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48520" y="834120"/>
            <a:ext cx="68655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Замените одним словом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828800" y="2742840"/>
            <a:ext cx="61689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дуть губы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одить за нос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Ломать голову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говаривать зубы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рубить на носу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ходить из себя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Унести ноги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левать носом – 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386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358360" y="834120"/>
            <a:ext cx="625608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Найдите ошибки»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8280" y="2590560"/>
            <a:ext cx="64771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Дарагие рибята! Мой друк прислал мне писмо, но я в нём ничего не понял. Он пишет, что нашёл грип и доволен. Но ведь балеть – это плохо. А ещё он в лису нашёл лису. Кого же он нашёл? Жду вашего отве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аш друк Буратино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4038480"/>
            <a:ext cx="19494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62920" y="834120"/>
            <a:ext cx="5951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«Шифровальщик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сшифровать слова и вычеркнуть лишнее слов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днарак, китсал, агинк, трот, кинвен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057400" y="4324320"/>
            <a:ext cx="50292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13T09:43:04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