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B88-9BC3-49B0-8585-10EABEFF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0C4-17ED-4F61-91A9-66ECB4F9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D03-6892-44A6-AB0A-13AFB4EF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38C-157D-43C5-B146-91DA4FB1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B955-A139-4010-A94F-CAC00E91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C296-3F65-4471-957A-36591CEE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2A71-C951-4B1D-9BDF-CD89F929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AB26-BA4D-46CB-9290-F1D37A1D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F468-F7D7-409B-8763-51B56FD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BF45-1A1E-43BA-B0AC-E79E65DC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D3F6-A4CF-4625-B1CA-26B2D7E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D1D-2BB5-4810-9A2F-FBCC6D3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FC00-C4F1-477E-85BC-8FD5271D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99F7-2149-4607-A345-BD98AA34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9660-FD5D-4CCB-85F4-D8F318C3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286D-316B-474C-9BA1-CDD93B82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9D6C-9EC5-4887-8EE8-F773FC3A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572-1CB7-4CEC-A839-7E1AA5DD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824-DDBD-435E-89E7-52DF0348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32E-0769-4A52-9D6B-62E9A2A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C26-93D4-47F8-BF92-7981740C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CCB-97C5-498D-917B-851493A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3E3-842E-4B12-924C-9B3C96C2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26B-5F40-46AE-B34B-1BD93F3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1379-5307-44CD-B645-F84A2A03CD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1D03-CF24-4B29-947A-A1A3932FEC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натоки русского язы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В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Клуб веселых и находчивых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3708360"/>
            <a:ext cx="3276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0280" y="834120"/>
            <a:ext cx="6103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Блицтурнир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2687760"/>
            <a:ext cx="8153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е слово состоит из 3 слогов, а указывает на 33 буквы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е слово состоит из семи «я»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е слово состоит из 3 слогов, а указывает на 7 дней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е слово состоит из одного слога, а указывает на сто лет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 большой дом превратить в маленький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каком слове «г» слышится 100 раз?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ем кончается лето и начинается осень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ая бывает речь? (устная и письменная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каком слове спрятались сразу две ноты?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какие слова залетела оса?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ую ноту кладут в суп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гда приходит аппетит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Размин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«Грибная полянка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ужно положить в корзинку только те грибы, названия которых начинаются со звонкого согласного зву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ята, грузди, боровики, маслята,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лнушки, подосиновики, рыжики, поганки, лисички, подберёзовики, сыроеж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40440" y="2590920"/>
            <a:ext cx="2203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Доскажи волшебное словечко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053080" y="834120"/>
            <a:ext cx="6561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«Ответь на пять!»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ужно в каждом слове сосчитать количество звуков и букв.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cccc"/>
                </a:solidFill>
                <a:latin typeface="Arial"/>
              </a:rPr>
              <a:t>Юла, деньки, яма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cc"/>
                </a:solidFill>
                <a:latin typeface="Arial"/>
              </a:rPr>
              <a:t>пеньки, вьюга, поём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9574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10280" y="834120"/>
            <a:ext cx="6103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«Найди слова родные – однокоренные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каждой строчке прочитать слова и лишнее слово вычеркну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Солнце, солнышко, соли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Водяной, вода, води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Листик лиственный, ли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 Небо, небыль, небе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. Корень, корневой, корз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. Моряки, морской, моро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2895480"/>
            <a:ext cx="27511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01160" y="834120"/>
            <a:ext cx="6713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Доскажи пословицу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25909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ужно соединить начало пословицы с её окончание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За двумя зайцами погонишься-            не вынешь и рыбку из пру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Не сиди сложа руки-                               ни одного не поймаеш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Без труда -                                               а имей сто друз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Не имей сто рублей-                               не будет ску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Любишь кататься-                                   коли делать нечег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Скучен день до вечера-                          люби и саночки вози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596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48520" y="834120"/>
            <a:ext cx="6865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Замените одним словом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828800" y="2742840"/>
            <a:ext cx="6168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дуть губы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дить за нос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омать голову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говаривать зубы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рубить на носу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ходить из себя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нести ноги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левать носом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9386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358360" y="834120"/>
            <a:ext cx="62560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Найдите ошибки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438280" y="2590560"/>
            <a:ext cx="647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Дарагие рибята! Мой друк прислал мне писмо, но я в нём ничего не понял. Он пишет, что нашёл грип и доволен. Но ведь балеть – это плохо. А ещё он в лису нашёл лису. Кого же он нашёл? Жду вашего отве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аш друк Буратино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19494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62920" y="834120"/>
            <a:ext cx="5951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Шифровальщи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шифровать слова и вычеркнуть лишнее слов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шаднарак, китсал, агинк, трот, кинвен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7400" y="4324320"/>
            <a:ext cx="50292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13T09:43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