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EEC-63BB-40CB-AE6A-5A074C13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A34-3808-4549-841D-AD7584AA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9B6-CD97-40D1-B24F-B9136476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3C8-9630-45B1-B034-CAE86ECA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DFBF-F812-4E0B-96D5-01942D24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2BA0-4EF0-459A-8013-3E6A570F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9082-EA7F-4D0E-9C7F-A85E62D0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6C3C-4C6B-4635-B00E-4369A653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D8E0-7882-41A3-BA0F-9783D298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4DBE-6A92-48D5-BC52-B516FAB2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83ED-4401-4748-8182-9C773E84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0A6-C2F9-4AB1-88ED-5DFD668E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EC3B-8476-49C8-92BA-96AE26B6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12F6-D8BF-4162-8D46-8A52E65D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8258-5FD2-4FE6-A340-56FC7666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19FC-59E3-4067-954A-4B73764B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3332-01EB-47E6-83D5-2144842B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14897-BD91-4502-8A6E-241896A7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6DC5B-EF10-40EF-93B9-08DD78CA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D69E4-3BB9-4077-9EA4-FC0029CC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8A21-E2BA-4A56-A51B-6F5379BD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635D7-B245-4CF5-AE07-E68F9403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C64-64FF-46EF-9046-E93C6EFD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023E9-8B75-4117-83F4-5D1EB6D5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4014-01EB-415B-9151-4E4A5C27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03A23-BD0F-4D4B-B92E-95D04E52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DFC45-C641-4322-9529-02E8B81E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91A2C-53EB-4F65-A6F5-15CCD10F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F51C-5E2A-416E-A409-3939CCFC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239A2-C569-466F-A3C9-54394586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97C53-8C29-4D03-A75E-AD6BE00C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92C8D-EA77-4E26-8204-D7C7DD2E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D83C-FCE4-43FA-AA96-3109D665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DD6-A254-4019-9E9B-AFC3CFCC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4F6B8-0A84-440F-B3AE-94A6BEEE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97AEF-B283-4130-B5A5-7A66F2E8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6824F-8391-40AA-BE30-DDDBBF37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12FEE-220C-49A6-B882-E68A3F9C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4AF15-B0D0-473E-846C-362966B1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9046-4C3B-430A-B9BC-12BDFEAC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74C4B-8E8D-4D36-AAF3-88DF7A37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12214-F431-453D-81C4-EF5B9A68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C1E56-5AA4-4CF4-B3CD-F0808F4B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7BCC5-6580-4264-A5BF-BC758E96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EE9-D2D0-4D5F-830F-0DCA35FB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40160-C3DE-4980-9F81-EEAA5D79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30C30-3A2D-488B-B7B0-30ADD897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F264D-ABDF-4EFD-A5E2-208E5CF7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9D671-2B4E-4BBC-B9E1-29535121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29CDF-C558-4EFE-97C3-1EDCC02F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1D517-32B0-4A02-A3A5-11564DAE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0C02F-CCDD-4C6C-A9E5-13A902C6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9FEB5-7797-4D38-ADED-E7B7E63B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A80B6-3AC1-4823-B470-9472E648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7B32C-54DA-4E1A-8425-4369583C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547-AC0B-4E9B-A537-6308C134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7D698-3A41-4DF6-9A56-5633B264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7EF-9916-4570-87C7-4A574888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559C-6B22-406D-ABBD-1BEA98E9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436-7279-47D0-9E91-C9511F34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ACDD-0CF8-4E5D-8F0E-71867A2F0F8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5230-3174-4589-BF11-2E1327D4F5B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A1A2-2929-43C8-BEF5-45298AF09AD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2816-1BE7-4CA3-BE62-E794DA287E8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02D6-5238-4B05-A8CC-38EFFDB4871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761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r>
              <a:rPr b="1" lang="ru-RU" sz="2400" spc="-1" strike="noStrike">
                <a:solidFill>
                  <a:srgbClr val="999999"/>
                </a:solidFill>
                <a:latin typeface="Verdana"/>
              </a:rPr>
              <a:t>Урок русского языка в 7 классе</a:t>
            </a:r>
            <a:br>
              <a:rPr sz="2400"/>
            </a:br>
            <a:br>
              <a:rPr sz="4100"/>
            </a:b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Деепричастный оборот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2639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79766f"/>
                </a:solidFill>
                <a:latin typeface="Verdana"/>
              </a:rPr>
              <a:t>Кутергина С.П., учитель русского языка и литературы  КОГОБУ ШИ ОВЗ №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79766f"/>
                </a:solidFill>
                <a:latin typeface="Verdana"/>
              </a:rPr>
              <a:t>г. Нолинска Кировской области</a:t>
            </a:r>
            <a:br>
              <a:rPr sz="1900"/>
            </a:br>
            <a:br>
              <a:rPr sz="50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5486400"/>
            <a:ext cx="81835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Упр. 162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3280" y="530280"/>
            <a:ext cx="8183520" cy="4346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Провер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3232"/>
                </a:solidFill>
                <a:latin typeface="Verdana"/>
              </a:rPr>
              <a:t>                                      </a:t>
            </a:r>
            <a:r>
              <a:rPr b="1" i="1" lang="ru-RU" sz="2400" spc="-1" strike="noStrike">
                <a:solidFill>
                  <a:srgbClr val="f07f09"/>
                </a:solidFill>
                <a:latin typeface="Verdana"/>
              </a:rPr>
              <a:t>дееприч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Журавли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  друг   друга   окл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кая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ru-RU" sz="2400" spc="-1" strike="noStrike">
                <a:solidFill>
                  <a:srgbClr val="f07f09"/>
                </a:solidFill>
                <a:latin typeface="Verdana"/>
              </a:rPr>
              <a:t>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Осторожно        тянутся      гурьбо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Прямая соединительная линия 6"/>
          <p:cNvSpPr/>
          <p:nvPr/>
        </p:nvSpPr>
        <p:spPr>
          <a:xfrm flipH="1" flipV="1">
            <a:off x="4723920" y="1523520"/>
            <a:ext cx="167652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85" name="Прямая со стрелкой 8"/>
          <p:cNvCxnSpPr/>
          <p:nvPr/>
        </p:nvCxnSpPr>
        <p:spPr>
          <a:xfrm flipH="1">
            <a:off x="4722120" y="1525320"/>
            <a:ext cx="3960" cy="610200"/>
          </a:xfrm>
          <a:prstGeom prst="straightConnector1">
            <a:avLst/>
          </a:prstGeom>
          <a:ln w="42480">
            <a:solidFill>
              <a:srgbClr val="f07f09"/>
            </a:solidFill>
            <a:miter/>
            <a:tailEnd len="med" type="arrow" w="med"/>
          </a:ln>
        </p:spPr>
      </p:cxnSp>
      <p:sp>
        <p:nvSpPr>
          <p:cNvPr id="286" name="Умножение 9"/>
          <p:cNvSpPr/>
          <p:nvPr/>
        </p:nvSpPr>
        <p:spPr>
          <a:xfrm>
            <a:off x="4191120" y="3124080"/>
            <a:ext cx="457200" cy="38124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Прямая соединительная линия 13"/>
          <p:cNvSpPr/>
          <p:nvPr/>
        </p:nvSpPr>
        <p:spPr>
          <a:xfrm>
            <a:off x="3429000" y="2666880"/>
            <a:ext cx="4876920" cy="1800"/>
          </a:xfrm>
          <a:prstGeom prst="line">
            <a:avLst/>
          </a:prstGeom>
          <a:ln w="42480">
            <a:solidFill>
              <a:srgbClr val="f07f0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Прямая соединительная линия 15"/>
          <p:cNvSpPr/>
          <p:nvPr/>
        </p:nvSpPr>
        <p:spPr>
          <a:xfrm flipH="1">
            <a:off x="6399360" y="1525680"/>
            <a:ext cx="2880" cy="53316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Прямая соединительная линия 17"/>
          <p:cNvSpPr/>
          <p:nvPr/>
        </p:nvSpPr>
        <p:spPr>
          <a:xfrm>
            <a:off x="4114800" y="4038480"/>
            <a:ext cx="160020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Прямая соединительная линия 18"/>
          <p:cNvSpPr/>
          <p:nvPr/>
        </p:nvSpPr>
        <p:spPr>
          <a:xfrm>
            <a:off x="4114800" y="4191120"/>
            <a:ext cx="1600200" cy="144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586548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0880" y="45684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1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Не плутала, безошибочно определя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дорогу до дом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2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Звенит, отряхая с зелёных лап капл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рос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3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Ударил, напугав все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4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Сидя у окна, сучи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5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Не хочет идти спать, не простясь со мно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6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Сказала, протянув мне рук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7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Прочитав сказки Пушкина несколько раз, зна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18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03280" y="530280"/>
            <a:ext cx="8183520" cy="5261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Один из двух  глаголов превратите  в деепричаст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ка бежит, сверкает на солнц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                     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гл.     дееприч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ка бежит,   сверкая на солнц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Умножение 11"/>
          <p:cNvSpPr/>
          <p:nvPr/>
        </p:nvSpPr>
        <p:spPr>
          <a:xfrm>
            <a:off x="2514600" y="2590920"/>
            <a:ext cx="380880" cy="380880"/>
          </a:xfrm>
          <a:custGeom>
            <a:avLst/>
            <a:gdLst>
              <a:gd name="textAreaLeft" fmla="*/ 59760 w 380880"/>
              <a:gd name="textAreaRight" fmla="*/ 321120 w 380880"/>
              <a:gd name="textAreaTop" fmla="*/ 59760 h 380880"/>
              <a:gd name="textAreaBottom" fmla="*/ 321120 h 380880"/>
            </a:gdLst>
            <a:ahLst/>
            <a:rect l="textAreaLeft" t="textAreaTop" r="textAreaRight" b="textAreaBottom"/>
            <a:pathLst>
              <a:path w="381000" h="381000">
                <a:moveTo>
                  <a:pt x="59824" y="123189"/>
                </a:moveTo>
                <a:lnTo>
                  <a:pt x="123189" y="59824"/>
                </a:lnTo>
                <a:lnTo>
                  <a:pt x="190500" y="127135"/>
                </a:lnTo>
                <a:lnTo>
                  <a:pt x="257811" y="59824"/>
                </a:lnTo>
                <a:lnTo>
                  <a:pt x="321176" y="123189"/>
                </a:lnTo>
                <a:lnTo>
                  <a:pt x="253865" y="190500"/>
                </a:lnTo>
                <a:lnTo>
                  <a:pt x="321176" y="257811"/>
                </a:lnTo>
                <a:lnTo>
                  <a:pt x="257811" y="321176"/>
                </a:lnTo>
                <a:lnTo>
                  <a:pt x="190500" y="253865"/>
                </a:lnTo>
                <a:lnTo>
                  <a:pt x="123189" y="321176"/>
                </a:lnTo>
                <a:lnTo>
                  <a:pt x="59824" y="257811"/>
                </a:lnTo>
                <a:lnTo>
                  <a:pt x="127135" y="1905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Прямая соединительная линия 13"/>
          <p:cNvSpPr/>
          <p:nvPr/>
        </p:nvSpPr>
        <p:spPr>
          <a:xfrm>
            <a:off x="4191120" y="3505320"/>
            <a:ext cx="3504960" cy="1440"/>
          </a:xfrm>
          <a:prstGeom prst="line">
            <a:avLst/>
          </a:prstGeom>
          <a:ln w="42480">
            <a:solidFill>
              <a:srgbClr val="f07f0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5105160"/>
            <a:ext cx="8183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07f09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f07f09"/>
                </a:solidFill>
                <a:latin typeface="Verdana"/>
              </a:rPr>
              <a:t>гл.                                 дееприч.</a:t>
            </a:r>
            <a:r>
              <a:rPr b="1" i="1" lang="ru-RU" sz="2800" spc="-1" strike="noStrike">
                <a:solidFill>
                  <a:srgbClr val="323232"/>
                </a:solidFill>
                <a:latin typeface="Verdana"/>
              </a:rPr>
              <a:t>                      </a:t>
            </a:r>
            <a:br>
              <a:rPr sz="2800"/>
            </a:br>
            <a:r>
              <a:rPr b="1" i="1" lang="ru-RU" sz="2800" spc="-1" strike="noStrike">
                <a:solidFill>
                  <a:srgbClr val="323232"/>
                </a:solidFill>
                <a:latin typeface="Verdana"/>
              </a:rPr>
              <a:t> Идёт старичок, чуть прихрамывая.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33520" y="533520"/>
            <a:ext cx="8183520" cy="487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Один из двух  глаголов превратите  в деепричаст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Идёт старичок, чуть пр..храмыв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2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Снежинки летят и медленно кружат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3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Птицы собрались в стаи и полетели на ю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07f09"/>
                </a:solidFill>
                <a:latin typeface="Verdana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Умножение 5"/>
          <p:cNvSpPr/>
          <p:nvPr/>
        </p:nvSpPr>
        <p:spPr>
          <a:xfrm>
            <a:off x="685800" y="5181480"/>
            <a:ext cx="457200" cy="381240"/>
          </a:xfrm>
          <a:custGeom>
            <a:avLst/>
            <a:gdLst>
              <a:gd name="textAreaLeft" fmla="*/ 81000 w 457200"/>
              <a:gd name="textAreaRight" fmla="*/ 376200 w 457200"/>
              <a:gd name="textAreaTop" fmla="*/ 56880 h 381240"/>
              <a:gd name="textAreaBottom" fmla="*/ 324360 h 381240"/>
            </a:gdLst>
            <a:ahLst/>
            <a:rect l="textAreaLeft" t="textAreaTop" r="textAreaRight" b="textAreaBottom"/>
            <a:pathLst>
              <a:path w="457200" h="381000">
                <a:moveTo>
                  <a:pt x="81124" y="125927"/>
                </a:moveTo>
                <a:lnTo>
                  <a:pt x="138492" y="57086"/>
                </a:lnTo>
                <a:lnTo>
                  <a:pt x="228600" y="132176"/>
                </a:lnTo>
                <a:lnTo>
                  <a:pt x="318708" y="57086"/>
                </a:lnTo>
                <a:lnTo>
                  <a:pt x="376076" y="125927"/>
                </a:lnTo>
                <a:lnTo>
                  <a:pt x="298589" y="190500"/>
                </a:lnTo>
                <a:lnTo>
                  <a:pt x="376076" y="255073"/>
                </a:lnTo>
                <a:lnTo>
                  <a:pt x="318708" y="323914"/>
                </a:lnTo>
                <a:lnTo>
                  <a:pt x="228600" y="248824"/>
                </a:lnTo>
                <a:lnTo>
                  <a:pt x="138492" y="323914"/>
                </a:lnTo>
                <a:lnTo>
                  <a:pt x="81124" y="255073"/>
                </a:lnTo>
                <a:lnTo>
                  <a:pt x="158611" y="1905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Прямая соединительная линия 7"/>
          <p:cNvSpPr/>
          <p:nvPr/>
        </p:nvSpPr>
        <p:spPr>
          <a:xfrm>
            <a:off x="4038480" y="6248520"/>
            <a:ext cx="3810240" cy="1440"/>
          </a:xfrm>
          <a:prstGeom prst="line">
            <a:avLst/>
          </a:prstGeom>
          <a:ln w="42480">
            <a:solidFill>
              <a:srgbClr val="f07f0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6199920"/>
            <a:ext cx="818352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529920"/>
            <a:ext cx="8229600" cy="5413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Спишите, вставляя пропущенные знаки препинания и обознача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деепричастные обор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Мальчишка весело посвистывая бежал куда-т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лестя на солнце снег лежит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елеет шоссе пропадая в сумраке ноч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5835240"/>
            <a:ext cx="818352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)  Я вспомнил, что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)  Я узнал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)  Было интересно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4)  Вызвало затруднение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5)  Нужно выучить…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5790960"/>
            <a:ext cx="818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03280" y="529920"/>
            <a:ext cx="8183520" cy="503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вило на стр.78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. 16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5835240"/>
            <a:ext cx="818352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529920"/>
            <a:ext cx="8183520" cy="503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07f09"/>
                </a:solidFill>
                <a:latin typeface="Arial Black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6123600"/>
            <a:ext cx="818352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30280"/>
            <a:ext cx="8183520" cy="55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Что вы сегодня узнаете,</a:t>
            </a: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чему будете учитьс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Узнае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что такое деепричастный оборот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к выделяется деепричастный оборот на пись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Будете учи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оставлять деепричастные оборот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07f09"/>
                </a:solidFill>
                <a:latin typeface="Verdana"/>
              </a:rPr>
              <a:t>2)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находить их в предложени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07f09"/>
                </a:solidFill>
                <a:latin typeface="Verdana"/>
              </a:rPr>
              <a:t>3)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ыделять деепричастные обор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а письм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5835240"/>
            <a:ext cx="818352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Распределительны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2133720"/>
          <a:ext cx="8229600" cy="3276360"/>
        </p:xfrm>
        <a:graphic>
          <a:graphicData uri="http://schemas.openxmlformats.org/drawingml/2006/table">
            <a:tbl>
              <a:tblPr/>
              <a:tblGrid>
                <a:gridCol w="2428920"/>
                <a:gridCol w="3136680"/>
                <a:gridCol w="266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е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дел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сдел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07f09"/>
                          </a:solidFill>
                          <a:latin typeface="Verdana"/>
                        </a:rPr>
                        <a:t>что дела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07f09"/>
                          </a:solidFill>
                          <a:latin typeface="Verdana"/>
                        </a:rPr>
                        <a:t>что сделав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клеи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клеив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723920"/>
            <a:ext cx="8183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ыполните взаимопроверку.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т ошибок – «5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-2 ошибки – «4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-5 ошибок – «3»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33520" y="1371600"/>
          <a:ext cx="8076960" cy="2286000"/>
        </p:xfrm>
        <a:graphic>
          <a:graphicData uri="http://schemas.openxmlformats.org/drawingml/2006/table">
            <a:tbl>
              <a:tblPr/>
              <a:tblGrid>
                <a:gridCol w="2438280"/>
                <a:gridCol w="2946240"/>
                <a:gridCol w="2692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е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кле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кл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кле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чи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ч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ш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й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ч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ш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сед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сед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ющ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сед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5105520"/>
            <a:ext cx="8183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Деепричастие обозначает добавочное действие при основном действии, выраженном глаголом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533160"/>
            <a:ext cx="8183520" cy="4724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                      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гл.         гл.</a:t>
            </a: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етер завывает, раскачивает деревь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то делая?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                              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ка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             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дееприч.                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етер, завывая,  раскачивает деревь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Прямая соединительная линия 28"/>
          <p:cNvSpPr/>
          <p:nvPr/>
        </p:nvSpPr>
        <p:spPr>
          <a:xfrm>
            <a:off x="2133720" y="1981080"/>
            <a:ext cx="175248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Прямая соединительная линия 30"/>
          <p:cNvSpPr/>
          <p:nvPr/>
        </p:nvSpPr>
        <p:spPr>
          <a:xfrm>
            <a:off x="2133720" y="2133720"/>
            <a:ext cx="1752480" cy="144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Прямая соединительная линия 40"/>
          <p:cNvSpPr/>
          <p:nvPr/>
        </p:nvSpPr>
        <p:spPr>
          <a:xfrm>
            <a:off x="2286000" y="4572000"/>
            <a:ext cx="1523880" cy="1440"/>
          </a:xfrm>
          <a:prstGeom prst="line">
            <a:avLst/>
          </a:prstGeom>
          <a:ln w="42480">
            <a:solidFill>
              <a:srgbClr val="f07f0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Прямая соединительная линия 12"/>
          <p:cNvSpPr/>
          <p:nvPr/>
        </p:nvSpPr>
        <p:spPr>
          <a:xfrm>
            <a:off x="4191120" y="1981080"/>
            <a:ext cx="220968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ая соединительная линия 14"/>
          <p:cNvSpPr/>
          <p:nvPr/>
        </p:nvSpPr>
        <p:spPr>
          <a:xfrm>
            <a:off x="4191120" y="2133720"/>
            <a:ext cx="2209680" cy="144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Прямая соединительная линия 15"/>
          <p:cNvSpPr/>
          <p:nvPr/>
        </p:nvSpPr>
        <p:spPr>
          <a:xfrm>
            <a:off x="4191120" y="4572000"/>
            <a:ext cx="2209680" cy="144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Прямая соединительная линия 17"/>
          <p:cNvSpPr/>
          <p:nvPr/>
        </p:nvSpPr>
        <p:spPr>
          <a:xfrm>
            <a:off x="4191120" y="4724280"/>
            <a:ext cx="220968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Умножение 18"/>
          <p:cNvSpPr/>
          <p:nvPr/>
        </p:nvSpPr>
        <p:spPr>
          <a:xfrm>
            <a:off x="5029200" y="3657600"/>
            <a:ext cx="380880" cy="380880"/>
          </a:xfrm>
          <a:custGeom>
            <a:avLst/>
            <a:gdLst>
              <a:gd name="textAreaLeft" fmla="*/ 59760 w 380880"/>
              <a:gd name="textAreaRight" fmla="*/ 321120 w 380880"/>
              <a:gd name="textAreaTop" fmla="*/ 59760 h 380880"/>
              <a:gd name="textAreaBottom" fmla="*/ 321120 h 380880"/>
            </a:gdLst>
            <a:ahLst/>
            <a:rect l="textAreaLeft" t="textAreaTop" r="textAreaRight" b="textAreaBottom"/>
            <a:pathLst>
              <a:path w="381000" h="381000">
                <a:moveTo>
                  <a:pt x="59824" y="123189"/>
                </a:moveTo>
                <a:lnTo>
                  <a:pt x="123189" y="59824"/>
                </a:lnTo>
                <a:lnTo>
                  <a:pt x="190500" y="127135"/>
                </a:lnTo>
                <a:lnTo>
                  <a:pt x="257811" y="59824"/>
                </a:lnTo>
                <a:lnTo>
                  <a:pt x="321176" y="123189"/>
                </a:lnTo>
                <a:lnTo>
                  <a:pt x="253865" y="190500"/>
                </a:lnTo>
                <a:lnTo>
                  <a:pt x="321176" y="257811"/>
                </a:lnTo>
                <a:lnTo>
                  <a:pt x="257811" y="321176"/>
                </a:lnTo>
                <a:lnTo>
                  <a:pt x="190500" y="253865"/>
                </a:lnTo>
                <a:lnTo>
                  <a:pt x="123189" y="321176"/>
                </a:lnTo>
                <a:lnTo>
                  <a:pt x="59824" y="257811"/>
                </a:lnTo>
                <a:lnTo>
                  <a:pt x="127135" y="1905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0" name="Прямая со стрелкой 22"/>
          <p:cNvCxnSpPr/>
          <p:nvPr/>
        </p:nvCxnSpPr>
        <p:spPr>
          <a:xfrm flipH="1">
            <a:off x="3733560" y="3124080"/>
            <a:ext cx="2160" cy="610560"/>
          </a:xfrm>
          <a:prstGeom prst="straightConnector1">
            <a:avLst/>
          </a:prstGeom>
          <a:ln w="42480">
            <a:solidFill>
              <a:srgbClr val="f07f09"/>
            </a:solidFill>
            <a:miter/>
            <a:tailEnd len="med" type="arrow" w="med"/>
          </a:ln>
        </p:spPr>
      </p:cxnSp>
      <p:sp>
        <p:nvSpPr>
          <p:cNvPr id="241" name="Прямая соединительная линия 24"/>
          <p:cNvSpPr/>
          <p:nvPr/>
        </p:nvSpPr>
        <p:spPr>
          <a:xfrm>
            <a:off x="3733920" y="3124080"/>
            <a:ext cx="266688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Прямая соединительная линия 26"/>
          <p:cNvSpPr/>
          <p:nvPr/>
        </p:nvSpPr>
        <p:spPr>
          <a:xfrm flipH="1">
            <a:off x="6400800" y="3124080"/>
            <a:ext cx="1440" cy="9144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3" name="Прямая со стрелкой 29"/>
          <p:cNvCxnSpPr/>
          <p:nvPr/>
        </p:nvCxnSpPr>
        <p:spPr>
          <a:xfrm flipH="1">
            <a:off x="3047760" y="2286000"/>
            <a:ext cx="2160" cy="1372320"/>
          </a:xfrm>
          <a:prstGeom prst="straightConnector1">
            <a:avLst/>
          </a:prstGeom>
          <a:ln w="42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1523520"/>
            <a:ext cx="818352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529920"/>
            <a:ext cx="8183520" cy="917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Расскажите о деепричаст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457200" y="1295280"/>
            <a:ext cx="2743200" cy="121932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самостоятель-ная часть реч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3352680" y="1295280"/>
            <a:ext cx="2514600" cy="121932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бавочн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ейств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6019920" y="1295280"/>
            <a:ext cx="2666880" cy="121932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7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itstream Vera Serif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служебная часть ре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Прямоугольник 6"/>
          <p:cNvSpPr/>
          <p:nvPr/>
        </p:nvSpPr>
        <p:spPr>
          <a:xfrm>
            <a:off x="457200" y="2666880"/>
            <a:ext cx="2743200" cy="106704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7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ви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Прямоугольник 7"/>
          <p:cNvSpPr/>
          <p:nvPr/>
        </p:nvSpPr>
        <p:spPr>
          <a:xfrm>
            <a:off x="3352680" y="2666880"/>
            <a:ext cx="2514600" cy="106704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время</a:t>
            </a:r>
            <a:r>
              <a:rPr b="1" lang="ru-RU" sz="2000" spc="-1" strike="noStrike">
                <a:solidFill>
                  <a:srgbClr val="000000"/>
                </a:solidFill>
                <a:latin typeface="Bitstream Vera Serif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Прямоугольник 8"/>
          <p:cNvSpPr/>
          <p:nvPr/>
        </p:nvSpPr>
        <p:spPr>
          <a:xfrm>
            <a:off x="6019920" y="2666880"/>
            <a:ext cx="2666880" cy="106704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тельные   и страдатель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Прямоугольник 9"/>
          <p:cNvSpPr/>
          <p:nvPr/>
        </p:nvSpPr>
        <p:spPr>
          <a:xfrm>
            <a:off x="457200" y="3886200"/>
            <a:ext cx="2743200" cy="106668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изменяется     по родам        и падеж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Прямоугольник 10"/>
          <p:cNvSpPr/>
          <p:nvPr/>
        </p:nvSpPr>
        <p:spPr>
          <a:xfrm>
            <a:off x="3352680" y="3886200"/>
            <a:ext cx="2514600" cy="106668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не изменяет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Прямоугольник 11"/>
          <p:cNvSpPr/>
          <p:nvPr/>
        </p:nvSpPr>
        <p:spPr>
          <a:xfrm>
            <a:off x="6095880" y="3886200"/>
            <a:ext cx="2590920" cy="106668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7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бывае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7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1, 2, 3 л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Прямоугольник 12"/>
          <p:cNvSpPr/>
          <p:nvPr/>
        </p:nvSpPr>
        <p:spPr>
          <a:xfrm>
            <a:off x="457200" y="5105520"/>
            <a:ext cx="2743200" cy="106668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itstream Vera Serif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обстоятель-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Прямоугольник 13"/>
          <p:cNvSpPr/>
          <p:nvPr/>
        </p:nvSpPr>
        <p:spPr>
          <a:xfrm>
            <a:off x="3352680" y="5105520"/>
            <a:ext cx="2514600" cy="106668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определение</a:t>
            </a:r>
            <a:r>
              <a:rPr b="1" lang="ru-RU" sz="1800" spc="-1" strike="noStrike">
                <a:solidFill>
                  <a:srgbClr val="000000"/>
                </a:solidFill>
                <a:latin typeface="Bitstream Vera Serif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Прямоугольник 14"/>
          <p:cNvSpPr/>
          <p:nvPr/>
        </p:nvSpPr>
        <p:spPr>
          <a:xfrm>
            <a:off x="6095880" y="5105520"/>
            <a:ext cx="2590920" cy="106668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7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сказуе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Что такое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деепричастный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оборот?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о, стр.78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5335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    </a:t>
            </a:r>
            <a:r>
              <a:rPr b="1" i="1" lang="ru-RU" sz="2400" spc="-1" strike="noStrike">
                <a:solidFill>
                  <a:srgbClr val="f07f09"/>
                </a:solidFill>
                <a:latin typeface="Verdana"/>
              </a:rPr>
              <a:t>сущ.      прич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Чайки,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летающие над водой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, предвещаю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ненастье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i="1" lang="ru-RU" sz="2400" spc="-1" strike="noStrike">
                <a:solidFill>
                  <a:srgbClr val="f07f09"/>
                </a:solidFill>
                <a:latin typeface="Verdana"/>
              </a:rPr>
              <a:t>дееприч.                                  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Чайки , летая   над  водой , предвещаю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ненасть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Прямая соединительная линия 4"/>
          <p:cNvSpPr/>
          <p:nvPr/>
        </p:nvSpPr>
        <p:spPr>
          <a:xfrm flipV="1">
            <a:off x="3733920" y="1066320"/>
            <a:ext cx="1440" cy="38124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ая соединительная линия 6"/>
          <p:cNvSpPr/>
          <p:nvPr/>
        </p:nvSpPr>
        <p:spPr>
          <a:xfrm>
            <a:off x="3733920" y="1066680"/>
            <a:ext cx="152388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2" name="Прямая со стрелкой 8"/>
          <p:cNvCxnSpPr/>
          <p:nvPr/>
        </p:nvCxnSpPr>
        <p:spPr>
          <a:xfrm flipH="1">
            <a:off x="5257440" y="1066320"/>
            <a:ext cx="2160" cy="381960"/>
          </a:xfrm>
          <a:prstGeom prst="straightConnector1">
            <a:avLst/>
          </a:prstGeom>
          <a:ln w="42480">
            <a:solidFill>
              <a:srgbClr val="f07f09"/>
            </a:solidFill>
            <a:miter/>
            <a:tailEnd len="med" type="arrow" w="med"/>
          </a:ln>
        </p:spPr>
      </p:cxnSp>
      <p:sp>
        <p:nvSpPr>
          <p:cNvPr id="263" name="Прямая соединительная линия 21"/>
          <p:cNvSpPr/>
          <p:nvPr/>
        </p:nvSpPr>
        <p:spPr>
          <a:xfrm flipV="1">
            <a:off x="3048120" y="2895120"/>
            <a:ext cx="1440" cy="2286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Прямая соединительная линия 23"/>
          <p:cNvSpPr/>
          <p:nvPr/>
        </p:nvSpPr>
        <p:spPr>
          <a:xfrm>
            <a:off x="3048120" y="2895480"/>
            <a:ext cx="160020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5" name="Прямая со стрелкой 25"/>
          <p:cNvCxnSpPr/>
          <p:nvPr/>
        </p:nvCxnSpPr>
        <p:spPr>
          <a:xfrm flipH="1">
            <a:off x="4647960" y="2895480"/>
            <a:ext cx="2160" cy="610560"/>
          </a:xfrm>
          <a:prstGeom prst="straightConnector1">
            <a:avLst/>
          </a:prstGeom>
          <a:ln w="42480">
            <a:solidFill>
              <a:srgbClr val="f07f09"/>
            </a:solidFill>
            <a:miter/>
            <a:tailEnd len="med" type="arrow" w="med"/>
          </a:ln>
        </p:spPr>
      </p:cxnSp>
      <p:sp>
        <p:nvSpPr>
          <p:cNvPr id="266" name="Умножение 26"/>
          <p:cNvSpPr/>
          <p:nvPr/>
        </p:nvSpPr>
        <p:spPr>
          <a:xfrm>
            <a:off x="609480" y="990720"/>
            <a:ext cx="304920" cy="304560"/>
          </a:xfrm>
          <a:custGeom>
            <a:avLst/>
            <a:gdLst>
              <a:gd name="textAreaLeft" fmla="*/ 47880 w 304920"/>
              <a:gd name="textAreaRight" fmla="*/ 257040 w 304920"/>
              <a:gd name="textAreaTop" fmla="*/ 47520 h 304560"/>
              <a:gd name="textAreaBottom" fmla="*/ 257040 h 304560"/>
            </a:gdLst>
            <a:ahLst/>
            <a:rect l="textAreaLeft" t="textAreaTop" r="textAreaRight" b="textAreaBottom"/>
            <a:pathLst>
              <a:path w="304800" h="304800">
                <a:moveTo>
                  <a:pt x="47859" y="98551"/>
                </a:moveTo>
                <a:lnTo>
                  <a:pt x="98551" y="47859"/>
                </a:lnTo>
                <a:lnTo>
                  <a:pt x="152400" y="101708"/>
                </a:lnTo>
                <a:lnTo>
                  <a:pt x="206249" y="47859"/>
                </a:lnTo>
                <a:lnTo>
                  <a:pt x="256941" y="98551"/>
                </a:lnTo>
                <a:lnTo>
                  <a:pt x="203092" y="152400"/>
                </a:lnTo>
                <a:lnTo>
                  <a:pt x="256941" y="206249"/>
                </a:lnTo>
                <a:lnTo>
                  <a:pt x="206249" y="256941"/>
                </a:lnTo>
                <a:lnTo>
                  <a:pt x="152400" y="203092"/>
                </a:lnTo>
                <a:lnTo>
                  <a:pt x="98551" y="256941"/>
                </a:lnTo>
                <a:lnTo>
                  <a:pt x="47859" y="206249"/>
                </a:lnTo>
                <a:lnTo>
                  <a:pt x="101708" y="1524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Умножение 27"/>
          <p:cNvSpPr/>
          <p:nvPr/>
        </p:nvSpPr>
        <p:spPr>
          <a:xfrm>
            <a:off x="6400800" y="3200400"/>
            <a:ext cx="304920" cy="304920"/>
          </a:xfrm>
          <a:custGeom>
            <a:avLst/>
            <a:gdLst>
              <a:gd name="textAreaLeft" fmla="*/ 47880 w 304920"/>
              <a:gd name="textAreaRight" fmla="*/ 257040 w 304920"/>
              <a:gd name="textAreaTop" fmla="*/ 47880 h 304920"/>
              <a:gd name="textAreaBottom" fmla="*/ 257040 h 304920"/>
            </a:gdLst>
            <a:ahLst/>
            <a:rect l="textAreaLeft" t="textAreaTop" r="textAreaRight" b="textAreaBottom"/>
            <a:pathLst>
              <a:path w="304800" h="304800">
                <a:moveTo>
                  <a:pt x="47859" y="98551"/>
                </a:moveTo>
                <a:lnTo>
                  <a:pt x="98551" y="47859"/>
                </a:lnTo>
                <a:lnTo>
                  <a:pt x="152400" y="101708"/>
                </a:lnTo>
                <a:lnTo>
                  <a:pt x="206249" y="47859"/>
                </a:lnTo>
                <a:lnTo>
                  <a:pt x="256941" y="98551"/>
                </a:lnTo>
                <a:lnTo>
                  <a:pt x="203092" y="152400"/>
                </a:lnTo>
                <a:lnTo>
                  <a:pt x="256941" y="206249"/>
                </a:lnTo>
                <a:lnTo>
                  <a:pt x="206249" y="256941"/>
                </a:lnTo>
                <a:lnTo>
                  <a:pt x="152400" y="203092"/>
                </a:lnTo>
                <a:lnTo>
                  <a:pt x="98551" y="256941"/>
                </a:lnTo>
                <a:lnTo>
                  <a:pt x="47859" y="206249"/>
                </a:lnTo>
                <a:lnTo>
                  <a:pt x="101708" y="1524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Прямая соединительная линия 29"/>
          <p:cNvSpPr/>
          <p:nvPr/>
        </p:nvSpPr>
        <p:spPr>
          <a:xfrm>
            <a:off x="2209680" y="4038480"/>
            <a:ext cx="3276720" cy="1800"/>
          </a:xfrm>
          <a:prstGeom prst="line">
            <a:avLst/>
          </a:prstGeom>
          <a:ln w="42480">
            <a:solidFill>
              <a:srgbClr val="f07f0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Прямая соединительная линия 14"/>
          <p:cNvSpPr/>
          <p:nvPr/>
        </p:nvSpPr>
        <p:spPr>
          <a:xfrm flipV="1">
            <a:off x="457200" y="2552760"/>
            <a:ext cx="82296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Рисунок 15" descr="0_1b66_b2b7c154_L.jpg"/>
          <p:cNvPicPr/>
          <p:nvPr/>
        </p:nvPicPr>
        <p:blipFill>
          <a:blip r:embed="rId1"/>
          <a:stretch/>
        </p:blipFill>
        <p:spPr>
          <a:xfrm>
            <a:off x="5479920" y="4260960"/>
            <a:ext cx="3365640" cy="23414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ая соединительная линия 18"/>
          <p:cNvSpPr/>
          <p:nvPr/>
        </p:nvSpPr>
        <p:spPr>
          <a:xfrm>
            <a:off x="5943600" y="4038480"/>
            <a:ext cx="236232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Прямая соединительная линия 19"/>
          <p:cNvSpPr/>
          <p:nvPr/>
        </p:nvSpPr>
        <p:spPr>
          <a:xfrm>
            <a:off x="5943600" y="4191120"/>
            <a:ext cx="2362320" cy="144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5410080"/>
            <a:ext cx="8183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.        дееприч.</a:t>
            </a:r>
            <a:br>
              <a:rPr sz="3200"/>
            </a:b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Прославился,   защищая Родину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457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Образуйте деепричастные обороты, запишите их вмест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с главным  словом - глаголо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33520" y="2057400"/>
          <a:ext cx="8076960" cy="3475080"/>
        </p:xfrm>
        <a:graphic>
          <a:graphicData uri="http://schemas.openxmlformats.org/drawingml/2006/table">
            <a:tbl>
              <a:tblPr/>
              <a:tblGrid>
                <a:gridCol w="2641320"/>
                <a:gridCol w="2768760"/>
                <a:gridCol w="2666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лаго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е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23232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висимое 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славил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1224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аливши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1224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1224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угал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щищ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дин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рятал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с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 корт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дохн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еха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уговиц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колол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23232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ши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сугр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76" name="Умножение 5"/>
          <p:cNvSpPr/>
          <p:nvPr/>
        </p:nvSpPr>
        <p:spPr>
          <a:xfrm>
            <a:off x="2286000" y="2133720"/>
            <a:ext cx="762120" cy="609480"/>
          </a:xfrm>
          <a:custGeom>
            <a:avLst/>
            <a:gdLst>
              <a:gd name="textAreaLeft" fmla="*/ 138240 w 762120"/>
              <a:gd name="textAreaRight" fmla="*/ 623880 w 762120"/>
              <a:gd name="textAreaTop" fmla="*/ 90360 h 609480"/>
              <a:gd name="textAreaBottom" fmla="*/ 519120 h 609480"/>
            </a:gdLst>
            <a:ahLst/>
            <a:rect l="textAreaLeft" t="textAreaTop" r="textAreaRight" b="textAreaBottom"/>
            <a:pathLst>
              <a:path w="762000" h="609600">
                <a:moveTo>
                  <a:pt x="138230" y="202390"/>
                </a:moveTo>
                <a:lnTo>
                  <a:pt x="227797" y="90431"/>
                </a:lnTo>
                <a:lnTo>
                  <a:pt x="381000" y="212993"/>
                </a:lnTo>
                <a:lnTo>
                  <a:pt x="534203" y="90431"/>
                </a:lnTo>
                <a:lnTo>
                  <a:pt x="623770" y="202390"/>
                </a:lnTo>
                <a:lnTo>
                  <a:pt x="495758" y="304800"/>
                </a:lnTo>
                <a:lnTo>
                  <a:pt x="623770" y="407210"/>
                </a:lnTo>
                <a:lnTo>
                  <a:pt x="534203" y="519169"/>
                </a:lnTo>
                <a:lnTo>
                  <a:pt x="381000" y="396607"/>
                </a:lnTo>
                <a:lnTo>
                  <a:pt x="227797" y="519169"/>
                </a:lnTo>
                <a:lnTo>
                  <a:pt x="138230" y="407210"/>
                </a:lnTo>
                <a:lnTo>
                  <a:pt x="266242" y="304800"/>
                </a:lnTo>
                <a:close/>
              </a:path>
            </a:pathLst>
          </a:custGeom>
          <a:solidFill>
            <a:srgbClr val="ffffff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Умножение 8"/>
          <p:cNvSpPr/>
          <p:nvPr/>
        </p:nvSpPr>
        <p:spPr>
          <a:xfrm>
            <a:off x="1371600" y="5562720"/>
            <a:ext cx="380880" cy="380880"/>
          </a:xfrm>
          <a:custGeom>
            <a:avLst/>
            <a:gdLst>
              <a:gd name="textAreaLeft" fmla="*/ 59760 w 380880"/>
              <a:gd name="textAreaRight" fmla="*/ 321120 w 380880"/>
              <a:gd name="textAreaTop" fmla="*/ 59760 h 380880"/>
              <a:gd name="textAreaBottom" fmla="*/ 321120 h 380880"/>
            </a:gdLst>
            <a:ahLst/>
            <a:rect l="textAreaLeft" t="textAreaTop" r="textAreaRight" b="textAreaBottom"/>
            <a:pathLst>
              <a:path w="381000" h="381000">
                <a:moveTo>
                  <a:pt x="59824" y="123189"/>
                </a:moveTo>
                <a:lnTo>
                  <a:pt x="123189" y="59824"/>
                </a:lnTo>
                <a:lnTo>
                  <a:pt x="190500" y="127135"/>
                </a:lnTo>
                <a:lnTo>
                  <a:pt x="257811" y="59824"/>
                </a:lnTo>
                <a:lnTo>
                  <a:pt x="321176" y="123189"/>
                </a:lnTo>
                <a:lnTo>
                  <a:pt x="253865" y="190500"/>
                </a:lnTo>
                <a:lnTo>
                  <a:pt x="321176" y="257811"/>
                </a:lnTo>
                <a:lnTo>
                  <a:pt x="257811" y="321176"/>
                </a:lnTo>
                <a:lnTo>
                  <a:pt x="190500" y="253865"/>
                </a:lnTo>
                <a:lnTo>
                  <a:pt x="123189" y="321176"/>
                </a:lnTo>
                <a:lnTo>
                  <a:pt x="59824" y="257811"/>
                </a:lnTo>
                <a:lnTo>
                  <a:pt x="127135" y="190500"/>
                </a:lnTo>
                <a:close/>
              </a:path>
            </a:pathLst>
          </a:custGeom>
          <a:solidFill>
            <a:srgbClr val="50141b"/>
          </a:solidFill>
          <a:ln w="4248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Прямая соединительная линия 10"/>
          <p:cNvSpPr/>
          <p:nvPr/>
        </p:nvSpPr>
        <p:spPr>
          <a:xfrm>
            <a:off x="4343400" y="6400800"/>
            <a:ext cx="4038480" cy="1440"/>
          </a:xfrm>
          <a:prstGeom prst="line">
            <a:avLst/>
          </a:prstGeom>
          <a:ln w="42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йдите деепричастный оборот,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ставьте пропущенные знаки препинания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533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Письмо по памя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Журавли    друг друга окл..ка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Осторожно  тянут..ся   гурьбо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Рисунок 3" descr="�������2.jpg"/>
          <p:cNvPicPr/>
          <p:nvPr/>
        </p:nvPicPr>
        <p:blipFill>
          <a:blip r:embed="rId1"/>
          <a:stretch/>
        </p:blipFill>
        <p:spPr>
          <a:xfrm>
            <a:off x="603360" y="603360"/>
            <a:ext cx="30049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7-01-13T13:41:32Z</dcterms:modified>
  <cp:revision>161</cp:revision>
  <dc:subject/>
  <dc:title>Урок русского языка в 7 классе  Деепричастный оборот</dc:title>
</cp:coreProperties>
</file>