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5A4D-6045-491B-AEBD-E0622DED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E8A-07B2-48DC-9E3C-2E37861B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7B75-E5BA-400E-A257-3ECF9A3D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F03-13FC-4BBB-8E28-DC7C7447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6BE3-FD58-4B81-84C3-0810A889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ED37-887D-4A7A-9D72-35AAD4F8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7C70-2CCF-438C-880A-8077CE45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AEA3-41F5-4191-89D8-935DB937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ADEBB-25A1-4652-AB5D-7C609376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3F23-B1F2-4ABB-8B46-544BD68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DB75-F8BF-4233-B0AD-235FDBB0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0A60-CD43-4458-BC30-DF78C1D1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A576-F45B-45F7-85DE-98CBC06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FFCF-1C5C-4AE0-9D42-1A4320AC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8947-6CF6-4E00-8245-8584B8AD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E9E-D25F-4713-B0FA-1CD0B663E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36D0-7FAB-4932-95CA-10BE25C4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9316F-757D-47B5-A66D-CCD1912C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116B-40B6-4F6D-9B2A-7EF30D42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EA56-BD2D-422D-9C33-48D56B82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5F983-5274-40E6-A602-362112CF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BE3EA-4756-42CC-B93C-BFFB9DA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9C0-A5ED-497E-9A76-4C7CCAAF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FEDC8-673E-4149-BD49-AFA1A117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E2C7F-9694-4097-A943-E391E5DA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3F777-4E8F-440D-861C-ABE192CC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B8294-294A-4271-AEAA-C39501A1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4CDA3-6871-43E2-8AE3-CCBEF4E6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52EE-8316-4E76-95EF-6E676B97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6F0D0-BF77-4BD5-AF0C-642DDE66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D7258-EBF2-4E36-9FC1-2A57AB9D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68CC0-8CFA-4045-B67D-EF362D9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317EB-F83C-4BA7-991A-A8E59740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6AB-DFFE-493B-9DF0-3E40A16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CB406-EB0F-46C6-B5FB-43F86E7A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02F64-88D3-4BD3-A581-5E988A91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855E-8224-4524-860C-1B8A3E38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E91F3-8E79-4565-96D0-4D638E37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2F320-5C9D-4307-B44E-37A67D6B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FCDF6-ECBF-46A5-9136-6E5F39B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E192B-9208-426F-956B-6A724FFB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36D72-49AD-4418-BC91-0608A2152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7B881-8198-4556-872A-2596D919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BAADF-D459-4512-BCF2-40FED3627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172-59B7-43F6-B238-9CB38807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64AFF-9324-4A57-8991-67D5BE48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4DCD9-0C1F-4C15-9F02-9CA3386D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0886-2593-4B97-BC88-9F983123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2F999-5D7E-49E6-B1E7-0FBB75F8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11AAB-2A77-4D9C-8020-89C44148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67ED5-03E7-438A-A283-E7A501DA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24993-5AFB-42FC-AF83-CDBA7A9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8A3F6-97FB-4AFD-B8CD-7C6604E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482C9-3E4A-47A4-9DE6-80A86F81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2557E-AD1A-4697-8148-CE84C31A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EE0-00CB-4D95-B1F9-E7D780208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724E6-69FF-4CC1-B376-89A5D502E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47FD-CFF7-4C14-947D-881C3F0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D46-90D6-4470-AAAE-ABC3E214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2E47-BAB4-421C-A760-45B49647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36888-B276-40C2-955D-650C36A7B48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C69-F42B-4D7F-9166-3258A2CE471C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C3E6-E5F7-4151-A654-5F1C7A768EEA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BE05-BE1B-4519-922F-399BED6B103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56AA-B5BA-413A-8970-82FE7832AFAB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7617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br>
              <a:rPr sz="4100"/>
            </a:br>
            <a:r>
              <a:rPr b="1" lang="ru-RU" sz="2400" spc="-1" strike="noStrike">
                <a:solidFill>
                  <a:srgbClr val="999999"/>
                </a:solidFill>
                <a:latin typeface="Verdana"/>
              </a:rPr>
              <a:t>Урок русского языка в 7 классе</a:t>
            </a:r>
            <a:br>
              <a:rPr sz="2400"/>
            </a:br>
            <a:br>
              <a:rPr sz="4100"/>
            </a:br>
            <a:r>
              <a:rPr b="1" lang="ru-RU" sz="6000" spc="-1" strike="noStrike">
                <a:solidFill>
                  <a:srgbClr val="ff8d3e"/>
                </a:solidFill>
                <a:latin typeface="Verdana"/>
              </a:rPr>
              <a:t>Деепричастный оборот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240"/>
            <a:ext cx="7772400" cy="2639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9766f"/>
                </a:solidFill>
                <a:latin typeface="Verdana"/>
              </a:rPr>
              <a:t>Кутергина С.П., учитель русского языка и литературы  КОГОБУ ШИ ОВЗ №1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79766f"/>
                </a:solidFill>
                <a:latin typeface="Verdana"/>
              </a:rPr>
              <a:t>г. Нолинска Кировской области</a:t>
            </a:r>
            <a:br>
              <a:rPr sz="1900"/>
            </a:br>
            <a:br>
              <a:rPr sz="5000"/>
            </a:b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3280" y="5486400"/>
            <a:ext cx="818352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Упр. 162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03280" y="530280"/>
            <a:ext cx="8183520" cy="4346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23232"/>
                </a:solidFill>
                <a:latin typeface="Verdana"/>
              </a:rPr>
              <a:t>                              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деепр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Журавли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друг   друга   окл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кая 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сторожно        тянутся      гурьб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Прямая соединительная линия 6"/>
          <p:cNvSpPr/>
          <p:nvPr/>
        </p:nvSpPr>
        <p:spPr>
          <a:xfrm flipH="1" flipV="1">
            <a:off x="4723920" y="1523520"/>
            <a:ext cx="167652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85" name="Прямая со стрелкой 8"/>
          <p:cNvCxnSpPr/>
          <p:nvPr/>
        </p:nvCxnSpPr>
        <p:spPr>
          <a:xfrm flipH="1">
            <a:off x="4722120" y="1525320"/>
            <a:ext cx="3960" cy="61020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86" name="Умножение 9"/>
          <p:cNvSpPr/>
          <p:nvPr/>
        </p:nvSpPr>
        <p:spPr>
          <a:xfrm>
            <a:off x="4191120" y="3124080"/>
            <a:ext cx="457200" cy="3812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Прямая соединительная линия 13"/>
          <p:cNvSpPr/>
          <p:nvPr/>
        </p:nvSpPr>
        <p:spPr>
          <a:xfrm>
            <a:off x="3429000" y="2666880"/>
            <a:ext cx="4876920" cy="180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Прямая соединительная линия 15"/>
          <p:cNvSpPr/>
          <p:nvPr/>
        </p:nvSpPr>
        <p:spPr>
          <a:xfrm flipH="1">
            <a:off x="6399360" y="1525680"/>
            <a:ext cx="2880" cy="53316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Прямая соединительная линия 17"/>
          <p:cNvSpPr/>
          <p:nvPr/>
        </p:nvSpPr>
        <p:spPr>
          <a:xfrm>
            <a:off x="4114800" y="4038480"/>
            <a:ext cx="160020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Прямая соединительная линия 18"/>
          <p:cNvSpPr/>
          <p:nvPr/>
        </p:nvSpPr>
        <p:spPr>
          <a:xfrm>
            <a:off x="4114800" y="4191120"/>
            <a:ext cx="160020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5865480"/>
            <a:ext cx="8183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80880" y="45684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1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Не плутала, безошибочно определя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дорогу до дому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Звенит, отряхая с зелёных лап капл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рос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Ударил, напугав всех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4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идя у окна, сучил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5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Не хочет идти спать, не простясь со мною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6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казала, протянув мне рук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7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Прочитав сказки Пушкина несколько раз, зна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4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3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18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3280" y="530280"/>
            <a:ext cx="8183520" cy="5261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Один из двух  глаголов превратите  в деепричас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а бежит, сверкает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гл.     дееприч.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а бежит,   сверкая на солнц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Умножение 11"/>
          <p:cNvSpPr/>
          <p:nvPr/>
        </p:nvSpPr>
        <p:spPr>
          <a:xfrm>
            <a:off x="2514600" y="259092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Прямая соединительная линия 13"/>
          <p:cNvSpPr/>
          <p:nvPr/>
        </p:nvSpPr>
        <p:spPr>
          <a:xfrm>
            <a:off x="4191120" y="3505320"/>
            <a:ext cx="350496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818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f07f09"/>
                </a:solidFill>
                <a:latin typeface="Verdana"/>
              </a:rPr>
              <a:t>гл.                                 дееприч.</a:t>
            </a: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                      </a:t>
            </a:r>
            <a:br>
              <a:rPr sz="2800"/>
            </a:br>
            <a:r>
              <a:rPr b="1" i="1" lang="ru-RU" sz="2800" spc="-1" strike="noStrike">
                <a:solidFill>
                  <a:srgbClr val="323232"/>
                </a:solidFill>
                <a:latin typeface="Verdana"/>
              </a:rPr>
              <a:t> Идёт старичок, чуть прихрамывая.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3520" y="533520"/>
            <a:ext cx="8183520" cy="487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Один из двух  глаголов превратите  в деепричаст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Идёт старичок, чуть пр..храмывае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Снежинки летят и медленно кружа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Птицы собрались в стаи и полетели на юг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07f09"/>
                </a:solidFill>
                <a:latin typeface="Verdana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Умножение 5"/>
          <p:cNvSpPr/>
          <p:nvPr/>
        </p:nvSpPr>
        <p:spPr>
          <a:xfrm>
            <a:off x="685800" y="5181480"/>
            <a:ext cx="457200" cy="381240"/>
          </a:xfrm>
          <a:custGeom>
            <a:avLst/>
            <a:gdLst>
              <a:gd name="textAreaLeft" fmla="*/ 81000 w 457200"/>
              <a:gd name="textAreaRight" fmla="*/ 376200 w 457200"/>
              <a:gd name="textAreaTop" fmla="*/ 56880 h 381240"/>
              <a:gd name="textAreaBottom" fmla="*/ 324360 h 381240"/>
            </a:gdLst>
            <a:ahLst/>
            <a:rect l="textAreaLeft" t="textAreaTop" r="textAreaRight" b="textAreaBottom"/>
            <a:pathLst>
              <a:path w="457200" h="381000">
                <a:moveTo>
                  <a:pt x="81124" y="125927"/>
                </a:moveTo>
                <a:lnTo>
                  <a:pt x="138492" y="57086"/>
                </a:lnTo>
                <a:lnTo>
                  <a:pt x="228600" y="132176"/>
                </a:lnTo>
                <a:lnTo>
                  <a:pt x="318708" y="57086"/>
                </a:lnTo>
                <a:lnTo>
                  <a:pt x="376076" y="125927"/>
                </a:lnTo>
                <a:lnTo>
                  <a:pt x="298589" y="190500"/>
                </a:lnTo>
                <a:lnTo>
                  <a:pt x="376076" y="255073"/>
                </a:lnTo>
                <a:lnTo>
                  <a:pt x="318708" y="323914"/>
                </a:lnTo>
                <a:lnTo>
                  <a:pt x="228600" y="248824"/>
                </a:lnTo>
                <a:lnTo>
                  <a:pt x="138492" y="323914"/>
                </a:lnTo>
                <a:lnTo>
                  <a:pt x="81124" y="255073"/>
                </a:lnTo>
                <a:lnTo>
                  <a:pt x="158611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Прямая соединительная линия 7"/>
          <p:cNvSpPr/>
          <p:nvPr/>
        </p:nvSpPr>
        <p:spPr>
          <a:xfrm>
            <a:off x="4038480" y="6248520"/>
            <a:ext cx="381024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3280" y="619992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529920"/>
            <a:ext cx="8229600" cy="5413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пишите, вставляя пропущенные знаки препинания и обознача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деепричастные оборот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Мальчишка весело посвистывая бежал куда-т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лестя на солнце снег лежит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Белеет шоссе пропадая в сумраке ноч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03280" y="529920"/>
            <a:ext cx="8183520" cy="495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)  Я вспомнил, чт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)  Я узнал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)  Было интересно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)  Вызвало затруднение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)  Нужно выучить…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5790960"/>
            <a:ext cx="818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вило на стр.78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р. 1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07f09"/>
                </a:solidFill>
                <a:latin typeface="Arial Black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612360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30280"/>
            <a:ext cx="8183520" cy="5565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Что вы сегодня узнаете,</a:t>
            </a:r>
            <a:r>
              <a:rPr b="1" lang="en-US" sz="3200" spc="-1" strike="noStrike">
                <a:solidFill>
                  <a:srgbClr val="f07f0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чему будете учиться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Узнае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что такое деепричастный оборот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к выделяется деепричастный оборот на письм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Будете учи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ставлять деепричастные оборот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07f09"/>
                </a:solidFill>
                <a:latin typeface="Verdana"/>
              </a:rPr>
              <a:t>2)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находить их в предложени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07f09"/>
                </a:solidFill>
                <a:latin typeface="Verdana"/>
              </a:rPr>
              <a:t>3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выделять деепричастные обор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а письм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5835240"/>
            <a:ext cx="818352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Распределительны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133720"/>
          <a:ext cx="8229600" cy="3276360"/>
        </p:xfrm>
        <a:graphic>
          <a:graphicData uri="http://schemas.openxmlformats.org/drawingml/2006/table">
            <a:tbl>
              <a:tblPr/>
              <a:tblGrid>
                <a:gridCol w="2428920"/>
                <a:gridCol w="3136680"/>
                <a:gridCol w="2664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сдела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07f09"/>
                          </a:solidFill>
                          <a:latin typeface="Verdana"/>
                        </a:rPr>
                        <a:t>что делая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07f09"/>
                          </a:solidFill>
                          <a:latin typeface="Verdana"/>
                        </a:rPr>
                        <a:t>что сделав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в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723920"/>
            <a:ext cx="8183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ыполните взаимопроверку.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т ошибок – «5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-2 ошибки – «4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-5 ошибок – «3»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533520" y="1371600"/>
          <a:ext cx="8076960" cy="2286000"/>
        </p:xfrm>
        <a:graphic>
          <a:graphicData uri="http://schemas.openxmlformats.org/drawingml/2006/table">
            <a:tbl>
              <a:tblPr/>
              <a:tblGrid>
                <a:gridCol w="2438280"/>
                <a:gridCol w="2946240"/>
                <a:gridCol w="2692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н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кле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и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ш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й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мч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ш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ющ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5105520"/>
            <a:ext cx="8183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Деепричастие обозначает добавочное действие при основном действии, выраженном глаголом.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520" y="533160"/>
            <a:ext cx="8183520" cy="4724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гл.         гл.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етер завывает, раскачивает деревь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то делая?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  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ка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дееприч.                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Ветер, завывая,  раскачивает деревь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ая соединительная линия 28"/>
          <p:cNvSpPr/>
          <p:nvPr/>
        </p:nvSpPr>
        <p:spPr>
          <a:xfrm>
            <a:off x="2133720" y="1981080"/>
            <a:ext cx="17524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Прямая соединительная линия 30"/>
          <p:cNvSpPr/>
          <p:nvPr/>
        </p:nvSpPr>
        <p:spPr>
          <a:xfrm>
            <a:off x="2133720" y="2133720"/>
            <a:ext cx="17524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Прямая соединительная линия 40"/>
          <p:cNvSpPr/>
          <p:nvPr/>
        </p:nvSpPr>
        <p:spPr>
          <a:xfrm>
            <a:off x="2286000" y="4572000"/>
            <a:ext cx="1523880" cy="144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Прямая соединительная линия 12"/>
          <p:cNvSpPr/>
          <p:nvPr/>
        </p:nvSpPr>
        <p:spPr>
          <a:xfrm>
            <a:off x="4191120" y="1981080"/>
            <a:ext cx="22096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Прямая соединительная линия 14"/>
          <p:cNvSpPr/>
          <p:nvPr/>
        </p:nvSpPr>
        <p:spPr>
          <a:xfrm>
            <a:off x="4191120" y="2133720"/>
            <a:ext cx="22096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ая соединительная линия 15"/>
          <p:cNvSpPr/>
          <p:nvPr/>
        </p:nvSpPr>
        <p:spPr>
          <a:xfrm>
            <a:off x="4191120" y="4572000"/>
            <a:ext cx="220968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Прямая соединительная линия 17"/>
          <p:cNvSpPr/>
          <p:nvPr/>
        </p:nvSpPr>
        <p:spPr>
          <a:xfrm>
            <a:off x="4191120" y="4724280"/>
            <a:ext cx="22096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Умножение 18"/>
          <p:cNvSpPr/>
          <p:nvPr/>
        </p:nvSpPr>
        <p:spPr>
          <a:xfrm>
            <a:off x="5029200" y="365760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0" name="Прямая со стрелкой 22"/>
          <p:cNvCxnSpPr/>
          <p:nvPr/>
        </p:nvCxnSpPr>
        <p:spPr>
          <a:xfrm flipH="1">
            <a:off x="3733560" y="3124080"/>
            <a:ext cx="2160" cy="6105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41" name="Прямая соединительная линия 24"/>
          <p:cNvSpPr/>
          <p:nvPr/>
        </p:nvSpPr>
        <p:spPr>
          <a:xfrm>
            <a:off x="3733920" y="3124080"/>
            <a:ext cx="26668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Прямая соединительная линия 26"/>
          <p:cNvSpPr/>
          <p:nvPr/>
        </p:nvSpPr>
        <p:spPr>
          <a:xfrm flipH="1">
            <a:off x="6400800" y="3124080"/>
            <a:ext cx="1440" cy="9144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3" name="Прямая со стрелкой 29"/>
          <p:cNvCxnSpPr/>
          <p:nvPr/>
        </p:nvCxnSpPr>
        <p:spPr>
          <a:xfrm flipH="1">
            <a:off x="3047760" y="2286000"/>
            <a:ext cx="2160" cy="137232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1523520"/>
            <a:ext cx="818352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917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Расскажите о деепричаст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Прямоугольник 3"/>
          <p:cNvSpPr/>
          <p:nvPr/>
        </p:nvSpPr>
        <p:spPr>
          <a:xfrm>
            <a:off x="457200" y="1295280"/>
            <a:ext cx="274320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амостоятель-ная часть реч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Прямоугольник 4"/>
          <p:cNvSpPr/>
          <p:nvPr/>
        </p:nvSpPr>
        <p:spPr>
          <a:xfrm>
            <a:off x="3352680" y="1295280"/>
            <a:ext cx="251460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бавочн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7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ейств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Прямоугольник 5"/>
          <p:cNvSpPr/>
          <p:nvPr/>
        </p:nvSpPr>
        <p:spPr>
          <a:xfrm>
            <a:off x="6019920" y="1295280"/>
            <a:ext cx="2666880" cy="121932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itstream Vera Serif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лужебная часть ре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Прямоугольник 6"/>
          <p:cNvSpPr/>
          <p:nvPr/>
        </p:nvSpPr>
        <p:spPr>
          <a:xfrm>
            <a:off x="457200" y="2666880"/>
            <a:ext cx="274320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ви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Прямоугольник 7"/>
          <p:cNvSpPr/>
          <p:nvPr/>
        </p:nvSpPr>
        <p:spPr>
          <a:xfrm>
            <a:off x="3352680" y="2666880"/>
            <a:ext cx="251460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время</a:t>
            </a:r>
            <a:r>
              <a:rPr b="1" lang="ru-RU" sz="20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Прямоугольник 8"/>
          <p:cNvSpPr/>
          <p:nvPr/>
        </p:nvSpPr>
        <p:spPr>
          <a:xfrm>
            <a:off x="6019920" y="2666880"/>
            <a:ext cx="2666880" cy="106704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тельные   и страдате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Прямоугольник 9"/>
          <p:cNvSpPr/>
          <p:nvPr/>
        </p:nvSpPr>
        <p:spPr>
          <a:xfrm>
            <a:off x="457200" y="3886200"/>
            <a:ext cx="27432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изменяется     по родам        и падеж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3352680" y="3886200"/>
            <a:ext cx="25146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не изменяетс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Прямоугольник 11"/>
          <p:cNvSpPr/>
          <p:nvPr/>
        </p:nvSpPr>
        <p:spPr>
          <a:xfrm>
            <a:off x="6095880" y="3886200"/>
            <a:ext cx="259092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бывае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1, 2, 3 лиц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Прямоугольник 12"/>
          <p:cNvSpPr/>
          <p:nvPr/>
        </p:nvSpPr>
        <p:spPr>
          <a:xfrm>
            <a:off x="457200" y="5105520"/>
            <a:ext cx="27432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обстоятель-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Прямоугольник 13"/>
          <p:cNvSpPr/>
          <p:nvPr/>
        </p:nvSpPr>
        <p:spPr>
          <a:xfrm>
            <a:off x="3352680" y="5105520"/>
            <a:ext cx="251460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определение</a:t>
            </a:r>
            <a:r>
              <a:rPr b="1" lang="ru-RU" sz="1800" spc="-1" strike="noStrike">
                <a:solidFill>
                  <a:srgbClr val="000000"/>
                </a:solidFill>
                <a:latin typeface="Bitstream Vera Serif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Прямоугольник 14"/>
          <p:cNvSpPr/>
          <p:nvPr/>
        </p:nvSpPr>
        <p:spPr>
          <a:xfrm>
            <a:off x="6095880" y="5105520"/>
            <a:ext cx="2590920" cy="1066680"/>
          </a:xfrm>
          <a:prstGeom prst="rect">
            <a:avLst/>
          </a:prstGeom>
          <a:solidFill>
            <a:srgbClr val="fbcc9a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78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itstream Vera Serif"/>
              </a:rPr>
              <a:t>сказуе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         </a:t>
            </a: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Что такое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деепричастный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      оборот?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о, стр.78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5335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7f09"/>
                </a:solidFill>
                <a:latin typeface="Verdana"/>
              </a:rPr>
              <a:t>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сущ.      прич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айки, 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летающие над водой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, предвещ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енастье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i="1" lang="ru-RU" sz="2400" spc="-1" strike="noStrike">
                <a:solidFill>
                  <a:srgbClr val="f07f09"/>
                </a:solidFill>
                <a:latin typeface="Verdana"/>
              </a:rPr>
              <a:t>дееприч.                                  гл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Чайки , летая   над  водой , предвещаю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ненасть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Прямая соединительная линия 4"/>
          <p:cNvSpPr/>
          <p:nvPr/>
        </p:nvSpPr>
        <p:spPr>
          <a:xfrm flipV="1">
            <a:off x="3733920" y="1066320"/>
            <a:ext cx="1440" cy="3812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Прямая соединительная линия 6"/>
          <p:cNvSpPr/>
          <p:nvPr/>
        </p:nvSpPr>
        <p:spPr>
          <a:xfrm>
            <a:off x="3733920" y="1066680"/>
            <a:ext cx="152388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2" name="Прямая со стрелкой 8"/>
          <p:cNvCxnSpPr/>
          <p:nvPr/>
        </p:nvCxnSpPr>
        <p:spPr>
          <a:xfrm flipH="1">
            <a:off x="5257440" y="1066320"/>
            <a:ext cx="2160" cy="3819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63" name="Прямая соединительная линия 21"/>
          <p:cNvSpPr/>
          <p:nvPr/>
        </p:nvSpPr>
        <p:spPr>
          <a:xfrm flipV="1">
            <a:off x="3048120" y="2895120"/>
            <a:ext cx="1440" cy="2286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ая соединительная линия 23"/>
          <p:cNvSpPr/>
          <p:nvPr/>
        </p:nvSpPr>
        <p:spPr>
          <a:xfrm>
            <a:off x="3048120" y="2895480"/>
            <a:ext cx="160020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5" name="Прямая со стрелкой 25"/>
          <p:cNvCxnSpPr/>
          <p:nvPr/>
        </p:nvCxnSpPr>
        <p:spPr>
          <a:xfrm flipH="1">
            <a:off x="4647960" y="2895480"/>
            <a:ext cx="2160" cy="610560"/>
          </a:xfrm>
          <a:prstGeom prst="straightConnector1">
            <a:avLst/>
          </a:prstGeom>
          <a:ln w="42480">
            <a:solidFill>
              <a:srgbClr val="f07f09"/>
            </a:solidFill>
            <a:miter/>
            <a:tailEnd len="med" type="arrow" w="med"/>
          </a:ln>
        </p:spPr>
      </p:cxnSp>
      <p:sp>
        <p:nvSpPr>
          <p:cNvPr id="266" name="Умножение 26"/>
          <p:cNvSpPr/>
          <p:nvPr/>
        </p:nvSpPr>
        <p:spPr>
          <a:xfrm>
            <a:off x="609480" y="990720"/>
            <a:ext cx="304920" cy="304560"/>
          </a:xfrm>
          <a:custGeom>
            <a:avLst/>
            <a:gdLst>
              <a:gd name="textAreaLeft" fmla="*/ 47880 w 304920"/>
              <a:gd name="textAreaRight" fmla="*/ 257040 w 304920"/>
              <a:gd name="textAreaTop" fmla="*/ 47520 h 304560"/>
              <a:gd name="textAreaBottom" fmla="*/ 257040 h 304560"/>
            </a:gdLst>
            <a:ahLst/>
            <a:rect l="textAreaLeft" t="textAreaTop" r="textAreaRight" b="textAreaBottom"/>
            <a:pathLst>
              <a:path w="304800" h="304800">
                <a:moveTo>
                  <a:pt x="47859" y="98551"/>
                </a:moveTo>
                <a:lnTo>
                  <a:pt x="98551" y="47859"/>
                </a:lnTo>
                <a:lnTo>
                  <a:pt x="152400" y="101708"/>
                </a:lnTo>
                <a:lnTo>
                  <a:pt x="206249" y="47859"/>
                </a:lnTo>
                <a:lnTo>
                  <a:pt x="256941" y="98551"/>
                </a:lnTo>
                <a:lnTo>
                  <a:pt x="203092" y="152400"/>
                </a:lnTo>
                <a:lnTo>
                  <a:pt x="256941" y="206249"/>
                </a:lnTo>
                <a:lnTo>
                  <a:pt x="206249" y="256941"/>
                </a:lnTo>
                <a:lnTo>
                  <a:pt x="152400" y="203092"/>
                </a:lnTo>
                <a:lnTo>
                  <a:pt x="98551" y="256941"/>
                </a:lnTo>
                <a:lnTo>
                  <a:pt x="47859" y="206249"/>
                </a:lnTo>
                <a:lnTo>
                  <a:pt x="101708" y="1524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Умножение 27"/>
          <p:cNvSpPr/>
          <p:nvPr/>
        </p:nvSpPr>
        <p:spPr>
          <a:xfrm>
            <a:off x="6400800" y="3200400"/>
            <a:ext cx="304920" cy="304920"/>
          </a:xfrm>
          <a:custGeom>
            <a:avLst/>
            <a:gdLst>
              <a:gd name="textAreaLeft" fmla="*/ 47880 w 304920"/>
              <a:gd name="textAreaRight" fmla="*/ 257040 w 304920"/>
              <a:gd name="textAreaTop" fmla="*/ 47880 h 304920"/>
              <a:gd name="textAreaBottom" fmla="*/ 257040 h 304920"/>
            </a:gdLst>
            <a:ahLst/>
            <a:rect l="textAreaLeft" t="textAreaTop" r="textAreaRight" b="textAreaBottom"/>
            <a:pathLst>
              <a:path w="304800" h="304800">
                <a:moveTo>
                  <a:pt x="47859" y="98551"/>
                </a:moveTo>
                <a:lnTo>
                  <a:pt x="98551" y="47859"/>
                </a:lnTo>
                <a:lnTo>
                  <a:pt x="152400" y="101708"/>
                </a:lnTo>
                <a:lnTo>
                  <a:pt x="206249" y="47859"/>
                </a:lnTo>
                <a:lnTo>
                  <a:pt x="256941" y="98551"/>
                </a:lnTo>
                <a:lnTo>
                  <a:pt x="203092" y="152400"/>
                </a:lnTo>
                <a:lnTo>
                  <a:pt x="256941" y="206249"/>
                </a:lnTo>
                <a:lnTo>
                  <a:pt x="206249" y="256941"/>
                </a:lnTo>
                <a:lnTo>
                  <a:pt x="152400" y="203092"/>
                </a:lnTo>
                <a:lnTo>
                  <a:pt x="98551" y="256941"/>
                </a:lnTo>
                <a:lnTo>
                  <a:pt x="47859" y="206249"/>
                </a:lnTo>
                <a:lnTo>
                  <a:pt x="101708" y="152400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Прямая соединительная линия 29"/>
          <p:cNvSpPr/>
          <p:nvPr/>
        </p:nvSpPr>
        <p:spPr>
          <a:xfrm>
            <a:off x="2209680" y="4038480"/>
            <a:ext cx="3276720" cy="1800"/>
          </a:xfrm>
          <a:prstGeom prst="line">
            <a:avLst/>
          </a:prstGeom>
          <a:ln w="42480">
            <a:solidFill>
              <a:srgbClr val="f07f0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Прямая соединительная линия 14"/>
          <p:cNvSpPr/>
          <p:nvPr/>
        </p:nvSpPr>
        <p:spPr>
          <a:xfrm flipV="1">
            <a:off x="457200" y="2552760"/>
            <a:ext cx="82296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Рисунок 15" descr="0_1b66_b2b7c154_L.jpg"/>
          <p:cNvPicPr/>
          <p:nvPr/>
        </p:nvPicPr>
        <p:blipFill>
          <a:blip r:embed="rId1"/>
          <a:stretch/>
        </p:blipFill>
        <p:spPr>
          <a:xfrm>
            <a:off x="5479920" y="4260960"/>
            <a:ext cx="3365640" cy="23414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ая соединительная линия 18"/>
          <p:cNvSpPr/>
          <p:nvPr/>
        </p:nvSpPr>
        <p:spPr>
          <a:xfrm>
            <a:off x="5943600" y="4038480"/>
            <a:ext cx="2362320" cy="180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Прямая соединительная линия 19"/>
          <p:cNvSpPr/>
          <p:nvPr/>
        </p:nvSpPr>
        <p:spPr>
          <a:xfrm>
            <a:off x="5943600" y="4191120"/>
            <a:ext cx="2362320" cy="1440"/>
          </a:xfrm>
          <a:prstGeom prst="line">
            <a:avLst/>
          </a:prstGeom>
          <a:ln w="42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5410080"/>
            <a:ext cx="81835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.        дееприч.</a:t>
            </a:r>
            <a:br>
              <a:rPr sz="3200"/>
            </a:br>
            <a:r>
              <a:rPr b="1" lang="ru-RU" sz="3200" spc="-1" strike="noStrike">
                <a:solidFill>
                  <a:srgbClr val="f07f09"/>
                </a:solidFill>
                <a:latin typeface="Verdana"/>
              </a:rPr>
              <a:t>Прославился,   защищая Родину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457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Образуйте деепричастные обороты, запишите их вмест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07f09"/>
                </a:solidFill>
                <a:latin typeface="Verdana"/>
              </a:rPr>
              <a:t>с главным  словом - глаголом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33520" y="2057400"/>
          <a:ext cx="8076960" cy="3475080"/>
        </p:xfrm>
        <a:graphic>
          <a:graphicData uri="http://schemas.openxmlformats.org/drawingml/2006/table">
            <a:tbl>
              <a:tblPr/>
              <a:tblGrid>
                <a:gridCol w="2641320"/>
                <a:gridCol w="2768760"/>
                <a:gridCol w="2666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лаго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епричас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23232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висимое 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1224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слави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аливш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1224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пуг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щищ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дин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прята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се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 корточ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тдохн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еха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уговиц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колол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23232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ишив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сугр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07f09"/>
                      </a:solidFill>
                    </a:lnL>
                    <a:lnR w="5760">
                      <a:solidFill>
                        <a:srgbClr val="f07f09"/>
                      </a:solidFill>
                    </a:lnR>
                    <a:lnT w="5760">
                      <a:solidFill>
                        <a:srgbClr val="f07f09"/>
                      </a:solidFill>
                    </a:lnT>
                    <a:lnB w="5760">
                      <a:solidFill>
                        <a:srgbClr val="f07f09"/>
                      </a:solidFill>
                    </a:lnB>
                    <a:solidFill>
                      <a:srgbClr val="f07f0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76" name="Умножение 5"/>
          <p:cNvSpPr/>
          <p:nvPr/>
        </p:nvSpPr>
        <p:spPr>
          <a:xfrm>
            <a:off x="2286000" y="2133720"/>
            <a:ext cx="762120" cy="609480"/>
          </a:xfrm>
          <a:custGeom>
            <a:avLst/>
            <a:gdLst>
              <a:gd name="textAreaLeft" fmla="*/ 138240 w 762120"/>
              <a:gd name="textAreaRight" fmla="*/ 623880 w 762120"/>
              <a:gd name="textAreaTop" fmla="*/ 90360 h 609480"/>
              <a:gd name="textAreaBottom" fmla="*/ 519120 h 609480"/>
            </a:gdLst>
            <a:ahLst/>
            <a:rect l="textAreaLeft" t="textAreaTop" r="textAreaRight" b="textAreaBottom"/>
            <a:pathLst>
              <a:path w="762000" h="609600">
                <a:moveTo>
                  <a:pt x="138230" y="202390"/>
                </a:moveTo>
                <a:lnTo>
                  <a:pt x="227797" y="90431"/>
                </a:lnTo>
                <a:lnTo>
                  <a:pt x="381000" y="212993"/>
                </a:lnTo>
                <a:lnTo>
                  <a:pt x="534203" y="90431"/>
                </a:lnTo>
                <a:lnTo>
                  <a:pt x="623770" y="202390"/>
                </a:lnTo>
                <a:lnTo>
                  <a:pt x="495758" y="304800"/>
                </a:lnTo>
                <a:lnTo>
                  <a:pt x="623770" y="407210"/>
                </a:lnTo>
                <a:lnTo>
                  <a:pt x="534203" y="519169"/>
                </a:lnTo>
                <a:lnTo>
                  <a:pt x="381000" y="396607"/>
                </a:lnTo>
                <a:lnTo>
                  <a:pt x="227797" y="519169"/>
                </a:lnTo>
                <a:lnTo>
                  <a:pt x="138230" y="407210"/>
                </a:lnTo>
                <a:lnTo>
                  <a:pt x="266242" y="304800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b05c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Умножение 8"/>
          <p:cNvSpPr/>
          <p:nvPr/>
        </p:nvSpPr>
        <p:spPr>
          <a:xfrm>
            <a:off x="1371600" y="5562720"/>
            <a:ext cx="380880" cy="380880"/>
          </a:xfrm>
          <a:custGeom>
            <a:avLst/>
            <a:gdLst>
              <a:gd name="textAreaLeft" fmla="*/ 59760 w 380880"/>
              <a:gd name="textAreaRight" fmla="*/ 321120 w 380880"/>
              <a:gd name="textAreaTop" fmla="*/ 59760 h 380880"/>
              <a:gd name="textAreaBottom" fmla="*/ 321120 h 380880"/>
            </a:gdLst>
            <a:ahLst/>
            <a:rect l="textAreaLeft" t="textAreaTop" r="textAreaRight" b="textAreaBottom"/>
            <a:pathLst>
              <a:path w="381000" h="381000">
                <a:moveTo>
                  <a:pt x="59824" y="123189"/>
                </a:moveTo>
                <a:lnTo>
                  <a:pt x="123189" y="59824"/>
                </a:lnTo>
                <a:lnTo>
                  <a:pt x="190500" y="127135"/>
                </a:lnTo>
                <a:lnTo>
                  <a:pt x="257811" y="59824"/>
                </a:lnTo>
                <a:lnTo>
                  <a:pt x="321176" y="123189"/>
                </a:lnTo>
                <a:lnTo>
                  <a:pt x="253865" y="190500"/>
                </a:lnTo>
                <a:lnTo>
                  <a:pt x="321176" y="257811"/>
                </a:lnTo>
                <a:lnTo>
                  <a:pt x="257811" y="321176"/>
                </a:lnTo>
                <a:lnTo>
                  <a:pt x="190500" y="253865"/>
                </a:lnTo>
                <a:lnTo>
                  <a:pt x="123189" y="321176"/>
                </a:lnTo>
                <a:lnTo>
                  <a:pt x="59824" y="257811"/>
                </a:lnTo>
                <a:lnTo>
                  <a:pt x="127135" y="190500"/>
                </a:lnTo>
                <a:close/>
              </a:path>
            </a:pathLst>
          </a:custGeom>
          <a:solidFill>
            <a:srgbClr val="50141b"/>
          </a:solidFill>
          <a:ln w="4248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Прямая соединительная линия 10"/>
          <p:cNvSpPr/>
          <p:nvPr/>
        </p:nvSpPr>
        <p:spPr>
          <a:xfrm>
            <a:off x="4343400" y="6400800"/>
            <a:ext cx="4038480" cy="1440"/>
          </a:xfrm>
          <a:prstGeom prst="line">
            <a:avLst/>
          </a:prstGeom>
          <a:ln w="4248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2760"/>
            <a:ext cx="8183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йдите деепричастный оборот,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ставьте пропущенные знаки препинания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5331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07f09"/>
                </a:solidFill>
                <a:latin typeface="Verdana"/>
              </a:rPr>
              <a:t>Письмо по памя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Журавли    друг друга окл..ка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Осторожно  тянут..ся   гурьбо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Рисунок 3" descr="�������2.jpg"/>
          <p:cNvPicPr/>
          <p:nvPr/>
        </p:nvPicPr>
        <p:blipFill>
          <a:blip r:embed="rId1"/>
          <a:stretch/>
        </p:blipFill>
        <p:spPr>
          <a:xfrm>
            <a:off x="603360" y="603360"/>
            <a:ext cx="300492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1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1-13T13:41:32Z</dcterms:modified>
  <cp:revision>161</cp:revision>
  <dc:subject/>
  <dc:title>Урок русского языка в 7 классе  Деепричастный оборот</dc:title>
</cp:coreProperties>
</file>