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9.png" ContentType="image/png"/>
  <Override PartName="/ppt/media/image9.jpeg" ContentType="image/jpeg"/>
  <Override PartName="/ppt/media/image10.png" ContentType="image/png"/>
  <Override PartName="/ppt/media/image5.wmf" ContentType="image/x-wmf"/>
  <Override PartName="/ppt/media/image32.png" ContentType="image/png"/>
  <Override PartName="/ppt/media/image38.png" ContentType="image/png"/>
  <Override PartName="/ppt/media/image8.jpeg" ContentType="image/jpeg"/>
  <Override PartName="/ppt/media/image33.png" ContentType="image/png"/>
  <Override PartName="/ppt/media/image35.png" ContentType="image/png"/>
  <Override PartName="/ppt/media/image36.png" ContentType="image/png"/>
  <Override PartName="/ppt/media/image13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12.jpeg" ContentType="image/jpeg"/>
  <Override PartName="/ppt/media/image34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wmf" ContentType="image/x-wmf"/>
  <Override PartName="/ppt/media/image31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062C-D65A-4189-9CCF-DD2F37330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A633F-E7C9-4CB8-A3CA-B48D0D29D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B67A-763A-4097-A72A-C023B463F7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976B2-5146-48F9-B3AB-206BCE4BED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A819-5698-47D5-B0DC-9D3D23B5C6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EF1C-649B-4708-B9D5-9E52B125C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E4180-4958-461B-BBA7-C68257DE9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7419-E59D-4FA2-89DE-231517B7A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381A-CD8A-4EF7-B3F0-57907FE52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65C8-B855-460A-8AC1-541043B1CC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F1497-1883-4B0B-9718-8D7EC6852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FB03-53C5-416B-9B42-621CC9A7BF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3280"/>
            <a:ext cx="21225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A627C5-E2EC-4DDD-B9D0-53CB05C18A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6553080" y="2438280"/>
            <a:ext cx="2590920" cy="286236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3"/>
          <p:cNvSpPr/>
          <p:nvPr/>
        </p:nvSpPr>
        <p:spPr>
          <a:xfrm>
            <a:off x="0" y="228600"/>
            <a:ext cx="7086600" cy="6400800"/>
          </a:xfrm>
          <a:prstGeom prst="verticalScroll">
            <a:avLst>
              <a:gd name="adj" fmla="val 9935"/>
            </a:avLst>
          </a:prstGeom>
          <a:solidFill>
            <a:srgbClr val="eeece1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Деятельность заключает награду в самой себе.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Действовать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оздавать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…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всё человеческое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частье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заключается в этом!    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3333cc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3360"/>
                <a:tab algn="l" pos="10779120"/>
                <a:tab algn="l" pos="10780560"/>
                <a:tab algn="l" pos="1078236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i="1" lang="ru-RU" sz="4000" spc="-1" strike="noStrike">
                <a:solidFill>
                  <a:srgbClr val="3333cc"/>
                </a:solidFill>
                <a:latin typeface="Arial"/>
              </a:rPr>
              <a:t>Эмиль Золя</a:t>
            </a:r>
            <a:r>
              <a:rPr b="1" lang="ru-RU" sz="1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Text Box 1"/>
          <p:cNvGrpSpPr/>
          <p:nvPr/>
        </p:nvGrpSpPr>
        <p:grpSpPr>
          <a:xfrm>
            <a:off x="328680" y="274680"/>
            <a:ext cx="8339040" cy="1395360"/>
            <a:chOff x="328680" y="274680"/>
            <a:chExt cx="8339040" cy="1395360"/>
          </a:xfrm>
        </p:grpSpPr>
        <p:pic>
          <p:nvPicPr>
            <p:cNvPr id="72" name="Text Box 1" descr=""/>
            <p:cNvPicPr/>
            <p:nvPr/>
          </p:nvPicPr>
          <p:blipFill>
            <a:blip r:embed="rId1"/>
            <a:stretch/>
          </p:blipFill>
          <p:spPr>
            <a:xfrm>
              <a:off x="328680" y="274680"/>
              <a:ext cx="8339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80880" y="304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Правила поведения</a:t>
              </a:r>
              <a:r>
                <a:rPr b="1" lang="en-US" sz="4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0000"/>
                  </a:solidFill>
                  <a:latin typeface="Calibri"/>
                </a:rPr>
                <a:t>в группе.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Text Box 2"/>
          <p:cNvSpPr/>
          <p:nvPr/>
        </p:nvSpPr>
        <p:spPr>
          <a:xfrm>
            <a:off x="230040" y="144468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410080" cy="31240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5486400" y="3048120"/>
            <a:ext cx="3352680" cy="2514600"/>
          </a:xfrm>
          <a:prstGeom prst="rect">
            <a:avLst/>
          </a:prstGeom>
          <a:solidFill>
            <a:srgbClr val="d2d2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шу тиш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аси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путалис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сим помощ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! – эвр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Стрелка вправо 7"/>
          <p:cNvSpPr/>
          <p:nvPr/>
        </p:nvSpPr>
        <p:spPr>
          <a:xfrm>
            <a:off x="4343400" y="3962520"/>
            <a:ext cx="977760" cy="38088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304920" y="685800"/>
            <a:ext cx="7839000" cy="762120"/>
            <a:chOff x="304920" y="685800"/>
            <a:chExt cx="7839000" cy="762120"/>
          </a:xfrm>
        </p:grpSpPr>
        <p:sp>
          <p:nvSpPr>
            <p:cNvPr id="79" name="Text Box 3"/>
            <p:cNvSpPr/>
            <p:nvPr/>
          </p:nvSpPr>
          <p:spPr>
            <a:xfrm>
              <a:off x="304920" y="838080"/>
              <a:ext cx="7839000" cy="609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99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ыполнить деление, найти первую цифру частного и остаток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остаток меньше делителя!)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4"/>
            <p:cNvSpPr/>
            <p:nvPr/>
          </p:nvSpPr>
          <p:spPr>
            <a:xfrm>
              <a:off x="4191120" y="685800"/>
              <a:ext cx="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Group 5"/>
          <p:cNvGrpSpPr/>
          <p:nvPr/>
        </p:nvGrpSpPr>
        <p:grpSpPr>
          <a:xfrm>
            <a:off x="304920" y="1371600"/>
            <a:ext cx="7839000" cy="579600"/>
            <a:chOff x="304920" y="1371600"/>
            <a:chExt cx="7839000" cy="579600"/>
          </a:xfrm>
        </p:grpSpPr>
        <p:sp>
          <p:nvSpPr>
            <p:cNvPr id="82" name="Text Box 6"/>
            <p:cNvSpPr/>
            <p:nvPr/>
          </p:nvSpPr>
          <p:spPr>
            <a:xfrm>
              <a:off x="304920" y="1593720"/>
              <a:ext cx="7839000" cy="357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нести цифру следующего разряда делимого к остатк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>
              <a:off x="419112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Text Box 8"/>
          <p:cNvSpPr/>
          <p:nvPr/>
        </p:nvSpPr>
        <p:spPr>
          <a:xfrm>
            <a:off x="380880" y="0"/>
            <a:ext cx="7772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делить первое неполное делимое и найти количество цифр в частн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Group 9"/>
          <p:cNvGrpSpPr/>
          <p:nvPr/>
        </p:nvGrpSpPr>
        <p:grpSpPr>
          <a:xfrm>
            <a:off x="609480" y="2895480"/>
            <a:ext cx="6543720" cy="981360"/>
            <a:chOff x="609480" y="2895480"/>
            <a:chExt cx="6543720" cy="981360"/>
          </a:xfrm>
        </p:grpSpPr>
        <p:sp>
          <p:nvSpPr>
            <p:cNvPr id="86" name="Text Box 10"/>
            <p:cNvSpPr/>
            <p:nvPr/>
          </p:nvSpPr>
          <p:spPr>
            <a:xfrm>
              <a:off x="4724280" y="2895480"/>
              <a:ext cx="522360" cy="370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 fontScale="87000"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609480" y="3276720"/>
              <a:ext cx="6543720" cy="600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ыполнить  деление,  найти  следующую цифру частного и остаток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(остаток меньше делителя!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13"/>
          <p:cNvGrpSpPr/>
          <p:nvPr/>
        </p:nvGrpSpPr>
        <p:grpSpPr>
          <a:xfrm>
            <a:off x="5867280" y="2133720"/>
            <a:ext cx="3056040" cy="1436400"/>
            <a:chOff x="5867280" y="2133720"/>
            <a:chExt cx="3056040" cy="1436400"/>
          </a:xfrm>
        </p:grpSpPr>
        <p:sp>
          <p:nvSpPr>
            <p:cNvPr id="89" name="Line 14"/>
            <p:cNvSpPr/>
            <p:nvPr/>
          </p:nvSpPr>
          <p:spPr>
            <a:xfrm>
              <a:off x="5867280" y="2590920"/>
              <a:ext cx="1366920" cy="12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2133720"/>
              <a:ext cx="750960" cy="3697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н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Text Box 16"/>
            <p:cNvSpPr/>
            <p:nvPr/>
          </p:nvSpPr>
          <p:spPr>
            <a:xfrm>
              <a:off x="7237440" y="2333520"/>
              <a:ext cx="1685880" cy="1236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Записать 0  в соответствую-щий  разряд частног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Group 17"/>
          <p:cNvGrpSpPr/>
          <p:nvPr/>
        </p:nvGrpSpPr>
        <p:grpSpPr>
          <a:xfrm>
            <a:off x="2209680" y="5638680"/>
            <a:ext cx="3713400" cy="1219320"/>
            <a:chOff x="2209680" y="5638680"/>
            <a:chExt cx="3713400" cy="1219320"/>
          </a:xfrm>
        </p:grpSpPr>
        <p:sp>
          <p:nvSpPr>
            <p:cNvPr id="93" name="Line 18"/>
            <p:cNvSpPr/>
            <p:nvPr/>
          </p:nvSpPr>
          <p:spPr>
            <a:xfrm>
              <a:off x="4038480" y="5638680"/>
              <a:ext cx="0" cy="76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19"/>
            <p:cNvSpPr/>
            <p:nvPr/>
          </p:nvSpPr>
          <p:spPr>
            <a:xfrm>
              <a:off x="2209680" y="6426360"/>
              <a:ext cx="371340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делать проверку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Group 20"/>
          <p:cNvGrpSpPr/>
          <p:nvPr/>
        </p:nvGrpSpPr>
        <p:grpSpPr>
          <a:xfrm>
            <a:off x="1600200" y="1981080"/>
            <a:ext cx="4255920" cy="1209960"/>
            <a:chOff x="1600200" y="1981080"/>
            <a:chExt cx="4255920" cy="1209960"/>
          </a:xfrm>
        </p:grpSpPr>
        <p:sp>
          <p:nvSpPr>
            <p:cNvPr id="96" name="AutoShape 21"/>
            <p:cNvSpPr/>
            <p:nvPr/>
          </p:nvSpPr>
          <p:spPr>
            <a:xfrm>
              <a:off x="1600200" y="1981080"/>
              <a:ext cx="4255920" cy="1209960"/>
            </a:xfrm>
            <a:prstGeom prst="diamond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22"/>
            <p:cNvSpPr/>
            <p:nvPr/>
          </p:nvSpPr>
          <p:spPr>
            <a:xfrm>
              <a:off x="2133720" y="2286000"/>
              <a:ext cx="340344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лучившееся число больше делителя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" name="Group 23"/>
          <p:cNvGrpSpPr/>
          <p:nvPr/>
        </p:nvGrpSpPr>
        <p:grpSpPr>
          <a:xfrm>
            <a:off x="304920" y="4876560"/>
            <a:ext cx="7000920" cy="1057680"/>
            <a:chOff x="304920" y="4876560"/>
            <a:chExt cx="7000920" cy="1057680"/>
          </a:xfrm>
        </p:grpSpPr>
        <p:sp>
          <p:nvSpPr>
            <p:cNvPr id="99" name="Text Box 24"/>
            <p:cNvSpPr/>
            <p:nvPr/>
          </p:nvSpPr>
          <p:spPr>
            <a:xfrm>
              <a:off x="304920" y="5181480"/>
              <a:ext cx="7000920" cy="752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Назвать  ответ: частное и остаток  (остаток меньше делителя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0" name="AutoShape 25"/>
            <p:cNvCxnSpPr/>
            <p:nvPr/>
          </p:nvCxnSpPr>
          <p:spPr>
            <a:xfrm>
              <a:off x="3809520" y="4876560"/>
              <a:ext cx="1080" cy="294120"/>
            </a:xfrm>
            <a:prstGeom prst="straightConnector1">
              <a:avLst/>
            </a:prstGeom>
            <a:ln w="19080">
              <a:solidFill>
                <a:srgbClr val="0d0d0d"/>
              </a:solidFill>
              <a:miter/>
              <a:tailEnd len="med" type="triangle" w="med"/>
            </a:ln>
          </p:spPr>
        </p:cxnSp>
      </p:grpSp>
      <p:pic>
        <p:nvPicPr>
          <p:cNvPr id="101" name="Picture 26" descr=""/>
          <p:cNvPicPr/>
          <p:nvPr/>
        </p:nvPicPr>
        <p:blipFill>
          <a:blip r:embed="rId2"/>
          <a:stretch/>
        </p:blipFill>
        <p:spPr>
          <a:xfrm>
            <a:off x="7518240" y="4648320"/>
            <a:ext cx="1625760" cy="1795320"/>
          </a:xfrm>
          <a:prstGeom prst="rect">
            <a:avLst/>
          </a:prstGeom>
          <a:ln w="0">
            <a:noFill/>
          </a:ln>
        </p:spPr>
      </p:pic>
      <p:grpSp>
        <p:nvGrpSpPr>
          <p:cNvPr id="102" name="Group 27"/>
          <p:cNvGrpSpPr/>
          <p:nvPr/>
        </p:nvGrpSpPr>
        <p:grpSpPr>
          <a:xfrm>
            <a:off x="6400800" y="3578400"/>
            <a:ext cx="1285920" cy="831600"/>
            <a:chOff x="6400800" y="3578400"/>
            <a:chExt cx="1285920" cy="831600"/>
          </a:xfrm>
        </p:grpSpPr>
        <p:sp>
          <p:nvSpPr>
            <p:cNvPr id="103" name="Line 28"/>
            <p:cNvSpPr/>
            <p:nvPr/>
          </p:nvSpPr>
          <p:spPr>
            <a:xfrm flipH="1">
              <a:off x="6400800" y="4410000"/>
              <a:ext cx="1285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9"/>
            <p:cNvSpPr/>
            <p:nvPr/>
          </p:nvSpPr>
          <p:spPr>
            <a:xfrm flipV="1">
              <a:off x="7658280" y="3578400"/>
              <a:ext cx="0" cy="7869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31"/>
          <p:cNvGrpSpPr/>
          <p:nvPr/>
        </p:nvGrpSpPr>
        <p:grpSpPr>
          <a:xfrm>
            <a:off x="304920" y="2057040"/>
            <a:ext cx="6010200" cy="2962800"/>
            <a:chOff x="304920" y="2057040"/>
            <a:chExt cx="6010200" cy="2962800"/>
          </a:xfrm>
        </p:grpSpPr>
        <p:grpSp>
          <p:nvGrpSpPr>
            <p:cNvPr id="106" name="Group 32"/>
            <p:cNvGrpSpPr/>
            <p:nvPr/>
          </p:nvGrpSpPr>
          <p:grpSpPr>
            <a:xfrm>
              <a:off x="1295280" y="3886200"/>
              <a:ext cx="5019840" cy="1133640"/>
              <a:chOff x="1295280" y="3886200"/>
              <a:chExt cx="5019840" cy="1133640"/>
            </a:xfrm>
          </p:grpSpPr>
          <p:sp>
            <p:nvSpPr>
              <p:cNvPr id="107" name="AutoShape 33"/>
              <p:cNvSpPr/>
              <p:nvPr/>
            </p:nvSpPr>
            <p:spPr>
              <a:xfrm>
                <a:off x="1295280" y="3886200"/>
                <a:ext cx="5019840" cy="1133640"/>
              </a:xfrm>
              <a:prstGeom prst="diamond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34"/>
              <p:cNvSpPr/>
              <p:nvPr/>
            </p:nvSpPr>
            <p:spPr>
              <a:xfrm>
                <a:off x="2362320" y="4114800"/>
                <a:ext cx="3340080" cy="57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8000"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Найдена последняя цифра частного?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5"/>
            <p:cNvGrpSpPr/>
            <p:nvPr/>
          </p:nvGrpSpPr>
          <p:grpSpPr>
            <a:xfrm>
              <a:off x="304920" y="2057040"/>
              <a:ext cx="1133280" cy="2429280"/>
              <a:chOff x="304920" y="2057040"/>
              <a:chExt cx="1133280" cy="2429280"/>
            </a:xfrm>
          </p:grpSpPr>
          <p:sp>
            <p:nvSpPr>
              <p:cNvPr id="110" name="Line 36"/>
              <p:cNvSpPr/>
              <p:nvPr/>
            </p:nvSpPr>
            <p:spPr>
              <a:xfrm>
                <a:off x="304920" y="4486320"/>
                <a:ext cx="113328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37"/>
              <p:cNvSpPr/>
              <p:nvPr/>
            </p:nvSpPr>
            <p:spPr>
              <a:xfrm flipV="1">
                <a:off x="304920" y="2057040"/>
                <a:ext cx="0" cy="2428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2" name="Text Box 38"/>
            <p:cNvSpPr/>
            <p:nvPr/>
          </p:nvSpPr>
          <p:spPr>
            <a:xfrm>
              <a:off x="533520" y="4038480"/>
              <a:ext cx="674640" cy="3700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н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rcRect l="2435" t="0" r="2435" b="68172"/>
          <a:stretch/>
        </p:blipFill>
        <p:spPr>
          <a:xfrm>
            <a:off x="304920" y="304920"/>
            <a:ext cx="7145280" cy="2133360"/>
          </a:xfrm>
          <a:prstGeom prst="rect">
            <a:avLst/>
          </a:prstGeom>
          <a:ln w="38160">
            <a:solidFill>
              <a:srgbClr val="d99694"/>
            </a:solidFill>
            <a:miter/>
          </a:ln>
        </p:spPr>
      </p:pic>
      <p:pic>
        <p:nvPicPr>
          <p:cNvPr id="115" name="Picture 3" descr=""/>
          <p:cNvPicPr/>
          <p:nvPr/>
        </p:nvPicPr>
        <p:blipFill>
          <a:blip r:embed="rId4"/>
          <a:srcRect l="3245" t="54449" r="0" b="7286"/>
          <a:stretch/>
        </p:blipFill>
        <p:spPr>
          <a:xfrm>
            <a:off x="2286000" y="4876920"/>
            <a:ext cx="6211800" cy="1981080"/>
          </a:xfrm>
          <a:prstGeom prst="rect">
            <a:avLst/>
          </a:prstGeom>
          <a:ln w="38160">
            <a:solidFill>
              <a:srgbClr val="d99694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662940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304920" y="380880"/>
            <a:ext cx="8610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  № 2 (3), стр. 31 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полни деление с остатком и сделай проверк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3699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4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1219: 3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304920" y="232920"/>
            <a:ext cx="53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Выделить первое неполное делимое и найти количество цифр в частно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1371600"/>
          <a:ext cx="5197320" cy="1189080"/>
        </p:xfrm>
        <a:graphic>
          <a:graphicData uri="http://schemas.openxmlformats.org/drawingml/2006/table">
            <a:tbl>
              <a:tblPr/>
              <a:tblGrid>
                <a:gridCol w="519732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. Выполнить деление, найти первую цифру частного и остаток (остаток меньше делителя!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18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5649840" y="1295280"/>
          <a:ext cx="3494160" cy="11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49840" y="1295280"/>
                    <a:ext cx="3494160" cy="11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19"/>
          <p:cNvSpPr/>
          <p:nvPr/>
        </p:nvSpPr>
        <p:spPr>
          <a:xfrm>
            <a:off x="304920" y="2745360"/>
            <a:ext cx="46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нести цифру следующего разряда делимого к остатку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5638680" y="2590920"/>
          <a:ext cx="277992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2590920"/>
                    <a:ext cx="277992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04920" y="3886200"/>
          <a:ext cx="4038480" cy="4572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.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В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озможно ли делени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34"/>
          <p:cNvSpPr/>
          <p:nvPr/>
        </p:nvSpPr>
        <p:spPr>
          <a:xfrm>
            <a:off x="4713120" y="3887280"/>
            <a:ext cx="4621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Нет, 1 разделить на 3 </a:t>
            </a: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нельзя!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5"/>
          <p:cNvSpPr/>
          <p:nvPr/>
        </p:nvSpPr>
        <p:spPr>
          <a:xfrm>
            <a:off x="380880" y="47268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Записать 0 в соответствующий разряд частного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7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Object 5"/>
          <p:cNvGraphicFramePr/>
          <p:nvPr/>
        </p:nvGraphicFramePr>
        <p:xfrm>
          <a:off x="5867280" y="4572000"/>
          <a:ext cx="2737080" cy="124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572000"/>
                    <a:ext cx="27370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Rectangle 38"/>
          <p:cNvSpPr/>
          <p:nvPr/>
        </p:nvSpPr>
        <p:spPr>
          <a:xfrm>
            <a:off x="176040" y="594468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Найдена последняя цифра частного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6172200" y="5944680"/>
            <a:ext cx="844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Нет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5715000" y="152280"/>
          <a:ext cx="265104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152280"/>
                    <a:ext cx="265104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50920" y="189000"/>
          <a:ext cx="4752720" cy="822240"/>
        </p:xfrm>
        <a:graphic>
          <a:graphicData uri="http://schemas.openxmlformats.org/drawingml/2006/table">
            <a:tbl>
              <a:tblPr/>
              <a:tblGrid>
                <a:gridCol w="475272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. Снести цифру следующего разряда делимого к остатк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Rectangle 18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5486400" y="228600"/>
          <a:ext cx="23749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8600"/>
                    <a:ext cx="23749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28600" y="1523880"/>
          <a:ext cx="4092480" cy="457200"/>
        </p:xfrm>
        <a:graphic>
          <a:graphicData uri="http://schemas.openxmlformats.org/drawingml/2006/table">
            <a:tbl>
              <a:tblPr/>
              <a:tblGrid>
                <a:gridCol w="4092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. Возможно ли делени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30"/>
          <p:cNvSpPr/>
          <p:nvPr/>
        </p:nvSpPr>
        <p:spPr>
          <a:xfrm>
            <a:off x="5316480" y="1373760"/>
            <a:ext cx="3827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Да, 19 </a:t>
            </a: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можно</a:t>
            </a: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 разделить на 3 с остатком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250920" y="2211480"/>
            <a:ext cx="470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9. Выполнить деление, найти следующую цифру частного и остаток (остаток меньше делителя!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33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5257800" y="2286000"/>
          <a:ext cx="3581280" cy="15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2286000"/>
                    <a:ext cx="35812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34"/>
          <p:cNvSpPr/>
          <p:nvPr/>
        </p:nvSpPr>
        <p:spPr>
          <a:xfrm>
            <a:off x="250920" y="379152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0. Найдена последняя цифра частного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5947920" y="3887280"/>
            <a:ext cx="7261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Да.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219960" y="4496760"/>
            <a:ext cx="55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1. Назвать ответ: частное и остато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7"/>
          <p:cNvSpPr/>
          <p:nvPr/>
        </p:nvSpPr>
        <p:spPr>
          <a:xfrm>
            <a:off x="5603760" y="4420800"/>
            <a:ext cx="3529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920000"/>
                </a:solidFill>
                <a:latin typeface="Arial"/>
              </a:rPr>
              <a:t>Частное 406, остаток 1</a:t>
            </a:r>
            <a:r>
              <a:rPr b="0" lang="en-US" sz="2400" spc="-1" strike="noStrike">
                <a:solidFill>
                  <a:srgbClr val="92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9"/>
          <p:cNvSpPr/>
          <p:nvPr/>
        </p:nvSpPr>
        <p:spPr>
          <a:xfrm>
            <a:off x="228600" y="487692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12. Сделать прове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04920" y="5410080"/>
          <a:ext cx="4724280" cy="127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5410080"/>
                    <a:ext cx="472428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0" y="3129120"/>
          <a:ext cx="208080" cy="5173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50"/>
          <p:cNvSpPr/>
          <p:nvPr/>
        </p:nvSpPr>
        <p:spPr>
          <a:xfrm>
            <a:off x="5677920" y="4953960"/>
            <a:ext cx="2812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3 </a:t>
            </a:r>
            <a:r>
              <a:rPr b="1" lang="ru-RU" sz="2400" spc="-1" strike="noStrike">
                <a:solidFill>
                  <a:srgbClr val="920000"/>
                </a:solidFill>
                <a:latin typeface="Symbol"/>
                <a:ea typeface="Symbol"/>
              </a:rPr>
              <a:t></a:t>
            </a:r>
            <a:r>
              <a:rPr b="1" lang="ru-RU" sz="2400" spc="-1" strike="noStrike">
                <a:solidFill>
                  <a:srgbClr val="920000"/>
                </a:solidFill>
                <a:latin typeface="Arial"/>
              </a:rPr>
              <a:t> 406 + 1 = 121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2"/>
          <a:srcRect l="4296" t="0" r="0" b="3562"/>
          <a:stretch/>
        </p:blipFill>
        <p:spPr>
          <a:xfrm>
            <a:off x="0" y="3546360"/>
            <a:ext cx="3657600" cy="3337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380880" y="-41400"/>
            <a:ext cx="8305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Её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муж и ещё 107 рыбаков отправлялись на лодках в море за рыбой. Только она запамятовала, какое же минимальное количество лодок приходилось спускать на воду…  Единственное, о чём она не забыла, так это о том, что были огромные и могли вместить по 7                                                                                                     рыба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3200400" y="2743200"/>
            <a:ext cx="5943600" cy="3951360"/>
            <a:chOff x="3200400" y="2743200"/>
            <a:chExt cx="5943600" cy="3951360"/>
          </a:xfrm>
        </p:grpSpPr>
        <p:sp>
          <p:nvSpPr>
            <p:cNvPr id="160" name="Text Box 4"/>
            <p:cNvSpPr/>
            <p:nvPr/>
          </p:nvSpPr>
          <p:spPr>
            <a:xfrm>
              <a:off x="3200400" y="2743200"/>
              <a:ext cx="5943600" cy="39513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0" bIns="46800" anchor="ctr">
              <a:normAutofit/>
            </a:bodyPr>
            <a:p>
              <a:pPr lvl="1" marL="274680" indent="-171360">
                <a:lnSpc>
                  <a:spcPct val="100000"/>
                </a:lnSpc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) 107+1= 108 (чел.) – всего рыбако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) 108 : 7 = 15 (л.) 3 (чел.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) т.к. 3 рыбакам нужна лодка, то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5+1=16 (л.) – минимум потребовалось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74680" indent="-171360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274680"/>
                  <a:tab algn="l" pos="722160"/>
                  <a:tab algn="l" pos="1171440"/>
                  <a:tab algn="l" pos="1620720"/>
                  <a:tab algn="l" pos="2070000"/>
                  <a:tab algn="l" pos="2519280"/>
                  <a:tab algn="l" pos="2968560"/>
                  <a:tab algn="l" pos="3417840"/>
                  <a:tab algn="l" pos="3867120"/>
                  <a:tab algn="l" pos="4316400"/>
                  <a:tab algn="l" pos="4765680"/>
                  <a:tab algn="l" pos="5214960"/>
                  <a:tab algn="l" pos="5664240"/>
                  <a:tab algn="l" pos="6113520"/>
                  <a:tab algn="l" pos="6562800"/>
                  <a:tab algn="l" pos="7012080"/>
                  <a:tab algn="l" pos="7461360"/>
                  <a:tab algn="l" pos="7910640"/>
                  <a:tab algn="l" pos="8359920"/>
                  <a:tab algn="l" pos="8809200"/>
                  <a:tab algn="l" pos="925848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ru-RU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Ответ: 16 лодок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1" name="Picture 5" descr=""/>
            <p:cNvPicPr/>
            <p:nvPr/>
          </p:nvPicPr>
          <p:blipFill>
            <a:blip r:embed="rId3"/>
            <a:srcRect l="0" t="0" r="3164" b="23709"/>
            <a:stretch/>
          </p:blipFill>
          <p:spPr>
            <a:xfrm>
              <a:off x="3657600" y="3809880"/>
              <a:ext cx="1741680" cy="14540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-237960" y="3517920"/>
            <a:ext cx="3352680" cy="33465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3"/>
          <p:cNvSpPr/>
          <p:nvPr/>
        </p:nvSpPr>
        <p:spPr>
          <a:xfrm>
            <a:off x="228600" y="0"/>
            <a:ext cx="8686800" cy="3352680"/>
          </a:xfrm>
          <a:prstGeom prst="wedgeRoundRectCallout">
            <a:avLst>
              <a:gd name="adj1" fmla="val -240"/>
              <a:gd name="adj2" fmla="val 63148"/>
              <a:gd name="adj3" fmla="val 16667"/>
            </a:avLst>
          </a:prstGeom>
          <a:solidFill>
            <a:srgbClr val="ffff00">
              <a:alpha val="83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0" anchor="t">
            <a:normAutofit/>
          </a:bodyPr>
          <a:p>
            <a:pPr algn="just">
              <a:lnSpc>
                <a:spcPts val="2611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Домашнее зада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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думай и реши, воспользовавшись алгоритмом, примеры на новое знание, используя в качестве делимого ответы задания № 8 стр. 3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☺ 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думай задачи на деление по содержанию, подходящие к теме «Деление многозначного на однозначное с остатко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539640" y="1619280"/>
            <a:ext cx="17748360" cy="125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3352680" y="2895480"/>
            <a:ext cx="1774836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179280" y="4680000"/>
            <a:ext cx="12420720" cy="126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3"/>
          <a:stretch/>
        </p:blipFill>
        <p:spPr>
          <a:xfrm>
            <a:off x="2879640" y="360360"/>
            <a:ext cx="3600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971800" y="457200"/>
            <a:ext cx="5943600" cy="5940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0" y="1619280"/>
            <a:ext cx="39592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"/>
          <p:cNvGrpSpPr/>
          <p:nvPr/>
        </p:nvGrpSpPr>
        <p:grpSpPr>
          <a:xfrm>
            <a:off x="3429000" y="0"/>
            <a:ext cx="5703840" cy="6845400"/>
            <a:chOff x="3429000" y="0"/>
            <a:chExt cx="5703840" cy="6845400"/>
          </a:xfrm>
        </p:grpSpPr>
        <p:grpSp>
          <p:nvGrpSpPr>
            <p:cNvPr id="52" name="Group 2"/>
            <p:cNvGrpSpPr/>
            <p:nvPr/>
          </p:nvGrpSpPr>
          <p:grpSpPr>
            <a:xfrm>
              <a:off x="3429000" y="0"/>
              <a:ext cx="5703840" cy="6845400"/>
              <a:chOff x="3429000" y="0"/>
              <a:chExt cx="5703840" cy="6845400"/>
            </a:xfrm>
          </p:grpSpPr>
          <p:pic>
            <p:nvPicPr>
              <p:cNvPr id="53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429000" y="0"/>
                <a:ext cx="5703840" cy="678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"/>
              <p:cNvPicPr/>
              <p:nvPr/>
            </p:nvPicPr>
            <p:blipFill>
              <a:blip r:embed="rId3"/>
              <a:stretch/>
            </p:blipFill>
            <p:spPr>
              <a:xfrm>
                <a:off x="6611760" y="6203880"/>
                <a:ext cx="2519640" cy="64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" name="Text Box 5"/>
            <p:cNvSpPr/>
            <p:nvPr/>
          </p:nvSpPr>
          <p:spPr>
            <a:xfrm>
              <a:off x="6611760" y="5029200"/>
              <a:ext cx="2159280" cy="116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ru-RU" sz="6000" spc="-1" strike="noStrike">
                  <a:solidFill>
                    <a:srgbClr val="002060"/>
                  </a:solidFill>
                  <a:latin typeface="Arial"/>
                </a:rPr>
                <a:t>162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56" name=""/>
          <p:cNvGraphicFramePr/>
          <p:nvPr/>
        </p:nvGraphicFramePr>
        <p:xfrm>
          <a:off x="4191120" y="2438280"/>
          <a:ext cx="4574880" cy="1785960"/>
        </p:xfrm>
        <a:graphic>
          <a:graphicData uri="http://schemas.openxmlformats.org/drawingml/2006/table">
            <a:tbl>
              <a:tblPr/>
              <a:tblGrid>
                <a:gridCol w="2162160"/>
                <a:gridCol w="280800"/>
                <a:gridCol w="2131920"/>
              </a:tblGrid>
              <a:tr h="867960">
                <a:tc>
                  <a:txBody>
                    <a:bodyPr lIns="0" rIns="0" tIns="44100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4100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4100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вариан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1020600">
                <a:tc>
                  <a:txBody>
                    <a:bodyPr lIns="0" rIns="0" tIns="42336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2: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по частям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2336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23360" bIns="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62: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«углом»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0" y="2057400"/>
            <a:ext cx="4575240" cy="41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"/>
          <p:cNvPicPr/>
          <p:nvPr/>
        </p:nvPicPr>
        <p:blipFill>
          <a:blip r:embed="rId2"/>
          <a:srcRect l="1141" t="6522" r="3272" b="10866"/>
          <a:stretch/>
        </p:blipFill>
        <p:spPr>
          <a:xfrm>
            <a:off x="914400" y="685800"/>
            <a:ext cx="6400800" cy="2895480"/>
          </a:xfrm>
          <a:prstGeom prst="rect">
            <a:avLst/>
          </a:prstGeom>
          <a:ln w="9360">
            <a:solidFill>
              <a:srgbClr val="002060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3">
            <a:lum contrast="10000"/>
          </a:blip>
          <a:srcRect l="0" t="18069" r="0" b="0"/>
          <a:stretch/>
        </p:blipFill>
        <p:spPr>
          <a:xfrm>
            <a:off x="0" y="4267080"/>
            <a:ext cx="88930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2209680" y="990720"/>
            <a:ext cx="4686480" cy="436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2">
            <a:lum contrast="-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1676520" y="1143000"/>
            <a:ext cx="5257800" cy="525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4"/>
          <a:srcRect l="1540" t="2792" r="47843" b="3938"/>
          <a:stretch/>
        </p:blipFill>
        <p:spPr>
          <a:xfrm>
            <a:off x="304920" y="2133720"/>
            <a:ext cx="2743200" cy="448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914400" y="5029200"/>
            <a:ext cx="2139840" cy="1122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6"/>
          <a:srcRect l="0" t="0" r="0" b="3838"/>
          <a:stretch/>
        </p:blipFill>
        <p:spPr>
          <a:xfrm>
            <a:off x="3276720" y="152280"/>
            <a:ext cx="632772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574848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4"/>
          <a:stretch/>
        </p:blipFill>
        <p:spPr>
          <a:xfrm>
            <a:off x="5410080" y="1066680"/>
            <a:ext cx="3370320" cy="145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5"/>
          <a:stretch/>
        </p:blipFill>
        <p:spPr>
          <a:xfrm>
            <a:off x="0" y="2133720"/>
            <a:ext cx="8369280" cy="149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6"/>
          <a:stretch/>
        </p:blipFill>
        <p:spPr>
          <a:xfrm>
            <a:off x="2401920" y="4419720"/>
            <a:ext cx="6742080" cy="173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5T15:10:16Z</dcterms:created>
  <dc:creator>к55</dc:creator>
  <dc:description/>
  <dc:language>en-US</dc:language>
  <cp:lastModifiedBy>user</cp:lastModifiedBy>
  <dcterms:modified xsi:type="dcterms:W3CDTF">2017-01-12T20:07:25Z</dcterms:modified>
  <cp:revision>98</cp:revision>
  <dc:subject/>
  <dc:title>Слайд 1</dc:title>
</cp:coreProperties>
</file>