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29.png" ContentType="image/png"/>
  <Override PartName="/ppt/media/image9.jpeg" ContentType="image/jpeg"/>
  <Override PartName="/ppt/media/image10.png" ContentType="image/png"/>
  <Override PartName="/ppt/media/image5.wmf" ContentType="image/x-wmf"/>
  <Override PartName="/ppt/media/image32.png" ContentType="image/png"/>
  <Override PartName="/ppt/media/image38.png" ContentType="image/png"/>
  <Override PartName="/ppt/media/image8.jpeg" ContentType="image/jpeg"/>
  <Override PartName="/ppt/media/image33.png" ContentType="image/png"/>
  <Override PartName="/ppt/media/image35.png" ContentType="image/png"/>
  <Override PartName="/ppt/media/image36.png" ContentType="image/png"/>
  <Override PartName="/ppt/media/image13.png" ContentType="image/png"/>
  <Override PartName="/ppt/media/image37.png" ContentType="image/png"/>
  <Override PartName="/ppt/media/image39.png" ContentType="image/png"/>
  <Override PartName="/ppt/media/image41.png" ContentType="image/png"/>
  <Override PartName="/ppt/media/image12.jpeg" ContentType="image/jpeg"/>
  <Override PartName="/ppt/media/image34.png" ContentType="image/png"/>
  <Override PartName="/ppt/media/image7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40.png" ContentType="image/png"/>
  <Override PartName="/ppt/media/image4.jpeg" ContentType="image/jpe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4.wmf" ContentType="image/x-wmf"/>
  <Override PartName="/ppt/media/image31.png" ContentType="image/png"/>
  <Override PartName="/ppt/media/image1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36B91-C464-42E1-B17D-69A5D61587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56336-9B42-4627-A3DE-B97AAA6740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6FCB2-E3F5-4840-AC74-BD785C8E2A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486E1-BA88-4B96-8243-6A31375B1D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F0155-D365-48DE-8833-17DDE913C7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50FF0-DED1-4CD4-8305-9F1D862D05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E8390-F4B7-453D-AE12-AAE41596A0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7AE11-D31D-44FA-B899-56446B6F68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84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BA5D9-88E8-4CAC-8E0D-F4F6740E14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2F440-626D-4BF8-9B19-8D772FE2D0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5601E-82EC-451E-9A6F-B1FCE780FB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48ACD-CC73-432E-A181-47BDBA404E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353280"/>
            <a:ext cx="213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353280"/>
            <a:ext cx="21225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3AD667A-41BD-4CD4-97FD-3B21E78583A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"/>
          <p:cNvPicPr/>
          <p:nvPr/>
        </p:nvPicPr>
        <p:blipFill>
          <a:blip r:embed="rId3"/>
          <a:stretch/>
        </p:blipFill>
        <p:spPr>
          <a:xfrm>
            <a:off x="6553080" y="2438280"/>
            <a:ext cx="2590920" cy="286236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3"/>
          <p:cNvSpPr/>
          <p:nvPr/>
        </p:nvSpPr>
        <p:spPr>
          <a:xfrm>
            <a:off x="0" y="228600"/>
            <a:ext cx="7086600" cy="6400800"/>
          </a:xfrm>
          <a:prstGeom prst="verticalScroll">
            <a:avLst>
              <a:gd name="adj" fmla="val 9935"/>
            </a:avLst>
          </a:prstGeom>
          <a:solidFill>
            <a:srgbClr val="eeece1">
              <a:alpha val="8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3360"/>
                <a:tab algn="l" pos="10779120"/>
                <a:tab algn="l" pos="10780560"/>
                <a:tab algn="l" pos="1078236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Arial"/>
              </a:rPr>
              <a:t>Деятельность заключает награду в самой себе.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Действовать</a:t>
            </a:r>
            <a:r>
              <a:rPr b="1" lang="ru-RU" sz="4000" spc="-1" strike="noStrike">
                <a:solidFill>
                  <a:srgbClr val="3333cc"/>
                </a:solidFill>
                <a:latin typeface="Arial"/>
              </a:rPr>
              <a:t>,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создавать</a:t>
            </a:r>
            <a:r>
              <a:rPr b="1" lang="ru-RU" sz="4000" spc="-1" strike="noStrike">
                <a:solidFill>
                  <a:srgbClr val="3333cc"/>
                </a:solidFill>
                <a:latin typeface="Arial"/>
              </a:rPr>
              <a:t>…</a:t>
            </a: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- </a:t>
            </a:r>
            <a:r>
              <a:rPr b="1" lang="ru-RU" sz="4000" spc="-1" strike="noStrike">
                <a:solidFill>
                  <a:srgbClr val="3333cc"/>
                </a:solidFill>
                <a:latin typeface="Arial"/>
              </a:rPr>
              <a:t> всё человеческое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счастье</a:t>
            </a:r>
            <a:r>
              <a:rPr b="1" lang="ru-RU" sz="4000" spc="-1" strike="noStrike">
                <a:solidFill>
                  <a:srgbClr val="3333cc"/>
                </a:solidFill>
                <a:latin typeface="Arial"/>
              </a:rPr>
              <a:t>  заключается в этом!    </a:t>
            </a:r>
            <a:r>
              <a:rPr b="1" lang="ru-RU" sz="4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3333cc"/>
                </a:solidFill>
                <a:latin typeface="Arial"/>
              </a:rPr>
              <a:t> 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3360"/>
                <a:tab algn="l" pos="10779120"/>
                <a:tab algn="l" pos="10780560"/>
                <a:tab algn="l" pos="10782360"/>
              </a:tabLst>
            </a:pPr>
            <a:r>
              <a:rPr b="1" i="1" lang="ru-RU" sz="4000" spc="-1" strike="noStrike">
                <a:solidFill>
                  <a:srgbClr val="3333cc"/>
                </a:solidFill>
                <a:latin typeface="Arial"/>
              </a:rPr>
              <a:t>                 </a:t>
            </a:r>
            <a:r>
              <a:rPr b="1" i="1" lang="ru-RU" sz="4000" spc="-1" strike="noStrike">
                <a:solidFill>
                  <a:srgbClr val="3333cc"/>
                </a:solidFill>
                <a:latin typeface="Arial"/>
              </a:rPr>
              <a:t>Эмиль Золя</a:t>
            </a:r>
            <a:r>
              <a:rPr b="1" lang="ru-RU" sz="16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Text Box 1"/>
          <p:cNvGrpSpPr/>
          <p:nvPr/>
        </p:nvGrpSpPr>
        <p:grpSpPr>
          <a:xfrm>
            <a:off x="328680" y="274680"/>
            <a:ext cx="8339040" cy="1395360"/>
            <a:chOff x="328680" y="274680"/>
            <a:chExt cx="8339040" cy="1395360"/>
          </a:xfrm>
        </p:grpSpPr>
        <p:pic>
          <p:nvPicPr>
            <p:cNvPr id="72" name="Text Box 1" descr=""/>
            <p:cNvPicPr/>
            <p:nvPr/>
          </p:nvPicPr>
          <p:blipFill>
            <a:blip r:embed="rId1"/>
            <a:stretch/>
          </p:blipFill>
          <p:spPr>
            <a:xfrm>
              <a:off x="328680" y="274680"/>
              <a:ext cx="833904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380880" y="30492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Calibri"/>
                </a:rPr>
                <a:t>Правила поведения</a:t>
              </a:r>
              <a:r>
                <a:rPr b="1" lang="en-US" sz="4400" spc="-1" strike="noStrike">
                  <a:solidFill>
                    <a:srgbClr val="ff0000"/>
                  </a:solidFill>
                  <a:latin typeface="Calibri"/>
                </a:rPr>
                <a:t> </a:t>
              </a:r>
              <a:r>
                <a:rPr b="1" lang="ru-RU" sz="4400" spc="-1" strike="noStrike">
                  <a:solidFill>
                    <a:srgbClr val="ff0000"/>
                  </a:solidFill>
                  <a:latin typeface="Calibri"/>
                </a:rPr>
                <a:t>в группе.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" name="Text Box 2"/>
          <p:cNvSpPr/>
          <p:nvPr/>
        </p:nvSpPr>
        <p:spPr>
          <a:xfrm>
            <a:off x="230040" y="144468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533520" y="2362320"/>
            <a:ext cx="5410080" cy="31240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4"/>
          <p:cNvSpPr/>
          <p:nvPr/>
        </p:nvSpPr>
        <p:spPr>
          <a:xfrm>
            <a:off x="5486400" y="3048120"/>
            <a:ext cx="3352680" cy="2514600"/>
          </a:xfrm>
          <a:prstGeom prst="rect">
            <a:avLst/>
          </a:prstGeom>
          <a:solidFill>
            <a:srgbClr val="d2d2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–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ошу тиши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–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пасит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–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запуталис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–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осим помощ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! – эври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Стрелка вправо 7"/>
          <p:cNvSpPr/>
          <p:nvPr/>
        </p:nvSpPr>
        <p:spPr>
          <a:xfrm>
            <a:off x="4343400" y="3962520"/>
            <a:ext cx="977760" cy="38088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304920" y="685800"/>
            <a:ext cx="7839000" cy="762120"/>
            <a:chOff x="304920" y="685800"/>
            <a:chExt cx="7839000" cy="762120"/>
          </a:xfrm>
        </p:grpSpPr>
        <p:sp>
          <p:nvSpPr>
            <p:cNvPr id="79" name="Text Box 3"/>
            <p:cNvSpPr/>
            <p:nvPr/>
          </p:nvSpPr>
          <p:spPr>
            <a:xfrm>
              <a:off x="304920" y="838080"/>
              <a:ext cx="7839000" cy="6098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99000"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Выполнить деление, найти первую цифру частного и остаток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(остаток меньше делителя!)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Line 4"/>
            <p:cNvSpPr/>
            <p:nvPr/>
          </p:nvSpPr>
          <p:spPr>
            <a:xfrm>
              <a:off x="4191120" y="685800"/>
              <a:ext cx="0" cy="17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" name="Group 5"/>
          <p:cNvGrpSpPr/>
          <p:nvPr/>
        </p:nvGrpSpPr>
        <p:grpSpPr>
          <a:xfrm>
            <a:off x="304920" y="1371600"/>
            <a:ext cx="7839000" cy="579600"/>
            <a:chOff x="304920" y="1371600"/>
            <a:chExt cx="7839000" cy="579600"/>
          </a:xfrm>
        </p:grpSpPr>
        <p:sp>
          <p:nvSpPr>
            <p:cNvPr id="82" name="Text Box 6"/>
            <p:cNvSpPr/>
            <p:nvPr/>
          </p:nvSpPr>
          <p:spPr>
            <a:xfrm>
              <a:off x="304920" y="1593720"/>
              <a:ext cx="7839000" cy="3574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6000"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Снести цифру следующего разряда делимого к остатку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Line 7"/>
            <p:cNvSpPr/>
            <p:nvPr/>
          </p:nvSpPr>
          <p:spPr>
            <a:xfrm>
              <a:off x="4191120" y="137160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" name="Text Box 8"/>
          <p:cNvSpPr/>
          <p:nvPr/>
        </p:nvSpPr>
        <p:spPr>
          <a:xfrm>
            <a:off x="380880" y="0"/>
            <a:ext cx="777240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делить первое неполное делимое и найти количество цифр в частно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" name="Group 9"/>
          <p:cNvGrpSpPr/>
          <p:nvPr/>
        </p:nvGrpSpPr>
        <p:grpSpPr>
          <a:xfrm>
            <a:off x="609480" y="2895480"/>
            <a:ext cx="6543720" cy="981360"/>
            <a:chOff x="609480" y="2895480"/>
            <a:chExt cx="6543720" cy="981360"/>
          </a:xfrm>
        </p:grpSpPr>
        <p:sp>
          <p:nvSpPr>
            <p:cNvPr id="86" name="Text Box 10"/>
            <p:cNvSpPr/>
            <p:nvPr/>
          </p:nvSpPr>
          <p:spPr>
            <a:xfrm>
              <a:off x="4724280" y="2895480"/>
              <a:ext cx="522360" cy="3700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7000"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Calibri"/>
                </a:rPr>
                <a:t>да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Text Box 11"/>
            <p:cNvSpPr/>
            <p:nvPr/>
          </p:nvSpPr>
          <p:spPr>
            <a:xfrm>
              <a:off x="609480" y="3276720"/>
              <a:ext cx="6543720" cy="6001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3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Выполнить  деление,  найти  следующую цифру частного и остаток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(остаток меньше делителя!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8" name="Group 13"/>
          <p:cNvGrpSpPr/>
          <p:nvPr/>
        </p:nvGrpSpPr>
        <p:grpSpPr>
          <a:xfrm>
            <a:off x="5867280" y="2133720"/>
            <a:ext cx="3056040" cy="1436400"/>
            <a:chOff x="5867280" y="2133720"/>
            <a:chExt cx="3056040" cy="1436400"/>
          </a:xfrm>
        </p:grpSpPr>
        <p:sp>
          <p:nvSpPr>
            <p:cNvPr id="89" name="Line 14"/>
            <p:cNvSpPr/>
            <p:nvPr/>
          </p:nvSpPr>
          <p:spPr>
            <a:xfrm>
              <a:off x="5867280" y="2590920"/>
              <a:ext cx="1366920" cy="126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Text Box 15"/>
            <p:cNvSpPr/>
            <p:nvPr/>
          </p:nvSpPr>
          <p:spPr>
            <a:xfrm>
              <a:off x="6324480" y="2133720"/>
              <a:ext cx="750960" cy="36972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Calibri"/>
                </a:rPr>
                <a:t>нет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Text Box 16"/>
            <p:cNvSpPr/>
            <p:nvPr/>
          </p:nvSpPr>
          <p:spPr>
            <a:xfrm>
              <a:off x="7237440" y="2333520"/>
              <a:ext cx="1685880" cy="12366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Записать 0  в соответствую-щий  разряд частного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2" name="Group 17"/>
          <p:cNvGrpSpPr/>
          <p:nvPr/>
        </p:nvGrpSpPr>
        <p:grpSpPr>
          <a:xfrm>
            <a:off x="2209680" y="5638680"/>
            <a:ext cx="3713400" cy="1219320"/>
            <a:chOff x="2209680" y="5638680"/>
            <a:chExt cx="3713400" cy="1219320"/>
          </a:xfrm>
        </p:grpSpPr>
        <p:sp>
          <p:nvSpPr>
            <p:cNvPr id="93" name="Line 18"/>
            <p:cNvSpPr/>
            <p:nvPr/>
          </p:nvSpPr>
          <p:spPr>
            <a:xfrm>
              <a:off x="4038480" y="5638680"/>
              <a:ext cx="0" cy="762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Text Box 19"/>
            <p:cNvSpPr/>
            <p:nvPr/>
          </p:nvSpPr>
          <p:spPr>
            <a:xfrm>
              <a:off x="2209680" y="6426360"/>
              <a:ext cx="3713400" cy="431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Сделать проверку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" name="Group 20"/>
          <p:cNvGrpSpPr/>
          <p:nvPr/>
        </p:nvGrpSpPr>
        <p:grpSpPr>
          <a:xfrm>
            <a:off x="1600200" y="1981080"/>
            <a:ext cx="4255920" cy="1209960"/>
            <a:chOff x="1600200" y="1981080"/>
            <a:chExt cx="4255920" cy="1209960"/>
          </a:xfrm>
        </p:grpSpPr>
        <p:sp>
          <p:nvSpPr>
            <p:cNvPr id="96" name="AutoShape 21"/>
            <p:cNvSpPr/>
            <p:nvPr/>
          </p:nvSpPr>
          <p:spPr>
            <a:xfrm>
              <a:off x="1600200" y="1981080"/>
              <a:ext cx="4255920" cy="1209960"/>
            </a:xfrm>
            <a:prstGeom prst="diamond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Text Box 22"/>
            <p:cNvSpPr/>
            <p:nvPr/>
          </p:nvSpPr>
          <p:spPr>
            <a:xfrm>
              <a:off x="2133720" y="2286000"/>
              <a:ext cx="3403440" cy="85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Получившееся число больше делителя?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8" name="Group 23"/>
          <p:cNvGrpSpPr/>
          <p:nvPr/>
        </p:nvGrpSpPr>
        <p:grpSpPr>
          <a:xfrm>
            <a:off x="304920" y="4876560"/>
            <a:ext cx="7000920" cy="1057680"/>
            <a:chOff x="304920" y="4876560"/>
            <a:chExt cx="7000920" cy="1057680"/>
          </a:xfrm>
        </p:grpSpPr>
        <p:sp>
          <p:nvSpPr>
            <p:cNvPr id="99" name="Text Box 24"/>
            <p:cNvSpPr/>
            <p:nvPr/>
          </p:nvSpPr>
          <p:spPr>
            <a:xfrm>
              <a:off x="304920" y="5181480"/>
              <a:ext cx="7000920" cy="752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Назвать  ответ: частное и остаток  (остаток меньше делителя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00" name="AutoShape 25"/>
            <p:cNvCxnSpPr/>
            <p:nvPr/>
          </p:nvCxnSpPr>
          <p:spPr>
            <a:xfrm>
              <a:off x="3809520" y="4876560"/>
              <a:ext cx="1080" cy="294120"/>
            </a:xfrm>
            <a:prstGeom prst="straightConnector1">
              <a:avLst/>
            </a:prstGeom>
            <a:ln w="19080">
              <a:solidFill>
                <a:srgbClr val="0d0d0d"/>
              </a:solidFill>
              <a:miter/>
              <a:tailEnd len="med" type="triangle" w="med"/>
            </a:ln>
          </p:spPr>
        </p:cxnSp>
      </p:grpSp>
      <p:pic>
        <p:nvPicPr>
          <p:cNvPr id="101" name="Picture 26" descr=""/>
          <p:cNvPicPr/>
          <p:nvPr/>
        </p:nvPicPr>
        <p:blipFill>
          <a:blip r:embed="rId2"/>
          <a:stretch/>
        </p:blipFill>
        <p:spPr>
          <a:xfrm>
            <a:off x="7518240" y="4648320"/>
            <a:ext cx="1625760" cy="1795320"/>
          </a:xfrm>
          <a:prstGeom prst="rect">
            <a:avLst/>
          </a:prstGeom>
          <a:ln w="0">
            <a:noFill/>
          </a:ln>
        </p:spPr>
      </p:pic>
      <p:grpSp>
        <p:nvGrpSpPr>
          <p:cNvPr id="102" name="Group 27"/>
          <p:cNvGrpSpPr/>
          <p:nvPr/>
        </p:nvGrpSpPr>
        <p:grpSpPr>
          <a:xfrm>
            <a:off x="6400800" y="3578400"/>
            <a:ext cx="1285920" cy="831600"/>
            <a:chOff x="6400800" y="3578400"/>
            <a:chExt cx="1285920" cy="831600"/>
          </a:xfrm>
        </p:grpSpPr>
        <p:sp>
          <p:nvSpPr>
            <p:cNvPr id="103" name="Line 28"/>
            <p:cNvSpPr/>
            <p:nvPr/>
          </p:nvSpPr>
          <p:spPr>
            <a:xfrm flipH="1">
              <a:off x="6400800" y="4410000"/>
              <a:ext cx="12859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Line 29"/>
            <p:cNvSpPr/>
            <p:nvPr/>
          </p:nvSpPr>
          <p:spPr>
            <a:xfrm flipV="1">
              <a:off x="7658280" y="3578400"/>
              <a:ext cx="0" cy="7869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5" name="Group 31"/>
          <p:cNvGrpSpPr/>
          <p:nvPr/>
        </p:nvGrpSpPr>
        <p:grpSpPr>
          <a:xfrm>
            <a:off x="304920" y="2057040"/>
            <a:ext cx="6010200" cy="2962800"/>
            <a:chOff x="304920" y="2057040"/>
            <a:chExt cx="6010200" cy="2962800"/>
          </a:xfrm>
        </p:grpSpPr>
        <p:grpSp>
          <p:nvGrpSpPr>
            <p:cNvPr id="106" name="Group 32"/>
            <p:cNvGrpSpPr/>
            <p:nvPr/>
          </p:nvGrpSpPr>
          <p:grpSpPr>
            <a:xfrm>
              <a:off x="1295280" y="3886200"/>
              <a:ext cx="5019840" cy="1133640"/>
              <a:chOff x="1295280" y="3886200"/>
              <a:chExt cx="5019840" cy="1133640"/>
            </a:xfrm>
          </p:grpSpPr>
          <p:sp>
            <p:nvSpPr>
              <p:cNvPr id="107" name="AutoShape 33"/>
              <p:cNvSpPr/>
              <p:nvPr/>
            </p:nvSpPr>
            <p:spPr>
              <a:xfrm>
                <a:off x="1295280" y="3886200"/>
                <a:ext cx="5019840" cy="1133640"/>
              </a:xfrm>
              <a:prstGeom prst="diamond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Text Box 34"/>
              <p:cNvSpPr/>
              <p:nvPr/>
            </p:nvSpPr>
            <p:spPr>
              <a:xfrm>
                <a:off x="2362320" y="4114800"/>
                <a:ext cx="3340080" cy="57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78000"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Найдена последняя цифра частного?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9" name="Group 35"/>
            <p:cNvGrpSpPr/>
            <p:nvPr/>
          </p:nvGrpSpPr>
          <p:grpSpPr>
            <a:xfrm>
              <a:off x="304920" y="2057040"/>
              <a:ext cx="1133280" cy="2429280"/>
              <a:chOff x="304920" y="2057040"/>
              <a:chExt cx="1133280" cy="2429280"/>
            </a:xfrm>
          </p:grpSpPr>
          <p:sp>
            <p:nvSpPr>
              <p:cNvPr id="110" name="Line 36"/>
              <p:cNvSpPr/>
              <p:nvPr/>
            </p:nvSpPr>
            <p:spPr>
              <a:xfrm>
                <a:off x="304920" y="4486320"/>
                <a:ext cx="113328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Line 37"/>
              <p:cNvSpPr/>
              <p:nvPr/>
            </p:nvSpPr>
            <p:spPr>
              <a:xfrm flipV="1">
                <a:off x="304920" y="2057040"/>
                <a:ext cx="0" cy="2428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2" name="Text Box 38"/>
            <p:cNvSpPr/>
            <p:nvPr/>
          </p:nvSpPr>
          <p:spPr>
            <a:xfrm>
              <a:off x="533520" y="4038480"/>
              <a:ext cx="674640" cy="3700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Calibri"/>
                </a:rPr>
                <a:t>нет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422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"/>
          <p:cNvPicPr/>
          <p:nvPr/>
        </p:nvPicPr>
        <p:blipFill>
          <a:blip r:embed="rId3"/>
          <a:srcRect l="2435" t="0" r="2435" b="68172"/>
          <a:stretch/>
        </p:blipFill>
        <p:spPr>
          <a:xfrm>
            <a:off x="304920" y="304920"/>
            <a:ext cx="7145280" cy="2133360"/>
          </a:xfrm>
          <a:prstGeom prst="rect">
            <a:avLst/>
          </a:prstGeom>
          <a:ln w="38160">
            <a:solidFill>
              <a:srgbClr val="d99694"/>
            </a:solidFill>
            <a:miter/>
          </a:ln>
        </p:spPr>
      </p:pic>
      <p:pic>
        <p:nvPicPr>
          <p:cNvPr id="115" name="Picture 3" descr=""/>
          <p:cNvPicPr/>
          <p:nvPr/>
        </p:nvPicPr>
        <p:blipFill>
          <a:blip r:embed="rId4"/>
          <a:srcRect l="3245" t="54449" r="0" b="7286"/>
          <a:stretch/>
        </p:blipFill>
        <p:spPr>
          <a:xfrm>
            <a:off x="2286000" y="4876920"/>
            <a:ext cx="6211800" cy="1981080"/>
          </a:xfrm>
          <a:prstGeom prst="rect">
            <a:avLst/>
          </a:prstGeom>
          <a:ln w="38160">
            <a:solidFill>
              <a:srgbClr val="d99694"/>
            </a:solidFill>
            <a:miter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2286000" y="2286000"/>
            <a:ext cx="6629400" cy="45720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3"/>
          <p:cNvSpPr/>
          <p:nvPr/>
        </p:nvSpPr>
        <p:spPr>
          <a:xfrm>
            <a:off x="304920" y="380880"/>
            <a:ext cx="86104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ts val="3699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ание   № 2 (3), стр. 31 </a:t>
            </a:r>
            <a:r>
              <a:rPr b="1" i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ts val="3699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ыполни деление с остатком и сделай проверку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ts val="3699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3699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8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ru-RU" sz="4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1219: 3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4"/>
          <p:cNvSpPr/>
          <p:nvPr/>
        </p:nvSpPr>
        <p:spPr>
          <a:xfrm>
            <a:off x="304920" y="232920"/>
            <a:ext cx="530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Выделить первое неполное делимое и найти количество цифр в частном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28600" y="1371600"/>
          <a:ext cx="5197320" cy="1189080"/>
        </p:xfrm>
        <a:graphic>
          <a:graphicData uri="http://schemas.openxmlformats.org/drawingml/2006/table">
            <a:tbl>
              <a:tblPr/>
              <a:tblGrid>
                <a:gridCol w="519732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. Выполнить деление, найти первую цифру частного и остаток (остаток меньше делителя!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Rectangle 18"/>
          <p:cNvSpPr/>
          <p:nvPr/>
        </p:nvSpPr>
        <p:spPr>
          <a:xfrm>
            <a:off x="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Object 3"/>
          <p:cNvGraphicFramePr/>
          <p:nvPr/>
        </p:nvGraphicFramePr>
        <p:xfrm>
          <a:off x="5649840" y="1295280"/>
          <a:ext cx="3494160" cy="116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49840" y="1295280"/>
                    <a:ext cx="3494160" cy="11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Rectangle 19"/>
          <p:cNvSpPr/>
          <p:nvPr/>
        </p:nvSpPr>
        <p:spPr>
          <a:xfrm>
            <a:off x="304920" y="2745360"/>
            <a:ext cx="462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Снести цифру следующего разряда делимого к остатку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21"/>
          <p:cNvSpPr/>
          <p:nvPr/>
        </p:nvSpPr>
        <p:spPr>
          <a:xfrm>
            <a:off x="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Object 4"/>
          <p:cNvGraphicFramePr/>
          <p:nvPr/>
        </p:nvGraphicFramePr>
        <p:xfrm>
          <a:off x="5638680" y="2590920"/>
          <a:ext cx="2779920" cy="1228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2590920"/>
                    <a:ext cx="277992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304920" y="3886200"/>
          <a:ext cx="4038480" cy="45720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.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В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озможно ли деление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Rectangle 34"/>
          <p:cNvSpPr/>
          <p:nvPr/>
        </p:nvSpPr>
        <p:spPr>
          <a:xfrm>
            <a:off x="4713120" y="3887280"/>
            <a:ext cx="4621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920000"/>
                </a:solidFill>
                <a:latin typeface="Arial"/>
              </a:rPr>
              <a:t>Нет, 1 разделить на 3 </a:t>
            </a:r>
            <a:r>
              <a:rPr b="1" lang="ru-RU" sz="2400" spc="-1" strike="noStrike">
                <a:solidFill>
                  <a:srgbClr val="920000"/>
                </a:solidFill>
                <a:latin typeface="Arial"/>
              </a:rPr>
              <a:t>нельзя!</a:t>
            </a:r>
            <a:r>
              <a:rPr b="0" lang="en-US" sz="2400" spc="-1" strike="noStrike">
                <a:solidFill>
                  <a:srgbClr val="92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35"/>
          <p:cNvSpPr/>
          <p:nvPr/>
        </p:nvSpPr>
        <p:spPr>
          <a:xfrm>
            <a:off x="380880" y="472680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 Записать 0 в соответствующий разряд частного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37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2" name="Object 5"/>
          <p:cNvGraphicFramePr/>
          <p:nvPr/>
        </p:nvGraphicFramePr>
        <p:xfrm>
          <a:off x="5867280" y="4572000"/>
          <a:ext cx="2737080" cy="1246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3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572000"/>
                    <a:ext cx="2737080" cy="12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Rectangle 38"/>
          <p:cNvSpPr/>
          <p:nvPr/>
        </p:nvSpPr>
        <p:spPr>
          <a:xfrm>
            <a:off x="176040" y="5944680"/>
            <a:ext cx="595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. Найдена последняя цифра частного?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9"/>
          <p:cNvSpPr/>
          <p:nvPr/>
        </p:nvSpPr>
        <p:spPr>
          <a:xfrm>
            <a:off x="6172200" y="5944680"/>
            <a:ext cx="844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920000"/>
                </a:solidFill>
                <a:latin typeface="Arial"/>
              </a:rPr>
              <a:t>Нет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6" name="Object 2"/>
          <p:cNvGraphicFramePr/>
          <p:nvPr/>
        </p:nvGraphicFramePr>
        <p:xfrm>
          <a:off x="5715000" y="152280"/>
          <a:ext cx="265104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7" name="Object 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15000" y="152280"/>
                    <a:ext cx="265104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250920" y="189000"/>
          <a:ext cx="4752720" cy="822240"/>
        </p:xfrm>
        <a:graphic>
          <a:graphicData uri="http://schemas.openxmlformats.org/drawingml/2006/table">
            <a:tbl>
              <a:tblPr/>
              <a:tblGrid>
                <a:gridCol w="475272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. Снести цифру следующего разряда делимого к остатку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Rectangle 18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0" name="Object 2"/>
          <p:cNvGraphicFramePr/>
          <p:nvPr/>
        </p:nvGraphicFramePr>
        <p:xfrm>
          <a:off x="5486400" y="228600"/>
          <a:ext cx="2374920" cy="106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28600"/>
                    <a:ext cx="237492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228600" y="1523880"/>
          <a:ext cx="4092480" cy="457200"/>
        </p:xfrm>
        <a:graphic>
          <a:graphicData uri="http://schemas.openxmlformats.org/drawingml/2006/table">
            <a:tbl>
              <a:tblPr/>
              <a:tblGrid>
                <a:gridCol w="4092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. Возможно ли деление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Rectangle 30"/>
          <p:cNvSpPr/>
          <p:nvPr/>
        </p:nvSpPr>
        <p:spPr>
          <a:xfrm>
            <a:off x="5316480" y="1373760"/>
            <a:ext cx="38275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920000"/>
                </a:solidFill>
                <a:latin typeface="Arial"/>
              </a:rPr>
              <a:t>Да, 19 </a:t>
            </a:r>
            <a:r>
              <a:rPr b="1" lang="ru-RU" sz="2400" spc="-1" strike="noStrike">
                <a:solidFill>
                  <a:srgbClr val="920000"/>
                </a:solidFill>
                <a:latin typeface="Arial"/>
              </a:rPr>
              <a:t>можно</a:t>
            </a:r>
            <a:r>
              <a:rPr b="0" lang="ru-RU" sz="2400" spc="-1" strike="noStrike">
                <a:solidFill>
                  <a:srgbClr val="920000"/>
                </a:solidFill>
                <a:latin typeface="Arial"/>
              </a:rPr>
              <a:t> разделить на 3 с остатком</a:t>
            </a:r>
            <a:r>
              <a:rPr b="0" lang="en-US" sz="2400" spc="-1" strike="noStrike">
                <a:solidFill>
                  <a:srgbClr val="92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31"/>
          <p:cNvSpPr/>
          <p:nvPr/>
        </p:nvSpPr>
        <p:spPr>
          <a:xfrm>
            <a:off x="250920" y="2211480"/>
            <a:ext cx="4701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9. Выполнить деление, найти следующую цифру частного и остаток (остаток меньше делителя!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3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6" name="Object 3"/>
          <p:cNvGraphicFramePr/>
          <p:nvPr/>
        </p:nvGraphicFramePr>
        <p:xfrm>
          <a:off x="5257800" y="2286000"/>
          <a:ext cx="3581280" cy="150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2286000"/>
                    <a:ext cx="3581280" cy="15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Rectangle 34"/>
          <p:cNvSpPr/>
          <p:nvPr/>
        </p:nvSpPr>
        <p:spPr>
          <a:xfrm>
            <a:off x="250920" y="3791520"/>
            <a:ext cx="48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0. Найдена последняя цифра частного?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35"/>
          <p:cNvSpPr/>
          <p:nvPr/>
        </p:nvSpPr>
        <p:spPr>
          <a:xfrm>
            <a:off x="5947920" y="3887280"/>
            <a:ext cx="726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920000"/>
                </a:solidFill>
                <a:latin typeface="Arial"/>
              </a:rPr>
              <a:t>Да.</a:t>
            </a:r>
            <a:r>
              <a:rPr b="0" lang="en-US" sz="2400" spc="-1" strike="noStrike">
                <a:solidFill>
                  <a:srgbClr val="92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36"/>
          <p:cNvSpPr/>
          <p:nvPr/>
        </p:nvSpPr>
        <p:spPr>
          <a:xfrm>
            <a:off x="219960" y="4496760"/>
            <a:ext cx="551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1. Назвать ответ: частное и остаток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37"/>
          <p:cNvSpPr/>
          <p:nvPr/>
        </p:nvSpPr>
        <p:spPr>
          <a:xfrm>
            <a:off x="5603760" y="4420800"/>
            <a:ext cx="3529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920000"/>
                </a:solidFill>
                <a:latin typeface="Arial"/>
              </a:rPr>
              <a:t>Частное 406, остаток 1</a:t>
            </a:r>
            <a:r>
              <a:rPr b="0" lang="en-US" sz="2400" spc="-1" strike="noStrike">
                <a:solidFill>
                  <a:srgbClr val="92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39"/>
          <p:cNvSpPr/>
          <p:nvPr/>
        </p:nvSpPr>
        <p:spPr>
          <a:xfrm>
            <a:off x="228600" y="4876920"/>
            <a:ext cx="36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12. Сделать проверк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3" name="Object 4"/>
          <p:cNvGraphicFramePr/>
          <p:nvPr/>
        </p:nvGraphicFramePr>
        <p:xfrm>
          <a:off x="304920" y="5410080"/>
          <a:ext cx="4724280" cy="1270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4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5410080"/>
                    <a:ext cx="4724280" cy="12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0" y="3129120"/>
          <a:ext cx="208080" cy="51732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Rectangle 50"/>
          <p:cNvSpPr/>
          <p:nvPr/>
        </p:nvSpPr>
        <p:spPr>
          <a:xfrm>
            <a:off x="5677920" y="4953960"/>
            <a:ext cx="2812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920000"/>
                </a:solidFill>
                <a:latin typeface="Arial"/>
              </a:rPr>
              <a:t>3 </a:t>
            </a:r>
            <a:r>
              <a:rPr b="1" lang="ru-RU" sz="2400" spc="-1" strike="noStrike">
                <a:solidFill>
                  <a:srgbClr val="920000"/>
                </a:solidFill>
                <a:latin typeface="Symbol"/>
                <a:ea typeface="Symbol"/>
              </a:rPr>
              <a:t></a:t>
            </a:r>
            <a:r>
              <a:rPr b="1" lang="ru-RU" sz="2400" spc="-1" strike="noStrike">
                <a:solidFill>
                  <a:srgbClr val="920000"/>
                </a:solidFill>
                <a:latin typeface="Arial"/>
              </a:rPr>
              <a:t> 406 + 1 = 1219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1" descr=""/>
          <p:cNvPicPr/>
          <p:nvPr/>
        </p:nvPicPr>
        <p:blipFill>
          <a:blip r:embed="rId2"/>
          <a:srcRect l="4296" t="0" r="0" b="3562"/>
          <a:stretch/>
        </p:blipFill>
        <p:spPr>
          <a:xfrm>
            <a:off x="0" y="3546360"/>
            <a:ext cx="3657600" cy="333720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2"/>
          <p:cNvSpPr/>
          <p:nvPr/>
        </p:nvSpPr>
        <p:spPr>
          <a:xfrm>
            <a:off x="380880" y="-41400"/>
            <a:ext cx="83059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Её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муж и ещё 107 рыбаков отправлялись на лодках в море за рыбой. Только она запамятовала, какое же минимальное количество лодок приходилось спускать на воду…  Единственное, о чём она не забыла, так это о том, что были огромные и могли вместить по 7                                                                                                     рыбак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" name="Group 3"/>
          <p:cNvGrpSpPr/>
          <p:nvPr/>
        </p:nvGrpSpPr>
        <p:grpSpPr>
          <a:xfrm>
            <a:off x="3200400" y="2743200"/>
            <a:ext cx="5943600" cy="3951360"/>
            <a:chOff x="3200400" y="2743200"/>
            <a:chExt cx="5943600" cy="3951360"/>
          </a:xfrm>
        </p:grpSpPr>
        <p:sp>
          <p:nvSpPr>
            <p:cNvPr id="160" name="Text Box 4"/>
            <p:cNvSpPr/>
            <p:nvPr/>
          </p:nvSpPr>
          <p:spPr>
            <a:xfrm>
              <a:off x="3200400" y="2743200"/>
              <a:ext cx="5943600" cy="39513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0" bIns="46800" anchor="ctr">
              <a:normAutofit/>
            </a:bodyPr>
            <a:p>
              <a:pPr lvl="1" marL="274680" indent="-171360">
                <a:lnSpc>
                  <a:spcPct val="100000"/>
                </a:lnSpc>
                <a:tabLst>
                  <a:tab algn="l" pos="0"/>
                  <a:tab algn="l" pos="274680"/>
                  <a:tab algn="l" pos="722160"/>
                  <a:tab algn="l" pos="1171440"/>
                  <a:tab algn="l" pos="1620720"/>
                  <a:tab algn="l" pos="2070000"/>
                  <a:tab algn="l" pos="2519280"/>
                  <a:tab algn="l" pos="2968560"/>
                  <a:tab algn="l" pos="3417840"/>
                  <a:tab algn="l" pos="3867120"/>
                  <a:tab algn="l" pos="4316400"/>
                  <a:tab algn="l" pos="4765680"/>
                  <a:tab algn="l" pos="5214960"/>
                  <a:tab algn="l" pos="5664240"/>
                  <a:tab algn="l" pos="6113520"/>
                  <a:tab algn="l" pos="6562800"/>
                  <a:tab algn="l" pos="7012080"/>
                  <a:tab algn="l" pos="7461360"/>
                  <a:tab algn="l" pos="7910640"/>
                  <a:tab algn="l" pos="8359920"/>
                  <a:tab algn="l" pos="8809200"/>
                  <a:tab algn="l" pos="92584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2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1) 107+1= 108 (чел.) – всего рыбаков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74680"/>
                  <a:tab algn="l" pos="722160"/>
                  <a:tab algn="l" pos="1171440"/>
                  <a:tab algn="l" pos="1620720"/>
                  <a:tab algn="l" pos="2070000"/>
                  <a:tab algn="l" pos="2519280"/>
                  <a:tab algn="l" pos="2968560"/>
                  <a:tab algn="l" pos="3417840"/>
                  <a:tab algn="l" pos="3867120"/>
                  <a:tab algn="l" pos="4316400"/>
                  <a:tab algn="l" pos="4765680"/>
                  <a:tab algn="l" pos="5214960"/>
                  <a:tab algn="l" pos="5664240"/>
                  <a:tab algn="l" pos="6113520"/>
                  <a:tab algn="l" pos="6562800"/>
                  <a:tab algn="l" pos="7012080"/>
                  <a:tab algn="l" pos="7461360"/>
                  <a:tab algn="l" pos="7910640"/>
                  <a:tab algn="l" pos="8359920"/>
                  <a:tab algn="l" pos="8809200"/>
                  <a:tab algn="l" pos="92584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2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  </a:t>
              </a:r>
              <a:r>
                <a:rPr b="1" i="1" lang="ru-RU" sz="2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2) 108 : 7 = 15 (л.) 3 (чел.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274680" indent="-171360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274680"/>
                  <a:tab algn="l" pos="722160"/>
                  <a:tab algn="l" pos="1171440"/>
                  <a:tab algn="l" pos="1620720"/>
                  <a:tab algn="l" pos="2070000"/>
                  <a:tab algn="l" pos="2519280"/>
                  <a:tab algn="l" pos="2968560"/>
                  <a:tab algn="l" pos="3417840"/>
                  <a:tab algn="l" pos="3867120"/>
                  <a:tab algn="l" pos="4316400"/>
                  <a:tab algn="l" pos="4765680"/>
                  <a:tab algn="l" pos="5214960"/>
                  <a:tab algn="l" pos="5664240"/>
                  <a:tab algn="l" pos="6113520"/>
                  <a:tab algn="l" pos="6562800"/>
                  <a:tab algn="l" pos="7012080"/>
                  <a:tab algn="l" pos="7461360"/>
                  <a:tab algn="l" pos="7910640"/>
                  <a:tab algn="l" pos="8359920"/>
                  <a:tab algn="l" pos="8809200"/>
                  <a:tab algn="l" pos="925848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274680" indent="-171360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274680"/>
                  <a:tab algn="l" pos="722160"/>
                  <a:tab algn="l" pos="1171440"/>
                  <a:tab algn="l" pos="1620720"/>
                  <a:tab algn="l" pos="2070000"/>
                  <a:tab algn="l" pos="2519280"/>
                  <a:tab algn="l" pos="2968560"/>
                  <a:tab algn="l" pos="3417840"/>
                  <a:tab algn="l" pos="3867120"/>
                  <a:tab algn="l" pos="4316400"/>
                  <a:tab algn="l" pos="4765680"/>
                  <a:tab algn="l" pos="5214960"/>
                  <a:tab algn="l" pos="5664240"/>
                  <a:tab algn="l" pos="6113520"/>
                  <a:tab algn="l" pos="6562800"/>
                  <a:tab algn="l" pos="7012080"/>
                  <a:tab algn="l" pos="7461360"/>
                  <a:tab algn="l" pos="7910640"/>
                  <a:tab algn="l" pos="8359920"/>
                  <a:tab algn="l" pos="8809200"/>
                  <a:tab algn="l" pos="925848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274680" indent="-171360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274680"/>
                  <a:tab algn="l" pos="722160"/>
                  <a:tab algn="l" pos="1171440"/>
                  <a:tab algn="l" pos="1620720"/>
                  <a:tab algn="l" pos="2070000"/>
                  <a:tab algn="l" pos="2519280"/>
                  <a:tab algn="l" pos="2968560"/>
                  <a:tab algn="l" pos="3417840"/>
                  <a:tab algn="l" pos="3867120"/>
                  <a:tab algn="l" pos="4316400"/>
                  <a:tab algn="l" pos="4765680"/>
                  <a:tab algn="l" pos="5214960"/>
                  <a:tab algn="l" pos="5664240"/>
                  <a:tab algn="l" pos="6113520"/>
                  <a:tab algn="l" pos="6562800"/>
                  <a:tab algn="l" pos="7012080"/>
                  <a:tab algn="l" pos="7461360"/>
                  <a:tab algn="l" pos="7910640"/>
                  <a:tab algn="l" pos="8359920"/>
                  <a:tab algn="l" pos="8809200"/>
                  <a:tab algn="l" pos="925848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274680" indent="-171360">
                <a:lnSpc>
                  <a:spcPct val="100000"/>
                </a:lnSpc>
                <a:tabLst>
                  <a:tab algn="l" pos="0"/>
                  <a:tab algn="l" pos="274680"/>
                  <a:tab algn="l" pos="722160"/>
                  <a:tab algn="l" pos="1171440"/>
                  <a:tab algn="l" pos="1620720"/>
                  <a:tab algn="l" pos="2070000"/>
                  <a:tab algn="l" pos="2519280"/>
                  <a:tab algn="l" pos="2968560"/>
                  <a:tab algn="l" pos="3417840"/>
                  <a:tab algn="l" pos="3867120"/>
                  <a:tab algn="l" pos="4316400"/>
                  <a:tab algn="l" pos="4765680"/>
                  <a:tab algn="l" pos="5214960"/>
                  <a:tab algn="l" pos="5664240"/>
                  <a:tab algn="l" pos="6113520"/>
                  <a:tab algn="l" pos="6562800"/>
                  <a:tab algn="l" pos="7012080"/>
                  <a:tab algn="l" pos="7461360"/>
                  <a:tab algn="l" pos="7910640"/>
                  <a:tab algn="l" pos="8359920"/>
                  <a:tab algn="l" pos="8809200"/>
                  <a:tab algn="l" pos="92584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2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3) т.к. 3 рыбакам нужна лодка, то 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274680" indent="-171360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274680"/>
                  <a:tab algn="l" pos="722160"/>
                  <a:tab algn="l" pos="1171440"/>
                  <a:tab algn="l" pos="1620720"/>
                  <a:tab algn="l" pos="2070000"/>
                  <a:tab algn="l" pos="2519280"/>
                  <a:tab algn="l" pos="2968560"/>
                  <a:tab algn="l" pos="3417840"/>
                  <a:tab algn="l" pos="3867120"/>
                  <a:tab algn="l" pos="4316400"/>
                  <a:tab algn="l" pos="4765680"/>
                  <a:tab algn="l" pos="5214960"/>
                  <a:tab algn="l" pos="5664240"/>
                  <a:tab algn="l" pos="6113520"/>
                  <a:tab algn="l" pos="6562800"/>
                  <a:tab algn="l" pos="7012080"/>
                  <a:tab algn="l" pos="7461360"/>
                  <a:tab algn="l" pos="7910640"/>
                  <a:tab algn="l" pos="8359920"/>
                  <a:tab algn="l" pos="8809200"/>
                  <a:tab algn="l" pos="92584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2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ru-RU" sz="2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15+1=16 (л.) – минимум потребовалось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274680" indent="-171360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274680"/>
                  <a:tab algn="l" pos="722160"/>
                  <a:tab algn="l" pos="1171440"/>
                  <a:tab algn="l" pos="1620720"/>
                  <a:tab algn="l" pos="2070000"/>
                  <a:tab algn="l" pos="2519280"/>
                  <a:tab algn="l" pos="2968560"/>
                  <a:tab algn="l" pos="3417840"/>
                  <a:tab algn="l" pos="3867120"/>
                  <a:tab algn="l" pos="4316400"/>
                  <a:tab algn="l" pos="4765680"/>
                  <a:tab algn="l" pos="5214960"/>
                  <a:tab algn="l" pos="5664240"/>
                  <a:tab algn="l" pos="6113520"/>
                  <a:tab algn="l" pos="6562800"/>
                  <a:tab algn="l" pos="7012080"/>
                  <a:tab algn="l" pos="7461360"/>
                  <a:tab algn="l" pos="7910640"/>
                  <a:tab algn="l" pos="8359920"/>
                  <a:tab algn="l" pos="8809200"/>
                  <a:tab algn="l" pos="92584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2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Ответ: 16 лодок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1" name="Picture 5" descr=""/>
            <p:cNvPicPr/>
            <p:nvPr/>
          </p:nvPicPr>
          <p:blipFill>
            <a:blip r:embed="rId3"/>
            <a:srcRect l="0" t="0" r="3164" b="23709"/>
            <a:stretch/>
          </p:blipFill>
          <p:spPr>
            <a:xfrm>
              <a:off x="3657600" y="3809880"/>
              <a:ext cx="1741680" cy="14540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"/>
          <p:cNvPicPr/>
          <p:nvPr/>
        </p:nvPicPr>
        <p:blipFill>
          <a:blip r:embed="rId3"/>
          <a:stretch/>
        </p:blipFill>
        <p:spPr>
          <a:xfrm>
            <a:off x="-237960" y="3517920"/>
            <a:ext cx="3352680" cy="3346560"/>
          </a:xfrm>
          <a:prstGeom prst="rect">
            <a:avLst/>
          </a:prstGeom>
          <a:ln w="0">
            <a:noFill/>
          </a:ln>
        </p:spPr>
      </p:pic>
      <p:sp>
        <p:nvSpPr>
          <p:cNvPr id="164" name="AutoShape 3"/>
          <p:cNvSpPr/>
          <p:nvPr/>
        </p:nvSpPr>
        <p:spPr>
          <a:xfrm>
            <a:off x="228600" y="0"/>
            <a:ext cx="8686800" cy="3352680"/>
          </a:xfrm>
          <a:prstGeom prst="wedgeRoundRectCallout">
            <a:avLst>
              <a:gd name="adj1" fmla="val -240"/>
              <a:gd name="adj2" fmla="val 63148"/>
              <a:gd name="adj3" fmla="val 16667"/>
            </a:avLst>
          </a:prstGeom>
          <a:solidFill>
            <a:srgbClr val="ffff00">
              <a:alpha val="83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0" anchor="t">
            <a:normAutofit/>
          </a:bodyPr>
          <a:p>
            <a:pPr algn="just">
              <a:lnSpc>
                <a:spcPts val="2611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Домашнее задани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 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ридумай и реши, воспользовавшись алгоритмом, примеры на новое знание, используя в качестве делимого ответы задания № 8 стр. 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☺ 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ридумай задачи на деление по содержанию, подходящие к теме «Деление многозначного на однозначное с остатком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2"/>
          <a:stretch/>
        </p:blipFill>
        <p:spPr>
          <a:xfrm>
            <a:off x="539640" y="1619280"/>
            <a:ext cx="17748360" cy="1255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3"/>
          <a:stretch/>
        </p:blipFill>
        <p:spPr>
          <a:xfrm>
            <a:off x="3352680" y="2895480"/>
            <a:ext cx="1774836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"/>
          <p:cNvPicPr/>
          <p:nvPr/>
        </p:nvPicPr>
        <p:blipFill>
          <a:blip r:embed="rId2"/>
          <a:stretch/>
        </p:blipFill>
        <p:spPr>
          <a:xfrm>
            <a:off x="179280" y="4680000"/>
            <a:ext cx="12420720" cy="1260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"/>
          <p:cNvPicPr/>
          <p:nvPr/>
        </p:nvPicPr>
        <p:blipFill>
          <a:blip r:embed="rId3"/>
          <a:stretch/>
        </p:blipFill>
        <p:spPr>
          <a:xfrm>
            <a:off x="2879640" y="360360"/>
            <a:ext cx="360036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2">
            <a:lum contrast="-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2971800" y="457200"/>
            <a:ext cx="5943600" cy="5940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4"/>
          <a:stretch/>
        </p:blipFill>
        <p:spPr>
          <a:xfrm>
            <a:off x="0" y="1619280"/>
            <a:ext cx="395928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1"/>
          <p:cNvGrpSpPr/>
          <p:nvPr/>
        </p:nvGrpSpPr>
        <p:grpSpPr>
          <a:xfrm>
            <a:off x="3429000" y="0"/>
            <a:ext cx="5703840" cy="6845400"/>
            <a:chOff x="3429000" y="0"/>
            <a:chExt cx="5703840" cy="6845400"/>
          </a:xfrm>
        </p:grpSpPr>
        <p:grpSp>
          <p:nvGrpSpPr>
            <p:cNvPr id="52" name="Group 2"/>
            <p:cNvGrpSpPr/>
            <p:nvPr/>
          </p:nvGrpSpPr>
          <p:grpSpPr>
            <a:xfrm>
              <a:off x="3429000" y="0"/>
              <a:ext cx="5703840" cy="6845400"/>
              <a:chOff x="3429000" y="0"/>
              <a:chExt cx="5703840" cy="6845400"/>
            </a:xfrm>
          </p:grpSpPr>
          <p:pic>
            <p:nvPicPr>
              <p:cNvPr id="53" name="Pictur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3429000" y="0"/>
                <a:ext cx="5703840" cy="6783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Picture 4" descr=""/>
              <p:cNvPicPr/>
              <p:nvPr/>
            </p:nvPicPr>
            <p:blipFill>
              <a:blip r:embed="rId3"/>
              <a:stretch/>
            </p:blipFill>
            <p:spPr>
              <a:xfrm>
                <a:off x="6611760" y="6203880"/>
                <a:ext cx="2519640" cy="641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5" name="Text Box 5"/>
            <p:cNvSpPr/>
            <p:nvPr/>
          </p:nvSpPr>
          <p:spPr>
            <a:xfrm>
              <a:off x="6611760" y="5029200"/>
              <a:ext cx="2159280" cy="11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ru-RU" sz="6000" spc="-1" strike="noStrike">
                  <a:solidFill>
                    <a:srgbClr val="002060"/>
                  </a:solidFill>
                  <a:latin typeface="Arial"/>
                </a:rPr>
                <a:t>162</a:t>
              </a: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6" name=""/>
          <p:cNvGraphicFramePr/>
          <p:nvPr/>
        </p:nvGraphicFramePr>
        <p:xfrm>
          <a:off x="4191120" y="2438280"/>
          <a:ext cx="4574880" cy="1785960"/>
        </p:xfrm>
        <a:graphic>
          <a:graphicData uri="http://schemas.openxmlformats.org/drawingml/2006/table">
            <a:tbl>
              <a:tblPr/>
              <a:tblGrid>
                <a:gridCol w="2162160"/>
                <a:gridCol w="280800"/>
                <a:gridCol w="2131920"/>
              </a:tblGrid>
              <a:tr h="867960">
                <a:tc>
                  <a:txBody>
                    <a:bodyPr lIns="0" rIns="0" tIns="44100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 вариан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44100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44100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 вариан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1020600">
                <a:tc>
                  <a:txBody>
                    <a:bodyPr lIns="0" rIns="0" tIns="42336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62: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(по частям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42336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42336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62: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(«углом»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pic>
        <p:nvPicPr>
          <p:cNvPr id="57" name="Picture 13" descr=""/>
          <p:cNvPicPr/>
          <p:nvPr/>
        </p:nvPicPr>
        <p:blipFill>
          <a:blip r:embed="rId4"/>
          <a:stretch/>
        </p:blipFill>
        <p:spPr>
          <a:xfrm>
            <a:off x="0" y="2057400"/>
            <a:ext cx="4575240" cy="41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"/>
          <p:cNvPicPr/>
          <p:nvPr/>
        </p:nvPicPr>
        <p:blipFill>
          <a:blip r:embed="rId2"/>
          <a:srcRect l="1141" t="6522" r="3272" b="10866"/>
          <a:stretch/>
        </p:blipFill>
        <p:spPr>
          <a:xfrm>
            <a:off x="914400" y="685800"/>
            <a:ext cx="6400800" cy="289548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59" name="Picture 2" descr=""/>
          <p:cNvPicPr/>
          <p:nvPr/>
        </p:nvPicPr>
        <p:blipFill>
          <a:blip r:embed="rId3">
            <a:lum contrast="10000"/>
          </a:blip>
          <a:srcRect l="0" t="18069" r="0" b="0"/>
          <a:stretch/>
        </p:blipFill>
        <p:spPr>
          <a:xfrm>
            <a:off x="0" y="4267080"/>
            <a:ext cx="8893080" cy="188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2209680" y="990720"/>
            <a:ext cx="4686480" cy="436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"/>
          <p:cNvPicPr/>
          <p:nvPr/>
        </p:nvPicPr>
        <p:blipFill>
          <a:blip r:embed="rId2">
            <a:lum contrast="-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"/>
          <p:cNvPicPr/>
          <p:nvPr/>
        </p:nvPicPr>
        <p:blipFill>
          <a:blip r:embed="rId3"/>
          <a:stretch/>
        </p:blipFill>
        <p:spPr>
          <a:xfrm>
            <a:off x="1676520" y="1143000"/>
            <a:ext cx="5257800" cy="5254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4"/>
          <a:srcRect l="1540" t="2792" r="47843" b="3938"/>
          <a:stretch/>
        </p:blipFill>
        <p:spPr>
          <a:xfrm>
            <a:off x="304920" y="2133720"/>
            <a:ext cx="2743200" cy="4489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5"/>
          <a:stretch/>
        </p:blipFill>
        <p:spPr>
          <a:xfrm>
            <a:off x="914400" y="5029200"/>
            <a:ext cx="2139840" cy="1122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6"/>
          <a:srcRect l="0" t="0" r="0" b="3838"/>
          <a:stretch/>
        </p:blipFill>
        <p:spPr>
          <a:xfrm>
            <a:off x="3276720" y="152280"/>
            <a:ext cx="6327720" cy="289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422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5748480" cy="17128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4"/>
          <a:stretch/>
        </p:blipFill>
        <p:spPr>
          <a:xfrm>
            <a:off x="5410080" y="1066680"/>
            <a:ext cx="3370320" cy="1457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"/>
          <p:cNvPicPr/>
          <p:nvPr/>
        </p:nvPicPr>
        <p:blipFill>
          <a:blip r:embed="rId5"/>
          <a:stretch/>
        </p:blipFill>
        <p:spPr>
          <a:xfrm>
            <a:off x="0" y="2133720"/>
            <a:ext cx="8369280" cy="1493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"/>
          <p:cNvPicPr/>
          <p:nvPr/>
        </p:nvPicPr>
        <p:blipFill>
          <a:blip r:embed="rId6"/>
          <a:stretch/>
        </p:blipFill>
        <p:spPr>
          <a:xfrm>
            <a:off x="2401920" y="4419720"/>
            <a:ext cx="6742080" cy="173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5T15:10:16Z</dcterms:created>
  <dc:creator>к55</dc:creator>
  <dc:description/>
  <dc:language>en-US</dc:language>
  <cp:lastModifiedBy>user</cp:lastModifiedBy>
  <dcterms:modified xsi:type="dcterms:W3CDTF">2017-01-12T20:07:25Z</dcterms:modified>
  <cp:revision>98</cp:revision>
  <dc:subject/>
  <dc:title>Слайд 1</dc:title>
</cp:coreProperties>
</file>