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E0A4-DAF1-4153-ACDD-6045777A09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BD9-34B3-41AC-9ACD-2D90D9E7F6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AC0-EDFA-4DC3-91CB-9E7D2A9A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CEFC-11E1-47AD-936E-17AACFCC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36DE-E7F7-42A9-88FB-A9490020E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02AC-5D18-43B2-B39D-696E40E8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89C1-C126-481E-AB2E-54B95E38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30D0-964C-4B5A-9995-33095892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34A-0C43-4194-9A1B-31F91680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D35-5E67-40C7-A10B-B6D9153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169E-4DCB-4A00-B929-E721A5B9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AAF-C64A-4D42-AEC0-40243D9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DCA2-C4F7-400D-9F06-9A620FA6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64A-FE73-4865-9179-55BAF33C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D721-F7F8-4D89-AA5F-CD47330E3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5830560" cy="302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ирование и развитие УУД на уроках биологии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ставитель: учитель биологии МБОУ Объединенной СОШ №6 Егорлыкского района Н.Н. Ше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3" descr="0006-006-Mejoz-i-mitoz.jpg"/>
          <p:cNvPicPr/>
          <p:nvPr/>
        </p:nvPicPr>
        <p:blipFill>
          <a:blip r:embed="rId1"/>
          <a:stretch/>
        </p:blipFill>
        <p:spPr>
          <a:xfrm>
            <a:off x="1476360" y="0"/>
            <a:ext cx="6033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емы формирования  сравне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)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дражание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это такой вид деятельности, при котором учащиеся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овторяют, подражают действиям учител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)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работа по образцу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такой вид деятельности, который располагае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амостоятельным проведением сравнения, используя анализ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записи  образц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)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операционные указания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еречень указаний по выполнен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пераций, входящих в тот или иной вид сравнения, для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осуществления  заданного сравнени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)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метод  алгоритмических предписаний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– перечень тех действий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которые ученик должен выполнить, желая сравнить данны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предметы или явле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Все приемы взаимосвязаны между собо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ОСНОВНЫЕ ФУНКЦИИ УУ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ение возможностей 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здание условий для гармоничного развития личности и её самореализации на основе готовности к непрерывному образованию; обеспечение успешного усвоения знаний, формирования умений, навыков и компетентностей в любой предметной обл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ение успешного усвоения знаний, умений и навыков и формирование картины мира и компетентностей в любой предметн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амятка для учител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 - каждый ребенок индивидуален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рганизуя  учебную деятельность по предмету,  учитывайте возможности и    способности ученик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, что главным является не предмет, которому ВЫ учите, а личность, которую ВЫ формируе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огите ребенку адекватно оценивать ту работу, которую он сдела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омните, что знает материал не тот, кто пересказывает материал, а кто его применяет на практик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аучите ребенка высказывать свои мысл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ctr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е бойтесь" нестандартных уроков", попробуйте  различные виды игр, дискуссий и групповую работу для освоения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94920" y="26028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емы формирования смыслового чтения и работа с текстом на уроках биолог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2" descr="C:\Documents and Settings\обьедененная сош\Рабочий стол\Совещание руководителй ОО ОСОШ №6 им. В.А. Сулева\IMG_6675.JPG"/>
          <p:cNvPicPr/>
          <p:nvPr/>
        </p:nvPicPr>
        <p:blipFill>
          <a:blip r:embed="rId1"/>
          <a:stretch/>
        </p:blipFill>
        <p:spPr>
          <a:xfrm>
            <a:off x="2714760" y="3429000"/>
            <a:ext cx="38034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Чтение – вот лучшее учение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овать за мыслями велик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наука са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нимательна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С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кольн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835280" y="162864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ытывают труд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еют быстро и четко перевести письменные знаки, но вот поня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ысл текста, извлечь необходимую информацию, далеко не всегд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Цель смыслового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чт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979280" y="134136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симально точно и полно понять содержание текста, условить детали и практически осмыслять извлеченную информа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а учител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ормиров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думчив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итателя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дно из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требований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 образовательному процессу в формировании УУД, является формирование стратегии смыслового чтения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работа с тест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ниверсальные учебные действия. Что это та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403280" y="1628640"/>
            <a:ext cx="57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умение учиться, то есть способность человека к самосовершенствованию через усвоение нового социального оп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50560" y="333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и понимание прочитанн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образование и интеграция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и оценка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2" descr="C:\Documents and Settings\обьедененная сош\Рабочий стол\Совещание руководителй ОО ОСОШ №6 им. В.А. Сулева\IMG_6566.JPG"/>
          <p:cNvPicPr/>
          <p:nvPr/>
        </p:nvPicPr>
        <p:blipFill>
          <a:blip r:embed="rId1"/>
          <a:stretch/>
        </p:blipFill>
        <p:spPr>
          <a:xfrm>
            <a:off x="2514600" y="3143160"/>
            <a:ext cx="41148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Приемы формирова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Calibri"/>
              </a:rPr>
              <a:t>смыслового чтения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Задай вопро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402920" y="1268280"/>
            <a:ext cx="569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сформировать умение самостоятельно работать с текстом, понимать информацию, содержащуюся в тесте, овладение приемом постановки вопросов к текс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: составить вопросы, которые бы начинались со слов: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Что?», «Какой?», «Где?», «Почему?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Составь задани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76000" y="1268280"/>
            <a:ext cx="569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ь: сформировать умение вдумчиво читать, преобразовывать текстовую информацию с учетом цели дальнейшего исполь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р: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учебная задач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ребус, мини-сочи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Кроссвор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Головолом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Составь домашнее задание для соседа по парте( наблюдение за домашним животны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Составь памятку «Первая помощь при отравлении грибами» или  «первая помощь при артериальном кровотечени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рием «Толстых» и «Тонких» вопрос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47640" y="1413000"/>
            <a:ext cx="52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сформировать умение самостоятельно работать с текстом, понимать информацию, содержащуюся в тексте, овладение приемом постановки вопросов к тексту и составление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6840" y="333000"/>
            <a:ext cx="5986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Тонкие» вопросы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вопрос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ющие однословного ответа, вопро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продуктивного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гд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к звать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ли ли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6840" y="189000"/>
            <a:ext cx="74278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«Толстые»  вопро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это вопросы, требующие размышления, привлечения дополнительных знаний, умения анализирова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ъясните, почему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вы думает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чему мы вы считает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чем различие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гласны ли вы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рно ли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Верные и неверные утвержден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16000" y="1413000"/>
            <a:ext cx="62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понимать информацию, содержащуюся в тексте, сравнивать и противопоставлять заключенную в тексте информацию разного характера, критически оценивать степень достоверности содержащийся в текст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НИЕ№1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ерны ли утвержд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ктинии – это кишечнополостные животны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ора – это защитная оболочка простейши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овеносная система моллюсков незамкнута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сики отсутствуют у насеком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еленые железы – органы выделения ракообраз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лоские черви все ведут паразитический образ жизн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овь насекомых – гемолимф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ауки питаются твердой пищ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ематоды – паразит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оллюски произошли от кольчатых черве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Лови ошиб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7640" y="11970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ль: сформировать умение читать вдумчиво, связывать информацию, обнаруженную в тексте, со знаниями из других источников, на основе имеющихся знаний подвергать сомнению достоверность имеющийся информа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50920" y="404640"/>
            <a:ext cx="5392800" cy="25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Универсальных Учебных Дей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C:\Documents and Settings\обьедененная сош\Рабочий стол\Совещание руководителй ОО ОСОШ №6 им. В.А. Сулева\IMG_6660.JPG"/>
          <p:cNvPicPr/>
          <p:nvPr/>
        </p:nvPicPr>
        <p:blipFill>
          <a:blip r:embed="rId1"/>
          <a:stretch/>
        </p:blipFill>
        <p:spPr>
          <a:xfrm>
            <a:off x="2500200" y="3429000"/>
            <a:ext cx="33274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ДАНИЕ №2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Прочитай текст найди в тексте биологические ошибки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Изменчивость является фундаментальным свойством живого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ыделяют две формы изменчивости: модификационная и мутационна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Модификационная изменчивость представляет соб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менения генотипа, вызванные влиянием окружающей ср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Модификации   наследуют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Мутации представляют собой из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нетического материала, в зависимости от услов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утации могут наследоваться либо н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Восстанови текст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280" y="1341360"/>
            <a:ext cx="51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: сформировать умения целенаправленно читать текст, сравнивать заключенную в тексте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№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«Сопоставление/нахождение сходств и различи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76000" y="1557360"/>
            <a:ext cx="526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это прием работы, который основан на сравнении двух или более объек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: Грибы сочетают в себе признаки растений и животных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ти сходства и различия признаков растений и живот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йдите черты сходства и различия эукариотической и прокариотической кле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Личностные: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94920" y="126828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ценностных ориентаций школьника, отражающих личностные смыслы, мотивы, отношения к различным сферам окружающего  ми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УДД выражаются формул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природа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другие люди», 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общество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познание»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В биологи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 смыслообраз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Регулятивные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ют способность обучающегося строить учебно-познавательную деятельность, учитывая все ее компоненты (цель, мотив, прогноз, средства, контроль, оцен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  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биологии 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целеполагание, планирование, прогнозирование, контроль, оценка, алгоритмизация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и другие люди»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C:\Documents and Settings\обьедененная сош\Рабочий стол\Совещание руководителй ОО ОСОШ №6 им. В.А. Сулева\IMG_6679.JPG"/>
          <p:cNvPicPr/>
          <p:nvPr/>
        </p:nvPicPr>
        <p:blipFill>
          <a:blip r:embed="rId1"/>
          <a:stretch/>
        </p:blipFill>
        <p:spPr>
          <a:xfrm>
            <a:off x="1554120" y="1600200"/>
            <a:ext cx="358956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Познавательные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пособов познания окружающего мира, построение самостоятельного процесса поиска, исследования и совокупность операций по обработке, систематизации, обобщению и использованию полученн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иологии: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логические рассуждения, доказательства, практические действ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omic Sans MS"/>
              </a:rPr>
              <a:t>Коммуникативны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00080"/>
            <a:ext cx="3857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обучающегося осуществлять коммуникативную деятельность, использования правил общения в конкретных учебных и внеурочных ситуациях; самостоятельная организация речевой деятельности в устной и письменной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В биологии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использование средств языка и речи для получения информации, участия в продуктивном диалоге, самовыражение, монологические высказывания раз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:\фотоНовая папка\P1010665.JPG"/>
          <p:cNvPicPr/>
          <p:nvPr/>
        </p:nvPicPr>
        <p:blipFill>
          <a:blip r:embed="rId1"/>
          <a:stretch/>
        </p:blipFill>
        <p:spPr>
          <a:xfrm>
            <a:off x="3857760" y="2071800"/>
            <a:ext cx="30715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родная мудр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познается в сравн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Calibri"/>
              </a:rPr>
              <a:t>Операция установления сходства и различия между предметами и явлениями реального мира называется сравнени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«Деление клет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за Митоза и Мей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школа</cp:lastModifiedBy>
  <dcterms:modified xsi:type="dcterms:W3CDTF">2016-12-29T11:27:05Z</dcterms:modified>
  <cp:revision>31</cp:revision>
  <dc:subject/>
  <dc:title>Презентация PowerPoint</dc:title>
</cp:coreProperties>
</file>