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DDA7-BBF9-45A2-9D93-ACE817D407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2BD2-48DE-4C86-AF03-060506B1CB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A64-7B2D-4056-9DF0-4249E69F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92E-4B14-496A-8FBB-BC4AA1E9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DEB-9AB5-4B8D-8471-E203E93D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AEE-6484-4330-BAB2-2BFA2B16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332-3363-4F27-974C-A3209874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D92-24C9-45E6-8B2A-F9CB64F0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9FB-E3D8-4FA4-AB55-5C73CE4B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82C-43F3-4CFB-84DB-43428CE6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9EF-12C0-4076-BCB0-3FBCC58F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E39-A5BB-4E4C-9AFE-1771531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3E5-802B-4043-B846-20EDA0E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997-71ED-4D7B-BACE-66E373E2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697A-8620-4902-94E2-C2C93D0DB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5830560" cy="30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ирование и развитие УУД на уроках биологии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ель: учитель биологии МБОУ Объединенной СОШ №6 Егорлыкского района Н.Н. Ше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0006-006-Mejoz-i-mitoz.jpg"/>
          <p:cNvPicPr/>
          <p:nvPr/>
        </p:nvPicPr>
        <p:blipFill>
          <a:blip r:embed="rId1"/>
          <a:stretch/>
        </p:blipFill>
        <p:spPr>
          <a:xfrm>
            <a:off x="1476360" y="0"/>
            <a:ext cx="60339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емы формирования  сравне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дражани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это такой вид деятельности, при котором учащиеся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торяют, подражают действиям учит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)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бота по образцу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такой вид деятельности, который располага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остоятельным проведением сравнения, используя анали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иси  образц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)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операционные указани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перечень указаний по выполнению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ераций, входящих в тот или иной вид сравнения, для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я  заданного сравн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)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етод  алгоритмических предписани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перечень тех действи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е ученик должен выполнить, желая сравнить данны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меты или явл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 приемы взаимосвязаны между соб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НОВНЫЕ ФУНКЦИИ УУ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спечение возможностей обучаю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ние условий для гармоничного развития личности и её самореализации на основе готовности к непрерывному образованию; обеспечение успешного усвоения знаний, формирования умений, навыков и компетентностей в любой предметной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спечение успешного усвоения знаний, умений и навыков и формирование картины мира и компетентностей в любой предметн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амятка для учител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мните - каждый ребенок индивидуале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рганизуя  учебную деятельность по предмету,  учитывайте возможности и    способности учени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мните, что главным является не предмет, которому ВЫ учите, а личность, которую ВЫ формиру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могите ребенку адекватно оценивать ту работу, которую он сдел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мните, что знает материал не тот, кто пересказывает материал, а кто его применяет на практ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аучите ребенка высказывать свои мыс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 бойтесь" нестандартных уроков", попробуйте  различные виды игр, дискуссий и групповую работу для освоения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94920" y="26028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емы формирования смыслового чтения и работа с текстом на уроках биолог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C:\Documents and Settings\обьедененная сош\Рабочий стол\Совещание руководителй ОО ОСОШ №6 им. В.А. Сулева\IMG_6675.JPG"/>
          <p:cNvPicPr/>
          <p:nvPr/>
        </p:nvPicPr>
        <p:blipFill>
          <a:blip r:embed="rId1"/>
          <a:stretch/>
        </p:blipFill>
        <p:spPr>
          <a:xfrm>
            <a:off x="2714760" y="3429000"/>
            <a:ext cx="3803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тение – вот лучшее уче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овать за мыслями вели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наука сам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имательна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С Пуш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коль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35280" y="162864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ытывают труд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ют быстро и четко перевести письменные знаки, но вот пон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ысл текста, извлечь необходимую информацию, далеко не всегд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 смысловог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чт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79280" y="134136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ксимально точно и полно понять содержание текста, условить детали и практически осмыслять извлеченную информа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а учител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думчив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тател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дно из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ребований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образовательному процессу в формировании УУД, является формирование стратегии смыслового чт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работа с тес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. Что это так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1628640"/>
            <a:ext cx="57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мение учиться, то есть способность человека к самосовершенствованию через усвоение нового социального опы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560" y="333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нформации и понимание прочитан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образование и интеграция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и оценка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2" descr="C:\Documents and Settings\обьедененная сош\Рабочий стол\Совещание руководителй ОО ОСОШ №6 им. В.А. Сулева\IMG_6566.JPG"/>
          <p:cNvPicPr/>
          <p:nvPr/>
        </p:nvPicPr>
        <p:blipFill>
          <a:blip r:embed="rId1"/>
          <a:stretch/>
        </p:blipFill>
        <p:spPr>
          <a:xfrm>
            <a:off x="2514600" y="3143160"/>
            <a:ext cx="41148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Приемы формиров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смыслового чте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Задай вопро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0292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: сформировать умение самостоятельно работать с текстом, понимать информацию, содержащуюся в тесте, овладение приемом постановки вопросов к текс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составить вопросы, которые бы начинались со слов: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Что?», «Какой?», «Где?», «Почему?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Составь задан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000" y="1268280"/>
            <a:ext cx="569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ь: сформировать умение вдумчиво читать, преобразовывать текстовую информацию с учетом цели дальнейшего исполь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учебная за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ребус, мини-сочи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Кроссвор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Головолом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Составь домашнее задание для соседа по парте( наблюдение за домашним животны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Составь памятку «Первая помощь при отравлении грибами» или  «первая помощь при артериальном кровотечен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рием «Толстых» и «Тонких» вопрос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47640" y="141300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: сформировать умение самостоятельно работать с текстом, понимать информацию, содержащуюся в тексте, овладение приемом постановки вопросов к тексту и составление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333000"/>
            <a:ext cx="5986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«Тонкие» вопросы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это вопрос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ющие однословного ответа,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продуктивного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т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звать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ли ли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6840" y="189000"/>
            <a:ext cx="74278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«Толстые» 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это вопросы, требующие размышления, привлечения дополнительных знаний, умения анализиро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ясните, почему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чему вы думаете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чему мы вы считаете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чем различие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гласны ли вы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но ли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Верные и неверные утвержд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16000" y="14130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: понимать информацию, содержащуюся в тексте, сравнивать и противопоставлять заключенную в тексте информацию разного характера, критически оценивать степень достоверности содержащийся в тексте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№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рны ли утвержд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ктинии – это кишечнополостные живот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ра – это защитная оболочка простей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овеносная система моллюсков незамкнут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ики отсутствуют у насеком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еленые железы – органы выделения ракообраз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оские черви все ведут паразитический образ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овь насекомых – гемолимф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уки питаются твердой пищ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матоды – паразиты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ллюски произошли от кольчатых черв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Лови ошиб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47640" y="11970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: сформировать умение читать вдумчиво, связывать информацию, обнаруженную в тексте, со знаниями из других источников, на основе имеющихся знаний подвергать сомнению достоверность имеющийся информ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0920" y="404640"/>
            <a:ext cx="53928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ниверсальных Учебных Дейст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C:\Documents and Settings\обьедененная сош\Рабочий стол\Совещание руководителй ОО ОСОШ №6 им. В.А. Сулева\IMG_6660.JPG"/>
          <p:cNvPicPr/>
          <p:nvPr/>
        </p:nvPicPr>
        <p:blipFill>
          <a:blip r:embed="rId1"/>
          <a:stretch/>
        </p:blipFill>
        <p:spPr>
          <a:xfrm>
            <a:off x="2500200" y="3429000"/>
            <a:ext cx="33274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НИЕ №2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Прочитай текст найди в тексте биологические ошибк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Изменчивость является фундаментальным свойством жив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ыделяют две формы изменчивости: модификационная и мутацион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Модификационная изменчивость представляет соб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я генотипа, вызванные влиянием окружающей ср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Модификации   наследую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Мутации представляют собой из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тического материала, в зависимости от услов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тации могут наследоваться либо 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Восстанови текст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280" y="1341360"/>
            <a:ext cx="51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: сформировать умения целенаправленно читать текст, сравнивать заключенную в тексте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№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Сопоставление/нахождение сходств и различ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000" y="1557360"/>
            <a:ext cx="526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прием работы, который основан на сравнении двух или более объ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: Грибы сочетают в себе признаки растений и животн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сходства и различия признаков растений и животн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черты сходства и различия эукариотической и прокариотической кле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ПАСИБО ЗА ВНИМАНИЕ!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Личностные: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4920" y="12682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ценностных ориентаций школьника, отражающих личностные смыслы, мотивы, отношения к различным сферам окружающего  ми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УДД выражаются форму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природа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другие люди»,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общество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познание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 биологи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смысло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Регулятивные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ют способность обучающегося строить учебно-познавательную деятельность, учитывая все ее компоненты (цель, мотив, прогноз, средства, контроль, оцен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 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биологии 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целеполагание, планирование, прогнозирование, контроль, оценка, алгоритмизация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другие люди»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C:\Documents and Settings\обьедененная сош\Рабочий стол\Совещание руководителй ОО ОСОШ №6 им. В.А. Сулева\IMG_6679.JPG"/>
          <p:cNvPicPr/>
          <p:nvPr/>
        </p:nvPicPr>
        <p:blipFill>
          <a:blip r:embed="rId1"/>
          <a:stretch/>
        </p:blipFill>
        <p:spPr>
          <a:xfrm>
            <a:off x="1554120" y="1600200"/>
            <a:ext cx="358956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Познавательны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пособов познания окружающего мира, построение самостоятельного процесса поиска, исследования и совокупность операций по обработке, систематизации, обобщению и использованию полученн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иологии: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логические рассуждения, доказательства, практические 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Коммуникативны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000080"/>
            <a:ext cx="3857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обучающегося осуществлять коммуникативную деятельность, использования правил общения в конкретных учебных и внеурочных ситуациях; самостоятельная организация речевой деятельности в устной и письменной фор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 биологии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использование средств языка и речи для получения информации, участия в продуктивном диалоге, самовыражение, монологические высказывания раз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:\фотоНовая папка\P1010665.JPG"/>
          <p:cNvPicPr/>
          <p:nvPr/>
        </p:nvPicPr>
        <p:blipFill>
          <a:blip r:embed="rId1"/>
          <a:stretch/>
        </p:blipFill>
        <p:spPr>
          <a:xfrm>
            <a:off x="3857760" y="2071800"/>
            <a:ext cx="3071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родная мудр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познается в сравн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Операция установления сходства и различия между предметами и явлениями реального мира называется сравне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«Деление клетк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за Митоза и Мейо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школа</cp:lastModifiedBy>
  <dcterms:modified xsi:type="dcterms:W3CDTF">2016-12-29T11:27:05Z</dcterms:modified>
  <cp:revision>31</cp:revision>
  <dc:subject/>
  <dc:title>Презентация PowerPoint</dc:title>
</cp:coreProperties>
</file>