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B44D2-A867-490B-BF40-1C154FC43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520B8-7C20-444B-AC6E-DCE30060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266A7-600C-4C80-B853-3496DD473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667C9-F9FC-43FA-BA8F-010C53DFC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49EA-7772-43F2-A901-237111066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F03F-A70E-4C55-82EE-78604ECA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9A58-361B-4FFB-B8E8-923ADE9D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4078-6402-4CC4-A2E8-9776EC3E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B6FF-E35A-4E68-8068-B6CA84CE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012F-FB62-407B-81D3-4746A12FE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4F0F-00FA-489A-B1EC-00F11D11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70C75-0A17-49E4-BC28-A92C9052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7297-1D6F-4653-89E7-40810B50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0FCB-831E-4420-9890-123509D7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EB00-EFC9-413B-9F70-2D64E5AB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7C25-35D6-4C5F-934B-9D46788CC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BDD6-5E03-49F7-874E-5C2D73001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D8B91-D84C-4A25-94FC-B032FEC5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3DF41-1431-4679-BF51-0E25A5CD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8287D-521C-4B8B-ACA0-ABDAA203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AA61A-55C0-427B-93A7-297DFFDF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6FB81-0E24-4207-842B-54AFEE3A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9A4F8-E1E9-4DDB-ACD0-6AA93079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BC6AC-6F1A-4E32-B479-7BA47B4F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6734-C87F-4BB6-BC10-B6D9B3CD3C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1CFA-14F4-49AE-9042-E081ACDD860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max.co.za/feel/body/pics/chromium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interiorinfo.ru/upload/images/gallery/1188195509.jpg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www.oborud.info/product/icon/2622.jpg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schoolshop.ru/d/63973/d/2099.jpg" TargetMode="External"/><Relationship Id="rId7" Type="http://schemas.openxmlformats.org/officeDocument/2006/relationships/image" Target="../media/image11.jpeg"/><Relationship Id="rId8" Type="http://schemas.openxmlformats.org/officeDocument/2006/relationships/hyperlink" Target="http://www.wellstreetchurch.org.uk/content/pages/uploaded_images/105.jpg" TargetMode="External"/><Relationship Id="rId9" Type="http://schemas.openxmlformats.org/officeDocument/2006/relationships/image" Target="../media/image12.jpeg"/><Relationship Id="rId10" Type="http://schemas.openxmlformats.org/officeDocument/2006/relationships/hyperlink" Target="http://www.tomshw.it/guides/digitrends/digitrends/20090629/images/,8-V-215455-3.jpg" TargetMode="External"/><Relationship Id="rId11" Type="http://schemas.openxmlformats.org/officeDocument/2006/relationships/image" Target="../media/image13.jpeg"/><Relationship Id="rId12" Type="http://schemas.openxmlformats.org/officeDocument/2006/relationships/hyperlink" Target="http://www.aquakeeper.ru/images/data/2875.jpg" TargetMode="External"/><Relationship Id="rId13" Type="http://schemas.openxmlformats.org/officeDocument/2006/relationships/image" Target="../media/image14.jpeg"/><Relationship Id="rId14" Type="http://schemas.openxmlformats.org/officeDocument/2006/relationships/hyperlink" Target="http://news.ferra.ru/images/117/117589.jpg" TargetMode="External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g-2006-11.photosight.ru/26/1785412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isracity.com/isra/images/110/juice07.jpg" TargetMode="External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hyperlink" Target="http://ed3.ru/vlogenie/05/miaso1.jpg" TargetMode="External"/><Relationship Id="rId7" Type="http://schemas.openxmlformats.org/officeDocument/2006/relationships/image" Target="../media/image20.jpeg"/><Relationship Id="rId8" Type="http://schemas.openxmlformats.org/officeDocument/2006/relationships/hyperlink" Target="http://www.dordogne-on-line.info/images/classified%20-%20food%20la%20varache%20cheese.jpg" TargetMode="External"/><Relationship Id="rId9" Type="http://schemas.openxmlformats.org/officeDocument/2006/relationships/image" Target="../media/image21.jpeg"/><Relationship Id="rId10" Type="http://schemas.openxmlformats.org/officeDocument/2006/relationships/hyperlink" Target="http://slavbravo.com.ua/images/article_images/original_images/cg2wWL.jpg" TargetMode="External"/><Relationship Id="rId11" Type="http://schemas.openxmlformats.org/officeDocument/2006/relationships/image" Target="../media/image22.jpeg"/><Relationship Id="rId12" Type="http://schemas.openxmlformats.org/officeDocument/2006/relationships/hyperlink" Target="http://spice108.ru/prianosti/perets_chernyj_goroshek.gif" TargetMode="External"/><Relationship Id="rId13" Type="http://schemas.openxmlformats.org/officeDocument/2006/relationships/image" Target="../media/image23.jpeg"/><Relationship Id="rId14" Type="http://schemas.openxmlformats.org/officeDocument/2006/relationships/image" Target="../media/image24.jpeg"/><Relationship Id="rId15" Type="http://schemas.openxmlformats.org/officeDocument/2006/relationships/image" Target="../media/image25.jpe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Периодическая таблица</a:t>
            </a:r>
            <a:br>
              <a:rPr sz="4000"/>
            </a:br>
            <a:r>
              <a:rPr b="0" lang="ru-RU" sz="5400" spc="-1" strike="noStrike">
                <a:solidFill>
                  <a:srgbClr val="dfdef6"/>
                </a:solidFill>
                <a:latin typeface="Arial"/>
              </a:rPr>
              <a:t>Д.И. Менделеева 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116000" y="2637000"/>
            <a:ext cx="6656400" cy="30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лемент № 2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00"/>
                </a:solidFill>
                <a:latin typeface="Arial"/>
              </a:rPr>
              <a:t>ХРОМ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4"/>
          <p:cNvSpPr/>
          <p:nvPr/>
        </p:nvSpPr>
        <p:spPr>
          <a:xfrm>
            <a:off x="4356000" y="4581360"/>
            <a:ext cx="4573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полнила: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Громова О.И.</a:t>
            </a:r>
            <a:br>
              <a:rPr sz="3200"/>
            </a:br>
            <a:br>
              <a:rPr sz="1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2556000" y="6093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3/2014 учебный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AutoShape 6">
            <a:hlinkClick r:id="rId1"/>
          </p:cNvPr>
          <p:cNvSpPr/>
          <p:nvPr/>
        </p:nvSpPr>
        <p:spPr>
          <a:xfrm>
            <a:off x="-1908000" y="6459480"/>
            <a:ext cx="431640" cy="312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0e0e0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Месторождения хром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земной коре хрома довольно много – 0,02%. Хромовая руда носит название хромитов или хромистого железняка (потому, что почти всегда содержит и железо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ша страна обладает огромными запасами хромитов. Одно из самых больших месторождений находится в Казахстане, в районе Актюбинска; оно открыто в 1936 г. Значительные запасы хромовых руд есть и на Урал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ьшими запасами хромитов располагают Куба, Югославия, многие страны Азии и Афри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8" name="Picture 5" descr="Картинка 14 из 22"/>
          <p:cNvPicPr/>
          <p:nvPr/>
        </p:nvPicPr>
        <p:blipFill>
          <a:blip r:embed="rId4"/>
          <a:stretch/>
        </p:blipFill>
        <p:spPr>
          <a:xfrm>
            <a:off x="4500720" y="3860640"/>
            <a:ext cx="4319280" cy="25974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7" descr="Картинка 2 из 91"/>
          <p:cNvPicPr/>
          <p:nvPr/>
        </p:nvPicPr>
        <p:blipFill>
          <a:blip r:embed="rId5"/>
          <a:stretch/>
        </p:blipFill>
        <p:spPr>
          <a:xfrm>
            <a:off x="322200" y="3860640"/>
            <a:ext cx="3889440" cy="254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620"/>
                            </p:stCondLst>
                            <p:childTnLst>
                              <p:par>
                                <p:cTn id="3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3620"/>
                            </p:stCondLst>
                            <p:childTnLst>
                              <p:par>
                                <p:cTn id="34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620"/>
                            </p:stCondLst>
                            <p:childTnLst>
                              <p:par>
                                <p:cTn id="3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СПАСИБО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ЗА  ВНИМАНИЕ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4000">
    <p:cover dir="d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9" descr="tab_mendeleeva"/>
          <p:cNvPicPr/>
          <p:nvPr/>
        </p:nvPicPr>
        <p:blipFill>
          <a:blip r:embed="rId1"/>
          <a:stretch/>
        </p:blipFill>
        <p:spPr>
          <a:xfrm>
            <a:off x="457200" y="604800"/>
            <a:ext cx="8435880" cy="564840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16"/>
          <p:cNvSpPr/>
          <p:nvPr/>
        </p:nvSpPr>
        <p:spPr>
          <a:xfrm>
            <a:off x="3995640" y="2349360"/>
            <a:ext cx="647640" cy="432000"/>
          </a:xfrm>
          <a:prstGeom prst="rect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Picture 14" descr=""/>
          <p:cNvPicPr/>
          <p:nvPr/>
        </p:nvPicPr>
        <p:blipFill>
          <a:blip r:embed="rId2"/>
          <a:stretch/>
        </p:blipFill>
        <p:spPr>
          <a:xfrm>
            <a:off x="3995640" y="2349360"/>
            <a:ext cx="647640" cy="3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92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192" fill="hold"/>
                                        <p:tgtEl>
                                          <p:spTgt spid="5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192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192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55" dur="3000" fill="hold"/>
                                        <p:tgtEl>
                                          <p:spTgt spid="5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ХРОМ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4360" y="2204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ро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(лат. Cromium), Cr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имический элемент VI группы периодической системы Менделеев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томный номер 24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томная масса 51,996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талл голубовато-стального цвет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Picture 6" descr=""/>
          <p:cNvPicPr/>
          <p:nvPr/>
        </p:nvPicPr>
        <p:blipFill>
          <a:blip r:embed="rId6"/>
          <a:stretch/>
        </p:blipFill>
        <p:spPr>
          <a:xfrm>
            <a:off x="971640" y="549360"/>
            <a:ext cx="1942920" cy="117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1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2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3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3000" fill="hold"/>
                                        <p:tgtEl>
                                          <p:spTgt spid="5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0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1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2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73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7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8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9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80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4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5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6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87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1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2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3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История открытия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067280" y="1341000"/>
            <a:ext cx="4897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1797 г. французский химик Л. Вокелен впервые исследовал красноватый, тяжелый минерал крокоизит, попавший в его руки из далекой Сибири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   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рокоизит, чаще называемый крокоитом (от греческого "крокос" - шафран), -редкий минерал, найденный на Урале в 40-х года XVIII в. и описанный М. В. Ломоносовым. Затем он был найден в Сибири петербургским профессором химии И. Леманом в 1762 г. От него попал к Вокелену, который открыл в сибирском минерале соединение нового элемент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   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делить этот элемент в чистом виде он не смог. Пораженный разнообразием окрасок, образуемых разными соединениями вновь открытого элемента, Вокелен назвал его хромом (от греческого слова "хрома" - цвет, краска). В сравнительно чистом виде новый элемент был выделен в 1799 г. Ф. Тассером. Он представлял собой серо-стальной металл с серебристыми блестками в изломе, тугоплавкий (температура плавления 1800° С), не окисляющийся при обычных условиях, с плотностью, почти равной плотности желез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angle 41"/>
          <p:cNvSpPr/>
          <p:nvPr/>
        </p:nvSpPr>
        <p:spPr>
          <a:xfrm>
            <a:off x="-90360" y="2444760"/>
            <a:ext cx="876240" cy="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Picture 92" descr="Chrom_1[1]"/>
          <p:cNvPicPr/>
          <p:nvPr/>
        </p:nvPicPr>
        <p:blipFill>
          <a:blip r:embed="rId4"/>
          <a:stretch/>
        </p:blipFill>
        <p:spPr>
          <a:xfrm>
            <a:off x="250920" y="2492280"/>
            <a:ext cx="3457440" cy="258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Применение хром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30" name="Organization Chart 7"/>
          <p:cNvGrpSpPr/>
          <p:nvPr/>
        </p:nvGrpSpPr>
        <p:grpSpPr>
          <a:xfrm>
            <a:off x="431640" y="4149720"/>
            <a:ext cx="8209080" cy="2303280"/>
            <a:chOff x="431640" y="4149720"/>
            <a:chExt cx="8209080" cy="2303280"/>
          </a:xfrm>
        </p:grpSpPr>
        <p:cxnSp>
          <p:nvCxnSpPr>
            <p:cNvPr id="531" name="_s1028"/>
            <p:cNvCxnSpPr>
              <a:stCxn id="532" idx="0"/>
              <a:endCxn id="533" idx="2"/>
            </p:cNvCxnSpPr>
            <p:nvPr/>
          </p:nvCxnSpPr>
          <p:spPr>
            <a:xfrm flipV="1" rot="16200000">
              <a:off x="5996520" y="3610800"/>
              <a:ext cx="460800" cy="3380400"/>
            </a:xfrm>
            <a:prstGeom prst="bentConnector3">
              <a:avLst>
                <a:gd name="adj1" fmla="val 2736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4" name="_s1029"/>
            <p:cNvCxnSpPr>
              <a:stCxn id="535" idx="0"/>
              <a:endCxn id="533" idx="2"/>
            </p:cNvCxnSpPr>
            <p:nvPr/>
          </p:nvCxnSpPr>
          <p:spPr>
            <a:xfrm flipV="1" rot="16200000">
              <a:off x="5151240" y="4456080"/>
              <a:ext cx="460800" cy="1689840"/>
            </a:xfrm>
            <a:prstGeom prst="bentConnector3">
              <a:avLst>
                <a:gd name="adj1" fmla="val 2736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6" name="_s1030"/>
            <p:cNvCxnSpPr>
              <a:stCxn id="537" idx="0"/>
              <a:endCxn id="533" idx="2"/>
            </p:cNvCxnSpPr>
            <p:nvPr/>
          </p:nvCxnSpPr>
          <p:spPr>
            <a:xfrm flipV="1">
              <a:off x="4537080" y="5070960"/>
              <a:ext cx="2160" cy="4608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38" name="_s1031"/>
            <p:cNvCxnSpPr>
              <a:stCxn id="539" idx="0"/>
              <a:endCxn id="533" idx="2"/>
            </p:cNvCxnSpPr>
            <p:nvPr/>
          </p:nvCxnSpPr>
          <p:spPr>
            <a:xfrm flipH="1" flipV="1" rot="5400000">
              <a:off x="3461400" y="4455720"/>
              <a:ext cx="460800" cy="1691280"/>
            </a:xfrm>
            <a:prstGeom prst="bentConnector3">
              <a:avLst>
                <a:gd name="adj1" fmla="val 2736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540" name="_s1032"/>
            <p:cNvCxnSpPr>
              <a:stCxn id="541" idx="0"/>
              <a:endCxn id="533" idx="2"/>
            </p:cNvCxnSpPr>
            <p:nvPr/>
          </p:nvCxnSpPr>
          <p:spPr>
            <a:xfrm flipH="1" flipV="1" rot="5400000">
              <a:off x="2616840" y="3611160"/>
              <a:ext cx="460800" cy="3380400"/>
            </a:xfrm>
            <a:prstGeom prst="bentConnector3">
              <a:avLst>
                <a:gd name="adj1" fmla="val 2736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542" name=""/>
            <p:cNvSpPr txBox="1"/>
            <p:nvPr/>
          </p:nvSpPr>
          <p:spPr>
            <a:xfrm>
              <a:off x="3811680" y="4149720"/>
              <a:ext cx="1449360" cy="921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80"/>
              </a:solidFill>
              <a:miter/>
            </a:ln>
          </p:spPr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 txBox="1"/>
            <p:nvPr/>
          </p:nvSpPr>
          <p:spPr>
            <a:xfrm>
              <a:off x="431640" y="5531400"/>
              <a:ext cx="1449720" cy="921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80"/>
              </a:solidFill>
              <a:miter/>
            </a:ln>
          </p:spPr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В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металлурги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 txBox="1"/>
            <p:nvPr/>
          </p:nvSpPr>
          <p:spPr>
            <a:xfrm>
              <a:off x="2122560" y="5531400"/>
              <a:ext cx="1447560" cy="921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80"/>
              </a:solidFill>
              <a:miter/>
            </a:ln>
          </p:spPr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В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химической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промыш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ленност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 txBox="1"/>
            <p:nvPr/>
          </p:nvSpPr>
          <p:spPr>
            <a:xfrm>
              <a:off x="3811680" y="5531400"/>
              <a:ext cx="1449360" cy="921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80"/>
              </a:solidFill>
              <a:miter/>
            </a:ln>
          </p:spPr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В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текстильной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промыш-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ff"/>
                  </a:solidFill>
                  <a:latin typeface="Arial"/>
                </a:rPr>
                <a:t>ленност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 txBox="1"/>
            <p:nvPr/>
          </p:nvSpPr>
          <p:spPr>
            <a:xfrm>
              <a:off x="5502240" y="5531400"/>
              <a:ext cx="1447920" cy="921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80"/>
              </a:solidFill>
              <a:miter/>
            </a:ln>
          </p:spPr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В 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медицин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 txBox="1"/>
            <p:nvPr/>
          </p:nvSpPr>
          <p:spPr>
            <a:xfrm>
              <a:off x="7191360" y="5531400"/>
              <a:ext cx="1449360" cy="921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80"/>
              </a:solidFill>
              <a:miter/>
            </a:ln>
          </p:spPr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В наук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48" name="Picture 25" descr="Картинка 47 из 60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4154400" y="4159800"/>
              <a:ext cx="790560" cy="874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Text Box 24"/>
          <p:cNvSpPr/>
          <p:nvPr/>
        </p:nvSpPr>
        <p:spPr>
          <a:xfrm>
            <a:off x="250920" y="836640"/>
            <a:ext cx="85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ользование хрома основано на его жаропрочности, твердости и устойчивости против корроз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ьше всего хрома применяют для выплавки хромистых сталей. Значительное количество хрома идет на декоративные коррозионно-стойкие покрыт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ирокое применение получил порошковый хром в производстве металлокерамических изделий и материалов для сварочных электродов. Хром в виде иона Cr3+ - примесь в рубине, который используется как драгоценный камень и лазерный материа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единениями хрома протравливают ткани при крашен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 смеси хромита и магнезита изготовляют хромомагнезитовые огнеупорные издел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Наглядное применение хром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1" name="Picture 9" descr="1195932873_05_hrom_"/>
          <p:cNvPicPr/>
          <p:nvPr/>
        </p:nvPicPr>
        <p:blipFill>
          <a:blip r:embed="rId1"/>
          <a:stretch/>
        </p:blipFill>
        <p:spPr>
          <a:xfrm>
            <a:off x="4788000" y="4292640"/>
            <a:ext cx="3774960" cy="21016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13" descr="Картинка 2 из 168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4292640"/>
            <a:ext cx="2190600" cy="21906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5" descr="Картинка 9 из 168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03640" y="4221000"/>
            <a:ext cx="1360440" cy="21942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7" descr="Картинка 24 из 1685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516720" y="1413000"/>
            <a:ext cx="2266920" cy="223200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9" descr="Картинка 59 из 1685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68360" y="2781360"/>
            <a:ext cx="1577880" cy="85860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21" descr="Картинка 72 из 1685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195640" y="1341360"/>
            <a:ext cx="1627200" cy="22320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23" descr="Картинка 101 из 1685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68360" y="1341360"/>
            <a:ext cx="1584360" cy="126684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25" descr="Картинка 119 из 1685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4859280" y="2565360"/>
            <a:ext cx="1511280" cy="141912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27" descr="i?id=162422227&amp;tov=5"/>
          <p:cNvPicPr/>
          <p:nvPr/>
        </p:nvPicPr>
        <p:blipFill>
          <a:blip r:embed="rId16"/>
          <a:stretch/>
        </p:blipFill>
        <p:spPr>
          <a:xfrm>
            <a:off x="3924360" y="1341360"/>
            <a:ext cx="1674720" cy="12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5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287"/>
                            </p:stCondLst>
                            <p:childTnLst>
                              <p:par>
                                <p:cTn id="1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6287"/>
                            </p:stCondLst>
                            <p:childTnLst>
                              <p:par>
                                <p:cTn id="1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8287"/>
                            </p:stCondLst>
                            <p:childTnLst>
                              <p:par>
                                <p:cTn id="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287"/>
                            </p:stCondLst>
                            <p:childTnLst>
                              <p:par>
                                <p:cTn id="1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2287"/>
                            </p:stCondLst>
                            <p:childTnLst>
                              <p:par>
                                <p:cTn id="1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4287"/>
                            </p:stCondLst>
                            <p:childTnLst>
                              <p:par>
                                <p:cTn id="18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6286"/>
                            </p:stCondLst>
                            <p:childTnLst>
                              <p:par>
                                <p:cTn id="19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8287"/>
                            </p:stCondLst>
                            <p:childTnLst>
                              <p:par>
                                <p:cTn id="20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Роль хрома в живых организмах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5473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Хром — один из биогенных элементов, постоянно входит в состав тканей растений и животных. У животных хром участвует в обмене липидов, белков (входит в состав фермента трипсина), углеводов. Снижение содержания хрома в пище и крови приводит к уменьшению скорости роста, увеличению холестерина в кров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конце 1950-х гг. два исследователя, Шварц и Мерц, сообщили, что у крыс, которые были на рационе, дефицитном по хрому, развивалась непереносимость сахара; при добавлении же хрома в рацион их состояние нормализовалось. Это было первым подтверждением, что хром необходим животным для нормальной жизни. С тех пор исследователи поняли, что хром играет такую же роль и для здоровья человека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Rectangle 4"/>
          <p:cNvSpPr/>
          <p:nvPr/>
        </p:nvSpPr>
        <p:spPr>
          <a:xfrm>
            <a:off x="613800" y="141300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ажные факт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6" descr="Картинка 15 из 660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1952640"/>
            <a:ext cx="2771640" cy="27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1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1000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22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4" dur="1000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Arial"/>
              </a:rPr>
              <a:t>Пищевые источники хрома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68360" y="616572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шеничные ростки, печень, мясо, сыр, бобы, горох, цельное зерно, черный перец, мелисса, пивные дрожж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6" name="Picture 5" descr="Картинка 56 из 8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8360" y="3284640"/>
            <a:ext cx="2232000" cy="11160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7" descr="103242_1"/>
          <p:cNvPicPr/>
          <p:nvPr/>
        </p:nvPicPr>
        <p:blipFill>
          <a:blip r:embed="rId5"/>
          <a:stretch/>
        </p:blipFill>
        <p:spPr>
          <a:xfrm>
            <a:off x="539640" y="1268280"/>
            <a:ext cx="2160720" cy="18003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9" descr="Картинка 2 из 172145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059280" y="1268280"/>
            <a:ext cx="2862000" cy="180036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1" descr="Картинка 29 из 136286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138720" y="1268280"/>
            <a:ext cx="2536920" cy="18082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3" descr="Картинка 3 из 18556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987640" y="3357720"/>
            <a:ext cx="2376360" cy="17809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7" descr="Картинка 11 из 11421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11280" y="4559400"/>
            <a:ext cx="1728720" cy="15350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9" descr="Картинка 5 из 426"/>
          <p:cNvPicPr/>
          <p:nvPr/>
        </p:nvPicPr>
        <p:blipFill>
          <a:blip r:embed="rId14"/>
          <a:stretch/>
        </p:blipFill>
        <p:spPr>
          <a:xfrm>
            <a:off x="6156360" y="3357720"/>
            <a:ext cx="2448000" cy="183672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5" descr="Картинка 4 из 80716"/>
          <p:cNvPicPr/>
          <p:nvPr/>
        </p:nvPicPr>
        <p:blipFill>
          <a:blip r:embed="rId15"/>
          <a:stretch/>
        </p:blipFill>
        <p:spPr>
          <a:xfrm>
            <a:off x="4427640" y="4454640"/>
            <a:ext cx="2232000" cy="167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Функции хрома в жизни человека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сновная роль хрома в организме - это регуляция сахара в кров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Хром работает вместе с инсулином по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перемещению сахара из крови в ткани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организма для использования или сох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ранения. Этот микроэлемент настолько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важен для переносимости сахара, что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сильная его недостаточность приводит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к развитию диабетоподобного заболевания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Уровень хрома снижается при дет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                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ском диабете, при коронарном арте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риальном заболевании (склерозиро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</a:t>
            </a:r>
            <a:r>
              <a:rPr b="1" lang="ru-RU" sz="1500" spc="-1" strike="noStrike">
                <a:solidFill>
                  <a:srgbClr val="ffffff"/>
                </a:solidFill>
                <a:latin typeface="Arial"/>
              </a:rPr>
              <a:t>вании артерий, ведущим к сердцу)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Хром необходим для нормального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метаболизма жиров («сжигания жиров»)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в организме и его недостаток однозначно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ведет к излишнему весу, ожирению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strips dir="r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47" dur="2000" fill="hold"/>
                                        <p:tgtEl>
                                          <p:spTgt spid="5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20:06:07Z</dcterms:created>
  <dc:creator>artnik</dc:creator>
  <dc:description/>
  <dc:language>en-US</dc:language>
  <cp:lastModifiedBy>Computer</cp:lastModifiedBy>
  <dcterms:modified xsi:type="dcterms:W3CDTF">2017-01-12T00:32:49Z</dcterms:modified>
  <cp:revision>49</cp:revision>
  <dc:subject/>
  <dc:title>Элемент хро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a07000000000001024140</vt:lpwstr>
  </property>
</Properties>
</file>