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4.png" ContentType="image/png"/>
  <Override PartName="/ppt/media/image7.png" ContentType="image/png"/>
  <Override PartName="/ppt/media/drumroll.wav" ContentType="audio/x-wav"/>
  <Override PartName="/ppt/media/image3.jpeg" ContentType="image/jpeg"/>
  <Override PartName="/ppt/media/image12.png" ContentType="image/png"/>
  <Override PartName="/ppt/media/image11.jpeg" ContentType="image/jpeg"/>
  <Override PartName="/ppt/media/image8.png" ContentType="image/png"/>
  <Override PartName="/ppt/media/image9.png" ContentType="image/png"/>
  <Override PartName="/ppt/media/voltage.wav" ContentType="audio/x-wav"/>
  <Override PartName="/ppt/media/image1.png" ContentType="image/png"/>
  <Override PartName="/ppt/media/explode.wav" ContentType="audio/x-wav"/>
  <Override PartName="/ppt/media/bomb.wav" ContentType="audio/x-wav"/>
  <Override PartName="/ppt/media/image6.png" ContentType="image/png"/>
  <Override PartName="/ppt/media/chimes.wav" ContentType="audio/x-wav"/>
  <Override PartName="/ppt/media/wind.wav" ContentType="audio/x-wav"/>
  <Override PartName="/ppt/media/image2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664-A63D-4951-892E-67982FD2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3BB-D28C-4D2C-A9A7-E2E3857D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0D4-A2F8-490E-9026-F5E8A795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B28-966E-49A0-BBE1-909E9322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E44-1305-443D-8D81-A6317CE4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AF5-532A-42DF-A51A-DF1E387E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3FE-E3BD-452F-9FEE-893B0815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F4F-425B-4F05-BE25-1A7B853B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5E5-2132-437D-93D3-1177E185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CBE-BAEB-4890-85ED-FA04C6D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946-E55A-496A-854A-7D32B01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AD7-AD01-4F3F-A9F0-0ED3642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3C9A-03CC-4652-A4F9-6F9DCEBB4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audio" Target="../media/drumroll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audio" Target="../media/laser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454960" cy="6218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13880" y="78552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Буквы О и А в корнях с чередование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05200" y="58579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: Кукушкина С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Svetlana\Desktop\руслес.jpe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44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Svetlana\Desktop\грибочек.jpg"/>
          <p:cNvPicPr/>
          <p:nvPr/>
        </p:nvPicPr>
        <p:blipFill>
          <a:blip r:embed="rId2"/>
          <a:stretch/>
        </p:blipFill>
        <p:spPr>
          <a:xfrm>
            <a:off x="642960" y="4429080"/>
            <a:ext cx="2214720" cy="2112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806040" y="1857240"/>
            <a:ext cx="39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ик..са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357200" y="550080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700092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214800" y="550080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рави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2357280" y="1884240"/>
            <a:ext cx="5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786200" y="357120"/>
            <a:ext cx="3071880" cy="418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Svetlana\Desktop\грибочек.jpg"/>
          <p:cNvPicPr/>
          <p:nvPr/>
        </p:nvPicPr>
        <p:blipFill>
          <a:blip r:embed="rId4"/>
          <a:stretch/>
        </p:blipFill>
        <p:spPr>
          <a:xfrm>
            <a:off x="6330960" y="4500720"/>
            <a:ext cx="2127240" cy="2028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1"/>
          <p:cNvSpPr/>
          <p:nvPr/>
        </p:nvSpPr>
        <p:spPr>
          <a:xfrm>
            <a:off x="7000920" y="550080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8440" y="285840"/>
            <a:ext cx="8559720" cy="629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vetlana\Desktop\грибочек.jpg"/>
          <p:cNvPicPr/>
          <p:nvPr/>
        </p:nvPicPr>
        <p:blipFill>
          <a:blip r:embed="rId2"/>
          <a:stretch/>
        </p:blipFill>
        <p:spPr>
          <a:xfrm>
            <a:off x="642960" y="4429080"/>
            <a:ext cx="2214720" cy="21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Svetlana\Desktop\грибочек.jpg"/>
          <p:cNvPicPr/>
          <p:nvPr/>
        </p:nvPicPr>
        <p:blipFill>
          <a:blip r:embed="rId3"/>
          <a:stretch/>
        </p:blipFill>
        <p:spPr>
          <a:xfrm>
            <a:off x="6330960" y="4500720"/>
            <a:ext cx="2127240" cy="2028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799560" y="1857240"/>
            <a:ext cx="32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ил..г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357200" y="550080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700092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214800" y="564372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прави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2357280" y="1884240"/>
            <a:ext cx="5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2857680" y="2963880"/>
            <a:ext cx="3500280" cy="24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vetlana\Desktop\грибочек.jpg"/>
          <p:cNvPicPr/>
          <p:nvPr/>
        </p:nvPicPr>
        <p:blipFill>
          <a:blip r:embed="rId2"/>
          <a:stretch/>
        </p:blipFill>
        <p:spPr>
          <a:xfrm>
            <a:off x="642960" y="4429080"/>
            <a:ext cx="2214720" cy="211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Svetlana\Desktop\грибочек.jpg"/>
          <p:cNvPicPr/>
          <p:nvPr/>
        </p:nvPicPr>
        <p:blipFill>
          <a:blip r:embed="rId3"/>
          <a:stretch/>
        </p:blipFill>
        <p:spPr>
          <a:xfrm>
            <a:off x="6330960" y="4500720"/>
            <a:ext cx="2127240" cy="2028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737280" y="3071880"/>
            <a:ext cx="55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Отр..стить воло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357200" y="550080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700092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214800" y="550080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рави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857240" y="3098880"/>
            <a:ext cx="35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6357960" y="857160"/>
            <a:ext cx="250020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Svetlana\Desktop\руслес.jpe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44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Svetlana\Desktop\грибочек.jpg"/>
          <p:cNvPicPr/>
          <p:nvPr/>
        </p:nvPicPr>
        <p:blipFill>
          <a:blip r:embed="rId2"/>
          <a:stretch/>
        </p:blipFill>
        <p:spPr>
          <a:xfrm>
            <a:off x="642960" y="4429080"/>
            <a:ext cx="2214720" cy="2112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Svetlana\Desktop\грибочек.jpg"/>
          <p:cNvPicPr/>
          <p:nvPr/>
        </p:nvPicPr>
        <p:blipFill>
          <a:blip r:embed="rId3"/>
          <a:stretch/>
        </p:blipFill>
        <p:spPr>
          <a:xfrm>
            <a:off x="6330960" y="4500720"/>
            <a:ext cx="2127240" cy="2028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793800" y="185724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Изл..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357200" y="550080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700092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3214800" y="550080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рави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1928880" y="188424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4714920" y="1428840"/>
            <a:ext cx="2324160" cy="31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572320" cy="5067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582120" y="571680"/>
            <a:ext cx="48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моги котику поймать ры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Users\Svetlana\Desktop\кот.jpeg"/>
          <p:cNvPicPr/>
          <p:nvPr/>
        </p:nvPicPr>
        <p:blipFill>
          <a:blip r:embed="rId2"/>
          <a:stretch/>
        </p:blipFill>
        <p:spPr>
          <a:xfrm>
            <a:off x="5929200" y="21420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Svetlana\Desktop\рыбка.jpeg"/>
          <p:cNvPicPr/>
          <p:nvPr/>
        </p:nvPicPr>
        <p:blipFill>
          <a:blip r:embed="rId3"/>
          <a:stretch/>
        </p:blipFill>
        <p:spPr>
          <a:xfrm>
            <a:off x="6259680" y="2000160"/>
            <a:ext cx="2031840" cy="1928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Svetlana\Desktop\рыбка.jpeg"/>
          <p:cNvPicPr/>
          <p:nvPr/>
        </p:nvPicPr>
        <p:blipFill>
          <a:blip r:embed="rId4"/>
          <a:stretch/>
        </p:blipFill>
        <p:spPr>
          <a:xfrm>
            <a:off x="3857760" y="242892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Svetlana\Desktop\рыбка.jpeg"/>
          <p:cNvPicPr/>
          <p:nvPr/>
        </p:nvPicPr>
        <p:blipFill>
          <a:blip r:embed="rId5"/>
          <a:stretch/>
        </p:blipFill>
        <p:spPr>
          <a:xfrm>
            <a:off x="928800" y="2071800"/>
            <a:ext cx="150480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Users\Svetlana\Desktop\рыбка.jpeg"/>
          <p:cNvPicPr/>
          <p:nvPr/>
        </p:nvPicPr>
        <p:blipFill>
          <a:blip r:embed="rId6"/>
          <a:stretch/>
        </p:blipFill>
        <p:spPr>
          <a:xfrm>
            <a:off x="5572080" y="4176720"/>
            <a:ext cx="2071800" cy="196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Users\Svetlana\Desktop\рыбка.jpeg"/>
          <p:cNvPicPr/>
          <p:nvPr/>
        </p:nvPicPr>
        <p:blipFill>
          <a:blip r:embed="rId7"/>
          <a:stretch/>
        </p:blipFill>
        <p:spPr>
          <a:xfrm>
            <a:off x="1455840" y="4071960"/>
            <a:ext cx="240804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0"/>
          <p:cNvSpPr/>
          <p:nvPr/>
        </p:nvSpPr>
        <p:spPr>
          <a:xfrm>
            <a:off x="938520" y="20718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.с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3850200" y="250020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г..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635796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…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1150200" y="378612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р..внить гря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5860800" y="564372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р..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928800" y="30002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 flipH="1">
            <a:off x="1713960" y="28576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3929040" y="335772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4643280" y="3286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6357960" y="335772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7215120" y="321480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1857240" y="57150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2786040" y="5786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6"/>
          <p:cNvSpPr/>
          <p:nvPr/>
        </p:nvSpPr>
        <p:spPr>
          <a:xfrm>
            <a:off x="5643720" y="42861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6858000" y="42861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0204E-006 L 0.51181 -0.20976 E">
                                      <p:cBhvr>
                                        <p:cTn id="11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40426E-006 L 0.20486 -0.24121 E">
                                      <p:cBhvr>
                                        <p:cTn id="12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6799E-006 L 0.07083 -0.12582 E">
                                      <p:cBhvr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6651 C 0 -0.24111 0.069 -0.33302 0.125 -0.33302 L 0.25 -0.33302 E">
                                      <p:cBhvr>
                                        <p:cTn id="14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5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71440" y="213840"/>
            <a:ext cx="5429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ыбери слова с буквой 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43680" y="1143000"/>
          <a:ext cx="3714480" cy="5143680"/>
        </p:xfrm>
        <a:graphic>
          <a:graphicData uri="http://schemas.openxmlformats.org/drawingml/2006/table">
            <a:tbl>
              <a:tblPr/>
              <a:tblGrid>
                <a:gridCol w="371448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582120" y="12859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…кать под дож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7600" y="207180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м..кнуть п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71680" y="28576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..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05080" y="36432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..к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34880" y="428616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л..влять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05080" y="5000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к..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0611E-006 L 0.55122 0.13645 E">
                                      <p:cBhvr>
                                        <p:cTn id="15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5 0.046 -0.16651 0.113 -0.17184 C 0.177 -0.1785 0.237 -0.11856 0.241 -0.03197 C 0.246 0.04796 0.204 0.12255 0.144 0.12788 C 0.089 0.13188 0.037 0.08259 0.033 0.00799 C 0.029 -0.05994 0.064 -0.12389 0.115 -0.12921 C 0.162 -0.13321 0.206 -0.09191 0.209 -0.02931 C 0.212 0.02664 0.184 0.08126 0.142 0.08392 C 0.104 0.08792 0.068 0.05595 0.065 0.00533 C 0.063 -0.03996 0.084 -0.08392 0.117 -0.08659 C 0.146 -0.08925 0.175 -0.06527 0.177 -0.02664 C 0.179 0.00666 0.164 0.03863 0.14 0.0413 C 0.12 0.04396 0.099 0.02931 0.098 0.00266 C 0.096 -0.01865 0.104 -0.0413 0.119 -0.04396 C 0.131 -0.04396 0.143 -0.03863 0.145 -0.02398 C 0.146 -0.01465 0.144 -0.00533 0.138 -0.00133 C 0.135 0 0.133 0 0.13 -0.00133 E">
                                      <p:cBhvr>
                                        <p:cTn id="16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9417E-006 L 0.63229 -0.00624 E">
                                      <p:cBhvr>
                                        <p:cTn id="17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5 0.046 -0.16651 0.113 -0.17184 C 0.177 -0.1785 0.237 -0.11856 0.241 -0.03197 C 0.246 0.04796 0.204 0.12255 0.144 0.12788 C 0.089 0.13188 0.037 0.08259 0.033 0.00799 C 0.029 -0.05994 0.064 -0.12389 0.115 -0.12921 C 0.162 -0.13321 0.206 -0.09191 0.209 -0.02931 C 0.212 0.02664 0.184 0.08126 0.142 0.08392 C 0.104 0.08792 0.068 0.05595 0.065 0.00533 C 0.063 -0.03996 0.084 -0.08392 0.117 -0.08659 C 0.146 -0.08925 0.175 -0.06527 0.177 -0.02664 C 0.179 0.00666 0.164 0.03863 0.14 0.0413 C 0.12 0.04396 0.099 0.02931 0.098 0.00266 C 0.096 -0.01865 0.104 -0.0413 0.119 -0.04396 C 0.131 -0.04396 0.143 -0.03863 0.145 -0.02398 C 0.146 -0.01465 0.144 -0.00533 0.138 -0.00133 C 0.135 0 0.133 0 0.13 -0.00133 E">
                                      <p:cBhvr>
                                        <p:cTn id="17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5 0.046 -0.16651 0.113 -0.17184 C 0.177 -0.1785 0.237 -0.11856 0.241 -0.03197 C 0.246 0.04796 0.204 0.12255 0.144 0.12788 C 0.089 0.13188 0.037 0.08259 0.033 0.00799 C 0.029 -0.05994 0.064 -0.12389 0.115 -0.12921 C 0.162 -0.13321 0.206 -0.09191 0.209 -0.02931 C 0.212 0.02664 0.184 0.08126 0.142 0.08392 C 0.104 0.08792 0.068 0.05595 0.065 0.00533 C 0.063 -0.03996 0.084 -0.08392 0.117 -0.08659 C 0.146 -0.08925 0.175 -0.06527 0.177 -0.02664 C 0.179 0.00666 0.164 0.03863 0.14 0.0413 C 0.12 0.04396 0.099 0.02931 0.098 0.00266 C 0.096 -0.01865 0.104 -0.0413 0.119 -0.04396 C 0.131 -0.04396 0.143 -0.03863 0.145 -0.02398 C 0.146 -0.01465 0.144 -0.00533 0.138 -0.00133 C 0.135 0 0.133 0 0.13 -0.00133 E">
                                      <p:cBhvr>
                                        <p:cTn id="18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8.51064E-007 L 0.64202 -0.19288 E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21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785880" y="58579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пасибо за правильные 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4:55:30Z</dcterms:created>
  <dc:creator>Svetlana</dc:creator>
  <dc:description/>
  <dc:language>en-US</dc:language>
  <cp:lastModifiedBy>Svetlana</cp:lastModifiedBy>
  <dcterms:modified xsi:type="dcterms:W3CDTF">2014-03-26T16:07:21Z</dcterms:modified>
  <cp:revision>31</cp:revision>
  <dc:subject/>
  <dc:title>Слайд 1</dc:title>
</cp:coreProperties>
</file>