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BCC-FCFC-4FB0-AD84-FBDA5F27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7CA-56A9-4BAF-8A4F-BC7749EE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E7B-5FBE-412A-9390-286EDAF6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C60-D984-42D1-8178-793FCCE3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3BAC-A126-4A6D-86C6-987CE0A1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C004-7CC8-4449-B7C7-E095CE12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9CBD-B3E2-448E-8D18-749CA90D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B497-BF10-4023-B75B-C3AA3B6D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1AD3-C08C-4765-9BF1-B1AFF3D9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C965-8D42-4228-A7ED-B4461705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FF79-BEEF-4DE2-A7A2-106A9DCC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D50-07C8-4813-94BF-F7A510D7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35DF-A762-4736-94AE-6C24922B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70A3-0F5A-4D5C-82E5-E58F0046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26A2-3F41-4DA0-8B78-A34361DE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AB6A-6C18-430C-A941-E0812B73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1996-82F8-4B97-8888-BB442D16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CDD-24F5-4D64-ACD9-11EFE035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EBC-0777-4745-86AF-653540E5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22A-A313-446D-BADD-839DC321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46F-18CB-4A5F-A579-1AEA5E6D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773-BF01-4641-AC2A-B6E46660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98F-07B6-45F8-893A-830DB1C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0C2-0160-4AA9-A6C6-4BDE1F3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B2F-BE27-41C0-8F22-8D8AA13AA5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0093-E75C-4AB5-8E6A-BF5F0804D8F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awod.ru/pics/konserv/saransk.gi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s.tn.ru/traders/pic/build1687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aranskkonserv.ru/manufacture/milk.htm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saranskkonserv.ru/manufacture/vegetables.html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aranskkonserv.ru/production/goroh_highest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ranskkonserv.ru/production/masha400.html" TargetMode="External"/><Relationship Id="rId2" Type="http://schemas.openxmlformats.org/officeDocument/2006/relationships/hyperlink" Target="http://www.saranskkonserv.ru/production/400.html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ranskkonserv.ru/production/govyadina_s_kartofelem.htm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saranskkonserv.ru/production/grechka_s_govjad.html" TargetMode="External"/><Relationship Id="rId4" Type="http://schemas.openxmlformats.org/officeDocument/2006/relationships/hyperlink" Target="http://www.saranskkonserv.ru/production/grechka_s_govjad.html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1280" y="25992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нсервный завод «Саранский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0" y="220464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АО "Консервный завод "Саранский" – одно из крупнейших перерабатывающих предприятий Республики Мордовия. Новейшее иностранное оборудование и используемое экологически чистое сырье позволяет предприятию выпускать конкурентоспособную натуральную продукцию, отличающуюся исключительными вкусовыми характеристиками от прочей продукци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i-main-pic" descr="Картинка 4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pic"/>
          <p:cNvPicPr/>
          <p:nvPr/>
        </p:nvPicPr>
        <p:blipFill>
          <a:blip r:embed="rId3"/>
          <a:stretch/>
        </p:blipFill>
        <p:spPr>
          <a:xfrm>
            <a:off x="6300720" y="2565360"/>
            <a:ext cx="284328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7" descr="Сливки сгущенные с сахаром в дой-паке 100 г."/>
          <p:cNvPicPr/>
          <p:nvPr/>
        </p:nvPicPr>
        <p:blipFill>
          <a:blip r:embed="rId1"/>
          <a:stretch/>
        </p:blipFill>
        <p:spPr>
          <a:xfrm>
            <a:off x="250920" y="2349360"/>
            <a:ext cx="2544840" cy="4292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2"/>
          <p:cNvSpPr/>
          <p:nvPr/>
        </p:nvSpPr>
        <p:spPr>
          <a:xfrm>
            <a:off x="1067040" y="0"/>
            <a:ext cx="7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ливки сгущенные с сахар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3" descr="Какао со сгущенным молоком и сахаром в дой-паке 380 г."/>
          <p:cNvPicPr/>
          <p:nvPr/>
        </p:nvPicPr>
        <p:blipFill>
          <a:blip r:embed="rId2"/>
          <a:stretch/>
        </p:blipFill>
        <p:spPr>
          <a:xfrm>
            <a:off x="2987640" y="2421000"/>
            <a:ext cx="2952720" cy="42210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4"/>
          <p:cNvSpPr/>
          <p:nvPr/>
        </p:nvSpPr>
        <p:spPr>
          <a:xfrm>
            <a:off x="-252360" y="692280"/>
            <a:ext cx="997272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ао со сгущенным молоком и сахар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фе натуральный со сгущенным молоком и сахаром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5" descr="Кофе натуральный   со сгущенным молоком и сахаром в дой-паке 380 г."/>
          <p:cNvPicPr/>
          <p:nvPr/>
        </p:nvPicPr>
        <p:blipFill>
          <a:blip r:embed="rId3"/>
          <a:stretch/>
        </p:blipFill>
        <p:spPr>
          <a:xfrm>
            <a:off x="6153120" y="2565360"/>
            <a:ext cx="299088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-4494240" y="3054240"/>
            <a:ext cx="360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-514980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1957320" y="3108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412640" y="189000"/>
            <a:ext cx="70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фе со сгущенным моло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11" descr="Кофе со сгущенным молоком в ж/б 380 г."/>
          <p:cNvPicPr/>
          <p:nvPr/>
        </p:nvPicPr>
        <p:blipFill>
          <a:blip r:embed="rId1"/>
          <a:stretch/>
        </p:blipFill>
        <p:spPr>
          <a:xfrm>
            <a:off x="0" y="2421000"/>
            <a:ext cx="3230640" cy="386064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3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2" descr="Какао со сгущенным молоком и сахаром в дой-паке 380 г."/>
          <p:cNvPicPr/>
          <p:nvPr/>
        </p:nvPicPr>
        <p:blipFill>
          <a:blip r:embed="rId2"/>
          <a:stretch/>
        </p:blipFill>
        <p:spPr>
          <a:xfrm>
            <a:off x="3276720" y="2492280"/>
            <a:ext cx="3085920" cy="36878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5"/>
          <p:cNvSpPr/>
          <p:nvPr/>
        </p:nvSpPr>
        <p:spPr>
          <a:xfrm>
            <a:off x="-135720" y="877680"/>
            <a:ext cx="95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ао со сгущенным молоком и сахар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локо цельное сгущенное с саха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6" descr="Молоко цельное сгущенное с сахаром в дой-паке 380 г."/>
          <p:cNvPicPr/>
          <p:nvPr/>
        </p:nvPicPr>
        <p:blipFill>
          <a:blip r:embed="rId3"/>
          <a:stretch/>
        </p:blipFill>
        <p:spPr>
          <a:xfrm>
            <a:off x="6515280" y="2421000"/>
            <a:ext cx="26287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268000" y="260280"/>
            <a:ext cx="6875640" cy="727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 2007 году, как и планировалось, запущен современный цех овощной консервации, мощности которого позволяют производить до 15 млн. банок продукции. В 2009-2010 гг. планируется реализация амбициозного современного проекта, по своим возможностям не имеющего аналогов в России: производство овощных замороженных смесей, а также вторых готовых блюд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Предприятие создало и постоянно расширяет дистрибьюторскую и дилерскую сеть для обеспечения доступности продукции для населения в разных регионах России. Сегодня продукция ОАО «Консервный завод «Саранский» представлена более чем в 45 регионах РФ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5" descr="pic"/>
          <p:cNvPicPr/>
          <p:nvPr/>
        </p:nvPicPr>
        <p:blipFill>
          <a:blip r:embed="rId1"/>
          <a:stretch/>
        </p:blipFill>
        <p:spPr>
          <a:xfrm>
            <a:off x="0" y="0"/>
            <a:ext cx="234000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Лучшие товары Мордовии - 2008"/>
          <p:cNvPicPr/>
          <p:nvPr/>
        </p:nvPicPr>
        <p:blipFill>
          <a:blip r:embed="rId1"/>
          <a:stretch/>
        </p:blipFill>
        <p:spPr>
          <a:xfrm>
            <a:off x="1403280" y="3213000"/>
            <a:ext cx="2257560" cy="25653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7"/>
          <p:cNvSpPr/>
          <p:nvPr/>
        </p:nvSpPr>
        <p:spPr>
          <a:xfrm>
            <a:off x="291960" y="5463360"/>
            <a:ext cx="326232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Лучшие това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Мордовии -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8" descr="Экологически безопасная продукция"/>
          <p:cNvPicPr/>
          <p:nvPr/>
        </p:nvPicPr>
        <p:blipFill>
          <a:blip r:embed="rId2"/>
          <a:stretch/>
        </p:blipFill>
        <p:spPr>
          <a:xfrm>
            <a:off x="4859280" y="3213000"/>
            <a:ext cx="2538360" cy="25639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9"/>
          <p:cNvSpPr/>
          <p:nvPr/>
        </p:nvSpPr>
        <p:spPr>
          <a:xfrm>
            <a:off x="3835080" y="5463360"/>
            <a:ext cx="51519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Экологически безопас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проду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468360" y="1368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укция «Саранского» консервного завода не только востребована, но и неизменно получает высшие награды на различных выставках. Подтверждением высокого качества продукции служат медали и дипломы полученные на самых авторитетных выставках, таких как «WorldFood», «ПродЭкспо». Продукция СКЗ также отмечена медалью международного конкурса «Экологически безопасная продукц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ProdExpo - 2009"/>
          <p:cNvPicPr/>
          <p:nvPr/>
        </p:nvPicPr>
        <p:blipFill>
          <a:blip r:embed="rId1"/>
          <a:stretch/>
        </p:blipFill>
        <p:spPr>
          <a:xfrm>
            <a:off x="250920" y="4076640"/>
            <a:ext cx="2448000" cy="24163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ProdExpo - 2008"/>
          <p:cNvPicPr/>
          <p:nvPr/>
        </p:nvPicPr>
        <p:blipFill>
          <a:blip r:embed="rId2"/>
          <a:stretch/>
        </p:blipFill>
        <p:spPr>
          <a:xfrm>
            <a:off x="6443640" y="4149720"/>
            <a:ext cx="2216160" cy="22305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ProdExpo - 2008"/>
          <p:cNvPicPr/>
          <p:nvPr/>
        </p:nvPicPr>
        <p:blipFill>
          <a:blip r:embed="rId3"/>
          <a:stretch/>
        </p:blipFill>
        <p:spPr>
          <a:xfrm>
            <a:off x="3348000" y="4005360"/>
            <a:ext cx="2359080" cy="2374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9" descr="WorldFood - 2007"/>
          <p:cNvPicPr/>
          <p:nvPr/>
        </p:nvPicPr>
        <p:blipFill>
          <a:blip r:embed="rId4"/>
          <a:stretch/>
        </p:blipFill>
        <p:spPr>
          <a:xfrm>
            <a:off x="539640" y="1125360"/>
            <a:ext cx="2184480" cy="2222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ProdExpo - 2006"/>
          <p:cNvPicPr/>
          <p:nvPr/>
        </p:nvPicPr>
        <p:blipFill>
          <a:blip r:embed="rId5"/>
          <a:stretch/>
        </p:blipFill>
        <p:spPr>
          <a:xfrm>
            <a:off x="6443640" y="1125360"/>
            <a:ext cx="2217600" cy="2232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WorldFood - 2006"/>
          <p:cNvPicPr/>
          <p:nvPr/>
        </p:nvPicPr>
        <p:blipFill>
          <a:blip r:embed="rId6"/>
          <a:stretch/>
        </p:blipFill>
        <p:spPr>
          <a:xfrm>
            <a:off x="5148360" y="2421000"/>
            <a:ext cx="2376360" cy="2298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WorldFood - 2006"/>
          <p:cNvPicPr/>
          <p:nvPr/>
        </p:nvPicPr>
        <p:blipFill>
          <a:blip r:embed="rId7"/>
          <a:stretch/>
        </p:blipFill>
        <p:spPr>
          <a:xfrm>
            <a:off x="3564000" y="1341360"/>
            <a:ext cx="2208240" cy="2222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3" descr="ProdExpo - 2006"/>
          <p:cNvPicPr/>
          <p:nvPr/>
        </p:nvPicPr>
        <p:blipFill>
          <a:blip r:embed="rId8"/>
          <a:stretch/>
        </p:blipFill>
        <p:spPr>
          <a:xfrm>
            <a:off x="1763640" y="2421000"/>
            <a:ext cx="2278080" cy="22939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4"/>
          <p:cNvSpPr/>
          <p:nvPr/>
        </p:nvSpPr>
        <p:spPr>
          <a:xfrm>
            <a:off x="-541440" y="-136440"/>
            <a:ext cx="10296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ahoma"/>
              </a:rPr>
              <a:t>Награды «Саранского» консервного завод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Picture 57" descr="«Продэкспо - 2009»"/>
          <p:cNvPicPr/>
          <p:nvPr/>
        </p:nvPicPr>
        <p:blipFill>
          <a:blip r:embed="rId1"/>
          <a:stretch/>
        </p:blipFill>
        <p:spPr>
          <a:xfrm>
            <a:off x="250920" y="4292640"/>
            <a:ext cx="1674720" cy="2303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8" descr="«Лучшие товары Мордовии» "/>
          <p:cNvPicPr/>
          <p:nvPr/>
        </p:nvPicPr>
        <p:blipFill>
          <a:blip r:embed="rId2"/>
          <a:stretch/>
        </p:blipFill>
        <p:spPr>
          <a:xfrm>
            <a:off x="7308720" y="4365720"/>
            <a:ext cx="1576440" cy="21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9" descr="World Food Moscow "/>
          <p:cNvPicPr/>
          <p:nvPr/>
        </p:nvPicPr>
        <p:blipFill>
          <a:blip r:embed="rId3"/>
          <a:stretch/>
        </p:blipFill>
        <p:spPr>
          <a:xfrm>
            <a:off x="900000" y="2133720"/>
            <a:ext cx="1890720" cy="2598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0" descr="«Лучшие товары Мордовии»"/>
          <p:cNvPicPr/>
          <p:nvPr/>
        </p:nvPicPr>
        <p:blipFill>
          <a:blip r:embed="rId4"/>
          <a:stretch/>
        </p:blipFill>
        <p:spPr>
          <a:xfrm>
            <a:off x="250920" y="907920"/>
            <a:ext cx="1780920" cy="2448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1" descr="«Зелёная неделя - 2008»"/>
          <p:cNvPicPr/>
          <p:nvPr/>
        </p:nvPicPr>
        <p:blipFill>
          <a:blip r:embed="rId5"/>
          <a:stretch/>
        </p:blipFill>
        <p:spPr>
          <a:xfrm>
            <a:off x="2340000" y="3716280"/>
            <a:ext cx="1681200" cy="23115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2" descr="«Золотая осень»"/>
          <p:cNvPicPr/>
          <p:nvPr/>
        </p:nvPicPr>
        <p:blipFill>
          <a:blip r:embed="rId6"/>
          <a:stretch/>
        </p:blipFill>
        <p:spPr>
          <a:xfrm>
            <a:off x="3419640" y="5176800"/>
            <a:ext cx="2311200" cy="1681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4" descr="«ГОСЗАКАЗ - 2007»"/>
          <p:cNvPicPr/>
          <p:nvPr/>
        </p:nvPicPr>
        <p:blipFill>
          <a:blip r:embed="rId7"/>
          <a:stretch/>
        </p:blipFill>
        <p:spPr>
          <a:xfrm>
            <a:off x="5148360" y="3645000"/>
            <a:ext cx="1728720" cy="2376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5" descr="«Лучшие товары Мордовии»"/>
          <p:cNvPicPr/>
          <p:nvPr/>
        </p:nvPicPr>
        <p:blipFill>
          <a:blip r:embed="rId8"/>
          <a:stretch/>
        </p:blipFill>
        <p:spPr>
          <a:xfrm>
            <a:off x="6084720" y="1989000"/>
            <a:ext cx="1963800" cy="2698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6" descr="«Продэкспо - 2007»"/>
          <p:cNvPicPr/>
          <p:nvPr/>
        </p:nvPicPr>
        <p:blipFill>
          <a:blip r:embed="rId9"/>
          <a:stretch/>
        </p:blipFill>
        <p:spPr>
          <a:xfrm>
            <a:off x="7093080" y="981000"/>
            <a:ext cx="1733400" cy="2382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7" descr="«Российские производители и снабжение вооруженных сил»"/>
          <p:cNvPicPr/>
          <p:nvPr/>
        </p:nvPicPr>
        <p:blipFill>
          <a:blip r:embed="rId10"/>
          <a:stretch/>
        </p:blipFill>
        <p:spPr>
          <a:xfrm>
            <a:off x="2411280" y="907920"/>
            <a:ext cx="1731960" cy="2502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8" descr="«Деловая Мордовия - 2006»"/>
          <p:cNvPicPr/>
          <p:nvPr/>
        </p:nvPicPr>
        <p:blipFill>
          <a:blip r:embed="rId11"/>
          <a:stretch/>
        </p:blipFill>
        <p:spPr>
          <a:xfrm>
            <a:off x="4859280" y="907920"/>
            <a:ext cx="1692360" cy="2421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9" descr="10-я Юбилейная международная выставка «Продукты питания, напитки и ингредиенты»"/>
          <p:cNvPicPr/>
          <p:nvPr/>
        </p:nvPicPr>
        <p:blipFill>
          <a:blip r:embed="rId12"/>
          <a:stretch/>
        </p:blipFill>
        <p:spPr>
          <a:xfrm>
            <a:off x="3708360" y="2133720"/>
            <a:ext cx="1811520" cy="25653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71"/>
          <p:cNvSpPr/>
          <p:nvPr/>
        </p:nvSpPr>
        <p:spPr>
          <a:xfrm>
            <a:off x="38520" y="189000"/>
            <a:ext cx="91922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cc00"/>
                </a:solidFill>
                <a:latin typeface="Tahoma"/>
              </a:rPr>
              <a:t>Награды «Саранского» консервного зав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ный контроль качества выпускаемой продукции, неотступное следование традициям и рецептуре, доступные цены и современная удобная упаковка – факторы, которые помогут консервному заводу сохранить позиции одного из лидеров рынка и лояльность потребителей разных поко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4" descr="skz[1]"/>
          <p:cNvPicPr/>
          <p:nvPr/>
        </p:nvPicPr>
        <p:blipFill>
          <a:blip r:embed="rId1"/>
          <a:stretch/>
        </p:blipFill>
        <p:spPr>
          <a:xfrm>
            <a:off x="4067280" y="189000"/>
            <a:ext cx="4464000" cy="1919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pic"/>
          <p:cNvPicPr/>
          <p:nvPr/>
        </p:nvPicPr>
        <p:blipFill>
          <a:blip r:embed="rId2"/>
          <a:stretch/>
        </p:blipFill>
        <p:spPr>
          <a:xfrm>
            <a:off x="0" y="0"/>
            <a:ext cx="298764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ямбирская СОШ №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дрес предприятия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30003 РМ, г. Саранск, пр. Ленина,5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-71-41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акс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-25-27,24-71-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дрес в Интернете: </a:t>
            </a:r>
            <a:r>
              <a:rPr b="1" lang="en-US" sz="2400" spc="-1" strike="noStrike" u="sng">
                <a:solidFill>
                  <a:srgbClr val="a3c145"/>
                </a:solidFill>
                <a:uFillTx/>
                <a:latin typeface="Tahoma"/>
              </a:rPr>
              <a:t>www.saranskkonserv.ru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</a:rPr>
              <a:t>E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</a:rPr>
              <a:t>mail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</a:rPr>
              <a:t>zapros54@mail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предприятия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ркушкин Александр Никола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рганизационная форма собственности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ционер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виды выпускаемой продукции: п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одовоовощные, молочные, мясные консер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ующая география поставок собственной продукции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ва, Московская область, С.-Петербург, Н. Новгород, Пенза, Курск, Саратов, Волгоград, Самара, Тольятти, Ульяновск, Йошкар-Ола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68436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ff99"/>
                </a:solidFill>
                <a:uFillTx/>
                <a:latin typeface="Arial"/>
              </a:rPr>
              <a:t>Основные сведения о предприят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-181080" y="333360"/>
            <a:ext cx="5184720" cy="76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ервный завод "Саранский" расположен в г. Саранск и является одним из старейших предприятий республики Мордовия. Консервный завод был основан в 1934 году, когда Саранск стал городом республиканского подчинения. Объем производства завода примерно равен 36,9 млн. условных банок в год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4" descr="Картинка 3 из 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341360"/>
            <a:ext cx="421164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78920" y="-171360"/>
            <a:ext cx="871380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свою историю предприятие не раз переживало взлеты и падения, но всегда неизменным оставалось высокое качество традиционно выпускаемой продукции – консервированного зеленого горошка и сгущенного молока. Во все времена  предприятие обращало на поддержание и улучшение качества особое внимание. Концентрируя свои усилия на производстве молочной, овощной и мясной консервации ОАО «Консервный завод «Саранский» постоянно внедряет во все процессы принципы и положения системы менеджмента качества (ГОСТ Р ИСО 9001:2001) для повышения эффективности производства и минимизации затрат. В мае 2009 года предприятие завершает сертификацию по системе менеджмента безопасности пищевых продуктов НАССР. Кроме того, предприятие уделяет особое внимание внедрению инновационных разработок в производство – будь то новые виды продукции (сливки, какао, кофе) или нетрадиционные виды упаковки (doy-pack, bag-in-bo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ff99"/>
                </a:solidFill>
                <a:uFillTx/>
                <a:latin typeface="Tahoma"/>
              </a:rPr>
              <a:t>Производство сгущенного молока и зеленого горош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small_mil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73360"/>
            <a:ext cx="4284720" cy="338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small_vegetab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141720"/>
            <a:ext cx="4500720" cy="33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181080" y="-360"/>
            <a:ext cx="60501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в 6 цехах и участках  предприятия трудится около 350    человек, большинство из которых профессионалы высочайшего уровня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роизводстве различных видов продукции задействовано оборудование ведущих зарубежных производителей: Cabinplant (Дания), FAM и Frigoscania (Швеция), Laudenberg (Германия), Steriflow (Франция). Автоматизированные линии и высококвалифицированный персонал обеспечивают возможности по постоянному увеличению объемов произведенной продукции. В период с 2006 по 2008 гг. объем производства ОАО «Консервный завод «Саранский» увеличился на 25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i-main-pic" descr="Картинка 20 из 26"/>
          <p:cNvPicPr/>
          <p:nvPr/>
        </p:nvPicPr>
        <p:blipFill>
          <a:blip r:embed="rId1"/>
          <a:stretch/>
        </p:blipFill>
        <p:spPr>
          <a:xfrm>
            <a:off x="5651640" y="1268280"/>
            <a:ext cx="34923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Горошек зеленый сорт высш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761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ая продукция консервного завода - консервированный зеленый горошек и сгущенное молоко. Консервированный зеленый горошек от консервного завода в городе Саранск - это отличный источник белка, углеводов, клетчатки, содержит железо, калий, фосфор, цинк, витамин С, витамины группы В. Зеленый горошек очень полезен, так как снижает холестерин и благотворно влияет на костную систему. Зеленый горошек известен человечеству еще с древних времен, впервые его стали выращивать на Ближнем Востоке и Балкан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зеленый горошек стал первым овощем, который законсервировали в железной банке. И именно он пользуется наибольшей популярностью у потребителей консервного завода города Саранск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Горошек зеленый в ж/б 360 г. сорт высший"/>
          <p:cNvPicPr/>
          <p:nvPr/>
        </p:nvPicPr>
        <p:blipFill>
          <a:blip r:embed="rId2"/>
          <a:stretch/>
        </p:blipFill>
        <p:spPr>
          <a:xfrm>
            <a:off x="5796000" y="1989000"/>
            <a:ext cx="2952720" cy="35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Молоко сгущенное вареное"Машенька" 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_x000b_Молоко сгущенное с сахаром  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риятием одним из первых освоено производство сгущенного молока. В августе 2005 года на заводе было вновь запушено круглосуточное производство сгущенного молока (которое изготавливается исключительно в соответствии с ГОСТ). Близкое нахождение сырьевых баз позволяет поддерживать низкую цену на данный продукт. Молоко изготавливается как в классической упаковке, так и в промышленной таре – для нужд крупнейших кондитерских производств России. Запущено производство сгущенного молока в новой упаковке - Doy-Pack. Современная металлизированная упаковка способствует длительному хранению продукта и более удобная в обиходе, пользуется у покупателей большой популярностью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4" descr="Молоко сгущенное вареное "/>
          <p:cNvPicPr/>
          <p:nvPr/>
        </p:nvPicPr>
        <p:blipFill>
          <a:blip r:embed="rId3"/>
          <a:stretch/>
        </p:blipFill>
        <p:spPr>
          <a:xfrm>
            <a:off x="468360" y="3860640"/>
            <a:ext cx="25081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file4448[1]"/>
          <p:cNvPicPr/>
          <p:nvPr/>
        </p:nvPicPr>
        <p:blipFill>
          <a:blip r:embed="rId4"/>
          <a:stretch/>
        </p:blipFill>
        <p:spPr>
          <a:xfrm>
            <a:off x="3851280" y="3573360"/>
            <a:ext cx="1542960" cy="3284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Молоко сгущенное с сахаром в ж/б 400 г"/>
          <p:cNvPicPr/>
          <p:nvPr/>
        </p:nvPicPr>
        <p:blipFill>
          <a:blip r:embed="rId5"/>
          <a:stretch/>
        </p:blipFill>
        <p:spPr>
          <a:xfrm>
            <a:off x="6300720" y="3932280"/>
            <a:ext cx="244800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61928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Говядина с картофелем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4" descr="Говядина с картофелем"/>
          <p:cNvPicPr/>
          <p:nvPr/>
        </p:nvPicPr>
        <p:blipFill>
          <a:blip r:embed="rId2"/>
          <a:stretch/>
        </p:blipFill>
        <p:spPr>
          <a:xfrm>
            <a:off x="179280" y="2565360"/>
            <a:ext cx="2971800" cy="3240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800280" y="981000"/>
            <a:ext cx="757224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Каша гречневая с говядин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вядина тушеная сорт высш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6" descr="Каша гречневая с говядиной в ж/б 360 г."/>
          <p:cNvPicPr/>
          <p:nvPr/>
        </p:nvPicPr>
        <p:blipFill>
          <a:blip r:embed="rId5"/>
          <a:stretch/>
        </p:blipFill>
        <p:spPr>
          <a:xfrm>
            <a:off x="2987640" y="2565360"/>
            <a:ext cx="3041640" cy="3213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Говядина тушеная ж/б 338 г. сорт высший"/>
          <p:cNvPicPr/>
          <p:nvPr/>
        </p:nvPicPr>
        <p:blipFill>
          <a:blip r:embed="rId6"/>
          <a:stretch/>
        </p:blipFill>
        <p:spPr>
          <a:xfrm>
            <a:off x="5940360" y="2565360"/>
            <a:ext cx="3041640" cy="3213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2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6:33:14Z</dcterms:created>
  <dc:creator>Оля и Аня</dc:creator>
  <dc:description/>
  <dc:language>en-US</dc:language>
  <cp:lastModifiedBy>Computer</cp:lastModifiedBy>
  <dcterms:modified xsi:type="dcterms:W3CDTF">2017-01-12T00:00:35Z</dcterms:modified>
  <cp:revision>8</cp:revision>
  <dc:subject/>
  <dc:title>«Консервный завод «Саранский»</dc:title>
</cp:coreProperties>
</file>