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6.png" ContentType="image/pn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24EC-6EE1-42BA-8BE2-5D1ECB650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B365-FE75-42E5-B1AC-3EBA1EF6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605-F38A-4857-9FB2-68E7DC57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9C17-7217-4F05-A914-839AB61A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0914C-DC03-4459-93FC-37823A62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3097-E04C-4CF3-ACCA-903C1896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8043-F9C1-442B-A125-EDBF7F6D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67AF-D27F-4426-8646-C3BA7CF0E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FBFA-AE9D-4004-9B28-754F75AA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CD3F-26B6-4B72-87C2-97DA69CF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CEE3-D889-4FB8-8F37-708D70CC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8C87-6980-4BF0-8FED-805FD46C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85A8-E416-42C6-B57C-98733823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F004-883E-4468-A563-2DC5700A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E81D-662C-4831-BF26-D6AE26C8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0FC7-DFC5-4CE3-BF51-A0EF83E06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7D4E-FFC5-4EB9-81D1-48589C26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8A72-8855-41F4-9453-9667B55A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FF2-B745-471E-9045-5395BED6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638-475B-4406-8E51-B788C7AA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5F61-C0E3-43BE-A5DC-AB9F13D1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2F7-3FE6-468C-879B-1992F740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F4C-5A23-474B-8825-5A3906B5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929-F4C3-45A8-B98A-9A7B942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F50D-5050-485D-953E-E10D415136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E3F9-D486-49BE-B629-1B55CFFD5C3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zawod.ru/pics/konserv/saransk.gif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image" Target="../media/image37.jpeg"/><Relationship Id="rId10" Type="http://schemas.openxmlformats.org/officeDocument/2006/relationships/image" Target="../media/image38.jpeg"/><Relationship Id="rId11" Type="http://schemas.openxmlformats.org/officeDocument/2006/relationships/image" Target="../media/image39.jpeg"/><Relationship Id="rId12" Type="http://schemas.openxmlformats.org/officeDocument/2006/relationships/image" Target="../media/image40.jpe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s.tn.ru/traders/pic/build1687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aranskkonserv.ru/manufacture/milk.htm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saranskkonserv.ru/manufacture/vegetables.html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aranskkonserv.ru/production/goroh_highest.html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ranskkonserv.ru/production/masha400.html" TargetMode="External"/><Relationship Id="rId2" Type="http://schemas.openxmlformats.org/officeDocument/2006/relationships/hyperlink" Target="http://www.saranskkonserv.ru/production/400.html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aranskkonserv.ru/production/govyadina_s_kartofelem.htm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saranskkonserv.ru/production/grechka_s_govjad.html" TargetMode="External"/><Relationship Id="rId4" Type="http://schemas.openxmlformats.org/officeDocument/2006/relationships/hyperlink" Target="http://www.saranskkonserv.ru/production/grechka_s_govjad.html" TargetMode="External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11280" y="259920"/>
            <a:ext cx="763272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нсервный завод «Саранский»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0" y="2204640"/>
            <a:ext cx="6400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АО "Консервный завод "Саранский" – одно из крупнейших перерабатывающих предприятий Республики Мордовия. Новейшее иностранное оборудование и используемое экологически чистое сырье позволяет предприятию выпускать конкурентоспособную натуральную продукцию, отличающуюся исключительными вкусовыми характеристиками от прочей продукции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6" name="i-main-pic" descr="Картинка 4 из 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pic"/>
          <p:cNvPicPr/>
          <p:nvPr/>
        </p:nvPicPr>
        <p:blipFill>
          <a:blip r:embed="rId3"/>
          <a:stretch/>
        </p:blipFill>
        <p:spPr>
          <a:xfrm>
            <a:off x="6300720" y="2565360"/>
            <a:ext cx="284328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7" descr="Сливки сгущенные с сахаром в дой-паке 100 г."/>
          <p:cNvPicPr/>
          <p:nvPr/>
        </p:nvPicPr>
        <p:blipFill>
          <a:blip r:embed="rId1"/>
          <a:stretch/>
        </p:blipFill>
        <p:spPr>
          <a:xfrm>
            <a:off x="250920" y="2349360"/>
            <a:ext cx="2544840" cy="4292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2"/>
          <p:cNvSpPr/>
          <p:nvPr/>
        </p:nvSpPr>
        <p:spPr>
          <a:xfrm>
            <a:off x="1067040" y="0"/>
            <a:ext cx="71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ливки сгущенные с сахар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13" descr="Какао со сгущенным молоком и сахаром в дой-паке 380 г."/>
          <p:cNvPicPr/>
          <p:nvPr/>
        </p:nvPicPr>
        <p:blipFill>
          <a:blip r:embed="rId2"/>
          <a:stretch/>
        </p:blipFill>
        <p:spPr>
          <a:xfrm>
            <a:off x="2987640" y="2421000"/>
            <a:ext cx="2952720" cy="422100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14"/>
          <p:cNvSpPr/>
          <p:nvPr/>
        </p:nvSpPr>
        <p:spPr>
          <a:xfrm>
            <a:off x="-252360" y="692280"/>
            <a:ext cx="997272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ао со сгущенным молоком и сахар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фе натуральный со сгущенным молоком и сахаром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15" descr="Кофе натуральный   со сгущенным молоком и сахаром в дой-паке 380 г."/>
          <p:cNvPicPr/>
          <p:nvPr/>
        </p:nvPicPr>
        <p:blipFill>
          <a:blip r:embed="rId3"/>
          <a:stretch/>
        </p:blipFill>
        <p:spPr>
          <a:xfrm>
            <a:off x="6153120" y="2565360"/>
            <a:ext cx="2990880" cy="40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5"/>
          <p:cNvSpPr/>
          <p:nvPr/>
        </p:nvSpPr>
        <p:spPr>
          <a:xfrm>
            <a:off x="-4494240" y="3054240"/>
            <a:ext cx="360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-5149800" y="3008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1957320" y="31082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1412640" y="189000"/>
            <a:ext cx="701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офе со сгущенным молок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Picture 11" descr="Кофе со сгущенным молоком в ж/б 380 г."/>
          <p:cNvPicPr/>
          <p:nvPr/>
        </p:nvPicPr>
        <p:blipFill>
          <a:blip r:embed="rId1"/>
          <a:stretch/>
        </p:blipFill>
        <p:spPr>
          <a:xfrm>
            <a:off x="0" y="2421000"/>
            <a:ext cx="3230640" cy="386064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3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12" descr="Какао со сгущенным молоком и сахаром в дой-паке 380 г."/>
          <p:cNvPicPr/>
          <p:nvPr/>
        </p:nvPicPr>
        <p:blipFill>
          <a:blip r:embed="rId2"/>
          <a:stretch/>
        </p:blipFill>
        <p:spPr>
          <a:xfrm>
            <a:off x="3276720" y="2492280"/>
            <a:ext cx="3085920" cy="368784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5"/>
          <p:cNvSpPr/>
          <p:nvPr/>
        </p:nvSpPr>
        <p:spPr>
          <a:xfrm>
            <a:off x="-135720" y="877680"/>
            <a:ext cx="95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ао со сгущенным молоком и сахаром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локо цельное сгущенное с сахаро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Picture 16" descr="Молоко цельное сгущенное с сахаром в дой-паке 380 г."/>
          <p:cNvPicPr/>
          <p:nvPr/>
        </p:nvPicPr>
        <p:blipFill>
          <a:blip r:embed="rId3"/>
          <a:stretch/>
        </p:blipFill>
        <p:spPr>
          <a:xfrm>
            <a:off x="6515280" y="2421000"/>
            <a:ext cx="262872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2268000" y="260280"/>
            <a:ext cx="6875640" cy="727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В 2007 году, как и планировалось, запущен современный цех овощной консервации, мощности которого позволяют производить до 15 млн. банок продукции. В 2009-2010 гг. планируется реализация амбициозного современного проекта, по своим возможностям не имеющего аналогов в России: производство овощных замороженных смесей, а также вторых готовых блюд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Предприятие создало и постоянно расширяет дистрибьюторскую и дилерскую сеть для обеспечения доступности продукции для населения в разных регионах России. Сегодня продукция ОАО «Консервный завод «Саранский» представлена более чем в 45 регионах РФ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5" descr="pic"/>
          <p:cNvPicPr/>
          <p:nvPr/>
        </p:nvPicPr>
        <p:blipFill>
          <a:blip r:embed="rId1"/>
          <a:stretch/>
        </p:blipFill>
        <p:spPr>
          <a:xfrm>
            <a:off x="0" y="0"/>
            <a:ext cx="234000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6" descr="Лучшие товары Мордовии - 2008"/>
          <p:cNvPicPr/>
          <p:nvPr/>
        </p:nvPicPr>
        <p:blipFill>
          <a:blip r:embed="rId1"/>
          <a:stretch/>
        </p:blipFill>
        <p:spPr>
          <a:xfrm>
            <a:off x="1403280" y="3213000"/>
            <a:ext cx="2257560" cy="256536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7"/>
          <p:cNvSpPr/>
          <p:nvPr/>
        </p:nvSpPr>
        <p:spPr>
          <a:xfrm>
            <a:off x="291960" y="5463360"/>
            <a:ext cx="326232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Лучшие товар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Мордовии - 200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0" name="Picture 8" descr="Экологически безопасная продукция"/>
          <p:cNvPicPr/>
          <p:nvPr/>
        </p:nvPicPr>
        <p:blipFill>
          <a:blip r:embed="rId2"/>
          <a:stretch/>
        </p:blipFill>
        <p:spPr>
          <a:xfrm>
            <a:off x="4859280" y="3213000"/>
            <a:ext cx="2538360" cy="25639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9"/>
          <p:cNvSpPr/>
          <p:nvPr/>
        </p:nvSpPr>
        <p:spPr>
          <a:xfrm>
            <a:off x="3835080" y="5463360"/>
            <a:ext cx="5151960" cy="14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Экологически безопас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ahoma"/>
              </a:rPr>
              <a:t>продукц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468360" y="1368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укция «Саранского» консервного завода не только востребована, но и неизменно получает высшие награды на различных выставках. Подтверждением высокого качества продукции служат медали и дипломы полученные на самых авторитетных выставках, таких как «WorldFood», «ПродЭкспо». Продукция СКЗ также отмечена медалью международного конкурса «Экологически безопасная продукц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6" descr="ProdExpo - 2009"/>
          <p:cNvPicPr/>
          <p:nvPr/>
        </p:nvPicPr>
        <p:blipFill>
          <a:blip r:embed="rId1"/>
          <a:stretch/>
        </p:blipFill>
        <p:spPr>
          <a:xfrm>
            <a:off x="250920" y="4076640"/>
            <a:ext cx="2448000" cy="24163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ProdExpo - 2008"/>
          <p:cNvPicPr/>
          <p:nvPr/>
        </p:nvPicPr>
        <p:blipFill>
          <a:blip r:embed="rId2"/>
          <a:stretch/>
        </p:blipFill>
        <p:spPr>
          <a:xfrm>
            <a:off x="6443640" y="4149720"/>
            <a:ext cx="2216160" cy="223056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ProdExpo - 2008"/>
          <p:cNvPicPr/>
          <p:nvPr/>
        </p:nvPicPr>
        <p:blipFill>
          <a:blip r:embed="rId3"/>
          <a:stretch/>
        </p:blipFill>
        <p:spPr>
          <a:xfrm>
            <a:off x="3348000" y="4005360"/>
            <a:ext cx="2359080" cy="2374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9" descr="WorldFood - 2007"/>
          <p:cNvPicPr/>
          <p:nvPr/>
        </p:nvPicPr>
        <p:blipFill>
          <a:blip r:embed="rId4"/>
          <a:stretch/>
        </p:blipFill>
        <p:spPr>
          <a:xfrm>
            <a:off x="539640" y="1125360"/>
            <a:ext cx="2184480" cy="2222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0" descr="ProdExpo - 2006"/>
          <p:cNvPicPr/>
          <p:nvPr/>
        </p:nvPicPr>
        <p:blipFill>
          <a:blip r:embed="rId5"/>
          <a:stretch/>
        </p:blipFill>
        <p:spPr>
          <a:xfrm>
            <a:off x="6443640" y="1125360"/>
            <a:ext cx="2217600" cy="22323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1" descr="WorldFood - 2006"/>
          <p:cNvPicPr/>
          <p:nvPr/>
        </p:nvPicPr>
        <p:blipFill>
          <a:blip r:embed="rId6"/>
          <a:stretch/>
        </p:blipFill>
        <p:spPr>
          <a:xfrm>
            <a:off x="5148360" y="2421000"/>
            <a:ext cx="2376360" cy="2298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2" descr="WorldFood - 2006"/>
          <p:cNvPicPr/>
          <p:nvPr/>
        </p:nvPicPr>
        <p:blipFill>
          <a:blip r:embed="rId7"/>
          <a:stretch/>
        </p:blipFill>
        <p:spPr>
          <a:xfrm>
            <a:off x="3564000" y="1341360"/>
            <a:ext cx="2208240" cy="2222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13" descr="ProdExpo - 2006"/>
          <p:cNvPicPr/>
          <p:nvPr/>
        </p:nvPicPr>
        <p:blipFill>
          <a:blip r:embed="rId8"/>
          <a:stretch/>
        </p:blipFill>
        <p:spPr>
          <a:xfrm>
            <a:off x="1763640" y="2421000"/>
            <a:ext cx="2278080" cy="229392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4"/>
          <p:cNvSpPr/>
          <p:nvPr/>
        </p:nvSpPr>
        <p:spPr>
          <a:xfrm>
            <a:off x="-541440" y="-136440"/>
            <a:ext cx="10296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ahoma"/>
              </a:rPr>
              <a:t>Награды «Саранского» консервного завода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Picture 57" descr="«Продэкспо - 2009»"/>
          <p:cNvPicPr/>
          <p:nvPr/>
        </p:nvPicPr>
        <p:blipFill>
          <a:blip r:embed="rId1"/>
          <a:stretch/>
        </p:blipFill>
        <p:spPr>
          <a:xfrm>
            <a:off x="250920" y="4292640"/>
            <a:ext cx="1674720" cy="23032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8" descr="«Лучшие товары Мордовии» "/>
          <p:cNvPicPr/>
          <p:nvPr/>
        </p:nvPicPr>
        <p:blipFill>
          <a:blip r:embed="rId2"/>
          <a:stretch/>
        </p:blipFill>
        <p:spPr>
          <a:xfrm>
            <a:off x="7308720" y="4365720"/>
            <a:ext cx="1576440" cy="21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59" descr="World Food Moscow "/>
          <p:cNvPicPr/>
          <p:nvPr/>
        </p:nvPicPr>
        <p:blipFill>
          <a:blip r:embed="rId3"/>
          <a:stretch/>
        </p:blipFill>
        <p:spPr>
          <a:xfrm>
            <a:off x="900000" y="2133720"/>
            <a:ext cx="1890720" cy="25984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0" descr="«Лучшие товары Мордовии»"/>
          <p:cNvPicPr/>
          <p:nvPr/>
        </p:nvPicPr>
        <p:blipFill>
          <a:blip r:embed="rId4"/>
          <a:stretch/>
        </p:blipFill>
        <p:spPr>
          <a:xfrm>
            <a:off x="250920" y="907920"/>
            <a:ext cx="1780920" cy="2448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1" descr="«Зелёная неделя - 2008»"/>
          <p:cNvPicPr/>
          <p:nvPr/>
        </p:nvPicPr>
        <p:blipFill>
          <a:blip r:embed="rId5"/>
          <a:stretch/>
        </p:blipFill>
        <p:spPr>
          <a:xfrm>
            <a:off x="2340000" y="3716280"/>
            <a:ext cx="1681200" cy="231156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62" descr="«Золотая осень»"/>
          <p:cNvPicPr/>
          <p:nvPr/>
        </p:nvPicPr>
        <p:blipFill>
          <a:blip r:embed="rId6"/>
          <a:stretch/>
        </p:blipFill>
        <p:spPr>
          <a:xfrm>
            <a:off x="3419640" y="5176800"/>
            <a:ext cx="2311200" cy="16812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4" descr="«ГОСЗАКАЗ - 2007»"/>
          <p:cNvPicPr/>
          <p:nvPr/>
        </p:nvPicPr>
        <p:blipFill>
          <a:blip r:embed="rId7"/>
          <a:stretch/>
        </p:blipFill>
        <p:spPr>
          <a:xfrm>
            <a:off x="5148360" y="3645000"/>
            <a:ext cx="1728720" cy="23763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65" descr="«Лучшие товары Мордовии»"/>
          <p:cNvPicPr/>
          <p:nvPr/>
        </p:nvPicPr>
        <p:blipFill>
          <a:blip r:embed="rId8"/>
          <a:stretch/>
        </p:blipFill>
        <p:spPr>
          <a:xfrm>
            <a:off x="6084720" y="1989000"/>
            <a:ext cx="1963800" cy="2698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66" descr="«Продэкспо - 2007»"/>
          <p:cNvPicPr/>
          <p:nvPr/>
        </p:nvPicPr>
        <p:blipFill>
          <a:blip r:embed="rId9"/>
          <a:stretch/>
        </p:blipFill>
        <p:spPr>
          <a:xfrm>
            <a:off x="7093080" y="981000"/>
            <a:ext cx="1733400" cy="238284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7" descr="«Российские производители и снабжение вооруженных сил»"/>
          <p:cNvPicPr/>
          <p:nvPr/>
        </p:nvPicPr>
        <p:blipFill>
          <a:blip r:embed="rId10"/>
          <a:stretch/>
        </p:blipFill>
        <p:spPr>
          <a:xfrm>
            <a:off x="2411280" y="907920"/>
            <a:ext cx="1731960" cy="25020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8" descr="«Деловая Мордовия - 2006»"/>
          <p:cNvPicPr/>
          <p:nvPr/>
        </p:nvPicPr>
        <p:blipFill>
          <a:blip r:embed="rId11"/>
          <a:stretch/>
        </p:blipFill>
        <p:spPr>
          <a:xfrm>
            <a:off x="4859280" y="907920"/>
            <a:ext cx="1692360" cy="242100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69" descr="10-я Юбилейная международная выставка «Продукты питания, напитки и ингредиенты»"/>
          <p:cNvPicPr/>
          <p:nvPr/>
        </p:nvPicPr>
        <p:blipFill>
          <a:blip r:embed="rId12"/>
          <a:stretch/>
        </p:blipFill>
        <p:spPr>
          <a:xfrm>
            <a:off x="3708360" y="2133720"/>
            <a:ext cx="1811520" cy="256536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71"/>
          <p:cNvSpPr/>
          <p:nvPr/>
        </p:nvSpPr>
        <p:spPr>
          <a:xfrm>
            <a:off x="38520" y="189000"/>
            <a:ext cx="91922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cc00"/>
                </a:solidFill>
                <a:latin typeface="Tahoma"/>
              </a:rPr>
              <a:t>Награды «Саранского» консервного зав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тоянный контроль качества выпускаемой продукции, неотступное следование традициям и рецептуре, доступные цены и современная удобная упаковка – факторы, которые помогут консервному заводу сохранить позиции одного из лидеров рынка и лояльность потребителей разных покол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7" name="Picture 4" descr="skz[1]"/>
          <p:cNvPicPr/>
          <p:nvPr/>
        </p:nvPicPr>
        <p:blipFill>
          <a:blip r:embed="rId1"/>
          <a:stretch/>
        </p:blipFill>
        <p:spPr>
          <a:xfrm>
            <a:off x="4067280" y="189000"/>
            <a:ext cx="4464000" cy="1919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pic"/>
          <p:cNvPicPr/>
          <p:nvPr/>
        </p:nvPicPr>
        <p:blipFill>
          <a:blip r:embed="rId2"/>
          <a:stretch/>
        </p:blipFill>
        <p:spPr>
          <a:xfrm>
            <a:off x="0" y="0"/>
            <a:ext cx="2987640" cy="24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78920" y="169992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ямбирская СОШ №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дрес предприятия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30003 РМ, г. Саранск, пр. Ленина,5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-71-41,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факс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4-25-27,24-71-4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дрес в Интернете: </a:t>
            </a:r>
            <a:r>
              <a:rPr b="1" lang="en-US" sz="2400" spc="-1" strike="noStrike" u="sng">
                <a:solidFill>
                  <a:srgbClr val="a3c145"/>
                </a:solidFill>
                <a:uFillTx/>
                <a:latin typeface="Tahoma"/>
              </a:rPr>
              <a:t>www.saranskkonserv.ru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</a:rPr>
              <a:t>E</a:t>
            </a:r>
            <a:r>
              <a:rPr b="0" lang="ru-RU" sz="2400" spc="-1" strike="noStrike" u="sng">
                <a:solidFill>
                  <a:srgbClr val="a3c145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</a:rPr>
              <a:t>mail</a:t>
            </a:r>
            <a:r>
              <a:rPr b="0" lang="en-US" sz="2400" spc="-1" strike="noStrike" u="sng">
                <a:solidFill>
                  <a:srgbClr val="a3c145"/>
                </a:solidFill>
                <a:uFillTx/>
                <a:latin typeface="Tahoma"/>
              </a:rPr>
              <a:t>zapros54@mail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предприятия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ркушкин Александр Николае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рганизационная форма собственности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ционерна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виды выпускаемой продукции: п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одовоовощные, молочные, мясные консерв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ществующая география поставок собственной продукции: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сква, Московская область, С.-Петербург, Н. Новгород, Пенза, Курск, Саратов, Волгоград, Самара, Тольятти, Ульяновск, Йошкар-Ола и т.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684360" y="260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ff99"/>
                </a:solidFill>
                <a:uFillTx/>
                <a:latin typeface="Arial"/>
              </a:rPr>
              <a:t>Основные сведения о предприят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-181080" y="333360"/>
            <a:ext cx="5184720" cy="76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нсервный завод "Саранский" расположен в г. Саранск и является одним из старейших предприятий республики Мордовия. Консервный завод был основан в 1934 году, когда Саранск стал городом республиканского подчинения. Объем производства завода примерно равен 36,9 млн. условных банок в год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1" name="Picture 4" descr="Картинка 3 из 2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341360"/>
            <a:ext cx="421164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178920" y="-171360"/>
            <a:ext cx="8713800" cy="72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 свою историю предприятие не раз переживало взлеты и падения, но всегда неизменным оставалось высокое качество традиционно выпускаемой продукции – консервированного зеленого горошка и сгущенного молока. Во все времена  предприятие обращало на поддержание и улучшение качества особое внимание. Концентрируя свои усилия на производстве молочной, овощной и мясной консервации ОАО «Консервный завод «Саранский» постоянно внедряет во все процессы принципы и положения системы менеджмента качества (ГОСТ Р ИСО 9001:2001) для повышения эффективности производства и минимизации затрат. В мае 2009 года предприятие завершает сертификацию по системе менеджмента безопасности пищевых продуктов НАССР. Кроме того, предприятие уделяет особое внимание внедрению инновационных разработок в производство – будь то новые виды продукции (сливки, какао, кофе) или нетрадиционные виды упаковки (doy-pack, bag-in-box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ff99"/>
                </a:solidFill>
                <a:uFillTx/>
                <a:latin typeface="Tahoma"/>
              </a:rPr>
              <a:t>Производство сгущенного молока и зеленого горошк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4" name="Picture 4" descr="small_mil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773360"/>
            <a:ext cx="4284720" cy="3387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small_vegetab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141720"/>
            <a:ext cx="4500720" cy="33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181080" y="-360"/>
            <a:ext cx="60501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в 6 цехах и участках  предприятия трудится около 350    человек, большинство из которых профессионалы высочайшего уровня.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производстве различных видов продукции задействовано оборудование ведущих зарубежных производителей: Cabinplant (Дания), FAM и Frigoscania (Швеция), Laudenberg (Германия), Steriflow (Франция). Автоматизированные линии и высококвалифицированный персонал обеспечивают возможности по постоянному увеличению объемов произведенной продукции. В период с 2006 по 2008 гг. объем производства ОАО «Консервный завод «Саранский» увеличился на 25%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i-main-pic" descr="Картинка 20 из 26"/>
          <p:cNvPicPr/>
          <p:nvPr/>
        </p:nvPicPr>
        <p:blipFill>
          <a:blip r:embed="rId1"/>
          <a:stretch/>
        </p:blipFill>
        <p:spPr>
          <a:xfrm>
            <a:off x="5651640" y="1268280"/>
            <a:ext cx="349236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Горошек зеленый сорт высши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761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сновная продукция консервного завода - консервированный зеленый горошек и сгущенное молоко. Консервированный зеленый горошек от консервного завода в городе Саранск - это отличный источник белка, углеводов, клетчатки, содержит железо, калий, фосфор, цинк, витамин С, витамины группы В. Зеленый горошек очень полезен, так как снижает холестерин и благотворно влияет на костную систему. Зеленый горошек известен человечеству еще с древних времен, впервые его стали выращивать на Ближнем Востоке и Балкан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менно зеленый горошек стал первым овощем, который законсервировали в железной банке. И именно он пользуется наибольшей популярностью у потребителей консервного завода города Саранск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Picture 4" descr="Горошек зеленый в ж/б 360 г. сорт высший"/>
          <p:cNvPicPr/>
          <p:nvPr/>
        </p:nvPicPr>
        <p:blipFill>
          <a:blip r:embed="rId2"/>
          <a:stretch/>
        </p:blipFill>
        <p:spPr>
          <a:xfrm>
            <a:off x="5796000" y="1989000"/>
            <a:ext cx="2952720" cy="35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Молоко сгущенное вареное"Машенька" 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6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_x000b_Молоко сгущенное с сахаром  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496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риятием одним из первых освоено производство сгущенного молока. В августе 2005 года на заводе было вновь запушено круглосуточное производство сгущенного молока (которое изготавливается исключительно в соответствии с ГОСТ). Близкое нахождение сырьевых баз позволяет поддерживать низкую цену на данный продукт. Молоко изготавливается как в классической упаковке, так и в промышленной таре – для нужд крупнейших кондитерских производств России. Запущено производство сгущенного молока в новой упаковке - Doy-Pack. Современная металлизированная упаковка способствует длительному хранению продукта и более удобная в обиходе, пользуется у покупателей большой популярностью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3" name="Picture 4" descr="Молоко сгущенное вареное "/>
          <p:cNvPicPr/>
          <p:nvPr/>
        </p:nvPicPr>
        <p:blipFill>
          <a:blip r:embed="rId3"/>
          <a:stretch/>
        </p:blipFill>
        <p:spPr>
          <a:xfrm>
            <a:off x="468360" y="3860640"/>
            <a:ext cx="25081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file4448[1]"/>
          <p:cNvPicPr/>
          <p:nvPr/>
        </p:nvPicPr>
        <p:blipFill>
          <a:blip r:embed="rId4"/>
          <a:stretch/>
        </p:blipFill>
        <p:spPr>
          <a:xfrm>
            <a:off x="3851280" y="3573360"/>
            <a:ext cx="1542960" cy="3284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7" descr="Молоко сгущенное с сахаром в ж/б 400 г"/>
          <p:cNvPicPr/>
          <p:nvPr/>
        </p:nvPicPr>
        <p:blipFill>
          <a:blip r:embed="rId5"/>
          <a:stretch/>
        </p:blipFill>
        <p:spPr>
          <a:xfrm>
            <a:off x="6300720" y="3932280"/>
            <a:ext cx="244800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1619280" y="-36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Говядина с картофелем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7" name="Picture 4" descr="Говядина с картофелем"/>
          <p:cNvPicPr/>
          <p:nvPr/>
        </p:nvPicPr>
        <p:blipFill>
          <a:blip r:embed="rId2"/>
          <a:stretch/>
        </p:blipFill>
        <p:spPr>
          <a:xfrm>
            <a:off x="179280" y="2565360"/>
            <a:ext cx="2971800" cy="324000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5"/>
          <p:cNvSpPr/>
          <p:nvPr/>
        </p:nvSpPr>
        <p:spPr>
          <a:xfrm>
            <a:off x="800280" y="981000"/>
            <a:ext cx="757224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3c145"/>
                </a:solidFill>
                <a:uFillTx/>
                <a:latin typeface="Tahoma"/>
                <a:hlinkClick r:id="rId3"/>
              </a:rPr>
              <a:t>Каша гречневая с говядино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a3c145"/>
                </a:solidFill>
                <a:uFillTx/>
                <a:latin typeface="Tahoma"/>
                <a:hlinkClick r:id="rId4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вядина тушеная сорт высши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6" descr="Каша гречневая с говядиной в ж/б 360 г."/>
          <p:cNvPicPr/>
          <p:nvPr/>
        </p:nvPicPr>
        <p:blipFill>
          <a:blip r:embed="rId5"/>
          <a:stretch/>
        </p:blipFill>
        <p:spPr>
          <a:xfrm>
            <a:off x="2987640" y="2565360"/>
            <a:ext cx="3041640" cy="3213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0" descr="Говядина тушеная ж/б 338 г. сорт высший"/>
          <p:cNvPicPr/>
          <p:nvPr/>
        </p:nvPicPr>
        <p:blipFill>
          <a:blip r:embed="rId6"/>
          <a:stretch/>
        </p:blipFill>
        <p:spPr>
          <a:xfrm>
            <a:off x="5940360" y="2565360"/>
            <a:ext cx="3041640" cy="321300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12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6:33:14Z</dcterms:created>
  <dc:creator>Оля и Аня</dc:creator>
  <dc:description/>
  <dc:language>en-US</dc:language>
  <cp:lastModifiedBy>Computer</cp:lastModifiedBy>
  <dcterms:modified xsi:type="dcterms:W3CDTF">2017-01-12T00:00:35Z</dcterms:modified>
  <cp:revision>8</cp:revision>
  <dc:subject/>
  <dc:title>«Консервный завод «Саранский»</dc:title>
</cp:coreProperties>
</file>