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7BD8-E29B-4877-AF31-BE91B05D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62E2-E62D-4D7B-A21D-5EE30E8E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BA51-DF5B-4EB4-897B-00F3B6C4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A0DF-75A5-414B-8B12-1554B25E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A6CB-6D75-4503-BF90-578AB5DB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72BC-7179-4C94-87F9-E4C4C324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29A3-404C-45A5-AEB3-3867F9CC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CD6B-B630-47B4-8BA2-4A55706A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62BD-A62B-44C3-B7CE-23540A72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AD53-F6C9-4149-8143-525082D5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773A-D1AD-4EA9-9BEC-A4F800F5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F99C-409E-4797-857C-83B8990A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B7F0-2817-4BCD-A62F-FC54A8F5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8C3B-4D29-41EC-8BB2-DCF8B62F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9979-07D6-4092-92C8-0D73253B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023A-AB7A-42B0-AA47-29AE1D65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D29F-CFA0-4979-88FD-E983095D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F988-C46A-45FC-8313-496EDFAA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6321-E4D0-4A99-B1BB-589DADC7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8A7C-356A-4CB9-BCE7-547EA5A0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7074-7480-40A2-AB8E-6130700B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EBE4-843A-4D7E-B094-68321D65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3158-7FCE-4FA2-B63B-128AC201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26D8-0143-4D7B-A6F7-BBCAE28D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B000-A569-49E8-9258-61FC7588F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9AC1-1B4A-416C-8CA1-DF78EEB96EB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Нестандартные приемы постановки проблемы на этапе мотивации и целеполагания в рамках урока технолог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аас Лидия Федоровн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итель технолог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БОУ «СОШ №11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017 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Мотивация ответственна за активную позицию ребёнка в обучении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Мотивация гораздо больше, чем способности определяет поведение, действия человека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ж.Равен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Высокая мотивация может компенсировать низкий уровень способностей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.Д. Дубовицка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Главная задача – развитие внутренней мотивации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143000" y="52578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Четко поставленная цель – такая цель, прочитав которую можно понять, что Вы собираетесь достич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3520" y="2017800"/>
          <a:ext cx="8305560" cy="3160800"/>
        </p:xfrm>
        <a:graphic>
          <a:graphicData uri="http://schemas.openxmlformats.org/drawingml/2006/table">
            <a:tbl>
              <a:tblPr/>
              <a:tblGrid>
                <a:gridCol w="5260680"/>
                <a:gridCol w="3044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ремление к успех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допущению неуда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вят перед собой некоторую позитивную цель, выбирают средства, направленные на достижение этой цели. Свои победы и неудачи склонны объяснять объемом приложенных усилий, силой своего стар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бственный неуспех объясняют отсутствием способностей или невезением, а успехи – везением или легкостью зад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ием «Яркое пятно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казки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легенд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лучаи из истории, науки и повседневной жизн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тихи, в том числе и шуточны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ультфильм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 друго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Тема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Бутерброды и горячие напитк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144760" y="2017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44760" y="415116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6" descr="9aada6b1721f235f9b01f5370bc62537"/>
          <p:cNvPicPr/>
          <p:nvPr/>
        </p:nvPicPr>
        <p:blipFill>
          <a:blip r:embed="rId1"/>
          <a:stretch/>
        </p:blipFill>
        <p:spPr>
          <a:xfrm>
            <a:off x="457200" y="2133720"/>
            <a:ext cx="2514600" cy="2365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1398260142_002"/>
          <p:cNvPicPr/>
          <p:nvPr/>
        </p:nvPicPr>
        <p:blipFill>
          <a:blip r:embed="rId2"/>
          <a:stretch/>
        </p:blipFill>
        <p:spPr>
          <a:xfrm>
            <a:off x="1981080" y="4038480"/>
            <a:ext cx="2505240" cy="2667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D_FIODOR"/>
          <p:cNvPicPr/>
          <p:nvPr/>
        </p:nvPicPr>
        <p:blipFill>
          <a:blip r:embed="rId3"/>
          <a:stretch/>
        </p:blipFill>
        <p:spPr>
          <a:xfrm>
            <a:off x="4267080" y="2209680"/>
            <a:ext cx="4648320" cy="340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Тема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Бутерброды и горячие напитк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Наша мама на работе,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С папой мы сидим вдвоем –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Ничего с утра не ели,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С нетерпеньем маму ждем.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Папа вдруг воскликнул: «Вот!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Приготовим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 бутерброд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!»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Он на хлеб намазал масло,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Сверху рыбу положил,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На нее – кусок колбасный,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Зелень мелко покрошил: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Лук, петрушка и чеснок,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Сверху – плавленый сырок.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Я добавил огурец,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Папа крикнул: «Молодец!»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Славный вышел бутерброд…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Но в какой войдет он рот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Тема: Блюда из круп, бобовых и макаронных изделий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«Маша + каша»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3" descr="masha-i-medved-masha-kasha-ja-vkusnei-na"/>
          <p:cNvPicPr/>
          <p:nvPr/>
        </p:nvPicPr>
        <p:blipFill>
          <a:blip r:embed="rId1"/>
          <a:stretch/>
        </p:blipFill>
        <p:spPr>
          <a:xfrm>
            <a:off x="0" y="3824280"/>
            <a:ext cx="4114800" cy="3033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23-foto-foto-masha-and-bear-1024x533"/>
          <p:cNvPicPr/>
          <p:nvPr/>
        </p:nvPicPr>
        <p:blipFill>
          <a:blip r:embed="rId2"/>
          <a:stretch/>
        </p:blipFill>
        <p:spPr>
          <a:xfrm>
            <a:off x="4495680" y="3805200"/>
            <a:ext cx="4648320" cy="3052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1331569931_107-masha-plyus-kasha"/>
          <p:cNvPicPr/>
          <p:nvPr/>
        </p:nvPicPr>
        <p:blipFill>
          <a:blip r:embed="rId3"/>
          <a:stretch/>
        </p:blipFill>
        <p:spPr>
          <a:xfrm>
            <a:off x="1828800" y="1828800"/>
            <a:ext cx="5257800" cy="29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В передачи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144760" y="2017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144760" y="415116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9" descr="45714063"/>
          <p:cNvPicPr/>
          <p:nvPr/>
        </p:nvPicPr>
        <p:blipFill>
          <a:blip r:embed="rId1"/>
          <a:stretch/>
        </p:blipFill>
        <p:spPr>
          <a:xfrm>
            <a:off x="2666880" y="1828800"/>
            <a:ext cx="3810240" cy="3000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vlad_pavletsov_pervij_prigovor"/>
          <p:cNvPicPr/>
          <p:nvPr/>
        </p:nvPicPr>
        <p:blipFill>
          <a:blip r:embed="rId2"/>
          <a:stretch/>
        </p:blipFill>
        <p:spPr>
          <a:xfrm>
            <a:off x="6629400" y="42670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large_1"/>
          <p:cNvPicPr/>
          <p:nvPr/>
        </p:nvPicPr>
        <p:blipFill>
          <a:blip r:embed="rId3"/>
          <a:stretch/>
        </p:blipFill>
        <p:spPr>
          <a:xfrm>
            <a:off x="228600" y="4038480"/>
            <a:ext cx="2427120" cy="24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Фото галерея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Picture 9" descr="P1090264"/>
          <p:cNvPicPr/>
          <p:nvPr/>
        </p:nvPicPr>
        <p:blipFill>
          <a:blip r:embed="rId1"/>
          <a:stretch/>
        </p:blipFill>
        <p:spPr>
          <a:xfrm>
            <a:off x="1905120" y="18288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P1090249"/>
          <p:cNvPicPr/>
          <p:nvPr/>
        </p:nvPicPr>
        <p:blipFill>
          <a:blip r:embed="rId2"/>
          <a:stretch/>
        </p:blipFill>
        <p:spPr>
          <a:xfrm>
            <a:off x="914400" y="41911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3"/>
          <a:stretch/>
        </p:blipFill>
        <p:spPr>
          <a:xfrm>
            <a:off x="5029200" y="41148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4"/>
          <a:stretch/>
        </p:blipFill>
        <p:spPr>
          <a:xfrm>
            <a:off x="5791320" y="1143000"/>
            <a:ext cx="2869920" cy="289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4T21:19:54Z</dcterms:created>
  <dc:creator>Лидия</dc:creator>
  <dc:description/>
  <dc:language>en-US</dc:language>
  <cp:lastModifiedBy>Лидия</cp:lastModifiedBy>
  <dcterms:modified xsi:type="dcterms:W3CDTF">2017-01-12T15:38:2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