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7C9-8267-44F7-9E6F-4BA14CBA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A09-1A8D-4AA9-92FA-D55FB7C3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0A1-97B5-4C9B-90DB-BEAB4B4F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183-9E82-455D-8405-5F482FD4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CBF5-48DE-4535-905D-EF7164C2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5557-FD69-4603-AA4A-084E52C9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96EF-B981-4D4F-9071-EC77ACE9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A433-00D3-49DB-B7D7-E982BB78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A9B6-DD7F-454C-A015-CF0E5649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37C4-3E3C-44C8-BC7B-83255115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3268-9469-4C4D-8A2E-ADD9DB49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571-2890-4A12-BA7B-3ADBA37C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CAFC-35E1-4C8B-A992-4516E4F7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295C-9134-49D7-BAB5-D42C6ED4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2E295-7A50-4196-8CB1-709B14C8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22835-CD22-40AE-9CFB-1D2004DB4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67EE-C4FB-4161-88E1-BC123331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6E7F-1410-411A-A945-2D8DAD81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953-6618-40A4-95ED-B06C7AEE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6466-091B-4595-87C8-B79BD30C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B90-2931-4CB4-AADC-9165AB8E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EA5-2FD5-4C15-B4AB-806B94D3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B5A-A093-4CDB-92E6-C104DFFE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F2BF-0B97-4D74-A56F-59104D4A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5597-D355-4164-A1FB-11301B70B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EED8-3592-43CF-9AD2-53EFC26D947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естандартные приемы постановки проблемы на этапе мотивации и целеполагания в рамках урока технологи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аас Лидия Федоровн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техноло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БОУ «СОШ №11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17 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Мотивация ответственна за активную позицию ребёнка в обучени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Мотивация гораздо больше, чем способности определяет поведение, действия человека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ж.Равен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«Высокая мотивация может компенсировать низкий уровень способностей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.Д. Дубовицка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Главная задача – развитие внутренней мотиваци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143000" y="5257800"/>
            <a:ext cx="779292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Четко поставленная цель – такая цель, прочитав которую можно понять, что Вы собираетесь достич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2017800"/>
          <a:ext cx="8305560" cy="3160800"/>
        </p:xfrm>
        <a:graphic>
          <a:graphicData uri="http://schemas.openxmlformats.org/drawingml/2006/table">
            <a:tbl>
              <a:tblPr/>
              <a:tblGrid>
                <a:gridCol w="5260680"/>
                <a:gridCol w="3044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ремление к успех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допущению неуда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вят перед собой некоторую позитивную цель, выбирают средства, направленные на достижение этой цели. Свои победы и неудачи склонны объяснять объемом приложенных усилий, силой своего стар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бственный неуспех объясняют отсутствием способностей или невезением, а успехи – везением или легкостью зад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ем «Яркое пятно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азк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легенд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лучаи из истории, науки и повседневной жизн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ихи, в том числе и шуточны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ультфильмы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 друго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ема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утерброды и горячие напит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9aada6b1721f235f9b01f5370bc62537"/>
          <p:cNvPicPr/>
          <p:nvPr/>
        </p:nvPicPr>
        <p:blipFill>
          <a:blip r:embed="rId1"/>
          <a:stretch/>
        </p:blipFill>
        <p:spPr>
          <a:xfrm>
            <a:off x="457200" y="2133720"/>
            <a:ext cx="2514600" cy="2365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1398260142_002"/>
          <p:cNvPicPr/>
          <p:nvPr/>
        </p:nvPicPr>
        <p:blipFill>
          <a:blip r:embed="rId2"/>
          <a:stretch/>
        </p:blipFill>
        <p:spPr>
          <a:xfrm>
            <a:off x="1981080" y="4038480"/>
            <a:ext cx="2505240" cy="266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D_FIODOR"/>
          <p:cNvPicPr/>
          <p:nvPr/>
        </p:nvPicPr>
        <p:blipFill>
          <a:blip r:embed="rId3"/>
          <a:stretch/>
        </p:blipFill>
        <p:spPr>
          <a:xfrm>
            <a:off x="4267080" y="2209680"/>
            <a:ext cx="4648320" cy="34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Тема: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Бутерброды и горячие напит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аша мама на работе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 папой мы сидим вдвоем –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ичего с утра не ели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 нетерпеньем маму ждем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апа вдруг воскликнул: «Вот!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риготовим</a:t>
            </a:r>
            <a:r>
              <a:rPr b="1" lang="en-US" sz="2100" spc="-1" strike="noStrike">
                <a:solidFill>
                  <a:srgbClr val="000000"/>
                </a:solidFill>
                <a:latin typeface="Tahoma"/>
              </a:rPr>
              <a:t> бутерброд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!»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Он на хлеб намазал масло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верху рыбу положил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а нее – кусок колбасный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Зелень мелко покрошил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Лук, петрушка и чеснок,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верху – плавленый сырок.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Я добавил огурец,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Папа крикнул: «Молодец!»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Славный вышел бутерброд…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Но в какой войдет он рот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Тема: Блюда из круп, бобовых и макаронных изделий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«Маша + каша»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9" name="Picture 3" descr="masha-i-medved-masha-kasha-ja-vkusnei-na"/>
          <p:cNvPicPr/>
          <p:nvPr/>
        </p:nvPicPr>
        <p:blipFill>
          <a:blip r:embed="rId1"/>
          <a:stretch/>
        </p:blipFill>
        <p:spPr>
          <a:xfrm>
            <a:off x="0" y="3824280"/>
            <a:ext cx="4114800" cy="3033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23-foto-foto-masha-and-bear-1024x533"/>
          <p:cNvPicPr/>
          <p:nvPr/>
        </p:nvPicPr>
        <p:blipFill>
          <a:blip r:embed="rId2"/>
          <a:stretch/>
        </p:blipFill>
        <p:spPr>
          <a:xfrm>
            <a:off x="4495680" y="3805200"/>
            <a:ext cx="4648320" cy="3052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1331569931_107-masha-plyus-kasha"/>
          <p:cNvPicPr/>
          <p:nvPr/>
        </p:nvPicPr>
        <p:blipFill>
          <a:blip r:embed="rId3"/>
          <a:stretch/>
        </p:blipFill>
        <p:spPr>
          <a:xfrm>
            <a:off x="1828800" y="1828800"/>
            <a:ext cx="5257800" cy="29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В передачи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144760" y="2017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44760" y="415116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9" descr="45714063"/>
          <p:cNvPicPr/>
          <p:nvPr/>
        </p:nvPicPr>
        <p:blipFill>
          <a:blip r:embed="rId1"/>
          <a:stretch/>
        </p:blipFill>
        <p:spPr>
          <a:xfrm>
            <a:off x="2666880" y="1828800"/>
            <a:ext cx="3810240" cy="3000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vlad_pavletsov_pervij_prigovor"/>
          <p:cNvPicPr/>
          <p:nvPr/>
        </p:nvPicPr>
        <p:blipFill>
          <a:blip r:embed="rId2"/>
          <a:stretch/>
        </p:blipFill>
        <p:spPr>
          <a:xfrm>
            <a:off x="6629400" y="42670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large_1"/>
          <p:cNvPicPr/>
          <p:nvPr/>
        </p:nvPicPr>
        <p:blipFill>
          <a:blip r:embed="rId3"/>
          <a:stretch/>
        </p:blipFill>
        <p:spPr>
          <a:xfrm>
            <a:off x="228600" y="4038480"/>
            <a:ext cx="2427120" cy="246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Фото галере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" name="Picture 9" descr="P1090264"/>
          <p:cNvPicPr/>
          <p:nvPr/>
        </p:nvPicPr>
        <p:blipFill>
          <a:blip r:embed="rId1"/>
          <a:stretch/>
        </p:blipFill>
        <p:spPr>
          <a:xfrm>
            <a:off x="1905120" y="18288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P1090249"/>
          <p:cNvPicPr/>
          <p:nvPr/>
        </p:nvPicPr>
        <p:blipFill>
          <a:blip r:embed="rId2"/>
          <a:stretch/>
        </p:blipFill>
        <p:spPr>
          <a:xfrm>
            <a:off x="914400" y="419112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3"/>
          <a:stretch/>
        </p:blipFill>
        <p:spPr>
          <a:xfrm>
            <a:off x="5029200" y="41148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4"/>
          <a:stretch/>
        </p:blipFill>
        <p:spPr>
          <a:xfrm>
            <a:off x="5791320" y="1143000"/>
            <a:ext cx="2869920" cy="289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4T21:19:54Z</dcterms:created>
  <dc:creator>Лидия</dc:creator>
  <dc:description/>
  <dc:language>en-US</dc:language>
  <cp:lastModifiedBy>Лидия</cp:lastModifiedBy>
  <dcterms:modified xsi:type="dcterms:W3CDTF">2017-01-12T15:38:2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