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3.gif" ContentType="image/gif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D286-785D-4988-B2CA-B52F0955A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527E-B66B-4427-8313-34C7205302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2AD0-0CDB-4DC9-A81F-EE456F914D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6B7F-8713-4131-9A20-6D67831D78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EAFF-BE90-47B9-89E3-27F3B6DCB0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8742-B77C-4FC8-80D6-E131B7C1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B48E-F6B6-469D-BFAF-6718A107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DFE9-2C72-493D-8E6E-6FF966E5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7935-F099-43D4-B02A-D678EAF3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4DD9-09D8-4C6B-8B09-E66FF65D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1527-8549-4E69-902A-89583C46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0A5C-0127-419B-AF2B-489F106E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63E1-C3B0-4421-9693-87163F3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5F2F-DEDF-4AAA-9958-787D90C5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05AC-D5AF-4E1F-B99D-4A8605D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1190-AAB5-404F-9801-2CADD0D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3DA7-BC4A-4541-9CB0-A683F1C1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D621-87DE-4CD8-9752-CF6CB07B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5E18-FC93-4D0A-9653-541369EB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7953-F43C-4958-B1E4-8CB8CB73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F738-4683-4DE7-B9C9-A05B02FA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4D58-C9CE-4934-9133-A88CA816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F847-EAA0-4307-9706-BFA66FBB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C937-27DB-4D04-9284-E624A4B8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B0C1-2174-4D70-8281-1C8F1F6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9EE0-7D3A-40E2-BBAB-6CD0AA5E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9C1D-0001-4019-9102-9733522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04AD-337E-447C-B10D-9936872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7E1B-669F-4DDF-AFA4-2253F5F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08B4-8E77-47AA-9927-3F6DCAF7DA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09E0-6DA9-4E12-A068-6D9E69F1F0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143000" y="7128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ои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адеды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- герои войн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08000" y="5715000"/>
            <a:ext cx="640080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ученица 5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школы №177  с кадетскими классам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.Сама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овенко Мар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8" descr="http://intpicture.com/wp-content/uploads/2011/05/fc4dfb598a88edc2b6f16c4d3311.jpg"/>
          <p:cNvPicPr/>
          <p:nvPr/>
        </p:nvPicPr>
        <p:blipFill>
          <a:blip r:embed="rId2"/>
          <a:stretch/>
        </p:blipFill>
        <p:spPr>
          <a:xfrm>
            <a:off x="1500120" y="1357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http://podvignaroda.ru/filter/filterimage?path=VS/157/033-0686196-1788%2b040-1787/00000184.jpg&amp;id=24133442&amp;id1=f43d8239dd2e3ab1345f7f6d184d788b"/>
          <p:cNvPicPr/>
          <p:nvPr/>
        </p:nvPicPr>
        <p:blipFill>
          <a:blip r:embed="rId2"/>
          <a:stretch/>
        </p:blipFill>
        <p:spPr>
          <a:xfrm>
            <a:off x="214200" y="142920"/>
            <a:ext cx="4543560" cy="60483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"/>
          <p:cNvPicPr/>
          <p:nvPr/>
        </p:nvPicPr>
        <p:blipFill>
          <a:blip r:embed="rId3"/>
          <a:stretch/>
        </p:blipFill>
        <p:spPr>
          <a:xfrm>
            <a:off x="4929120" y="428760"/>
            <a:ext cx="4071960" cy="271440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85840" y="333360"/>
            <a:ext cx="356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ыров Трофим Фоми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1899 г.р. Был призван в Красную Армию в ноябре 1941 г. в звании «Красноармеец». Служил он сапером в 290 Армейском инженерном батальоне, который входил в состав 4 Ударной Армии Калининского фрон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214880" y="428760"/>
            <a:ext cx="4533840" cy="4456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http://podvignaroda.ru/filter/filterimage?path=Z/001/033-0682525-0254/00000668.jpg&amp;id=4088529&amp;id1=1b27925faf5a517179d8b7e3ec5e9891"/>
          <p:cNvPicPr/>
          <p:nvPr/>
        </p:nvPicPr>
        <p:blipFill>
          <a:blip r:embed="rId2"/>
          <a:stretch/>
        </p:blipFill>
        <p:spPr>
          <a:xfrm>
            <a:off x="0" y="73080"/>
            <a:ext cx="4643280" cy="6141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"/>
          <p:cNvPicPr/>
          <p:nvPr/>
        </p:nvPicPr>
        <p:blipFill>
          <a:blip r:embed="rId3"/>
          <a:stretch/>
        </p:blipFill>
        <p:spPr>
          <a:xfrm>
            <a:off x="4714920" y="428760"/>
            <a:ext cx="4357800" cy="164304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5"/>
          <p:cNvSpPr txBox="1"/>
          <p:nvPr/>
        </p:nvSpPr>
        <p:spPr>
          <a:xfrm>
            <a:off x="1042920" y="1052640"/>
            <a:ext cx="6408720" cy="37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review-image" descr="http://ppt4web.ru/images/50/5923/310/img18.jpg"/>
          <p:cNvPicPr/>
          <p:nvPr/>
        </p:nvPicPr>
        <p:blipFill>
          <a:blip r:embed="rId1"/>
          <a:stretch/>
        </p:blipFill>
        <p:spPr>
          <a:xfrm>
            <a:off x="357120" y="71280"/>
            <a:ext cx="4091040" cy="3360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http://maslovka.info/images/555/SAMOKISH-70.jpg"/>
          <p:cNvPicPr/>
          <p:nvPr/>
        </p:nvPicPr>
        <p:blipFill>
          <a:blip r:embed="rId2"/>
          <a:stretch/>
        </p:blipFill>
        <p:spPr>
          <a:xfrm>
            <a:off x="4665600" y="71280"/>
            <a:ext cx="4232160" cy="3143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http://img-fotki.yandex.ru/get/17847/116075328.195/0_19276b_7f1b7ad4_XXL.jpg"/>
          <p:cNvPicPr/>
          <p:nvPr/>
        </p:nvPicPr>
        <p:blipFill>
          <a:blip r:embed="rId3"/>
          <a:stretch/>
        </p:blipFill>
        <p:spPr>
          <a:xfrm>
            <a:off x="2571840" y="3456000"/>
            <a:ext cx="4344840" cy="333072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85840" y="333360"/>
            <a:ext cx="356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оманов Александр Александрович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915-1996г.г.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 августа 1945г. по сентябрь 1945г. в составе 138 стрелкового полка принимал участие в операции за овладение островами СЮМУСЮ и ПАРАМУШИР из группы Курильских островов. За что был награжден грамотой и Благодарностью Верховного Главнокомандующего Генералиссимуса Советского Союза И.В. Стал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86160" y="428760"/>
            <a:ext cx="4611600" cy="5143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User\Desktop\Проект =Мои прадеды - герои войны=\благодарность и грамота Романова А.А.0001.jpg"/>
          <p:cNvPicPr/>
          <p:nvPr/>
        </p:nvPicPr>
        <p:blipFill>
          <a:blip r:embed="rId2"/>
          <a:stretch/>
        </p:blipFill>
        <p:spPr>
          <a:xfrm>
            <a:off x="42840" y="14292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User\Desktop\Проект =Мои прадеды - герои войны=\благодарность и грамота Романова А.А.0002.jpg"/>
          <p:cNvPicPr/>
          <p:nvPr/>
        </p:nvPicPr>
        <p:blipFill>
          <a:blip r:embed="rId3"/>
          <a:stretch/>
        </p:blipFill>
        <p:spPr>
          <a:xfrm>
            <a:off x="4714920" y="142920"/>
            <a:ext cx="44290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EAFB-71A2-4457-8BF4-9BBB5EFF75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71680" y="500040"/>
            <a:ext cx="79628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дник весенний, праздник священны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дник Победы над черной чумо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тераны,  перед Вами- молодое поко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лоняет  перед Вами головы, коле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 всей души спасибо Вам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 жизнь, подаренную н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 мирное небо, спокойное дет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юбовь и гордость в моем сердц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 Вас, за нас и за стра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торую Россией я зову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3840" y="2643120"/>
            <a:ext cx="89298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DSC03195.jpg"/>
          <p:cNvPicPr/>
          <p:nvPr/>
        </p:nvPicPr>
        <p:blipFill>
          <a:blip r:embed="rId2"/>
          <a:stretch/>
        </p:blipFill>
        <p:spPr>
          <a:xfrm>
            <a:off x="571680" y="642960"/>
            <a:ext cx="7786440" cy="5505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1857240" y="0"/>
            <a:ext cx="5715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Родовое древо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strips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600" y="142920"/>
            <a:ext cx="3862440" cy="631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User\Desktop\дедуля\кондратенко Григорий Миронович 001.jpg"/>
          <p:cNvPicPr/>
          <p:nvPr/>
        </p:nvPicPr>
        <p:blipFill>
          <a:blip r:embed="rId2"/>
          <a:stretch/>
        </p:blipFill>
        <p:spPr>
          <a:xfrm>
            <a:off x="4857840" y="3429000"/>
            <a:ext cx="3143160" cy="3286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User\Desktop\дедуля\сыров 001.jpg"/>
          <p:cNvPicPr/>
          <p:nvPr/>
        </p:nvPicPr>
        <p:blipFill>
          <a:blip r:embed="rId3"/>
          <a:stretch/>
        </p:blipFill>
        <p:spPr>
          <a:xfrm>
            <a:off x="4071960" y="71280"/>
            <a:ext cx="4829040" cy="328464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2000160" y="357120"/>
            <a:ext cx="500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Запросы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357120" y="1428840"/>
            <a:ext cx="82155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Военкомат г. Сама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Центральный архив Министерства обороны Российской Федер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тились на сайт Министерства Оборо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Отдел военного комиссариата Самарской области по Октябрьскому Куйбышевскому,  Ленинскому и Самарскому район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diamond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ещения музе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Рисунок 5" descr="DSC03048.JPG"/>
          <p:cNvPicPr/>
          <p:nvPr/>
        </p:nvPicPr>
        <p:blipFill>
          <a:blip r:embed="rId2"/>
          <a:stretch/>
        </p:blipFill>
        <p:spPr>
          <a:xfrm>
            <a:off x="4286160" y="571680"/>
            <a:ext cx="4143600" cy="27572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DSC03056.JPG"/>
          <p:cNvPicPr/>
          <p:nvPr/>
        </p:nvPicPr>
        <p:blipFill>
          <a:blip r:embed="rId3"/>
          <a:stretch/>
        </p:blipFill>
        <p:spPr>
          <a:xfrm>
            <a:off x="5670720" y="3286080"/>
            <a:ext cx="1973160" cy="2928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маша.jpg"/>
          <p:cNvPicPr/>
          <p:nvPr/>
        </p:nvPicPr>
        <p:blipFill>
          <a:blip r:embed="rId4"/>
          <a:stretch/>
        </p:blipFill>
        <p:spPr>
          <a:xfrm>
            <a:off x="0" y="642960"/>
            <a:ext cx="421488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Бессмертный полк в Самаре 2016г.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2" descr="http://pressa.today/wp-content/uploads/2016/05/bessmertny-polk-samara.jpg"/>
          <p:cNvPicPr/>
          <p:nvPr/>
        </p:nvPicPr>
        <p:blipFill>
          <a:blip r:embed="rId2"/>
          <a:stretch/>
        </p:blipFill>
        <p:spPr>
          <a:xfrm>
            <a:off x="449280" y="1214280"/>
            <a:ext cx="755172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856800"/>
            <a:ext cx="4143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2 июня 1941 года германские войска без предупреждения пересекли границу с СССР и вторглись на русскую землю. Так началась Великая Отечественная вой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4062240" y="1816200"/>
          <a:ext cx="493884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2240" y="1816200"/>
                    <a:ext cx="49388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59" name="Voennye_pesni_-_Vstavaj_strana_ogromnaya_vstavaj_na_smertnyj_boj_(xMusic.me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img-fotki.yandex.ru/get/6442/67700761.a1/0_9b770_57dcc7c9_orig.jpg"/>
          <p:cNvPicPr/>
          <p:nvPr/>
        </p:nvPicPr>
        <p:blipFill>
          <a:blip r:embed="rId2"/>
          <a:stretch/>
        </p:blipFill>
        <p:spPr>
          <a:xfrm>
            <a:off x="71280" y="47520"/>
            <a:ext cx="4535640" cy="302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down-house.ru/uploads/posts/2009-01/1233053724_downhouse.info_9.jpg"/>
          <p:cNvPicPr/>
          <p:nvPr/>
        </p:nvPicPr>
        <p:blipFill>
          <a:blip r:embed="rId3"/>
          <a:stretch/>
        </p:blipFill>
        <p:spPr>
          <a:xfrm>
            <a:off x="142920" y="3143160"/>
            <a:ext cx="4429080" cy="278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g-fotki.yandex.ru/get/5700/viktor3951.bd/0_5ef01_c3ac9250_XL"/>
          <p:cNvPicPr/>
          <p:nvPr/>
        </p:nvPicPr>
        <p:blipFill>
          <a:blip r:embed="rId4"/>
          <a:stretch/>
        </p:blipFill>
        <p:spPr>
          <a:xfrm>
            <a:off x="4633920" y="71280"/>
            <a:ext cx="4510080" cy="300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ttp://etoretro.ru/data/media/343/1381239598525.jpg"/>
          <p:cNvPicPr/>
          <p:nvPr/>
        </p:nvPicPr>
        <p:blipFill>
          <a:blip r:embed="rId5"/>
          <a:stretch/>
        </p:blipFill>
        <p:spPr>
          <a:xfrm>
            <a:off x="4643280" y="3143160"/>
            <a:ext cx="4537080" cy="278604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333360"/>
            <a:ext cx="40003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дратенко Григорий Миронович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21г.р. Воевал в танковых частях в звании Сержанта. В 1942г. в боях был ранен в голову, после госпиталя вернулся в строй разведчиком 222 стрелкового полка 49 стрелковой Рославльской дивизии 33 Армии 1 Белорусского фрон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User\Desktop\дедуля\кондратенко Григорий Миронович 001.jpg"/>
          <p:cNvPicPr/>
          <p:nvPr/>
        </p:nvPicPr>
        <p:blipFill>
          <a:blip r:embed="rId3"/>
          <a:stretch/>
        </p:blipFill>
        <p:spPr>
          <a:xfrm>
            <a:off x="4643280" y="428760"/>
            <a:ext cx="3929400" cy="544500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3:42:23Z</dcterms:created>
  <dc:creator>larisa</dc:creator>
  <dc:description/>
  <dc:language>en-US</dc:language>
  <cp:lastModifiedBy>User</cp:lastModifiedBy>
  <dcterms:modified xsi:type="dcterms:W3CDTF">2017-01-12T09:10:01Z</dcterms:modified>
  <cp:revision>145</cp:revision>
  <dc:subject/>
  <dc:title>Слайд 1</dc:title>
</cp:coreProperties>
</file>