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3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20.jpeg" ContentType="image/jpeg"/>
  <Override PartName="/ppt/media/image3.gif" ContentType="image/gif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5891-F1E2-4225-B9A5-B7189B3E1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ADE8-E915-4A78-B75E-65528DA138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1119-3AD2-4A9E-B6F1-4F398584E7C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FF13-5E91-42DE-8B8E-9102292938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282B-6556-4433-8EFA-A268FB6ACC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DB191-88B4-4186-ABAC-A3D73D96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9CE49-B800-4FC5-B484-A2847B28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AA668-5FF4-4C3E-9EB2-40AD64624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693D-A091-43DF-AA65-2D3B0281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4DAE-FDC8-4AF2-B207-EE803E41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D3A7-3E9A-451F-BBEE-EE269617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3170-0CF7-444F-B71E-EDC8162C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C7C4-5DD2-4D15-BE5F-9AA0A1FC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5740-6450-4D8B-B6C1-CAABE6BB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9DC2-1343-4A66-999C-B9B8B4A1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EA63-31EF-488A-B175-4D013746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AB847-1FF5-4785-B8F6-7E8A15B3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5069-F66C-4FFE-B78B-37BA43C9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12A9-E64E-4993-A593-F5F50B5F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8D5A-0E36-4B98-8170-88F3793E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554D-55F9-49E9-A07B-3C589D2C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BD53-ECE1-4558-8999-DC4E4D50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ACF8C-6C90-47BF-AF08-F2B73BC0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39041-B810-4DEA-B20B-C9788EC9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34202-CBDF-4D58-91C5-953B614D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BC070-A7CC-45D1-A86B-AE9707E3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AE356-0CA7-454D-825F-58FB1D7B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223B4-7FA7-428B-8BA8-B2AD8977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48A7C-98C5-429B-88B2-55EE3C7E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9CF8-14C2-444C-B17C-FB303E4B533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5191-438A-4CED-8680-83D2DEC5F04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3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143000" y="71280"/>
            <a:ext cx="728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«Мои </a:t>
            </a: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прадеды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- герои войны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908000" y="5715000"/>
            <a:ext cx="6400800" cy="9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 ученица 5 клас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школы №177  с кадетскими классам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о.Самар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овенко Мар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8" descr="http://intpicture.com/wp-content/uploads/2011/05/fc4dfb598a88edc2b6f16c4d3311.jpg"/>
          <p:cNvPicPr/>
          <p:nvPr/>
        </p:nvPicPr>
        <p:blipFill>
          <a:blip r:embed="rId2"/>
          <a:stretch/>
        </p:blipFill>
        <p:spPr>
          <a:xfrm>
            <a:off x="1500120" y="13572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2" descr="prir644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5" descr="http://podvignaroda.ru/filter/filterimage?path=VS/157/033-0686196-1788%2b040-1787/00000184.jpg&amp;id=24133442&amp;id1=f43d8239dd2e3ab1345f7f6d184d788b"/>
          <p:cNvPicPr/>
          <p:nvPr/>
        </p:nvPicPr>
        <p:blipFill>
          <a:blip r:embed="rId2"/>
          <a:stretch/>
        </p:blipFill>
        <p:spPr>
          <a:xfrm>
            <a:off x="214200" y="142920"/>
            <a:ext cx="4543560" cy="604836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6" descr=""/>
          <p:cNvPicPr/>
          <p:nvPr/>
        </p:nvPicPr>
        <p:blipFill>
          <a:blip r:embed="rId3"/>
          <a:stretch/>
        </p:blipFill>
        <p:spPr>
          <a:xfrm>
            <a:off x="4929120" y="428760"/>
            <a:ext cx="4071960" cy="271440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circl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85840" y="333360"/>
            <a:ext cx="356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ыров Трофим Фомич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1899 г.р. Был призван в Красную Армию в ноябре 1941 г. в звании «Красноармеец». Служил он сапером в 290 Армейском инженерном батальоне, который входил в состав 4 Ударной Армии Калининского фрон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4214880" y="428760"/>
            <a:ext cx="4533840" cy="4456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prir644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circle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2" descr="prir644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5" descr="http://podvignaroda.ru/filter/filterimage?path=Z/001/033-0682525-0254/00000668.jpg&amp;id=4088529&amp;id1=1b27925faf5a517179d8b7e3ec5e9891"/>
          <p:cNvPicPr/>
          <p:nvPr/>
        </p:nvPicPr>
        <p:blipFill>
          <a:blip r:embed="rId2"/>
          <a:stretch/>
        </p:blipFill>
        <p:spPr>
          <a:xfrm>
            <a:off x="0" y="73080"/>
            <a:ext cx="4643280" cy="61419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6" descr=""/>
          <p:cNvPicPr/>
          <p:nvPr/>
        </p:nvPicPr>
        <p:blipFill>
          <a:blip r:embed="rId3"/>
          <a:stretch/>
        </p:blipFill>
        <p:spPr>
          <a:xfrm>
            <a:off x="4714920" y="428760"/>
            <a:ext cx="4357800" cy="164304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circl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5"/>
          <p:cNvSpPr txBox="1"/>
          <p:nvPr/>
        </p:nvSpPr>
        <p:spPr>
          <a:xfrm>
            <a:off x="1042920" y="1052640"/>
            <a:ext cx="6408720" cy="371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9" name="preview-image" descr="http://ppt4web.ru/images/50/5923/310/img18.jpg"/>
          <p:cNvPicPr/>
          <p:nvPr/>
        </p:nvPicPr>
        <p:blipFill>
          <a:blip r:embed="rId1"/>
          <a:stretch/>
        </p:blipFill>
        <p:spPr>
          <a:xfrm>
            <a:off x="357120" y="71280"/>
            <a:ext cx="4091040" cy="3360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http://maslovka.info/images/555/SAMOKISH-70.jpg"/>
          <p:cNvPicPr/>
          <p:nvPr/>
        </p:nvPicPr>
        <p:blipFill>
          <a:blip r:embed="rId2"/>
          <a:stretch/>
        </p:blipFill>
        <p:spPr>
          <a:xfrm>
            <a:off x="4665600" y="71280"/>
            <a:ext cx="4232160" cy="3143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http://img-fotki.yandex.ru/get/17847/116075328.195/0_19276b_7f1b7ad4_XXL.jpg"/>
          <p:cNvPicPr/>
          <p:nvPr/>
        </p:nvPicPr>
        <p:blipFill>
          <a:blip r:embed="rId3"/>
          <a:stretch/>
        </p:blipFill>
        <p:spPr>
          <a:xfrm>
            <a:off x="2571840" y="3456000"/>
            <a:ext cx="4344840" cy="333072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circl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85840" y="333360"/>
            <a:ext cx="356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Романов Александр Александрович,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1915-1996г.г.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 августа 1945г. по сентябрь 1945г. в составе 138 стрелкового полка принимал участие в операции за овладение островами СЮМУСЮ и ПАРАМУШИР из группы Курильских островов. За что был награжден грамотой и Благодарностью Верховного Главнокомандующего Генералиссимуса Советского Союза И.В. Стали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86160" y="428760"/>
            <a:ext cx="4611600" cy="5143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prir644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diamond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2" descr="prir644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C:\Users\User\Desktop\Проект =Мои прадеды - герои войны=\благодарность и грамота Романова А.А.0001.jpg"/>
          <p:cNvPicPr/>
          <p:nvPr/>
        </p:nvPicPr>
        <p:blipFill>
          <a:blip r:embed="rId2"/>
          <a:stretch/>
        </p:blipFill>
        <p:spPr>
          <a:xfrm>
            <a:off x="42840" y="142920"/>
            <a:ext cx="4600440" cy="5715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C:\Users\User\Desktop\Проект =Мои прадеды - герои войны=\благодарность и грамота Романова А.А.0002.jpg"/>
          <p:cNvPicPr/>
          <p:nvPr/>
        </p:nvPicPr>
        <p:blipFill>
          <a:blip r:embed="rId3"/>
          <a:stretch/>
        </p:blipFill>
        <p:spPr>
          <a:xfrm>
            <a:off x="4714920" y="142920"/>
            <a:ext cx="4429080" cy="571500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circle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9102-17AD-48CD-8A83-9214AAC34F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71680" y="500040"/>
            <a:ext cx="796284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здник весенний, праздник священны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аздник Победы над черной чумой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етераны,  перед Вами- молодое покол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клоняет  перед Вами головы, колен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 всей души спасибо Вам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 жизнь, подаренную н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 мирное небо, спокойное детств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юбовь и гордость в моем сердц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 Вас, за нас и за стран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Которую Россией я зову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4000">
    <p:circl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213840" y="2643120"/>
            <a:ext cx="89298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4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2" descr="prir644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DSC03195.jpg"/>
          <p:cNvPicPr/>
          <p:nvPr/>
        </p:nvPicPr>
        <p:blipFill>
          <a:blip r:embed="rId2"/>
          <a:stretch/>
        </p:blipFill>
        <p:spPr>
          <a:xfrm>
            <a:off x="571680" y="642960"/>
            <a:ext cx="7786440" cy="55054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1857240" y="0"/>
            <a:ext cx="5715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Родовое древо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4000">
    <p:strips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66600" y="142920"/>
            <a:ext cx="3862440" cy="6316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Users\User\Desktop\дедуля\кондратенко Григорий Миронович 001.jpg"/>
          <p:cNvPicPr/>
          <p:nvPr/>
        </p:nvPicPr>
        <p:blipFill>
          <a:blip r:embed="rId2"/>
          <a:stretch/>
        </p:blipFill>
        <p:spPr>
          <a:xfrm>
            <a:off x="4857840" y="3429000"/>
            <a:ext cx="3143160" cy="3286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:\Users\User\Desktop\дедуля\сыров 001.jpg"/>
          <p:cNvPicPr/>
          <p:nvPr/>
        </p:nvPicPr>
        <p:blipFill>
          <a:blip r:embed="rId3"/>
          <a:stretch/>
        </p:blipFill>
        <p:spPr>
          <a:xfrm>
            <a:off x="4071960" y="71280"/>
            <a:ext cx="4829040" cy="328464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diamond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2" descr="prir644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2000160" y="357120"/>
            <a:ext cx="5000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ffff"/>
                </a:solidFill>
                <a:latin typeface="Tahoma"/>
              </a:rPr>
              <a:t>Запросы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Прямоугольник 6"/>
          <p:cNvSpPr/>
          <p:nvPr/>
        </p:nvSpPr>
        <p:spPr>
          <a:xfrm>
            <a:off x="357120" y="1428840"/>
            <a:ext cx="82155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Военкомат г. Самар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Центральный архив Министерства обороны Российской Федера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братились на сайт Министерства Оборон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Отдел военного комиссариата Самарской области по Октябрьскому Куйбышевскому,  Ленинскому и Самарскому район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4000">
    <p:diamond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2" descr="prir644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осещения музе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9" name="Рисунок 5" descr="DSC03048.JPG"/>
          <p:cNvPicPr/>
          <p:nvPr/>
        </p:nvPicPr>
        <p:blipFill>
          <a:blip r:embed="rId2"/>
          <a:stretch/>
        </p:blipFill>
        <p:spPr>
          <a:xfrm>
            <a:off x="4286160" y="571680"/>
            <a:ext cx="4143600" cy="27572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6" descr="DSC03056.JPG"/>
          <p:cNvPicPr/>
          <p:nvPr/>
        </p:nvPicPr>
        <p:blipFill>
          <a:blip r:embed="rId3"/>
          <a:stretch/>
        </p:blipFill>
        <p:spPr>
          <a:xfrm>
            <a:off x="5670720" y="3286080"/>
            <a:ext cx="1973160" cy="29289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маша.jpg"/>
          <p:cNvPicPr/>
          <p:nvPr/>
        </p:nvPicPr>
        <p:blipFill>
          <a:blip r:embed="rId4"/>
          <a:stretch/>
        </p:blipFill>
        <p:spPr>
          <a:xfrm>
            <a:off x="0" y="642960"/>
            <a:ext cx="4214880" cy="554364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circl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2" descr="prir644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Tahoma"/>
              </a:rPr>
              <a:t>Бессмертный полк в Самаре 2016г.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2" descr="http://pressa.today/wp-content/uploads/2016/05/bessmertny-polk-samara.jpg"/>
          <p:cNvPicPr/>
          <p:nvPr/>
        </p:nvPicPr>
        <p:blipFill>
          <a:blip r:embed="rId2"/>
          <a:stretch/>
        </p:blipFill>
        <p:spPr>
          <a:xfrm>
            <a:off x="449280" y="1214280"/>
            <a:ext cx="7551720" cy="492948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circl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-360" y="856800"/>
            <a:ext cx="41432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2 июня 1941 года германские войска без предупреждения пересекли границу с СССР и вторглись на русскую землю. Так началась Великая Отечественная войн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4062240" y="1816200"/>
          <a:ext cx="4938840" cy="22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2240" y="1816200"/>
                    <a:ext cx="4938840" cy="22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Picture 12" descr="prir644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159" name="Voennye_pesni_-_Vstavaj_strana_ogromnaya_vstavaj_na_smertnyj_boj_(xMusic.me)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circl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2" descr="prir644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http://img-fotki.yandex.ru/get/6442/67700761.a1/0_9b770_57dcc7c9_orig.jpg"/>
          <p:cNvPicPr/>
          <p:nvPr/>
        </p:nvPicPr>
        <p:blipFill>
          <a:blip r:embed="rId2"/>
          <a:stretch/>
        </p:blipFill>
        <p:spPr>
          <a:xfrm>
            <a:off x="71280" y="47520"/>
            <a:ext cx="4535640" cy="3024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http://down-house.ru/uploads/posts/2009-01/1233053724_downhouse.info_9.jpg"/>
          <p:cNvPicPr/>
          <p:nvPr/>
        </p:nvPicPr>
        <p:blipFill>
          <a:blip r:embed="rId3"/>
          <a:stretch/>
        </p:blipFill>
        <p:spPr>
          <a:xfrm>
            <a:off x="142920" y="3143160"/>
            <a:ext cx="4429080" cy="278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img-fotki.yandex.ru/get/5700/viktor3951.bd/0_5ef01_c3ac9250_XL"/>
          <p:cNvPicPr/>
          <p:nvPr/>
        </p:nvPicPr>
        <p:blipFill>
          <a:blip r:embed="rId4"/>
          <a:stretch/>
        </p:blipFill>
        <p:spPr>
          <a:xfrm>
            <a:off x="4633920" y="71280"/>
            <a:ext cx="4510080" cy="300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http://etoretro.ru/data/media/343/1381239598525.jpg"/>
          <p:cNvPicPr/>
          <p:nvPr/>
        </p:nvPicPr>
        <p:blipFill>
          <a:blip r:embed="rId5"/>
          <a:stretch/>
        </p:blipFill>
        <p:spPr>
          <a:xfrm>
            <a:off x="4643280" y="3143160"/>
            <a:ext cx="4537080" cy="278604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circl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333360"/>
            <a:ext cx="40003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ндратенко Григорий Миронович,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921г.р. Воевал в танковых частях в звании Сержанта. В 1942г. в боях был ранен в голову, после госпиталя вернулся в строй разведчиком 222 стрелкового полка 49 стрелковой Рославльской дивизии 33 Армии 1 Белорусского фрон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prir644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C:\Users\User\Desktop\дедуля\кондратенко Григорий Миронович 001.jpg"/>
          <p:cNvPicPr/>
          <p:nvPr/>
        </p:nvPicPr>
        <p:blipFill>
          <a:blip r:embed="rId3"/>
          <a:stretch/>
        </p:blipFill>
        <p:spPr>
          <a:xfrm>
            <a:off x="4643280" y="428760"/>
            <a:ext cx="3929400" cy="5445000"/>
          </a:xfrm>
          <a:prstGeom prst="rect">
            <a:avLst/>
          </a:prstGeom>
          <a:ln w="0">
            <a:noFill/>
          </a:ln>
        </p:spPr>
      </p:pic>
    </p:spTree>
  </p:cSld>
  <p:transition spd="slow" advTm="44000"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3:42:23Z</dcterms:created>
  <dc:creator>larisa</dc:creator>
  <dc:description/>
  <dc:language>en-US</dc:language>
  <cp:lastModifiedBy>User</cp:lastModifiedBy>
  <dcterms:modified xsi:type="dcterms:W3CDTF">2017-01-12T09:10:01Z</dcterms:modified>
  <cp:revision>145</cp:revision>
  <dc:subject/>
  <dc:title>Слайд 1</dc:title>
</cp:coreProperties>
</file>