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09A-CC49-4ACE-A519-F8578D2E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815-310D-4871-AC30-1397B475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C65-24C8-41D0-8B4B-5527BBCA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992-9CA4-462E-9E25-C92AC113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11D3A-62AD-401D-8F53-E8D85CA3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7F9BF-BE35-4A73-AE5B-465E130D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D7152-66A6-4FC2-8E28-3DC8C71A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2168C-7947-4509-9C78-78CC5CF9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B8F14-B0AA-48EE-B301-B6340CB5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9D72D-5FC1-4EAC-8234-E1DF7741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0F158-04FF-4E0C-8325-BE7AC29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BC3-EE41-401F-A9BE-7ADA0044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E8DCC-D92E-4D2E-9554-487D3C45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432C0-D985-479C-BC92-9BE563B9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B30FF-7484-49E8-97E1-7C28EC63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9B216-627E-4909-A6D9-54CA5465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4E416-0D8F-4D27-9528-7732D8B4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5EC8C-B848-49C7-871E-0ACA27EE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614D-B0B2-4216-BABB-C2435EB5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A8F7-44DD-4E05-A25F-E0CEE4A8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68E2-BE98-424D-9E44-AC7394A3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AF6A8-C246-489C-991B-9057A13A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C20-6108-4DF2-9639-C19CA79B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58971-6757-40D1-AF88-DA760DCC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A983-56AE-4EE7-929D-4652855E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C24A-E0F7-4095-8AE2-3A3474CE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C5B7-A0EF-4B0B-B299-3A6EBA8D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F671-1DEA-43E6-A3F9-6F8DD0CE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8FAC4-7BFA-4ED1-AC80-67CA2A7D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3BC5-DA90-434B-B5F6-B1FFED7A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97A85-DC83-486A-9FA2-9ECA4791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76F923-19E9-45E0-ABC0-49A85170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C85EED-BD80-4EC4-8656-A34ECC5A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9C4-288E-4427-B65A-2A00DE62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C9C0F-2B68-49E2-BAE4-28D9987C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5D756-C580-4E4D-9C8B-D04579F0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0568A-2BCB-4065-B4B9-390BA7A2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A9259B-5E80-47F1-B8C1-32A8F576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8C605-1434-4E99-AF22-77C7C0C9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00C1A1-261A-4F83-B37D-3123BB8F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2AA4D-AB87-462E-9BD1-43379CCD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567D53-0CB0-4B7E-9040-06E2F531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89901-28EA-4021-A82C-BE5D32F1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02B24-5E5B-44C7-8A4D-0F2402B1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44D-9189-4344-91AA-BFA732B5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7B4B0-BEE0-43BD-BA62-24BD89F1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A607F-C088-4553-BC08-F16F82F9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9B31C-715F-46F8-82CD-44F05056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6F8A1-F4A6-4BF1-8B8D-EF53C659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AFA35-A9AE-40B8-96FA-9CF01EDC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7FF64-80A9-49E7-9A5B-804A5019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56A55-B6B9-4A34-9588-473138C9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606F20-A6CB-4F5B-A85E-78660685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30F46-D0C6-40FE-9E6B-9936E75E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5B443-827D-4F03-A719-A2A2AA09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DB5-86F5-46E1-9141-B013F4C6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F9E69-ABFD-4AB3-9535-CDFA9AB7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915E3-1B5E-413E-86D2-05BD7693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15657-7571-4134-B8D7-2567F463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34CCB-78E2-42B1-B4A4-8122D6A6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B5DE0F-409B-454E-ABFE-BF7CF6F5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5720A-433D-4D31-AFB2-6E390945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9699A-1485-4359-872A-6DBBD9E9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AB29D-8160-48A4-A014-8BE13352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B0BC0-C58B-4B8E-A7B6-F7952799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FAB22-EBC8-4A26-A6F9-5A5FC1B4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33F-5ED1-4F5B-A45D-BB9AFFCF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75F01-7F20-4E5F-86C0-EBCC93E0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16852-4ACD-4D93-A1BB-B7AB8945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AD659-77C8-463D-80B4-65BE2EBF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577-1773-456D-B640-4B101131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584-3B89-412E-ABCC-50C713C0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8C4D-773C-440E-813E-E1886D225354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8DB9-4466-4403-9FBE-458E70A7E7E8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BC53-4BE9-4748-AB16-75E4D77D7F49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BD5C-670C-43E8-8F2F-3545D73D08E2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0D57-3978-4AB8-915E-DB33632984D8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2BD5-423F-4958-9FB5-F7C73285CB92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f5f9"/>
                </a:solidFill>
                <a:latin typeface="Constantia"/>
              </a:rPr>
              <a:t>Золотой век русской литературы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onstantia"/>
              </a:rPr>
              <a:t>Урок литературы в 8 класс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onstantia"/>
              </a:rPr>
              <a:t>Кутергина С.П., 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onstantia"/>
              </a:rPr>
              <a:t>КОГОБУ ШИ ОВЗ №1 г. Нолинска Кировской област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-96840" y="-6480"/>
            <a:ext cx="940608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Фёдор Иванович Тютче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ениальный лирик – филосо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этический метод Тютчева - тождество внешнего и внутреннего в природе и человек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Содержимое 5" descr="Тютчев.jpeg"/>
          <p:cNvPicPr/>
          <p:nvPr/>
        </p:nvPicPr>
        <p:blipFill>
          <a:blip r:embed="rId2"/>
          <a:stretch/>
        </p:blipFill>
        <p:spPr>
          <a:xfrm>
            <a:off x="733320" y="1600200"/>
            <a:ext cx="3506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арождение реализм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иколай Алексеевич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екрас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ем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од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одной жизни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невольного труд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одной сил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Некрасов Н.А.jpeg"/>
          <p:cNvPicPr/>
          <p:nvPr/>
        </p:nvPicPr>
        <p:blipFill>
          <a:blip r:embed="rId2"/>
          <a:stretch/>
        </p:blipFill>
        <p:spPr>
          <a:xfrm>
            <a:off x="4876920" y="1600200"/>
            <a:ext cx="35812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6840" y="15238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Афанасий       Афанасьевич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ФЕ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едставитель «чистого искусства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увства, эмоции челове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вуки, краски, ароматы природ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Содержимое 5" descr="Фет А.А.jpeg"/>
          <p:cNvPicPr/>
          <p:nvPr/>
        </p:nvPicPr>
        <p:blipFill>
          <a:blip r:embed="rId2"/>
          <a:stretch/>
        </p:blipFill>
        <p:spPr>
          <a:xfrm>
            <a:off x="4956120" y="1523880"/>
            <a:ext cx="35784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7" name="Содержимое 4" descr="Полонский.jpeg"/>
          <p:cNvPicPr/>
          <p:nvPr/>
        </p:nvPicPr>
        <p:blipFill>
          <a:blip r:embed="rId2"/>
          <a:stretch/>
        </p:blipFill>
        <p:spPr>
          <a:xfrm>
            <a:off x="655560" y="152388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Я́ков Петро́вич         Поло́нский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усский поэт и   прозаик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онкий лири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поэзии – мечта о светлой любви, о простом счасть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90" name="Содержимое 4" descr="А.К.Толстой.jpg"/>
          <p:cNvPicPr/>
          <p:nvPr/>
        </p:nvPicPr>
        <p:blipFill>
          <a:blip r:embed="rId2"/>
          <a:stretch/>
        </p:blipFill>
        <p:spPr>
          <a:xfrm>
            <a:off x="420840" y="1523880"/>
            <a:ext cx="4062240" cy="4496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Граф Алексе́й Константи́нович    Толсто́й –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сский писатель, поэт, драматург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лен-корреспондент Петербургской Академии наук (1873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вные темы поэзии – природа и любов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82425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560" y="15238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Василий Андреевич Жуковский Жуковск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нутренняя, духовная жизн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лубоко нравственная поэз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Константин Николаевич Батюшк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деальное бытие в зримых образах, в реальных краска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Иван Андреевич Крыл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Философско-историческое и нравственное содержание басе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атенин Павел Александрович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т-романтик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ражданского теч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исал о судьбах Отечеств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 героя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раматург, крит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ставной полковник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ейб-гвард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ображенского полк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Содержимое 3" descr="Катенин П.А..jpg"/>
          <p:cNvPicPr/>
          <p:nvPr/>
        </p:nvPicPr>
        <p:blipFill>
          <a:blip r:embed="rId2"/>
          <a:stretch/>
        </p:blipFill>
        <p:spPr>
          <a:xfrm>
            <a:off x="5410080" y="2057400"/>
            <a:ext cx="3203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сский поэт, писатель и общественный деятель, друг и одноклассник Пушкина по Царскосельскому лицею, декабрис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щность романтическ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зии сильном, свободном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дохновенном изложен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, чувств самого авто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Заголовок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3" descr="Кюхельбеккер В.К..jpeg"/>
          <p:cNvPicPr/>
          <p:nvPr/>
        </p:nvPicPr>
        <p:blipFill>
          <a:blip r:embed="rId2"/>
          <a:srcRect l="2715" t="0" r="0" b="10506"/>
          <a:stretch/>
        </p:blipFill>
        <p:spPr>
          <a:xfrm>
            <a:off x="5486400" y="2743200"/>
            <a:ext cx="29624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Александр Сергеевич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Пушкин -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отец» современног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усского литературного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язык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поэзии Пушкин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ражены национа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жизнь, национальный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арактер  русского народ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Пушкин.jpg"/>
          <p:cNvPicPr/>
          <p:nvPr/>
        </p:nvPicPr>
        <p:blipFill>
          <a:blip r:embed="rId2"/>
          <a:stretch/>
        </p:blipFill>
        <p:spPr>
          <a:xfrm>
            <a:off x="5029200" y="1600200"/>
            <a:ext cx="3435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0948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.М.Языко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–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сский поэ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похи романтизма, оди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 ярких представителе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олотого века русско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зии, называвший себ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поэтом радости и хмеля»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 также «поэтом разгула 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вободы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оэзии – наслажд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одостью и здоровье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792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Языков Н.М..jpg"/>
          <p:cNvPicPr/>
          <p:nvPr/>
        </p:nvPicPr>
        <p:blipFill>
          <a:blip r:embed="rId2"/>
          <a:stretch/>
        </p:blipFill>
        <p:spPr>
          <a:xfrm>
            <a:off x="5105520" y="1447920"/>
            <a:ext cx="35049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.А.Вяземский – князь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усский поэт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итературный критик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орик, переводчик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ублицист, мемуарист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осударственный деятел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снователь и первый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едседатель Русского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орического обществ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лизкий друг А. С. Пушкина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Вяземский П.А..jpeg"/>
          <p:cNvPicPr/>
          <p:nvPr/>
        </p:nvPicPr>
        <p:blipFill>
          <a:blip r:embed="rId2"/>
          <a:stretch/>
        </p:blipFill>
        <p:spPr>
          <a:xfrm>
            <a:off x="380880" y="1447920"/>
            <a:ext cx="385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Михаил Юрьевич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Лермонт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поэзии – нравственны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просы о судьбе 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авах лич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оэт-бунтар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" descr="Лермонтов.jpg"/>
          <p:cNvPicPr/>
          <p:nvPr/>
        </p:nvPicPr>
        <p:blipFill>
          <a:blip r:embed="rId2"/>
          <a:stretch/>
        </p:blipFill>
        <p:spPr>
          <a:xfrm>
            <a:off x="4952880" y="1600200"/>
            <a:ext cx="3483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04560" y="15238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илософская лири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ты-»любомудры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Евге́ний Абра́мович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Бараты́нский –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дин из самых значительных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сских поэт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вой половины XIX ве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.В.Веневитин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.П.Шевырё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.С.Хомяк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3" descr="Баратынский.jpeg"/>
          <p:cNvPicPr/>
          <p:nvPr/>
        </p:nvPicPr>
        <p:blipFill>
          <a:blip r:embed="rId2"/>
          <a:stretch/>
        </p:blipFill>
        <p:spPr>
          <a:xfrm>
            <a:off x="4876920" y="2133720"/>
            <a:ext cx="3903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7-01-13T15:55:31Z</dcterms:modified>
  <cp:revision>9</cp:revision>
  <dc:subject/>
  <dc:title>Поэзия 19 века</dc:title>
</cp:coreProperties>
</file>