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2FF7-6C87-45C3-A693-6F08BF42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6DE-F7F1-4D97-B468-E155DC30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E022-C39E-4EBB-8AC2-EC930600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4EF2-E2A0-4B91-B51D-8B6969DA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AAA10-925E-47FB-A799-0E7E43A6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3C9D1-6E30-464E-AC19-D22E2F37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37922-ABDA-4A7E-B6DA-FA2A2BF0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0473D-0760-4154-825A-6FCA72F9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97884-9823-46DE-B7E2-EC6D75FF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AA2221-8A71-4F6C-B150-778A7BD6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4CFFE-F81D-41B0-8CA6-BDBFAA5C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3D0-7137-4225-BB30-AA2007C2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0DFD2-D5B2-4F31-8204-0C3272B2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79BBE-E171-4224-87FD-3543127A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E2603-E8C1-4F4E-BB46-68510F1D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42A3F-4C93-49F5-9F24-E9BAE67A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DA958-9405-4ACD-8334-110AE44A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43798-3142-40CB-8F58-D7D395BB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B69B6-6056-4BF7-8686-D1EC6BF7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954E9-E947-4CBD-8B90-C02D46BD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43AE4-26AC-4446-9EAE-358BCF87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3994C-FCDB-4A9E-9F9D-3CD22D6F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078-7AA0-462C-A330-7E980697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BF60F-7377-4054-A9CC-0A6D8421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5F957-FFE7-422E-B5A4-E29B6679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FC4B7-00E8-40B6-86D6-2BE1846F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C9F4E-496E-4927-A4C5-06203538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8A509-571F-41A5-A9C1-6152D7BB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74F2B-E403-4F32-A80B-0A8B384C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BBCA8-8DA2-4E1A-B3E8-3D1FC13CF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87D37C-458F-4DB3-9D0B-8FC690FE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6B500A-A2DE-4858-9E0A-647050A1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F5A49C-DFCD-44F1-A725-6E46FD67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964-A26C-4F9F-B239-582DC7347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77A2FB-6A67-4B17-A874-998E679B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945BBD-3E3F-495D-9E55-86762B4D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27E09A-676A-45F8-B583-3C8AB332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D6D7B2-F6C6-4D27-A899-71BAC6C5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EDCC36-93CA-46F4-BB8A-6573E4EA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45EB33-50DF-42BB-92D5-4042DD50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FE3F46-1236-4D9C-9432-B47DE529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B5FB1B-A270-49C6-9030-F4B9AFE7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183F04-BEB1-444B-97F4-107118E2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46D7E-6185-4F09-A851-EC6ED526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A9F-6910-4A6A-A670-CFC71D4C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2960F-3B69-4892-9CCD-0AFF6037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F19A62-EACF-48A0-93BD-AE2AAC16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346869-08F1-4842-A56D-8BB754A6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CD4C4-39F7-49D4-8EA7-A8F8E6FE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FF8DDA-B09B-47D0-87B2-A11B61B6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6AF957-0AA7-4D6C-B4F7-89895F61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7AB52-04E2-455D-AB36-5EDBC6563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71AF95-F68B-43BC-B9CC-DF4B0A11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4B8FEC-5715-4871-A4CE-5D6E93ED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201376-4859-4985-8FC3-24AE7A1B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7C6-27FD-402D-99F6-A70C39B8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2C065-68DF-4CC7-98CD-63A38A68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2092E6-9CAF-4EF9-801E-B0BF1FD2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6766BB-9EEC-4912-8AAE-4650034C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099634-2488-4836-A662-9A5FBEBA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A3773A-1FE8-47D7-AB6B-188BA2B2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6DDAC5-6405-440E-B94D-285293A9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A8E87C-5099-40E0-AB87-354A5325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D56C6A-A351-4E67-8145-19DD54B8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94133C-A819-4241-935D-438775F8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B328EF-41F3-4B27-A877-848270CC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F6C9-A91A-4D36-9F4B-46F483AE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D2760-D64A-482A-9B00-1B740EED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A74624-8194-4EE4-8B19-58E3553E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21DE4D-1DC6-4EED-8AE4-0DBED36B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83F-9B49-4F44-AF64-F1134199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0BE9-801E-4FCC-A53D-ECB66BF0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7915-FC64-49F5-A41C-F9AF5BEBB7BC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009dd9"/>
          </a:solidFill>
          <a:ln w="38160">
            <a:solidFill>
              <a:srgbClr val="009dd9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93B8-82B3-4B1A-BA2A-95E16D0A8F06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6C71-8875-43B2-8826-1FFC49F7AD99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7ea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732B-FE5A-45A1-8E8E-E116B97059FB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B833-CB07-44AF-8432-4838D4B8FB57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00729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008a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F739-48B6-4015-B6BE-1DD0B367276E}" type="slidenum">
              <a:rPr b="0" lang="en-US" sz="1600" spc="-1" strike="noStrike">
                <a:solidFill>
                  <a:srgbClr val="dbf5f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440"/>
            <a:ext cx="8305920" cy="25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bf5f9"/>
                </a:solidFill>
                <a:latin typeface="Constantia"/>
              </a:rPr>
              <a:t>Золотой век русской литературы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bf5f9"/>
                </a:solidFill>
                <a:latin typeface="Constantia"/>
              </a:rPr>
              <a:t>Урок литературы в 8 класс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onstantia"/>
              </a:rPr>
              <a:t>Кутергина С.П., учитель русского языка и литературы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f5f9"/>
                </a:solidFill>
                <a:latin typeface="Constantia"/>
              </a:rPr>
              <a:t>КОГОБУ ШИ ОВЗ №1 г. Нолинска Кировской области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-96840" y="-6480"/>
            <a:ext cx="940608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Фёдор Иванович Тютче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Гениальный лирик – философ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этический метод Тютчева - тождество внешнего и внутреннего в природе и человеке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9" name="Содержимое 5" descr="Тютчев.jpeg"/>
          <p:cNvPicPr/>
          <p:nvPr/>
        </p:nvPicPr>
        <p:blipFill>
          <a:blip r:embed="rId2"/>
          <a:stretch/>
        </p:blipFill>
        <p:spPr>
          <a:xfrm>
            <a:off x="733320" y="1600200"/>
            <a:ext cx="3506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Зарождение реализм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Николай Алексеевич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        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Некрасо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        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Тем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ода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одной жизни,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одневольного труда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народной сил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1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4" descr="Некрасов Н.А.jpeg"/>
          <p:cNvPicPr/>
          <p:nvPr/>
        </p:nvPicPr>
        <p:blipFill>
          <a:blip r:embed="rId2"/>
          <a:stretch/>
        </p:blipFill>
        <p:spPr>
          <a:xfrm>
            <a:off x="4876920" y="1600200"/>
            <a:ext cx="358128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456840" y="152388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Афанасий       Афанасьевич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         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ФЕТ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едставитель «чистого искусства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Чувства, эмоции человек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Звуки, краски, ароматы природы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5" name="Содержимое 5" descr="Фет А.А.jpeg"/>
          <p:cNvPicPr/>
          <p:nvPr/>
        </p:nvPicPr>
        <p:blipFill>
          <a:blip r:embed="rId2"/>
          <a:stretch/>
        </p:blipFill>
        <p:spPr>
          <a:xfrm>
            <a:off x="4956120" y="1523880"/>
            <a:ext cx="35784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87" name="Содержимое 4" descr="Полонский.jpeg"/>
          <p:cNvPicPr/>
          <p:nvPr/>
        </p:nvPicPr>
        <p:blipFill>
          <a:blip r:embed="rId2"/>
          <a:stretch/>
        </p:blipFill>
        <p:spPr>
          <a:xfrm>
            <a:off x="655560" y="152388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Я́ков Петро́вич         Поло́нский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–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усский поэт и   прозаик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Тонкий лирик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поэзии – мечта о светлой любви, о простом счастье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90" name="Содержимое 4" descr="А.К.Толстой.jpg"/>
          <p:cNvPicPr/>
          <p:nvPr/>
        </p:nvPicPr>
        <p:blipFill>
          <a:blip r:embed="rId2"/>
          <a:stretch/>
        </p:blipFill>
        <p:spPr>
          <a:xfrm>
            <a:off x="420840" y="1523880"/>
            <a:ext cx="4062240" cy="44960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Граф Алексе́й Константи́нович    Толсто́й –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усский писатель, поэт, драматург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лен-корреспондент Петербургской Академии наук (1873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лавные темы поэзии – природа и любов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Заголовок 1" descr=""/>
          <p:cNvPicPr/>
          <p:nvPr/>
        </p:nvPicPr>
        <p:blipFill>
          <a:blip r:embed="rId1"/>
          <a:stretch/>
        </p:blipFill>
        <p:spPr>
          <a:xfrm>
            <a:off x="450720" y="755640"/>
            <a:ext cx="82425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560" y="15238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Василий Андреевич Жуковский Жуковски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нутренняя, духовная жизн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Глубоко нравственная поэз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Константин Николаевич Батюшко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деальное бытие в зримых образах, в реальных красках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Иван Андреевич Крыло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Философско-историческое и нравственное содержание басен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атенин Павел Александрович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эт-романтик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гражданского теч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исал о судьбах Отечества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 героя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раматург, крит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тставной полковник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ейб-гвардии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еображенского полка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Содержимое 3" descr="Катенин П.А..jpg"/>
          <p:cNvPicPr/>
          <p:nvPr/>
        </p:nvPicPr>
        <p:blipFill>
          <a:blip r:embed="rId2"/>
          <a:stretch/>
        </p:blipFill>
        <p:spPr>
          <a:xfrm>
            <a:off x="5410080" y="2057400"/>
            <a:ext cx="32036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усский поэт, писатель и общественный деятель, друг и одноклассник Пушкина по Царскосельскому лицею, декабрис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ущность романтической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эзии сильном, свободном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дохновенном изложении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зиции , чувств самого автор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Заголовок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2704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3" descr="Кюхельбеккер В.К..jpeg"/>
          <p:cNvPicPr/>
          <p:nvPr/>
        </p:nvPicPr>
        <p:blipFill>
          <a:blip r:embed="rId2"/>
          <a:srcRect l="2715" t="0" r="0" b="10506"/>
          <a:stretch/>
        </p:blipFill>
        <p:spPr>
          <a:xfrm>
            <a:off x="5486400" y="2743200"/>
            <a:ext cx="29624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Александр Сергеевич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           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Пушкин -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«отец» современного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усского литературного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язык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поэзии Пушкин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ыражены национальная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жизнь, национальный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характер  русского народ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3" descr="Пушкин.jpg"/>
          <p:cNvPicPr/>
          <p:nvPr/>
        </p:nvPicPr>
        <p:blipFill>
          <a:blip r:embed="rId2"/>
          <a:stretch/>
        </p:blipFill>
        <p:spPr>
          <a:xfrm>
            <a:off x="5029200" y="1600200"/>
            <a:ext cx="34354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60948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Н.М.Языков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–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усский поэ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похи романтизма, один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з ярких представителей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олотого века русской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эзии, называвший себя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поэтом радости и хмеля»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 также «поэтом разгула и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вободы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поэзии – наслаждение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олодостью и здоровье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6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07928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3" descr="Языков Н.М..jpg"/>
          <p:cNvPicPr/>
          <p:nvPr/>
        </p:nvPicPr>
        <p:blipFill>
          <a:blip r:embed="rId2"/>
          <a:stretch/>
        </p:blipFill>
        <p:spPr>
          <a:xfrm>
            <a:off x="5105520" y="1447920"/>
            <a:ext cx="35049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6840" y="12193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.А.Вяземский – князь,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русский поэт,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литературный критик,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орик, переводчик,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ублицист, мемуарист,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государственный деятель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Основатель и первый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редседатель Русского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сторического общества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Близкий друг А. С. Пушкина;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9" name="Заголовок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70" name="Рисунок 4" descr="Вяземский П.А..jpeg"/>
          <p:cNvPicPr/>
          <p:nvPr/>
        </p:nvPicPr>
        <p:blipFill>
          <a:blip r:embed="rId2"/>
          <a:stretch/>
        </p:blipFill>
        <p:spPr>
          <a:xfrm>
            <a:off x="380880" y="1447920"/>
            <a:ext cx="385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Михаил Юрьевич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Лермонтов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 поэзии – нравственные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опросы о судьбе 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равах личност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оэт-бунтар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3" descr="Лермонтов.jpg"/>
          <p:cNvPicPr/>
          <p:nvPr/>
        </p:nvPicPr>
        <p:blipFill>
          <a:blip r:embed="rId2"/>
          <a:stretch/>
        </p:blipFill>
        <p:spPr>
          <a:xfrm>
            <a:off x="4952880" y="1600200"/>
            <a:ext cx="3483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04560" y="15238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Философская лирик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эты-»любомудры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Евге́ний Абра́мович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        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Бараты́нский –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дин из самых значительных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русских поэт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вой половины XIX век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.В.Веневитин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.П.Шевырё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А.С.Хомяков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3" descr="Баратынский.jpeg"/>
          <p:cNvPicPr/>
          <p:nvPr/>
        </p:nvPicPr>
        <p:blipFill>
          <a:blip r:embed="rId2"/>
          <a:stretch/>
        </p:blipFill>
        <p:spPr>
          <a:xfrm>
            <a:off x="4876920" y="2133720"/>
            <a:ext cx="3903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7-01-13T15:55:31Z</dcterms:modified>
  <cp:revision>9</cp:revision>
  <dc:subject/>
  <dc:title>Поэзия 19 века</dc:title>
</cp:coreProperties>
</file>