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A9B-4FE1-40C2-BB8E-35D7A6E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2E4B-2A58-4CA6-89FA-8CB01963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6F9-5889-46C2-B499-20ECDDC5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A78-7E9D-42B9-BA56-41ED58CFA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4B8-F434-480A-8BD9-256781C9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0334-A1CF-4EBA-8F66-B9198085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03C-08F5-484D-8BE3-FDE316C6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2E7-3EB9-4C02-B11B-4F2A0CEE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700-5257-4DB1-B90D-E935CA86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3384-1E99-454C-A6C6-0158E559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541-CC4D-4330-81F0-B993E3A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172-8FE9-4B41-AF00-5622020D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0B2B-A721-44A8-8B34-FDA872DF81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9" descr="1"/>
          <p:cNvPicPr/>
          <p:nvPr/>
        </p:nvPicPr>
        <p:blipFill>
          <a:blip r:embed="rId1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5157720"/>
            <a:ext cx="884088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Масленица - самый весёлый, шумный народный праздник.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Масленицу — празднуют в течение недели, предшествующей Великому посту. Каждый день Масленой недели имеет своё наз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Б"/>
          <p:cNvPicPr/>
          <p:nvPr/>
        </p:nvPicPr>
        <p:blipFill>
          <a:blip r:embed="rId1"/>
          <a:stretch/>
        </p:blipFill>
        <p:spPr>
          <a:xfrm>
            <a:off x="1835280" y="549360"/>
            <a:ext cx="61214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untit33led"/>
          <p:cNvPicPr/>
          <p:nvPr/>
        </p:nvPicPr>
        <p:blipFill>
          <a:blip r:embed="rId1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untitl33ed"/>
          <p:cNvPicPr/>
          <p:nvPr/>
        </p:nvPicPr>
        <p:blipFill>
          <a:blip r:embed="rId2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48" name="WordArt 8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4716360" y="515772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Ходили друг другу в г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a1746bf319d9"/>
          <p:cNvPicPr/>
          <p:nvPr/>
        </p:nvPicPr>
        <p:blipFill>
          <a:blip r:embed="rId1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6" name="Picture 5" descr="un3titled"/>
          <p:cNvPicPr/>
          <p:nvPr/>
        </p:nvPicPr>
        <p:blipFill>
          <a:blip r:embed="rId1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9" name="Picture 5" descr="4"/>
          <p:cNvPicPr/>
          <p:nvPr/>
        </p:nvPicPr>
        <p:blipFill>
          <a:blip r:embed="rId1"/>
          <a:stretch/>
        </p:blipFill>
        <p:spPr>
          <a:xfrm>
            <a:off x="395280" y="1052640"/>
            <a:ext cx="3267000" cy="4319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4140360" y="1916280"/>
            <a:ext cx="45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чинали колядовать, ходили по дворам, поздравляли хозяев, водили хороводы, пели частуш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Picture 6" descr="8267c4bd46bd"/>
          <p:cNvPicPr/>
          <p:nvPr/>
        </p:nvPicPr>
        <p:blipFill>
          <a:blip r:embed="rId1"/>
          <a:stretch/>
        </p:blipFill>
        <p:spPr>
          <a:xfrm>
            <a:off x="1563840" y="1773360"/>
            <a:ext cx="5384520" cy="3479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77bf1f7a431d"/>
          <p:cNvPicPr/>
          <p:nvPr/>
        </p:nvPicPr>
        <p:blipFill>
          <a:blip r:embed="rId2"/>
          <a:stretch/>
        </p:blipFill>
        <p:spPr>
          <a:xfrm>
            <a:off x="4484520" y="3508200"/>
            <a:ext cx="694080" cy="11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блины"/>
          <p:cNvPicPr/>
          <p:nvPr/>
        </p:nvPicPr>
        <p:blipFill>
          <a:blip r:embed="rId3"/>
          <a:stretch/>
        </p:blipFill>
        <p:spPr>
          <a:xfrm>
            <a:off x="3132000" y="3741840"/>
            <a:ext cx="1241640" cy="931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a01d742f3463"/>
          <p:cNvPicPr/>
          <p:nvPr/>
        </p:nvPicPr>
        <p:blipFill>
          <a:blip r:embed="rId4"/>
          <a:stretch/>
        </p:blipFill>
        <p:spPr>
          <a:xfrm>
            <a:off x="3495600" y="1889280"/>
            <a:ext cx="121932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a2f37f6a334b"/>
          <p:cNvPicPr/>
          <p:nvPr/>
        </p:nvPicPr>
        <p:blipFill>
          <a:blip r:embed="rId5"/>
          <a:stretch/>
        </p:blipFill>
        <p:spPr>
          <a:xfrm>
            <a:off x="3679920" y="2662200"/>
            <a:ext cx="1150920" cy="9288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468360" y="55339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  <a:ea typeface="Times New Roman"/>
              </a:rPr>
              <a:t>В этот день зять едет к тёще на блин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5760" y="455436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Молодая невестка приглашала своих родных к себе. Родственники собирались на чаепитие с блинами, пели песни, озорные частушки, танцевали золовкины посиделки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435400" y="1073160"/>
            <a:ext cx="426852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Просили друг у друга пр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3" name="Picture 5" descr="5"/>
          <p:cNvPicPr/>
          <p:nvPr/>
        </p:nvPicPr>
        <p:blipFill>
          <a:blip r:embed="rId1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ьии</cp:lastModifiedBy>
  <dcterms:modified xsi:type="dcterms:W3CDTF">2016-03-13T16:43:43Z</dcterms:modified>
  <cp:revision>20</cp:revision>
  <dc:subject/>
  <dc:title>Слайд 1</dc:title>
</cp:coreProperties>
</file>