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E9F-0D62-4AE1-B416-15CB0868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819-B7C5-483B-9D45-E625427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8A1-6010-45B8-B96A-2A4A72EA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ED2-98B7-4C2D-85F4-9A70AA6F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5CE-EAE9-4A09-A225-91641F5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B33-25A8-4928-9B92-B9E441E4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58B-6888-49E5-9165-E1778949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32B-CE5B-4FCA-BC5D-273EF46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531-FF7E-48E1-9B75-12B34AE3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2F5-D68D-4A7D-8DB6-43DA3600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769-338E-4D73-98F7-913B888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8BB-B912-4D28-8A16-A4A9713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37D-0F2F-454F-A82B-64ED56574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88408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сленица - самый весёлый, шумный народный праздник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сленицу — празднуют в течение недели, предшествующей Великому посту. Каждый день Масленой недели имеет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Б"/>
          <p:cNvPicPr/>
          <p:nvPr/>
        </p:nvPicPr>
        <p:blipFill>
          <a:blip r:embed="rId1"/>
          <a:stretch/>
        </p:blipFill>
        <p:spPr>
          <a:xfrm>
            <a:off x="1835280" y="549360"/>
            <a:ext cx="6121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untit33led"/>
          <p:cNvPicPr/>
          <p:nvPr/>
        </p:nvPicPr>
        <p:blipFill>
          <a:blip r:embed="rId1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untitl33ed"/>
          <p:cNvPicPr/>
          <p:nvPr/>
        </p:nvPicPr>
        <p:blipFill>
          <a:blip r:embed="rId2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716360" y="51577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Ходили друг другу в 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a1746bf319d9"/>
          <p:cNvPicPr/>
          <p:nvPr/>
        </p:nvPicPr>
        <p:blipFill>
          <a:blip r:embed="rId1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6" name="Picture 5" descr="un3titled"/>
          <p:cNvPicPr/>
          <p:nvPr/>
        </p:nvPicPr>
        <p:blipFill>
          <a:blip r:embed="rId1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9" name="Picture 5" descr="4"/>
          <p:cNvPicPr/>
          <p:nvPr/>
        </p:nvPicPr>
        <p:blipFill>
          <a:blip r:embed="rId1"/>
          <a:stretch/>
        </p:blipFill>
        <p:spPr>
          <a:xfrm>
            <a:off x="395280" y="1052640"/>
            <a:ext cx="3267000" cy="431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140360" y="19162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чинали колядовать, ходили по дворам, поздравляли хозяев, водили хороводы, пели част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Picture 6" descr="8267c4bd46bd"/>
          <p:cNvPicPr/>
          <p:nvPr/>
        </p:nvPicPr>
        <p:blipFill>
          <a:blip r:embed="rId1"/>
          <a:stretch/>
        </p:blipFill>
        <p:spPr>
          <a:xfrm>
            <a:off x="1563840" y="1773360"/>
            <a:ext cx="5384520" cy="347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77bf1f7a431d"/>
          <p:cNvPicPr/>
          <p:nvPr/>
        </p:nvPicPr>
        <p:blipFill>
          <a:blip r:embed="rId2"/>
          <a:stretch/>
        </p:blipFill>
        <p:spPr>
          <a:xfrm>
            <a:off x="4484520" y="3508200"/>
            <a:ext cx="694080" cy="11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блины"/>
          <p:cNvPicPr/>
          <p:nvPr/>
        </p:nvPicPr>
        <p:blipFill>
          <a:blip r:embed="rId3"/>
          <a:stretch/>
        </p:blipFill>
        <p:spPr>
          <a:xfrm>
            <a:off x="3132000" y="3741840"/>
            <a:ext cx="1241640" cy="93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01d742f3463"/>
          <p:cNvPicPr/>
          <p:nvPr/>
        </p:nvPicPr>
        <p:blipFill>
          <a:blip r:embed="rId4"/>
          <a:stretch/>
        </p:blipFill>
        <p:spPr>
          <a:xfrm>
            <a:off x="3495600" y="1889280"/>
            <a:ext cx="121932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a2f37f6a334b"/>
          <p:cNvPicPr/>
          <p:nvPr/>
        </p:nvPicPr>
        <p:blipFill>
          <a:blip r:embed="rId5"/>
          <a:stretch/>
        </p:blipFill>
        <p:spPr>
          <a:xfrm>
            <a:off x="3679920" y="2662200"/>
            <a:ext cx="1150920" cy="928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468360" y="55339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В этот день зять едет к тёще на блин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5760" y="4554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олодая невестка приглашала своих родных к себе. Родственники собирались на чаепитие с блинами, пели песни, озорные частушки, танцевали золовкины посиделк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435400" y="1073160"/>
            <a:ext cx="42685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Просили друг у друга пр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3" name="Picture 5" descr="5"/>
          <p:cNvPicPr/>
          <p:nvPr/>
        </p:nvPicPr>
        <p:blipFill>
          <a:blip r:embed="rId1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ьии</cp:lastModifiedBy>
  <dcterms:modified xsi:type="dcterms:W3CDTF">2016-03-13T16:43:43Z</dcterms:modified>
  <cp:revision>20</cp:revision>
  <dc:subject/>
  <dc:title>Слайд 1</dc:title>
</cp:coreProperties>
</file>