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7.jpeg" ContentType="image/jpeg"/>
  <Override PartName="/ppt/media/image17.gif" ContentType="image/gif"/>
  <Override PartName="/ppt/media/image26.gif" ContentType="image/gif"/>
  <Override PartName="/ppt/media/image4.jpeg" ContentType="image/jpeg"/>
  <Override PartName="/ppt/media/image25.jpeg" ContentType="image/jpeg"/>
  <Override PartName="/ppt/media/image13.gif" ContentType="image/gif"/>
  <Override PartName="/ppt/media/image11.gif" ContentType="image/gif"/>
  <Override PartName="/ppt/media/image24.jpeg" ContentType="image/jpeg"/>
  <Override PartName="/ppt/media/image3.jpeg" ContentType="image/jpeg"/>
  <Override PartName="/ppt/media/image12.gif" ContentType="image/gif"/>
  <Override PartName="/ppt/media/image30.jpeg" ContentType="image/jpeg"/>
  <Override PartName="/ppt/media/image31.gif" ContentType="image/gif"/>
  <Override PartName="/ppt/media/image32.gif" ContentType="image/gif"/>
  <Override PartName="/ppt/media/image8.png" ContentType="image/png"/>
  <Override PartName="/ppt/media/image33.gif" ContentType="image/gif"/>
  <Override PartName="/ppt/media/image10.gif" ContentType="image/gif"/>
  <Override PartName="/ppt/media/image34.gif" ContentType="image/gif"/>
  <Override PartName="/ppt/media/image6.gif" ContentType="image/gif"/>
  <Override PartName="/ppt/media/image2.wmf" ContentType="image/x-wmf"/>
  <Override PartName="/ppt/media/image1.jpeg" ContentType="image/jpeg"/>
  <Override PartName="/ppt/media/image9.png" ContentType="image/png"/>
  <Override PartName="/ppt/media/image22.jpeg" ContentType="image/jpeg"/>
  <Override PartName="/ppt/media/image14.gif" ContentType="image/gif"/>
  <Override PartName="/ppt/media/image5.jpeg" ContentType="image/jpeg"/>
  <Override PartName="/ppt/media/image15.gif" ContentType="image/gif"/>
  <Override PartName="/ppt/media/image28.jpeg" ContentType="image/jpeg"/>
  <Override PartName="/ppt/media/image16.gif" ContentType="image/gif"/>
  <Override PartName="/ppt/media/image18.gif" ContentType="image/gif"/>
  <Override PartName="/ppt/media/image20.gif" ContentType="image/gif"/>
  <Override PartName="/ppt/media/image19.gif" ContentType="image/gif"/>
  <Override PartName="/ppt/media/image21.gif" ContentType="image/gif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3241-E8CA-40DA-8546-8031AF03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5DB4-38D8-4AC9-B785-6DE30EF1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270-DEB2-4248-9D15-F243C964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E32-C2E4-4998-BD1E-24BC5C74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A558-8843-4E9C-A7E5-C3B41A26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643-5C2F-42EB-BEE0-20DD5D6C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D9B1-07B2-4CF5-8656-37303411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33C-0698-4F69-8A2D-63233ACD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96CC-441C-449B-B671-938D07EF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3184-2627-435D-93C0-000DC17B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7BF-DEA7-49CF-B08E-3C338234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90D-29D3-401B-BC1F-646A09FE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2EA5-A133-4467-A0BD-AA9DD56E39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gif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gi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56908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Felix Titling"/>
              </a:rPr>
              <a:t>Простое </a:t>
            </a:r>
            <a:br>
              <a:rPr sz="6000"/>
            </a:br>
            <a:r>
              <a:rPr b="1" lang="ru-RU" sz="6000" spc="-1" strike="noStrike">
                <a:solidFill>
                  <a:srgbClr val="0000ff"/>
                </a:solidFill>
                <a:latin typeface="Felix Titling"/>
              </a:rPr>
              <a:t>настоящее время</a:t>
            </a:r>
            <a:br>
              <a:rPr sz="6000"/>
            </a:br>
            <a:r>
              <a:rPr b="1" lang="en-US" sz="6000" spc="-1" strike="noStrike">
                <a:solidFill>
                  <a:srgbClr val="0000ff"/>
                </a:solidFill>
                <a:latin typeface="Felix Titling"/>
              </a:rPr>
              <a:t>(Present Simple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elix Titling"/>
              </a:rPr>
              <a:t>Методическая разработка к уроку английского языка </a:t>
            </a:r>
            <a:r>
              <a:rPr b="1" lang="en-US" sz="2400" spc="-1" strike="noStrike">
                <a:solidFill>
                  <a:srgbClr val="000000"/>
                </a:solidFill>
                <a:latin typeface="Felix Titling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Felix Titling"/>
              </a:rPr>
              <a:t>повторение</a:t>
            </a:r>
            <a:r>
              <a:rPr b="1" lang="en-US" sz="2400" spc="-1" strike="noStrike">
                <a:solidFill>
                  <a:srgbClr val="000000"/>
                </a:solidFill>
                <a:latin typeface="Felix Titling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elix Titling"/>
              </a:rPr>
              <a:t>в 3-4  клас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elix Titling"/>
              </a:rPr>
              <a:t>Автор Вязникова Т. 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кажите, что они этого не дел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92360" y="1599840"/>
            <a:ext cx="59752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boy skates. (sk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runs. (sk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child jumps. (pl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frog swims. (dr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nn dives. (fugersk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bee sits. (f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0_abbfc_5b189939_S лягуш"/>
          <p:cNvPicPr/>
          <p:nvPr/>
        </p:nvPicPr>
        <p:blipFill>
          <a:blip r:embed="rId1"/>
          <a:stretch/>
        </p:blipFill>
        <p:spPr>
          <a:xfrm>
            <a:off x="4859280" y="4913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0_abbf7_291d3eff_Sпчела"/>
          <p:cNvPicPr/>
          <p:nvPr/>
        </p:nvPicPr>
        <p:blipFill>
          <a:blip r:embed="rId2"/>
          <a:stretch/>
        </p:blipFill>
        <p:spPr>
          <a:xfrm>
            <a:off x="7356600" y="1197000"/>
            <a:ext cx="1787400" cy="180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6"/>
          <p:cNvPicPr/>
          <p:nvPr/>
        </p:nvPicPr>
        <p:blipFill>
          <a:blip r:embed="rId3"/>
          <a:stretch/>
        </p:blipFill>
        <p:spPr>
          <a:xfrm>
            <a:off x="179280" y="119700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73e68a32e233"/>
          <p:cNvPicPr/>
          <p:nvPr/>
        </p:nvPicPr>
        <p:blipFill>
          <a:blip r:embed="rId4"/>
          <a:stretch/>
        </p:blipFill>
        <p:spPr>
          <a:xfrm>
            <a:off x="1979640" y="4908600"/>
            <a:ext cx="2521080" cy="1949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94f398fce3df"/>
          <p:cNvPicPr/>
          <p:nvPr/>
        </p:nvPicPr>
        <p:blipFill>
          <a:blip r:embed="rId5"/>
          <a:stretch/>
        </p:blipFill>
        <p:spPr>
          <a:xfrm>
            <a:off x="-181080" y="4365720"/>
            <a:ext cx="2124360" cy="227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k3"/>
          <p:cNvPicPr/>
          <p:nvPr/>
        </p:nvPicPr>
        <p:blipFill>
          <a:blip r:embed="rId6"/>
          <a:stretch/>
        </p:blipFill>
        <p:spPr>
          <a:xfrm>
            <a:off x="7137360" y="4076640"/>
            <a:ext cx="2006640" cy="2781360"/>
          </a:xfrm>
          <a:prstGeom prst="rect">
            <a:avLst/>
          </a:prstGeom>
          <a:ln w="0">
            <a:noFill/>
          </a:ln>
        </p:spPr>
      </p:pic>
      <p:sp>
        <p:nvSpPr>
          <p:cNvPr id="79" name="Line 13"/>
          <p:cNvSpPr/>
          <p:nvPr/>
        </p:nvSpPr>
        <p:spPr>
          <a:xfrm flipH="1">
            <a:off x="1115640" y="1916280"/>
            <a:ext cx="107964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H="1">
            <a:off x="755640" y="2565360"/>
            <a:ext cx="144000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2411280" y="3068640"/>
            <a:ext cx="730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9"/>
          <p:cNvSpPr/>
          <p:nvPr/>
        </p:nvSpPr>
        <p:spPr>
          <a:xfrm>
            <a:off x="3276720" y="3500280"/>
            <a:ext cx="1942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0"/>
          <p:cNvSpPr/>
          <p:nvPr/>
        </p:nvSpPr>
        <p:spPr>
          <a:xfrm>
            <a:off x="4859280" y="4076640"/>
            <a:ext cx="25210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 flipV="1">
            <a:off x="3276720" y="2349000"/>
            <a:ext cx="431964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Felix Titling"/>
              </a:rPr>
              <a:t>Спроси, что они дела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1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o the children 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oes he read a b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o they ride a c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oes the bear play the guit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oes the boy ride a b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0b79c3fec8ff"/>
          <p:cNvPicPr/>
          <p:nvPr/>
        </p:nvPicPr>
        <p:blipFill>
          <a:blip r:embed="rId1"/>
          <a:stretch/>
        </p:blipFill>
        <p:spPr>
          <a:xfrm>
            <a:off x="0" y="1341360"/>
            <a:ext cx="1763640" cy="148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knigi-97"/>
          <p:cNvPicPr/>
          <p:nvPr/>
        </p:nvPicPr>
        <p:blipFill>
          <a:blip r:embed="rId2"/>
          <a:stretch/>
        </p:blipFill>
        <p:spPr>
          <a:xfrm>
            <a:off x="0" y="4581360"/>
            <a:ext cx="1752480" cy="1989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1223222341_gifs_animaux"/>
          <p:cNvPicPr/>
          <p:nvPr/>
        </p:nvPicPr>
        <p:blipFill>
          <a:blip r:embed="rId3"/>
          <a:stretch/>
        </p:blipFill>
        <p:spPr>
          <a:xfrm>
            <a:off x="7205760" y="3933720"/>
            <a:ext cx="1938240" cy="2924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c5d311ebb93e"/>
          <p:cNvPicPr/>
          <p:nvPr/>
        </p:nvPicPr>
        <p:blipFill>
          <a:blip r:embed="rId4"/>
          <a:stretch/>
        </p:blipFill>
        <p:spPr>
          <a:xfrm>
            <a:off x="3492360" y="5013360"/>
            <a:ext cx="1662120" cy="1720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komputeri"/>
          <p:cNvPicPr/>
          <p:nvPr/>
        </p:nvPicPr>
        <p:blipFill>
          <a:blip r:embed="rId5"/>
          <a:stretch/>
        </p:blipFill>
        <p:spPr>
          <a:xfrm>
            <a:off x="7738920" y="5013360"/>
            <a:ext cx="1405080" cy="1698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welosiped"/>
          <p:cNvPicPr/>
          <p:nvPr/>
        </p:nvPicPr>
        <p:blipFill>
          <a:blip r:embed="rId6"/>
          <a:stretch/>
        </p:blipFill>
        <p:spPr>
          <a:xfrm>
            <a:off x="7427880" y="1125360"/>
            <a:ext cx="1716120" cy="2232360"/>
          </a:xfrm>
          <a:prstGeom prst="rect">
            <a:avLst/>
          </a:prstGeom>
          <a:ln w="0">
            <a:noFill/>
          </a:ln>
        </p:spPr>
      </p:pic>
      <p:sp>
        <p:nvSpPr>
          <p:cNvPr id="93" name="Line 14"/>
          <p:cNvSpPr/>
          <p:nvPr/>
        </p:nvSpPr>
        <p:spPr>
          <a:xfrm flipH="1" flipV="1">
            <a:off x="1547640" y="1844280"/>
            <a:ext cx="648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1258920" y="2492280"/>
            <a:ext cx="792000" cy="28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2050920" y="3068640"/>
            <a:ext cx="151308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>
            <a:off x="4427640" y="3860640"/>
            <a:ext cx="295272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 flipV="1">
            <a:off x="3924360" y="2492280"/>
            <a:ext cx="352728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elix Titling"/>
              </a:rPr>
              <a:t>Задай общий вопрос и дай краткий ответ на 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3084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 gathers mushro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cat sle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y sw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children read a 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boy makes a snow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28033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hare dra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 decorate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ristmas t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he d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girl plays with a b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y d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hare c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бежать"/>
          <p:cNvPicPr/>
          <p:nvPr/>
        </p:nvPicPr>
        <p:blipFill>
          <a:blip r:embed="rId1"/>
          <a:stretch/>
        </p:blipFill>
        <p:spPr>
          <a:xfrm>
            <a:off x="7559640" y="5589720"/>
            <a:ext cx="1584360" cy="919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делать снеговика"/>
          <p:cNvPicPr/>
          <p:nvPr/>
        </p:nvPicPr>
        <p:blipFill>
          <a:blip r:embed="rId2"/>
          <a:stretch/>
        </p:blipFill>
        <p:spPr>
          <a:xfrm>
            <a:off x="1908000" y="5300640"/>
            <a:ext cx="1298880" cy="1557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они танцуют"/>
          <p:cNvPicPr/>
          <p:nvPr/>
        </p:nvPicPr>
        <p:blipFill>
          <a:blip r:embed="rId3"/>
          <a:stretch/>
        </p:blipFill>
        <p:spPr>
          <a:xfrm>
            <a:off x="5508720" y="5273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плавают"/>
          <p:cNvPicPr/>
          <p:nvPr/>
        </p:nvPicPr>
        <p:blipFill>
          <a:blip r:embed="rId4"/>
          <a:stretch/>
        </p:blipFill>
        <p:spPr>
          <a:xfrm>
            <a:off x="179280" y="3933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собирать грибы"/>
          <p:cNvPicPr/>
          <p:nvPr/>
        </p:nvPicPr>
        <p:blipFill>
          <a:blip r:embed="rId5"/>
          <a:stretch/>
        </p:blipFill>
        <p:spPr>
          <a:xfrm>
            <a:off x="108000" y="1341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рисует"/>
          <p:cNvPicPr/>
          <p:nvPr/>
        </p:nvPicPr>
        <p:blipFill>
          <a:blip r:embed="rId6"/>
          <a:stretch/>
        </p:blipFill>
        <p:spPr>
          <a:xfrm>
            <a:off x="7812000" y="1197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5" descr="спать"/>
          <p:cNvPicPr/>
          <p:nvPr/>
        </p:nvPicPr>
        <p:blipFill>
          <a:blip r:embed="rId7"/>
          <a:stretch/>
        </p:blipFill>
        <p:spPr>
          <a:xfrm>
            <a:off x="108000" y="24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9" descr="играет с мишкой"/>
          <p:cNvPicPr/>
          <p:nvPr/>
        </p:nvPicPr>
        <p:blipFill>
          <a:blip r:embed="rId8"/>
          <a:stretch/>
        </p:blipFill>
        <p:spPr>
          <a:xfrm>
            <a:off x="7164360" y="5129280"/>
            <a:ext cx="1979640" cy="1581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0" descr="украшать елку"/>
          <p:cNvPicPr/>
          <p:nvPr/>
        </p:nvPicPr>
        <p:blipFill>
          <a:blip r:embed="rId9"/>
          <a:stretch/>
        </p:blipFill>
        <p:spPr>
          <a:xfrm>
            <a:off x="7956720" y="2565360"/>
            <a:ext cx="952200" cy="942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1" descr="читают"/>
          <p:cNvPicPr/>
          <p:nvPr/>
        </p:nvPicPr>
        <p:blipFill>
          <a:blip r:embed="rId10"/>
          <a:stretch/>
        </p:blipFill>
        <p:spPr>
          <a:xfrm>
            <a:off x="0" y="5305320"/>
            <a:ext cx="1584360" cy="155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2" descr="танцевать"/>
          <p:cNvPicPr/>
          <p:nvPr/>
        </p:nvPicPr>
        <p:blipFill>
          <a:blip r:embed="rId11"/>
          <a:stretch/>
        </p:blipFill>
        <p:spPr>
          <a:xfrm>
            <a:off x="8028000" y="386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3" descr="подсказывать"/>
          <p:cNvPicPr/>
          <p:nvPr/>
        </p:nvPicPr>
        <p:blipFill>
          <a:blip r:embed="rId12"/>
          <a:stretch/>
        </p:blipFill>
        <p:spPr>
          <a:xfrm>
            <a:off x="3492360" y="5222880"/>
            <a:ext cx="1871640" cy="1635120"/>
          </a:xfrm>
          <a:prstGeom prst="rect">
            <a:avLst/>
          </a:prstGeom>
          <a:ln w="0">
            <a:noFill/>
          </a:ln>
        </p:spPr>
      </p:pic>
      <p:sp>
        <p:nvSpPr>
          <p:cNvPr id="113" name="Line 36"/>
          <p:cNvSpPr/>
          <p:nvPr/>
        </p:nvSpPr>
        <p:spPr>
          <a:xfrm>
            <a:off x="4427640" y="1484280"/>
            <a:ext cx="73080" cy="37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es it gather mushrooms? -Yes, it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es the cat sleep? – Yes, it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 they swim? – Yes, they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 the children read a book? – Yes, they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es the boy make a snowman? – Yes, he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 the hare draw? – Yes, it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es he decorat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hristmas tree? – Yes, he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es she dance? – Yes, she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es the girl play with a bear? – Yes, she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 they dance? – Yes, they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es the hare cry? – Yes, it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450072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elix Titling"/>
              </a:rPr>
              <a:t>Well done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57240" y="1268280"/>
            <a:ext cx="414360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Ravie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идет снег"/>
          <p:cNvPicPr/>
          <p:nvPr/>
        </p:nvPicPr>
        <p:blipFill>
          <a:blip r:embed="rId1"/>
          <a:stretch/>
        </p:blipFill>
        <p:spPr>
          <a:xfrm>
            <a:off x="5905440" y="2970360"/>
            <a:ext cx="3238560" cy="3887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2972297-ebc50732f39a8bbf нннн"/>
          <p:cNvPicPr/>
          <p:nvPr/>
        </p:nvPicPr>
        <p:blipFill>
          <a:blip r:embed="rId2"/>
          <a:stretch/>
        </p:blipFill>
        <p:spPr>
          <a:xfrm>
            <a:off x="6227640" y="0"/>
            <a:ext cx="2632320" cy="2187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big"/>
          <p:cNvPicPr/>
          <p:nvPr/>
        </p:nvPicPr>
        <p:blipFill>
          <a:blip r:embed="rId3"/>
          <a:stretch/>
        </p:blipFill>
        <p:spPr>
          <a:xfrm>
            <a:off x="357120" y="2928960"/>
            <a:ext cx="1838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Engravers MT"/>
              </a:rPr>
              <a:t>Задачи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Engraver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Engravers MT"/>
              </a:rPr>
              <a:t>Повторить и закрепить правила образования и употребления настоящего простог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Engraver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Engravers MT"/>
              </a:rPr>
              <a:t>Способствовать лучшему и более осознанному использованию данной временной формы в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elix Titling"/>
              </a:rPr>
              <a:t>PRESENT SIMPLE</a:t>
            </a:r>
            <a:br>
              <a:rPr sz="3600"/>
            </a:br>
            <a:r>
              <a:rPr b="0" lang="en-US" sz="2800" spc="-1" strike="noStrike">
                <a:solidFill>
                  <a:srgbClr val="ff0000"/>
                </a:solidFill>
                <a:latin typeface="Felix Titling"/>
              </a:rPr>
              <a:t>(</a:t>
            </a:r>
            <a:r>
              <a:rPr b="0" lang="ru-RU" sz="2800" spc="-1" strike="noStrike">
                <a:solidFill>
                  <a:srgbClr val="ff0000"/>
                </a:solidFill>
                <a:latin typeface="Felix Titling"/>
              </a:rPr>
              <a:t>ПРОСТОЕ НАСТОЯЩЕЕ ВРЕМ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Felix Titling"/>
              </a:rPr>
              <a:t>PRESENT SIMPLE</a:t>
            </a:r>
            <a:r>
              <a:rPr b="1" lang="ru-RU" sz="4400" spc="-1" strike="noStrike">
                <a:solidFill>
                  <a:srgbClr val="ff0000"/>
                </a:solidFill>
                <a:latin typeface="Felix Titl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УПОТРЕБЛЯЕТСЯ ТОГД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КОГДА РЕЧЬ ИДЁ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О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ЕГУЛЯРНОМ ДЕЙСТВ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О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СТОЯННОМ ПРИЗНАКЕ ПРЕДМ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Слова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СПУТНИКИ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ERY YEAR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( MONTH, WEEK, DAY )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ЖДЫЙ ГОД ( МЕСЯЦ, НЕДЕЛЮ, ДЕНЬ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SUALLY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Ы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LWAY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EVER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И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OMETIME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Н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FTEN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А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Felix Titling"/>
              </a:rPr>
              <a:t>PRESENT SIMPLE</a:t>
            </a:r>
            <a:br>
              <a:rPr sz="3600"/>
            </a:br>
            <a:r>
              <a:rPr b="0" lang="en-US" sz="2800" spc="-1" strike="noStrike">
                <a:solidFill>
                  <a:srgbClr val="ff0000"/>
                </a:solidFill>
                <a:latin typeface="Felix Titling"/>
              </a:rPr>
              <a:t>(</a:t>
            </a:r>
            <a:r>
              <a:rPr b="0" lang="ru-RU" sz="2800" spc="-1" strike="noStrike">
                <a:solidFill>
                  <a:srgbClr val="ff0000"/>
                </a:solidFill>
                <a:latin typeface="Felix Titling"/>
              </a:rPr>
              <a:t>ПРОСТОЕ НАСТОЯЩЕЕ ВРЕМ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Как образуетс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Felix Titling"/>
              </a:rPr>
              <a:t>PRESENT SIMP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утвердительном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предложении глагол используется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без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частицы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в 3-ем лице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ед.числ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к глаголу прибавляется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кончание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e)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ou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ou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 ( she, it )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They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Felix Titling"/>
              </a:rPr>
              <a:t>PRESENT SIMPLE</a:t>
            </a:r>
            <a:br>
              <a:rPr sz="3600"/>
            </a:br>
            <a:r>
              <a:rPr b="0" lang="en-US" sz="2800" spc="-1" strike="noStrike">
                <a:solidFill>
                  <a:srgbClr val="ff0000"/>
                </a:solidFill>
                <a:latin typeface="Felix Titling"/>
              </a:rPr>
              <a:t>(</a:t>
            </a:r>
            <a:r>
              <a:rPr b="0" lang="ru-RU" sz="2800" spc="-1" strike="noStrike">
                <a:solidFill>
                  <a:srgbClr val="ff0000"/>
                </a:solidFill>
                <a:latin typeface="Felix Titling"/>
              </a:rPr>
              <a:t>ПРОСТОЕ НАСТОЯЩЕЕ ВРЕМ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I 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Tahoma"/>
              </a:rPr>
              <a:t>ofte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visit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my grandmothe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he 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Tahoma"/>
              </a:rPr>
              <a:t>always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sees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is TV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y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Tahoma"/>
              </a:rPr>
              <a:t> never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dive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in the river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e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plays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computer games 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Tahoma"/>
              </a:rPr>
              <a:t>every day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We 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Tahoma"/>
              </a:rPr>
              <a:t>usually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play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football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dances</a:t>
            </a: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 often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elix Titling"/>
              </a:rPr>
              <a:t>PRESENT SIMPLE</a:t>
            </a: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Felix Titling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Felix Titling"/>
              </a:rPr>
              <a:t>ПРОСТОЕ НАСТОЯЩЕЕ ВРЕМ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трицательных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едложениях используетс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спомогательный 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es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(для 3- го лица ед. чис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рицательная частица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ahoma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’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 swim in the river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h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doe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’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go to the cinema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’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 read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’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 dance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684360" y="260280"/>
            <a:ext cx="8229600" cy="1143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elix Titling"/>
              </a:rPr>
              <a:t>PRESENT SIMPLE</a:t>
            </a: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Felix Titling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Felix Titling"/>
              </a:rPr>
              <a:t>ПРОСТОЕ НАСТОЯЩЕЕ ВРЕМ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опросительных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едложениях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спомогательный глагол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тоит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ед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длежащим,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глагол, обозначающий действие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сле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подлежащего в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нфинитиве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you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his pl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e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your sister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o schoo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peak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French w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e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your brother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lay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computer ga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your friend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peak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English w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684360" y="260280"/>
            <a:ext cx="8229600" cy="1052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elix Titling"/>
              </a:rPr>
              <a:t>PRESENT SIMPLE</a:t>
            </a: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Felix Titling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Felix Titling"/>
              </a:rPr>
              <a:t>ПРОСТОЕ НАСТОЯЩЕЕ ВРЕМ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Felix Titling"/>
              </a:rPr>
              <a:t>Скажи, что они делаю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19280" y="1197000"/>
            <a:ext cx="6624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he ant spea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anta Claus 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he fish swi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he tiger s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he girl plays computer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he bird f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j0195384"/>
          <p:cNvPicPr/>
          <p:nvPr/>
        </p:nvPicPr>
        <p:blipFill>
          <a:blip r:embed="rId1"/>
          <a:stretch/>
        </p:blipFill>
        <p:spPr>
          <a:xfrm>
            <a:off x="7196040" y="4869000"/>
            <a:ext cx="1947960" cy="198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говорить"/>
          <p:cNvPicPr/>
          <p:nvPr/>
        </p:nvPicPr>
        <p:blipFill>
          <a:blip r:embed="rId2"/>
          <a:stretch/>
        </p:blipFill>
        <p:spPr>
          <a:xfrm>
            <a:off x="0" y="1125360"/>
            <a:ext cx="2089080" cy="208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идет"/>
          <p:cNvPicPr/>
          <p:nvPr/>
        </p:nvPicPr>
        <p:blipFill>
          <a:blip r:embed="rId3"/>
          <a:stretch/>
        </p:blipFill>
        <p:spPr>
          <a:xfrm>
            <a:off x="0" y="476892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летать"/>
          <p:cNvPicPr/>
          <p:nvPr/>
        </p:nvPicPr>
        <p:blipFill>
          <a:blip r:embed="rId4"/>
          <a:stretch/>
        </p:blipFill>
        <p:spPr>
          <a:xfrm>
            <a:off x="7308720" y="134136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плавать"/>
          <p:cNvPicPr/>
          <p:nvPr/>
        </p:nvPicPr>
        <p:blipFill>
          <a:blip r:embed="rId5"/>
          <a:stretch/>
        </p:blipFill>
        <p:spPr>
          <a:xfrm>
            <a:off x="2627280" y="4923000"/>
            <a:ext cx="1612800" cy="1935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поет"/>
          <p:cNvPicPr/>
          <p:nvPr/>
        </p:nvPicPr>
        <p:blipFill>
          <a:blip r:embed="rId6"/>
          <a:stretch/>
        </p:blipFill>
        <p:spPr>
          <a:xfrm>
            <a:off x="5364000" y="5084640"/>
            <a:ext cx="1478160" cy="1773360"/>
          </a:xfrm>
          <a:prstGeom prst="rect">
            <a:avLst/>
          </a:prstGeom>
          <a:ln w="0">
            <a:noFill/>
          </a:ln>
        </p:spPr>
      </p:pic>
      <p:sp>
        <p:nvSpPr>
          <p:cNvPr id="65" name="Line 13"/>
          <p:cNvSpPr/>
          <p:nvPr/>
        </p:nvSpPr>
        <p:spPr>
          <a:xfrm flipV="1">
            <a:off x="5364000" y="3068280"/>
            <a:ext cx="187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6659640" y="3933720"/>
            <a:ext cx="792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5"/>
          <p:cNvSpPr/>
          <p:nvPr/>
        </p:nvSpPr>
        <p:spPr>
          <a:xfrm>
            <a:off x="4643280" y="3429000"/>
            <a:ext cx="12970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>
            <a:off x="3995640" y="2781360"/>
            <a:ext cx="14472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 flipH="1">
            <a:off x="2124000" y="2205000"/>
            <a:ext cx="100800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 flipH="1">
            <a:off x="2124000" y="1557360"/>
            <a:ext cx="935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7:23:08Z</dcterms:created>
  <dc:creator>Customer</dc:creator>
  <dc:description/>
  <dc:language>en-US</dc:language>
  <cp:lastModifiedBy>Вязникова</cp:lastModifiedBy>
  <dcterms:modified xsi:type="dcterms:W3CDTF">2016-11-25T08:46:33Z</dcterms:modified>
  <cp:revision>15</cp:revision>
  <dc:subject/>
  <dc:title>Повелительное наклонение глагола</dc:title>
</cp:coreProperties>
</file>