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AF01-FE8D-4316-9849-35E4624C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CFB-9A87-4E23-A069-3B98EBB2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49D5-05C4-4CF9-A911-12178AA5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6E4A-25AE-4710-B14E-5BE3C0FB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39A3-EECB-453E-8354-57E7BB13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C7B-5F15-4364-896D-FA91242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A91-959A-4443-B56A-F27CB017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277-D2E4-44FE-8753-44BFA52D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0C3-90B3-4E79-A488-3FA2A88E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D9A-B312-4480-9480-2366EF19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4492-6D22-459D-8F15-A804961D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78F-C185-4FF9-97D4-8496C3F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A71F-144D-4860-9661-71929AA94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1988640"/>
            <a:ext cx="6480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98989"/>
                </a:solidFill>
                <a:latin typeface="Times New Roman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e1c11"/>
                </a:solidFill>
                <a:latin typeface="Calibri"/>
                <a:ea typeface="Calibri"/>
              </a:rPr>
              <a:t>ВЛИЯНИЕ СПОРТИВНЫХ ИГР  НА РАЗВИТИЕ ОПОРНО - ДВИГАТЕЛЬНОГО АППАРАТА И ФУНКЦИОНАЛЬНЫХ ВОЗМОЖНОСТЕЙ ОРГАНИЗМА У УЧАЩИХСЯ 5-ГО КЛАССА НА УРОКАХ ФИЗИЧЕСКОЙ КУЛЬТУРЫ В 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708360" y="4149720"/>
            <a:ext cx="61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Белушкина Анастасия Сергеев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955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Мяч в цент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1. Игроки выстраиваются в три круга. В середине каждого круга – капитан с мячом. По сигналу учителя он передает мяч игрокам по кругу по очереди в направлении по часовой стрелке, а они передают его ему обратно. Игра заканчивается, когда капитан получит мяч от последнего игрока. Выигрывает команда, закончившая игру перво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ариант 2. После того как все игроки получат мяч и передадут его капитану, один из них меняется с ним ролями. Выигрывает та команда, в которой все игроки раньше соперников успеют выполнить задан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66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дал – сади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учителя капитан передает мяч первому игроку. Тот, поймав мяч, возвращает его капитану и принимает положение упор присев. Капитан ловит мяч, передает его второму игроку, и т.д. Выигрывает команда, выполнившая задание раньше соперни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927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25600" y="1197000"/>
            <a:ext cx="7862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1063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Снайп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игре принимают участие несколько игроков с мячами. Цель – как можно чаще поразить кольцо из-за 6-метровой линии в течение 1–3 мин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991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Эстафета с ведением мяч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гроки выстраиваются в колонну по 3. По сигналу первые номера начинают ведение мяча, обходя флажки, и, возвратившись назад, передают мяч следующим игрокам. Выигрывает команда, первой закончившая эстафет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63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Бомбард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haroni"/>
              </a:rPr>
              <a:t>По сигналу игроки выполняют броски в кольцо, фиксируя количество попаданий. Через 1,5–2 мин. по сигналу они меняются кольцами против часовой стрелки. Выигрывает команда, которая наберет большее количество попад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2179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бъек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нятие спортивными играми на уроках физической культуры в общеобразовательной школе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едмет исследовани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опорно-двигательного  аппарата у учащихся 5-го класса на уроках физической культуры в общеобразователь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-225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зучить  влияние занятий спортивных игр  на развитие опорно-двигательного аппарата и функциональных возможностей организм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учащихся 5-го класса на уроках физической культуры в общеобразовательной школ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адачи исслед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1.Подобрать и проанализировать методическую литературу по тем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2.Выявить особенности развития опорно-двигательного аппарата у учащихся 5 класса в обще образовательной школ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 </a:t>
            </a: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3. Проанализировать изменения опорно-двигательного аппарата и функциональных возможностей организма при занятии спортивными играми на уроках физической куль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4.Разработать формы контроля над изменениями опорно-двигательного аппарата у учащихся 5-го класса на уроках физической культуры в общеобразовательной школ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62626"/>
                </a:solidFill>
                <a:latin typeface="Calibri"/>
                <a:ea typeface="Aharoni"/>
              </a:rPr>
              <a:t>5. Разработать комплекс упражнений направленный на развитие опорно-двигательного аппарата и функциональных возможностей организма для учащихся 5 классов общеобразовательной школ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Огл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404640"/>
            <a:ext cx="82915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ведение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1.Функциональные возможности развитие опорно-двигательного аппарата у учащихся 5-го класса в обще образовательной школе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1 Анатомо - физиологические особенности развития опорно-двигательного     аппарата и функциональных возможностей организма.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2 Особенности влияния спортивных игр на опорно – двигательный аппарат у учащихся 5-го класса в шко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                   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3 Изменение опорно-двигательного аппарата и функциональных возможностей  при  занятиях спортивными игр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2. Организация и методика исследован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1. Организация исследований.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2.Методика разработки экспериментальной программы выявления  функциональных возможности развитие опорно-двигательного аппарата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ава 3. Результаты исследований и их обоснов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ы педагогического эксперимента и их обсуждение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спериментальное обоснов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                              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Заключение             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Список литературы                              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3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haroni"/>
              </a:rPr>
              <a:t>Приложени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haroni"/>
              </a:rPr>
              <a:t>                                                                                                                                                                     4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233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Теоре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выявлении особенностей влияния спортивных игр на опорно-двигательный аппарат и функциональное состояние организма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актическая значимость: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заключается в том, что на основе теоритических данных могут быть составлены комплексы положительного развития опорно-двигательного аппарата и функциональных возможностей занимающихс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порно - двигательный аппарат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 опорно-двигательному аппарату относятся мышцы и кости. Скел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полняет опорную, защитную функции, функцию движения, кроветвор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 участвует в обмене веществ, особенно минеральном. Мышцы выполняют опорную функцию, поддерживаю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енное положение т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80431039_B1774p2501.jpg"/>
          <p:cNvPicPr/>
          <p:nvPr/>
        </p:nvPicPr>
        <p:blipFill>
          <a:blip r:embed="rId2"/>
          <a:stretch/>
        </p:blipFill>
        <p:spPr>
          <a:xfrm>
            <a:off x="4932360" y="2781360"/>
            <a:ext cx="3443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омплек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Бег за мяч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haroni"/>
              </a:rPr>
              <a:t>Игроки выстраиваются в колонну по 3 или по 4 на линии штрафного броска. Перед каждой колонной на расстоянии 3 м стоит капитан с мячом. По сигналу учителя он передает мяч первому игроку в колонне, который, поймав мяч, передает его обратно, бежит за ним и встает за спиной капитана. Тот ловит мяч и передает его второму игроку, который повторяет действия первого, и т.д. Игра заканчивается, когда вся команда выстроится за капитан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702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792792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5T13:32:57Z</dcterms:created>
  <dc:creator>сергей</dc:creator>
  <dc:description/>
  <dc:language>en-US</dc:language>
  <cp:lastModifiedBy>admin</cp:lastModifiedBy>
  <dcterms:modified xsi:type="dcterms:W3CDTF">2017-01-12T02:38:16Z</dcterms:modified>
  <cp:revision>70</cp:revision>
  <dc:subject/>
  <dc:title>МИНИСТЕРСТВО ОБРАЗОВАНИЯ И НАУКИ РОССИЙСКОЙ ФЕДЕРАЦИИ МИНИСТЕРСТВО ОБРАЗОВАНИЯ И НАУКИ КРАСНОЯРСКОГО КРАЯ КГАОУ СПО «КАНСКИЙ ПЕДАГОГИЧЕСКИЙ КОЛЛЕДЖ» СПЕЦИАЛЬНОСТЬ 050141 «ФИЗИЧЕСКАЯ КУЛЬТУРА»</dc:title>
</cp:coreProperties>
</file>