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8DA-BE7B-458C-BBBE-1C833B20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E41-7AAB-418A-A150-85F0ECAD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B8E-1A46-4CC2-AB39-4E2D5F2D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EC9-0F0E-45B1-8BFB-5EC6B248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741-054F-4097-AF92-485D52F8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839-F613-4C04-A46D-9583032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CEA-1592-4C97-979C-FEE2D20F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BD8-F341-4B9C-B87B-8BA60281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D44-263D-4C55-BC6D-BF257FF0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FA7-FA50-4B60-885C-E3384009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86C-A860-479D-8654-0AB9FCFA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2D9-B89B-4861-9E9E-E5DE1B54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FBFF-A575-47DF-9FF5-E7D53DB9F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480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c11"/>
                </a:solidFill>
                <a:latin typeface="Calibri"/>
                <a:ea typeface="Calibri"/>
              </a:rPr>
              <a:t>ВЛИЯНИЕ СПОРТИВНЫХ ИГР  НА РАЗВИТИЕ ОПОРНО - ДВИГАТЕЛЬНОГО АППАРАТА И ФУНКЦИОНАЛЬНЫХ ВОЗМОЖНОСТЕЙ ОРГАНИЗМА У УЧАЩИХСЯ 5-ГО КЛАССА НА УРОКАХ ФИЗИЧЕСКОЙ КУЛЬТУРЫ В 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708360" y="4149720"/>
            <a:ext cx="61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Белушкина Анастасия Сергеев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95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Мяч в цент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ариант 1. Игроки выстраиваются в три круга. В середине каждого круга – капитан с мячом. По сигналу учителя он передает мяч игрокам по кругу по очереди в направлении по часовой стрелке, а они передают его ему обратно. Игра заканчивается, когда капитан получит мяч от последнего игрока. Выигрывает команда, закончившая игру перво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ариант 2. После того как все игроки получат мяч и передадут его капитану, один из них меняется с ним ролями. Выигрывает та команда, в которой все игроки раньше соперников успеют выполнить зад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66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дал – сади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 сигналу учителя капитан передает мяч первому игроку. Тот, поймав мяч, возвращает его капитану и принимает положение упор присев. Капитан ловит мяч, передает его второму игроку, и т.д. Выигрывает команда, выполнившая задание раньше соперн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92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25600" y="1197000"/>
            <a:ext cx="7862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063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Снайп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игре принимают участие несколько игроков с мячами. Цель – как можно чаще поразить кольцо из-за 6-метровой линии в течение 1–3 мин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99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Эстафета с ведением мя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гроки выстраиваются в колонну по 3. По сигналу первые номера начинают ведение мяча, обходя флажки, и, возвратившись назад, передают мяч следующим игрокам. Выигрывает команда, первой закончившая эстафе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63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омбард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 сигналу игроки выполняют броски в кольцо, фиксируя количество попаданий. Через 1,5–2 мин. по сигналу они меняются кольцами против часовой стрелки. Выигрывает команда, которая наберет большее количество попад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217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ъект исследовани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нятие спортивными играми на уроках физической культуры в общеобразовательной школе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едмет исследовани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витие опорно-двигательного  аппарата у учащихся 5-го класс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225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зучить  влияние занятий спортивных игр  на развитие опорно-двигательного аппарата и функциональных возможностей организм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учащихся 5-го класса на уроках физической культуры в общеобразовательной шк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адачи исслед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1.Подобрать и проанализировать методическую литературу по те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2.Выявить особенности развития опорно-двигательного аппарата у учащихся 5 класса в обще образовательной школ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3. Проанализировать изменения опорно-двигательного аппарата и функциональных возможностей организма при занятии спортивными играми на уроках физической культу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4.Разработать формы контроля над изменениями опорно-двигательного аппарата у учащихся 5-го класса на уроках физической культуры в общеобразовательной школ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5. Разработать комплекс упражнений направленный на развитие опорно-двигательного аппарата и функциональных возможностей организма для учащихся 5 классов общеобразовательной школ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haroni"/>
              </a:rPr>
              <a:t>Огла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04640"/>
            <a:ext cx="8291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дение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1.Функциональные возможности развитие опорно-двигательного аппарата у учащихся 5-го класса в обще образовательной школе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1 Анатомо - физиологические особенности развития опорно-двигательного     аппарата и функциональных возможностей организма.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2 Особенности влияния спортивных игр на опорно – двигательный аппарат у учащихся 5-го класса в школ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                   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3 Изменение опорно-двигательного аппарата и функциональных возможностей  при  занятиях спортивными игр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2. Организация и методика исследов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1. Организация исследований.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2.Методика разработки экспериментальной программы выявления  функциональных возможности развитие опорно-двигательного аппарата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3. Результаты исследований и их обоснов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ы педагогического эксперимента и их обсуждение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ериментальное обоснов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Заключение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Список литературы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Приложен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                                                                                                                                                                     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233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еоретическая значимост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ключается в выявлении особенностей влияния спортивных игр на опорно-двигательный аппарат и функциональное состояние организма занимающих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актическая значимост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ключается в том, что на основе теоритических данных могут быть составлены комплексы положительного развития опорно-двигательного аппарата и функциональных возможностей занимающих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порно - двигательный аппарат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 опорно-двигательному аппарату относятся мышцы и кости. Ске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полняет опорную, защитную функции, функцию движения, кроветво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участвует в обмене веществ, особенно минеральном. Мышцы выполняют опорную функцию, поддержив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пределенное положение т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80431039_B1774p2501.jpg"/>
          <p:cNvPicPr/>
          <p:nvPr/>
        </p:nvPicPr>
        <p:blipFill>
          <a:blip r:embed="rId2"/>
          <a:stretch/>
        </p:blipFill>
        <p:spPr>
          <a:xfrm>
            <a:off x="4932360" y="2781360"/>
            <a:ext cx="3443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мплек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г за мяч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haroni"/>
              </a:rPr>
              <a:t>Игроки выстраиваются в колонну по 3 или по 4 на линии штрафного броска. Перед каждой колонной на расстоянии 3 м стоит капитан с мячом. По сигналу учителя он передает мяч первому игроку в колонне, который, поймав мяч, передает его обратно, бежит за ним и встает за спиной капитана. Тот ловит мяч и передает его второму игроку, который повторяет действия первого, и т.д. Игра заканчивается, когда вся команда выстроится за капитан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70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9279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13:32:57Z</dcterms:created>
  <dc:creator>сергей</dc:creator>
  <dc:description/>
  <dc:language>en-US</dc:language>
  <cp:lastModifiedBy>admin</cp:lastModifiedBy>
  <dcterms:modified xsi:type="dcterms:W3CDTF">2017-01-12T02:38:16Z</dcterms:modified>
  <cp:revision>70</cp:revision>
  <dc:subject/>
  <dc:title>МИНИСТЕРСТВО ОБРАЗОВАНИЯ И НАУКИ РОССИЙСКОЙ ФЕДЕРАЦИИ МИНИСТЕРСТВО ОБРАЗОВАНИЯ И НАУКИ КРАСНОЯРСКОГО КРАЯ КГАОУ СПО «КАНСКИЙ ПЕДАГОГИЧЕСКИЙ КОЛЛЕДЖ» СПЕЦИАЛЬНОСТЬ 050141 «ФИЗИЧЕСКАЯ КУЛЬТУРА»</dc:title>
</cp:coreProperties>
</file>