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625-BB1B-4B62-829A-3D540E8A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0A7-CF88-4DA2-BAEC-EC9FCDEF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38D-EF95-46A3-974C-4508604A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5BE-6CA0-4080-B023-EC8D3719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F27-B498-4CDD-BC41-218D5A59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C9F2-EA8F-49B7-8BF8-2B316B9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F05-3B79-41DE-9577-EAC43B49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D4A6-CE23-47C7-B39E-2A25BEA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1D11-F6D4-47F5-BAD8-FB251D21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F377-952E-4816-AC04-90ED5A25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66B0-B9B4-4A2E-A267-2FB0DA7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3CA-3C96-4EA4-BC4B-96EB3AC7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2CB-F092-483E-BFB2-B27F83A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E349-73D5-47F6-9A90-AE5CD361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04E1-B9A1-4F88-B3BA-B7D4E08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94D-1678-4952-ABD4-3E1DF259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5840-1511-466A-B7F5-E9321F8D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557E-305B-4FE8-A89A-5AE83E29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22A0-69B1-45AA-8536-B2FAADD6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8C22-522A-4359-8B4F-AE994E6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33AA-1D18-4040-9607-57FD5659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62D81-4581-4F20-9953-8A51CD3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FBC-79FF-447E-ACBE-20E09BE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36DA-1531-42E1-BB29-AE344ED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3F53-9367-4C9A-BE80-7CCF157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6045-31EF-4788-BBD4-B97E53B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DBA3-83F1-4042-AF49-AD6FF276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2CDB0-398B-4C82-9AEA-AE2AA82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7F44-1B79-4B4A-B6A4-E9A803ED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BCCC-C1C8-4486-B23C-E4C0350F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F4D2-B0A7-4F9D-895D-568412DC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8C81-3A5B-4912-8A3D-EEA338B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B567-A0CB-4DE8-94EA-8D4B9F3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38D-C7D3-40F9-88EE-D91CDCB7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1337-9B32-4CEC-99AF-F0E7A5F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A711-6E64-47C1-9B1F-70724F5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9262-2832-4588-8E3F-9DE63FFD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B654-AEDA-4AAE-BE1E-7AEF789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6AEF-D6B3-47DF-839D-B5B4DB2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EAA26-D83F-47B3-98E3-09C9822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DEB9-9CFD-4241-BC41-AAC51D46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1F3A-FAC1-4A2B-B8B7-A79591E2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69452-3889-4ABE-878C-C8E235E8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CFE6-F92E-4C96-88A4-0D6C642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F48-B662-4CE6-9EEF-576DC27F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755A2-5DF8-43E5-8FEB-7811B335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D9D9-97AD-40F7-BE79-D895AFC1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BF99-9DE3-4596-9B18-BAD5191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0588-8353-470F-B493-D885D8A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35E3-BF76-4F6D-87F5-5109F26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1B13-4164-4824-9487-B9F8B748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0C8A-D468-4ABC-B763-126DEB57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B861-25CF-45AF-9AC7-458977D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02DCC-DC6B-4E00-A3A6-12C42CAD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3DFE-E056-4F89-83B6-1B9F2D20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4A9-8FA5-49B4-AD3C-3356089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5E9F-3EB3-46A7-9CE2-F9B77441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81C-5E4A-45DE-B27A-6F13E835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51A-DA2B-410E-A7B4-737878C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E3C-76AF-4AB1-9C17-8A0D6B2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9DA-1D16-4AFC-B5FB-252891758F7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AEF-63BD-4893-B736-593D321925C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0F15-A067-474E-9083-43D3A82D485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F435-0F73-4D4D-B88B-60E71E0CCCD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C736-BD26-413D-90E0-E9476DAE772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&amp;text=&#1087;&#1072;&#1088;&#1091;&#1089;&#1085;&#1080;&#1082;&amp;fp=1&amp;pos=36&amp;uinfo=ww-1420-wh-677-fw-1195-fh-471-pd-1&amp;rpt=simage&amp;img_url=http://www.ressim.net/a/upload/682a7183.pn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p=1&amp;text=&#1087;&#1072;&#1088;&#1091;&#1089;&#1085;&#1080;&#1082;&amp;fp=1&amp;pos=36&amp;uinfo=ww-1420-wh-677-fw-1195-fh-471-pd-1&amp;rpt=simage&amp;img_url=http://www.ressim.net/a/upload/682a7183.pn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8;&#1077;&#1095;&#1085;&#1086;&#1081;%20&#1092;&#1083;&#1086;&#1090;&amp;fp=1&amp;pos=40&amp;uinfo=ww-1420-wh-677-fw-1195-fh-471-pd-1&amp;rpt=simage&amp;img_url=http://rechflot-m.users.photofile.ru/photo/rechflot-m/151088435/xlarge/17049773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p=2&amp;text=&#1088;&#1077;&#1095;&#1085;&#1086;&#1081;%20&#1092;&#1083;&#1086;&#1090;&amp;fp=2&amp;pos=74&amp;uinfo=ww-1420-wh-677-fw-1195-fh-471-pd-1&amp;rpt=simage&amp;img_url=http://www.restorannavode.ru/userfiles/3(3)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12&amp;text=&#1088;&#1077;&#1095;&#1085;&#1086;&#1081;%20&#1092;&#1083;&#1086;&#1090;&amp;fp=12&amp;pos=371&amp;uinfo=ww-1420-wh-677-fw-1195-fh-471-pd-1&amp;rpt=simage&amp;img_url=http://rechflot-m.users.photofile.ru/photo/rechflot-m/151210296/xlarge/17759651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6480" y="396720"/>
            <a:ext cx="4919760" cy="319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Учитель\Desktop\труд\f4ea0d2496e476a89167b0dd369032f4.jpg"/>
          <p:cNvPicPr/>
          <p:nvPr/>
        </p:nvPicPr>
        <p:blipFill>
          <a:blip r:embed="rId2"/>
          <a:stretch/>
        </p:blipFill>
        <p:spPr>
          <a:xfrm>
            <a:off x="5003640" y="620640"/>
            <a:ext cx="2979720" cy="294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ttp://kolyan.net/uploads/posts/2010-11/1290332879_1283440364_foto-prikol.net_wallpapers-6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151160"/>
            <a:ext cx="345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298520" y="4432320"/>
            <a:ext cx="6765840" cy="115092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234000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что за чудес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ует ветер в паруса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и паром, ни дирижабль —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волнам плывет... (корабл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0" y="260280"/>
            <a:ext cx="4280040" cy="26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Учитель\Desktop\труд\859boat.jpg"/>
          <p:cNvPicPr/>
          <p:nvPr/>
        </p:nvPicPr>
        <p:blipFill>
          <a:blip r:embed="rId2"/>
          <a:stretch/>
        </p:blipFill>
        <p:spPr>
          <a:xfrm>
            <a:off x="4140360" y="2349360"/>
            <a:ext cx="4667040" cy="3500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kolyan.net/uploads/posts/2010-11/1290332879_1283440364_foto-prikol.net_wallpapers-6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395520"/>
            <a:ext cx="4465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rechflot-m.users.photofile.ru/photo/rechflot-m/151088435/xlarge/17049773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189240"/>
            <a:ext cx="504036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rechflot-m.users.photofile.ru/photo/rechflot-m/150206510/xlarge/15649128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89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rechflot-m.users.photofile.ru/photo/rechflot-m/151210296/xlarge/17759651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24000"/>
            <a:ext cx="3816360" cy="286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im3-tub-ru.yandex.net/i?id=603319487-55-72&amp;n=21"/>
          <p:cNvPicPr/>
          <p:nvPr/>
        </p:nvPicPr>
        <p:blipFill>
          <a:blip r:embed="rId7"/>
          <a:stretch/>
        </p:blipFill>
        <p:spPr>
          <a:xfrm>
            <a:off x="4923000" y="3716280"/>
            <a:ext cx="40003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www.mama-sarova.info/_fr/6/7388040.gif"/>
          <p:cNvPicPr/>
          <p:nvPr/>
        </p:nvPicPr>
        <p:blipFill>
          <a:blip r:embed="rId1"/>
          <a:stretch/>
        </p:blipFill>
        <p:spPr>
          <a:xfrm>
            <a:off x="2916360" y="1700280"/>
            <a:ext cx="3816360" cy="488160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2382840" y="-6480"/>
            <a:ext cx="676764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33465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хема №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5" descr="C:\Users\ьии\OneDrive\Документы\img0044_0.jpg"/>
          <p:cNvPicPr/>
          <p:nvPr/>
        </p:nvPicPr>
        <p:blipFill>
          <a:blip r:embed="rId1"/>
          <a:stretch/>
        </p:blipFill>
        <p:spPr>
          <a:xfrm>
            <a:off x="0" y="1104840"/>
            <a:ext cx="8028000" cy="5753160"/>
          </a:xfrm>
          <a:prstGeom prst="rect">
            <a:avLst/>
          </a:prstGeom>
          <a:ln w="0">
            <a:noFill/>
          </a:ln>
        </p:spPr>
      </p:pic>
      <p:sp>
        <p:nvSpPr>
          <p:cNvPr id="249" name="Текст 5"/>
          <p:cNvSpPr/>
          <p:nvPr/>
        </p:nvSpPr>
        <p:spPr>
          <a:xfrm>
            <a:off x="2771640" y="333360"/>
            <a:ext cx="237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хема №2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Учитель\Desktop\труд\image_48369.jpg"/>
          <p:cNvPicPr/>
          <p:nvPr/>
        </p:nvPicPr>
        <p:blipFill>
          <a:blip r:embed="rId1"/>
          <a:stretch/>
        </p:blipFill>
        <p:spPr>
          <a:xfrm>
            <a:off x="5148360" y="260280"/>
            <a:ext cx="3771720" cy="283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Учитель\Desktop\труд\image_57525.jpg"/>
          <p:cNvPicPr/>
          <p:nvPr/>
        </p:nvPicPr>
        <p:blipFill>
          <a:blip r:embed="rId2"/>
          <a:stretch/>
        </p:blipFill>
        <p:spPr>
          <a:xfrm>
            <a:off x="5348160" y="3301920"/>
            <a:ext cx="33721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Учитель\Desktop\труд\image_483461.jpg"/>
          <p:cNvPicPr/>
          <p:nvPr/>
        </p:nvPicPr>
        <p:blipFill>
          <a:blip r:embed="rId3"/>
          <a:stretch/>
        </p:blipFill>
        <p:spPr>
          <a:xfrm>
            <a:off x="243000" y="404640"/>
            <a:ext cx="4873680" cy="36496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393840" y="4194000"/>
            <a:ext cx="4572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Е. Арс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ывет, плыв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раб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далекие кр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то капитан кораблик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нечно, это я!  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    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Учитель\Desktop\труд\plot.jpg"/>
          <p:cNvPicPr/>
          <p:nvPr/>
        </p:nvPicPr>
        <p:blipFill>
          <a:blip r:embed="rId1"/>
          <a:stretch/>
        </p:blipFill>
        <p:spPr>
          <a:xfrm>
            <a:off x="2556000" y="836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"/>
          <p:cNvSpPr/>
          <p:nvPr/>
        </p:nvSpPr>
        <p:spPr>
          <a:xfrm>
            <a:off x="2349360" y="465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ревнышки рядком связали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сел, паруса не дал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он знай себе, плыв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гадались? Это... (пло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Учитель\Desktop\труд\parom_krasnigorie.jpg"/>
          <p:cNvPicPr/>
          <p:nvPr/>
        </p:nvPicPr>
        <p:blipFill>
          <a:blip r:embed="rId1"/>
          <a:stretch/>
        </p:blipFill>
        <p:spPr>
          <a:xfrm>
            <a:off x="395280" y="26028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6:48:11Z</dcterms:created>
  <dc:creator>Учитель</dc:creator>
  <dc:description/>
  <dc:language>en-US</dc:language>
  <cp:lastModifiedBy>ьии</cp:lastModifiedBy>
  <dcterms:modified xsi:type="dcterms:W3CDTF">2016-03-20T03:57:14Z</dcterms:modified>
  <cp:revision>8</cp:revision>
  <dc:subject/>
  <dc:title>Речной флот. Оригами.</dc:title>
</cp:coreProperties>
</file>