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A72A-E062-406B-806B-2D24835B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9FB-AC6E-44D5-9C26-B4C01E56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8765-B30E-48B7-BA32-668E1F59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E05-50BA-4B70-9CCD-EAC391DB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B5664-FB39-4ADA-B44F-128DC1FC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B2A5-2DE7-4AFB-A6BC-A6BF873B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36A7-0DF7-4C1F-BA41-736D7E62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DF92-D204-49E6-80AB-51938CAC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5DA3-D4C7-4F49-B2B6-24303764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DD31-01D0-41AA-AAA1-608D5DE6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A457-72AD-468D-AB5A-B9FFD3E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861-D98C-4C74-9BFB-C5B0AFB2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4280-4F4A-4CF0-88FB-12C60F32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65B5-6CC0-41E6-B8E7-4CBE385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133E3-96A9-4E2A-81F5-FE9FD066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F9FE-1BCA-436D-881F-45E01DC30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2BF1-221E-4A16-A7A2-301D4CE5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CC4A-ABEB-45F9-9FD0-D196F04E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86154-5E58-4FD1-9F1E-76B4E554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8308-E649-4A84-8B4E-ADB2C54D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54FBA-FF64-4DCC-A628-FD7137E6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D80D9-AFE4-43FA-88E6-C57F137E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926-0377-4533-AF8E-AE2BF82D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8865F-E7B0-4512-B090-7CB0A4216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F39D-1A8E-4254-9F32-86CA89F6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2A4F4-7545-4481-8EBE-5509226B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389B-07D4-4E15-A23D-A52AAC9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B8B5-0C20-416E-BF8B-9662BE86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1FD48-BBC6-4D21-8664-92F9BC0E2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D1C5-5B89-4DD6-9F05-6DC9C1C3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E950C-E1DB-499A-8951-57169632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459E-E7E3-4007-BF79-860EF3D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BE110-F0BC-4947-886F-4F04248B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2E9-3164-4BFC-995F-485C19E3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0D9E9-6BCB-4367-B7D5-0A617477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62DD-4F11-4BBB-9627-5E99D836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E57EA-0097-43B2-AD0D-A9DA9F82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53238-617F-4F9A-A8BD-5966F4D7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26619-96C7-4B8A-934C-43B26D44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CE4A-A63D-4B40-B337-00B23230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06FE6-5A11-463B-A1AE-94CECA54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25D6E-777E-448C-BB17-054A7643F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51B9F-02D6-4990-A648-225C85A5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CCB75-82E6-4174-A610-2BDD562B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859-5A00-4C4B-8E2B-B2E5DB0D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206D-2DA4-4677-9CB5-AD2604FD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3114F-FBEC-44B8-AA8D-9DF34121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8CD84-3EF4-4E4E-A66A-DA1278FB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DA30F-09E6-489A-BC89-630AECDC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2873E-F863-4C59-945A-22649381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FC79F-DABD-4B07-9F1D-0B414824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22DE4-CB0E-4B84-9489-4900314A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CCFB5-2C15-4A29-A81A-CDA579C3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E088B-CA0F-46F2-95E2-233121B9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583B8-EE86-413D-8803-DC044180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1FE-F853-471C-AEEB-521B3C77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D88EB-BA98-415C-90AB-52AEE611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CC57-34B5-4CF8-A7D0-0CB161D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F33-3CAE-4CC1-9A8A-3FBFDDAA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E81-01BE-4482-A296-3CFCE5DD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7769-2EDC-42E9-B329-AE4FF64A0B40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3A36-95B1-4C08-89AD-CFF1D03C6D0C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98F4-2D28-4CD7-A3DE-6692B10B309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1A3B-8D80-4DDB-B26B-FCF55B3EF641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FD6C-F025-4596-9D38-1A23B345727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hyperlink" Target="http://images.yandex.ru/yandsearch?p=1&amp;text=&#1087;&#1072;&#1088;&#1091;&#1089;&#1085;&#1080;&#1082;&amp;fp=1&amp;pos=36&amp;uinfo=ww-1420-wh-677-fw-1195-fh-471-pd-1&amp;rpt=simage&amp;img_url=http://www.ressim.net/a/upload/682a7183.pn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images.yandex.ru/yandsearch?p=1&amp;text=&#1087;&#1072;&#1088;&#1091;&#1089;&#1085;&#1080;&#1082;&amp;fp=1&amp;pos=36&amp;uinfo=ww-1420-wh-677-fw-1195-fh-471-pd-1&amp;rpt=simage&amp;img_url=http://www.ressim.net/a/upload/682a7183.pn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1&amp;text=&#1088;&#1077;&#1095;&#1085;&#1086;&#1081;%20&#1092;&#1083;&#1086;&#1090;&amp;fp=1&amp;pos=40&amp;uinfo=ww-1420-wh-677-fw-1195-fh-471-pd-1&amp;rpt=simage&amp;img_url=http://rechflot-m.users.photofile.ru/photo/rechflot-m/151088435/xlarge/170497735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p=2&amp;text=&#1088;&#1077;&#1095;&#1085;&#1086;&#1081;%20&#1092;&#1083;&#1086;&#1090;&amp;fp=2&amp;pos=74&amp;uinfo=ww-1420-wh-677-fw-1195-fh-471-pd-1&amp;rpt=simage&amp;img_url=http://www.restorannavode.ru/userfiles/3(3)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p=12&amp;text=&#1088;&#1077;&#1095;&#1085;&#1086;&#1081;%20&#1092;&#1083;&#1086;&#1090;&amp;fp=12&amp;pos=371&amp;uinfo=ww-1420-wh-677-fw-1195-fh-471-pd-1&amp;rpt=simage&amp;img_url=http://rechflot-m.users.photofile.ru/photo/rechflot-m/151210296/xlarge/177596515.jpg" TargetMode="External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-6480" y="396720"/>
            <a:ext cx="4919760" cy="3194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C:\Users\Учитель\Desktop\труд\f4ea0d2496e476a89167b0dd369032f4.jpg"/>
          <p:cNvPicPr/>
          <p:nvPr/>
        </p:nvPicPr>
        <p:blipFill>
          <a:blip r:embed="rId2"/>
          <a:stretch/>
        </p:blipFill>
        <p:spPr>
          <a:xfrm>
            <a:off x="5003640" y="620640"/>
            <a:ext cx="2979720" cy="2949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http://kolyan.net/uploads/posts/2010-11/1290332879_1283440364_foto-prikol.net_wallpapers-6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4151160"/>
            <a:ext cx="345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298520" y="4432320"/>
            <a:ext cx="6765840" cy="1150920"/>
          </a:xfrm>
          <a:prstGeom prst="rect">
            <a:avLst/>
          </a:prstGeom>
          <a:ln w="0">
            <a:noFill/>
          </a:ln>
        </p:spPr>
      </p:pic>
      <p:pic>
        <p:nvPicPr>
          <p:cNvPr id="224" name="Объект 3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234000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Это что за чудеса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ует ветер в паруса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и паром, ни дирижабль —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 волнам плывет... (корабль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Объект 3" descr=""/>
          <p:cNvPicPr/>
          <p:nvPr/>
        </p:nvPicPr>
        <p:blipFill>
          <a:blip r:embed="rId1"/>
          <a:stretch/>
        </p:blipFill>
        <p:spPr>
          <a:xfrm>
            <a:off x="0" y="260280"/>
            <a:ext cx="4280040" cy="26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C:\Users\Учитель\Desktop\труд\859boat.jpg"/>
          <p:cNvPicPr/>
          <p:nvPr/>
        </p:nvPicPr>
        <p:blipFill>
          <a:blip r:embed="rId2"/>
          <a:stretch/>
        </p:blipFill>
        <p:spPr>
          <a:xfrm>
            <a:off x="4140360" y="2349360"/>
            <a:ext cx="4667040" cy="3500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http://kolyan.net/uploads/posts/2010-11/1290332879_1283440364_foto-prikol.net_wallpapers-61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0920" y="3395520"/>
            <a:ext cx="44654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http://rechflot-m.users.photofile.ru/photo/rechflot-m/151088435/xlarge/17049773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3189240"/>
            <a:ext cx="5040360" cy="335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http://rechflot-m.users.photofile.ru/photo/rechflot-m/150206510/xlarge/15649128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89000"/>
            <a:ext cx="4176720" cy="31352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http://rechflot-m.users.photofile.ru/photo/rechflot-m/151210296/xlarge/177596515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9280" y="324000"/>
            <a:ext cx="3816360" cy="2865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http://im3-tub-ru.yandex.net/i?id=603319487-55-72&amp;n=21"/>
          <p:cNvPicPr/>
          <p:nvPr/>
        </p:nvPicPr>
        <p:blipFill>
          <a:blip r:embed="rId7"/>
          <a:stretch/>
        </p:blipFill>
        <p:spPr>
          <a:xfrm>
            <a:off x="4923000" y="3716280"/>
            <a:ext cx="400032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http://www.mama-sarova.info/_fr/6/7388040.gif"/>
          <p:cNvPicPr/>
          <p:nvPr/>
        </p:nvPicPr>
        <p:blipFill>
          <a:blip r:embed="rId1"/>
          <a:stretch/>
        </p:blipFill>
        <p:spPr>
          <a:xfrm>
            <a:off x="2916360" y="1700280"/>
            <a:ext cx="3816360" cy="4881600"/>
          </a:xfrm>
          <a:prstGeom prst="rect">
            <a:avLst/>
          </a:prstGeom>
          <a:ln w="0">
            <a:noFill/>
          </a:ln>
        </p:spPr>
      </p:pic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2382840" y="-6480"/>
            <a:ext cx="676764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33465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хема №1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AutoShape 2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5" descr="C:\Users\ьии\OneDrive\Документы\img0044_0.jpg"/>
          <p:cNvPicPr/>
          <p:nvPr/>
        </p:nvPicPr>
        <p:blipFill>
          <a:blip r:embed="rId1"/>
          <a:stretch/>
        </p:blipFill>
        <p:spPr>
          <a:xfrm>
            <a:off x="0" y="1104840"/>
            <a:ext cx="8028000" cy="5753160"/>
          </a:xfrm>
          <a:prstGeom prst="rect">
            <a:avLst/>
          </a:prstGeom>
          <a:ln w="0">
            <a:noFill/>
          </a:ln>
        </p:spPr>
      </p:pic>
      <p:sp>
        <p:nvSpPr>
          <p:cNvPr id="249" name="Текст 5"/>
          <p:cNvSpPr/>
          <p:nvPr/>
        </p:nvSpPr>
        <p:spPr>
          <a:xfrm>
            <a:off x="2771640" y="333360"/>
            <a:ext cx="237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хема №2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C:\Users\Учитель\Desktop\труд\image_48369.jpg"/>
          <p:cNvPicPr/>
          <p:nvPr/>
        </p:nvPicPr>
        <p:blipFill>
          <a:blip r:embed="rId1"/>
          <a:stretch/>
        </p:blipFill>
        <p:spPr>
          <a:xfrm>
            <a:off x="5148360" y="260280"/>
            <a:ext cx="3771720" cy="2830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C:\Users\Учитель\Desktop\труд\image_57525.jpg"/>
          <p:cNvPicPr/>
          <p:nvPr/>
        </p:nvPicPr>
        <p:blipFill>
          <a:blip r:embed="rId2"/>
          <a:stretch/>
        </p:blipFill>
        <p:spPr>
          <a:xfrm>
            <a:off x="5348160" y="3301920"/>
            <a:ext cx="33721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C:\Users\Учитель\Desktop\труд\image_483461.jpg"/>
          <p:cNvPicPr/>
          <p:nvPr/>
        </p:nvPicPr>
        <p:blipFill>
          <a:blip r:embed="rId3"/>
          <a:stretch/>
        </p:blipFill>
        <p:spPr>
          <a:xfrm>
            <a:off x="243000" y="404640"/>
            <a:ext cx="4873680" cy="3649680"/>
          </a:xfrm>
          <a:prstGeom prst="rect">
            <a:avLst/>
          </a:prstGeom>
          <a:ln w="0">
            <a:noFill/>
          </a:ln>
        </p:spPr>
      </p:pic>
      <p:sp>
        <p:nvSpPr>
          <p:cNvPr id="253" name="Прямоугольник 1"/>
          <p:cNvSpPr/>
          <p:nvPr/>
        </p:nvSpPr>
        <p:spPr>
          <a:xfrm>
            <a:off x="393840" y="4194000"/>
            <a:ext cx="45720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Е. Арс</a:t>
            </a: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лывет, плывет 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рабл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 далекие кра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то капитан кораблика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онечно, это я!  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              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C:\Users\Учитель\Desktop\труд\plot.jpg"/>
          <p:cNvPicPr/>
          <p:nvPr/>
        </p:nvPicPr>
        <p:blipFill>
          <a:blip r:embed="rId1"/>
          <a:stretch/>
        </p:blipFill>
        <p:spPr>
          <a:xfrm>
            <a:off x="2556000" y="83664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1"/>
          <p:cNvSpPr/>
          <p:nvPr/>
        </p:nvSpPr>
        <p:spPr>
          <a:xfrm>
            <a:off x="2349360" y="465300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Бревнышки рядком связали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есел, паруса не дал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А он знай себе, плывет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гадались? Это... (плот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C:\Users\Учитель\Desktop\труд\parom_krasnigorie.jpg"/>
          <p:cNvPicPr/>
          <p:nvPr/>
        </p:nvPicPr>
        <p:blipFill>
          <a:blip r:embed="rId1"/>
          <a:stretch/>
        </p:blipFill>
        <p:spPr>
          <a:xfrm>
            <a:off x="395280" y="260280"/>
            <a:ext cx="8028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6:48:11Z</dcterms:created>
  <dc:creator>Учитель</dc:creator>
  <dc:description/>
  <dc:language>en-US</dc:language>
  <cp:lastModifiedBy>ьии</cp:lastModifiedBy>
  <dcterms:modified xsi:type="dcterms:W3CDTF">2016-03-20T03:57:14Z</dcterms:modified>
  <cp:revision>8</cp:revision>
  <dc:subject/>
  <dc:title>Речной флот. Оригами.</dc:title>
</cp:coreProperties>
</file>