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680A-2A44-4388-921C-D17845388A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E735-686F-4C79-8468-33E75C837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138-01F7-447A-BB79-7D3C8935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B99-02A4-4B4E-8596-9FA3B794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9D8-1719-4A0C-AE0D-9ECD9483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D2A-E992-4B32-86CC-C7655016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6AA-03A5-49B2-9C1C-C2A120D5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804A-13DD-4076-9673-69107142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E38A-F411-4CD2-A83A-47790E47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5FC0-A85B-4D2A-8F68-E6157C8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EA92-CBB8-4190-AD16-1A44C3B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0E7-B9E6-4366-B644-C2757BC2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D0D0-CE8D-4C7F-91BC-DA57A6F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034-FB8A-49B4-8731-1BE289E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DD1-9FF5-40F9-9C38-E469EEC1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DDA2-B56D-4921-ADE6-4EBB26FE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17F2-4C6F-4749-AFDA-06EF78BA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A5EB-F028-4B83-A722-70E49D35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84C-78BB-43BE-ABAC-E2DB4126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B9B7-BF7A-48CE-A825-B6870E8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0277-5A4B-4A8A-82F5-AE75F77B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7D3C-11F1-4ECD-B5E4-A3363981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ECF3-DC3A-4E8C-A7AB-9B22FEB3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5F68-FDD6-4EAF-B49F-DA90955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39B-A57E-472F-BBB3-2444A9B6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8591-6BE1-4F01-B4F7-5E5040E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0152-F886-4A6F-ACE7-25DD568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C2B9-3A50-41F0-9501-854586D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7105-827E-4CB6-BEAB-E879428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5651-0DA9-4378-99A7-4D83DA0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9D3A-9281-4021-B6FB-14BE733D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D3C3-DCA7-49BA-B36F-F2709CB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5F2-5CD8-4F0A-9482-BDEF06E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4C9-22DF-4177-A06B-1159D89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6FB-8418-4ACB-A191-23AF4C94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097-5B14-45A3-BAE2-467B42C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DA3-F498-473F-AE7D-608E099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F93-9AD5-4C6F-B62C-3B0CDB11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FCA-1608-432E-8951-095A35F3E1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C4F6-47E1-45E8-8082-2093EC539F2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1F8A-D0AA-4289-8D9A-98A5858C36B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2"/>
          <a:stretch/>
        </p:blipFill>
        <p:spPr>
          <a:xfrm>
            <a:off x="530280" y="0"/>
            <a:ext cx="8265960" cy="3206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003280" y="4508280"/>
            <a:ext cx="2768760" cy="1130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физической. культуры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елушкина А.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User\Desktop\foto_34.jpeg"/>
          <p:cNvPicPr/>
          <p:nvPr/>
        </p:nvPicPr>
        <p:blipFill>
          <a:blip r:embed="rId3"/>
          <a:stretch/>
        </p:blipFill>
        <p:spPr>
          <a:xfrm rot="20556600">
            <a:off x="395280" y="3874680"/>
            <a:ext cx="23763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Что такое физическая культура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Физическая культу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деятельность человека, направленная на укрепление здоровья, развитие физических способностей. Является частью общей культуры человека, а также частью культуры общества. Основные показатели состояния физической культуры в обществе: уровень здоровья и физического развития людей; степень использования физической культуры в сфере воспитания и образования, в производстве, быту, в организации свободного времени; характер системы физического воспитания, развитие массового спорта, высшие спортивные достижения и 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1" descr="C:\Users\User\Desktop\503118_html_1c9625d4.png"/>
          <p:cNvPicPr/>
          <p:nvPr/>
        </p:nvPicPr>
        <p:blipFill>
          <a:blip r:embed="rId2"/>
          <a:stretch/>
        </p:blipFill>
        <p:spPr>
          <a:xfrm>
            <a:off x="7923240" y="814320"/>
            <a:ext cx="11127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Цель спортивного объедине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оздание условий для полноценного физического развития и укрепления    здоровья школьников посредством приобщения к регулярным занятиям спортом, формирование навыков здорового образа жизни, воспитание спортсменов - патриотов своей шко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2" descr="C:\Users\User\Desktop\0000000000121.jpg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должна удовлетворять интересам общества во всестороннем физическом развитии  школьни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ая культура должна использоваться как средство организации здорового образа жизни человека, укрепления здоровья и поддержания долголет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ая культура должна способствовать индивидуальному развитию культуры собственного тела школьника, возможности активно включаться в разнообразные трудовые, физкультурно-спортивные и культурные мероприят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3971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687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должна обеспечивать формирование знаний, умений и навыков в организации и проведении самостоятельных форм занятий, чтобы использовать физические упражнения для целенаправленного развития физических качеств, двигательной подготовки и культуры движений, формирования осанки и телосло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ts val="1687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 должна развивать мышление, научить межличностному общению, уважению к себе и окружающим, давать возможность для самовыражения и содействовать само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Сущность и система физического воспитания школьников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Физическое воспитани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есть целенаправленная, четко органи­зованная и планомерно осуществляемая система физкультурной и спортивной деятельности детей. Она включает подрастающее по­коление в разнообразные формы занятий физической культурой, спортом, военно-прикладной деятельностью, гармонично развивает тело ребенка в единстве с его интеллектом, чувствами, волей и нравствен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Picture 1" descr="C:\Users\User\Desktop\inventar(1).jpg"/>
          <p:cNvPicPr/>
          <p:nvPr/>
        </p:nvPicPr>
        <p:blipFill>
          <a:blip r:embed="rId2"/>
          <a:stretch/>
        </p:blipFill>
        <p:spPr>
          <a:xfrm>
            <a:off x="7443720" y="508464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настя\Desktop\IMG_20161010_134343.jpg"/>
          <p:cNvPicPr/>
          <p:nvPr/>
        </p:nvPicPr>
        <p:blipFill>
          <a:blip r:embed="rId2"/>
          <a:stretch/>
        </p:blipFill>
        <p:spPr>
          <a:xfrm>
            <a:off x="0" y="0"/>
            <a:ext cx="4586400" cy="340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4451400" y="3408480"/>
            <a:ext cx="4313160" cy="32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4"/>
          <a:stretch/>
        </p:blipFill>
        <p:spPr>
          <a:xfrm>
            <a:off x="4586400" y="0"/>
            <a:ext cx="4557600" cy="340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5"/>
          <a:stretch/>
        </p:blipFill>
        <p:spPr>
          <a:xfrm>
            <a:off x="0" y="3408480"/>
            <a:ext cx="44514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100_1059"/>
          <p:cNvPicPr/>
          <p:nvPr/>
        </p:nvPicPr>
        <p:blipFill>
          <a:blip r:embed="rId2"/>
          <a:stretch/>
        </p:blipFill>
        <p:spPr>
          <a:xfrm>
            <a:off x="4716360" y="321300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100_1076"/>
          <p:cNvPicPr/>
          <p:nvPr/>
        </p:nvPicPr>
        <p:blipFill>
          <a:blip r:embed="rId3"/>
          <a:stretch/>
        </p:blipFill>
        <p:spPr>
          <a:xfrm>
            <a:off x="395280" y="2952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100_1106"/>
          <p:cNvPicPr/>
          <p:nvPr/>
        </p:nvPicPr>
        <p:blipFill>
          <a:blip r:embed="rId4"/>
          <a:stretch/>
        </p:blipFill>
        <p:spPr>
          <a:xfrm>
            <a:off x="755640" y="3645000"/>
            <a:ext cx="31798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100_1127"/>
          <p:cNvPicPr/>
          <p:nvPr/>
        </p:nvPicPr>
        <p:blipFill>
          <a:blip r:embed="rId5"/>
          <a:stretch/>
        </p:blipFill>
        <p:spPr>
          <a:xfrm>
            <a:off x="5651640" y="620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692360" y="2276640"/>
            <a:ext cx="70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09:17:32Z</dcterms:created>
  <dc:creator>User</dc:creator>
  <dc:description/>
  <dc:language>en-US</dc:language>
  <cp:lastModifiedBy>admin</cp:lastModifiedBy>
  <dcterms:modified xsi:type="dcterms:W3CDTF">2017-01-12T03:36:14Z</dcterms:modified>
  <cp:revision>23</cp:revision>
  <dc:subject/>
  <dc:title>Роль физической культуры и формирование здорового образа жизни</dc:title>
</cp:coreProperties>
</file>