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761B-77AD-4089-8DB6-C4C810270B4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57DC-9D51-4656-8BD6-AAEBF7DBB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135-953E-461F-8365-1B5AA007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AAD4-5475-4313-A2E1-8A486B14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0E75-94F6-497F-ABE8-B48D1788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53DA-78F2-46AD-9C71-3798F52E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FAAF-E8FB-43EC-9AB2-03E647D1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5166-CAD6-4EA9-8C13-D3677BFB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3B5A-58F4-474E-85C3-294B1B9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EEC-F1B6-44E0-B5D1-3E3A7D28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CEB7-CEAC-4161-B751-B0D148C9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53E8-03A7-45E1-B465-3529B04F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075C2-1F2F-4EF7-9E4C-14F8D327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1A0E-DD76-4D03-9921-3EC34BF5D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3150-5E33-4E47-9D32-1C51D34C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C937-4294-478C-94BF-0B9E947F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114E-1D3D-40ED-9CE1-05B9EB24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0695-645D-4AC0-98BE-CDA8369E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CF18-E4B0-4DEC-9512-1514BA9A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BB416-C0B6-4078-8024-B5C1A678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CFCE4-302D-4710-BEF5-35CB8EDB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47D4-111B-4B90-AFFB-3E768B84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395A-417B-451B-98D1-4142BB6B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354E-88BE-45C8-869C-ABADD0AC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4F5-07DA-4FEC-8363-ECD40FE8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EEF06-794A-4F9D-A975-94CC8BB4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2248-95CF-4263-9A40-EBDFDE18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3127-22F6-4160-9B17-313DCED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A986E-5333-4AE8-9B6F-318D3160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7C6E-AF40-48B6-8F9A-0E4F81C1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C43B6-BC2B-4A88-B6DB-08CF6D16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2B535-E73E-42EB-87B5-826F6EA6F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62C-0F03-4915-B12A-9144143E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BD3B-4235-411F-A06D-E4FFD7A3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E4D3-A7E4-42EC-8741-7503DACA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95EE-297E-46B3-A45A-9F52D2A5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3300-E3B3-4B01-B3CA-EA18C985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6016-3825-4A15-83CB-8FE3E93C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B4B8-986A-4A11-A5BA-7201951ED53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905F-20DC-4257-94C1-DEA4E01EE519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D4B8-30A1-4582-A69C-7B765CF601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Заголовок 1" descr=""/>
          <p:cNvPicPr/>
          <p:nvPr/>
        </p:nvPicPr>
        <p:blipFill>
          <a:blip r:embed="rId2"/>
          <a:stretch/>
        </p:blipFill>
        <p:spPr>
          <a:xfrm>
            <a:off x="530280" y="0"/>
            <a:ext cx="8265960" cy="3206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5003280" y="4508280"/>
            <a:ext cx="2768760" cy="1130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читель физической. культуры: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Белушкина А.С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59" name="Picture 2" descr="C:\Users\User\Desktop\foto_34.jpeg"/>
          <p:cNvPicPr/>
          <p:nvPr/>
        </p:nvPicPr>
        <p:blipFill>
          <a:blip r:embed="rId3"/>
          <a:stretch/>
        </p:blipFill>
        <p:spPr>
          <a:xfrm rot="20556600">
            <a:off x="395280" y="3874680"/>
            <a:ext cx="237636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Что такое физическая культура?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Физическая культур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- деятельность человека, направленная на укрепление здоровья, развитие физических способностей. Является частью общей культуры человека, а также частью культуры общества. Основные показатели состояния физической культуры в обществе: уровень здоровья и физического развития людей; степень использования физической культуры в сфере воспитания и образования, в производстве, быту, в организации свободного времени; характер системы физического воспитания, развитие массового спорта, высшие спортивные достижения и др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2" name="Picture 1" descr="C:\Users\User\Desktop\503118_html_1c9625d4.png"/>
          <p:cNvPicPr/>
          <p:nvPr/>
        </p:nvPicPr>
        <p:blipFill>
          <a:blip r:embed="rId2"/>
          <a:stretch/>
        </p:blipFill>
        <p:spPr>
          <a:xfrm>
            <a:off x="7923240" y="814320"/>
            <a:ext cx="111276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22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Цель спортивного объединения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оздание условий для полноценного физического развития и укрепления    здоровья школьников посредством приобщения к регулярным занятиям спортом, формирование навыков здорового образа жизни, воспитание спортсменов - патриотов своей школ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Picture 2" descr="C:\Users\User\Desktop\0000000000121.jpg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1687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должна удовлетворять интересам общества во всестороннем физическом развитии  школьник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687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ая культура должна использоваться как средство организации здорового образа жизни человека, укрепления здоровья и поддержания долголет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687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изическая культура должна способствовать индивидуальному развитию культуры собственного тела школьника, возможности активно включаться в разнообразные трудовые, физкультурно-спортивные и культурные мероприятия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13971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ts val="1687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должна обеспечивать формирование знаний, умений и навыков в организации и проведении самостоятельных форм занятий, чтобы использовать физические упражнения для целенаправленного развития физических качеств, двигательной подготовки и культуры движений, формирования осанки и телосложе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just">
              <a:lnSpc>
                <a:spcPts val="1687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ts val="1687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культура  должна развивать мышление, научить межличностному общению, уважению к себе и окружающим, давать возможность для самовыражения и содействовать само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Сущность и система физического воспитания школьников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Физическое воспитание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есть целенаправленная, четко органи­зованная и планомерно осуществляемая система физкультурной и спортивной деятельности детей. Она включает подрастающее по­коление в разнообразные формы занятий физической культурой, спортом, военно-прикладной деятельностью, гармонично развивает тело ребенка в единстве с его интеллектом, чувствами, волей и нравственность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2" name="Picture 1" descr="C:\Users\User\Desktop\inventar(1).jpg"/>
          <p:cNvPicPr/>
          <p:nvPr/>
        </p:nvPicPr>
        <p:blipFill>
          <a:blip r:embed="rId2"/>
          <a:stretch/>
        </p:blipFill>
        <p:spPr>
          <a:xfrm>
            <a:off x="7443720" y="5084640"/>
            <a:ext cx="15922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C:\Users\настя\Desktop\IMG_20161010_134343.jpg"/>
          <p:cNvPicPr/>
          <p:nvPr/>
        </p:nvPicPr>
        <p:blipFill>
          <a:blip r:embed="rId2"/>
          <a:stretch/>
        </p:blipFill>
        <p:spPr>
          <a:xfrm>
            <a:off x="0" y="0"/>
            <a:ext cx="4586400" cy="34084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"/>
          <p:cNvPicPr/>
          <p:nvPr/>
        </p:nvPicPr>
        <p:blipFill>
          <a:blip r:embed="rId3"/>
          <a:stretch/>
        </p:blipFill>
        <p:spPr>
          <a:xfrm>
            <a:off x="4451400" y="3408480"/>
            <a:ext cx="4313160" cy="3276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4"/>
          <a:stretch/>
        </p:blipFill>
        <p:spPr>
          <a:xfrm>
            <a:off x="4586400" y="0"/>
            <a:ext cx="4557600" cy="3408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5"/>
          <a:stretch/>
        </p:blipFill>
        <p:spPr>
          <a:xfrm>
            <a:off x="0" y="3408480"/>
            <a:ext cx="445140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100_1059"/>
          <p:cNvPicPr/>
          <p:nvPr/>
        </p:nvPicPr>
        <p:blipFill>
          <a:blip r:embed="rId2"/>
          <a:stretch/>
        </p:blipFill>
        <p:spPr>
          <a:xfrm>
            <a:off x="4716360" y="3213000"/>
            <a:ext cx="4187880" cy="3141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100_1076"/>
          <p:cNvPicPr/>
          <p:nvPr/>
        </p:nvPicPr>
        <p:blipFill>
          <a:blip r:embed="rId3"/>
          <a:stretch/>
        </p:blipFill>
        <p:spPr>
          <a:xfrm>
            <a:off x="395280" y="29520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100_1106"/>
          <p:cNvPicPr/>
          <p:nvPr/>
        </p:nvPicPr>
        <p:blipFill>
          <a:blip r:embed="rId4"/>
          <a:stretch/>
        </p:blipFill>
        <p:spPr>
          <a:xfrm>
            <a:off x="755640" y="3645000"/>
            <a:ext cx="317988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100_1127"/>
          <p:cNvPicPr/>
          <p:nvPr/>
        </p:nvPicPr>
        <p:blipFill>
          <a:blip r:embed="rId5"/>
          <a:stretch/>
        </p:blipFill>
        <p:spPr>
          <a:xfrm>
            <a:off x="5651640" y="620640"/>
            <a:ext cx="302400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1"/>
          <p:cNvSpPr/>
          <p:nvPr/>
        </p:nvSpPr>
        <p:spPr>
          <a:xfrm>
            <a:off x="1692360" y="2276640"/>
            <a:ext cx="705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09:17:32Z</dcterms:created>
  <dc:creator>User</dc:creator>
  <dc:description/>
  <dc:language>en-US</dc:language>
  <cp:lastModifiedBy>admin</cp:lastModifiedBy>
  <dcterms:modified xsi:type="dcterms:W3CDTF">2017-01-12T03:36:14Z</dcterms:modified>
  <cp:revision>23</cp:revision>
  <dc:subject/>
  <dc:title>Роль физической культуры и формирование здорового образа жизни</dc:title>
</cp:coreProperties>
</file>