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01C-A1B0-4805-AF7C-BE37C81E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1B6-A529-4FD7-9182-FE7264A9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9DC-4FF4-424D-A1F1-1EB1EAF7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303-8809-4C6F-BC21-05E0F2C9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080C-1CD8-4B8B-8C45-E1809E4D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D075-41ED-4988-B72F-61A17C1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0B24-8CAC-4924-9F66-D0C5AB2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19AB-E7D2-4D1D-9432-ED28753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E011-4A8F-4AAD-8EAC-A81B4BF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431D-A102-469F-8BAA-8906A3AF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298F-2CEE-4D63-8D18-77E73DE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B1B-09CF-43E0-BB6E-BE9938E0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3FAE-B07E-49AD-AEA6-6E255873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A9BE-3CF1-48C8-B2BF-A480830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5D28-635E-45A8-836D-F263ED72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9B5D-40A7-45F1-B8FB-322C98CF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1B4-3E49-41A0-8C60-6EDE3054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D24-7E38-4FFE-9C48-73777443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FD0-088E-4016-AA23-0CF607D7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2FC-32DB-4008-9926-1C7B7B2D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86F-6472-4CF9-BDA3-3E45AD67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CCF-EBB9-448A-AFBE-0A1F017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0E7-A2A0-42C2-9BD0-7ACE97BF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840-B1F1-4042-938A-F764AEC0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C670-6AEE-4CB6-9940-CBFAB41F5EA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C120-44B9-4D48-B269-67AE764529F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87;&#1089;&#1080;&#1093;&#1086;&#1083;&#1086;&#1075;&#1086;-&#1087;&#1077;&#1076;&#1072;&#1075;&#1086;&#1075;&#1080;&#1095;&#1077;&#1089;&#1082;&#1072;&#1103;%20&#1093;&#1072;&#1088;&#1082;&#1072;&#1090;&#1077;&#1088;&#1080;&#1089;&#1090;&#1080;&#1082;&#1072;.od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hyperlink" Target="file:///&#1050;&#1072;&#1088;&#1090;&#1086;&#1096;&#1082;&#1072;&#1052;&#1080;&#1085;&#1077;&#1090;&#1076;&#1080;&#1085;&#1086;&#1074;&#1072;/&#1082;&#1088;&#1086;&#1089;&#1089;&#1074;&#1086;&#1088;&#1076;.htm" TargetMode="External"/><Relationship Id="rId6" Type="http://schemas.openxmlformats.org/officeDocument/2006/relationships/hyperlink" Target="file:///&#1050;&#1072;&#1088;&#1090;&#1086;&#1096;&#1082;&#1072;&#1052;&#1080;&#1085;&#1077;&#1090;&#1076;&#1080;&#1085;&#1086;&#1074;&#1072;/&#1087;&#1086;&#1089;&#1083;&#1077;&#1076;&#1086;&#1074;&#1072;&#1090;&#1077;&#1083;&#1100;&#1085;&#1086;&#1089;&#1090;&#1100;.htm" TargetMode="External"/><Relationship Id="rId7" Type="http://schemas.openxmlformats.org/officeDocument/2006/relationships/hyperlink" Target="file:///&#1050;&#1072;&#1088;&#1090;&#1086;&#1096;&#1082;&#1072;&#1052;&#1080;&#1085;&#1077;&#1090;&#1076;&#1080;&#1085;&#1086;&#1074;&#1072;/&#1087;&#1088;&#1086;&#1087;&#1091;&#1089;&#1082;&#1080;.htm" TargetMode="External"/><Relationship Id="rId8" Type="http://schemas.openxmlformats.org/officeDocument/2006/relationships/hyperlink" Target="file:///Cvetnye_voprosy.pptx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6640" y="146160"/>
            <a:ext cx="8242560" cy="283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(а):  Минетдинова Алия Хасановн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английского языка ГБОУ СОШ №1 «ОЦ» п.г.т.Стройкерам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36" name="Солнце 2"/>
          <p:cNvSpPr/>
          <p:nvPr/>
        </p:nvSpPr>
        <p:spPr>
          <a:xfrm>
            <a:off x="3429000" y="2286000"/>
            <a:ext cx="1800360" cy="792000"/>
          </a:xfrm>
          <a:prstGeom prst="sun">
            <a:avLst>
              <a:gd name="adj" fmla="val 25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33840" y="5715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720160" y="5786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4141800" y="4929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-shi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720480" y="4429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2071800" y="442908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r c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719400" y="60008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5361840" y="57150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лево 10"/>
          <p:cNvSpPr/>
          <p:nvPr/>
        </p:nvSpPr>
        <p:spPr>
          <a:xfrm>
            <a:off x="7451640" y="6000840"/>
            <a:ext cx="1692360" cy="857160"/>
          </a:xfrm>
          <a:prstGeom prst="leftArrow">
            <a:avLst>
              <a:gd name="adj1" fmla="val 50000"/>
              <a:gd name="adj2" fmla="val 4104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4676 L -0.21233 -0.35116 E">
                                      <p:cBhvr>
                                        <p:cTn id="3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7754 L 0.00955 -0.40301 E">
                                      <p:cBhvr>
                                        <p:cTn id="4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6621 L 0.33819 -0.52825 E">
                                      <p:cBhvr>
                                        <p:cTn id="4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9769 L -0.1033 -0.4757 E">
                                      <p:cBhvr>
                                        <p:cTn id="5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ременные ИКТ представляют для обучения принципиально новые возможности. Данн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предлагает различные типы интерактивных заданий и игр, позволяющие на каком-то этапе урока организовать самостоятельную работу ученика при закреплении лексического материала по иностранному языку по теме «Одежда» в 6-м класс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644400" y="1714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663840" y="1643040"/>
            <a:ext cx="841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с ОВЗ - это «особые» дети, состояние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ых препятствует освоению образов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 вне специальных условий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компьютеров в учебной и внеуроч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ятельности школы выглядит очень естественным,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чки зрения ребёнка и является одним из эффектив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ов повышения мотивации и индивиду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го обучения, развития творческих способносте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благоприятного эмоционального ф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71080" y="1928880"/>
            <a:ext cx="880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мотря на то, что проблема развития интереса к уч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школьников с ОВЗ исследуется различными автор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а и сегодня является одной из актуальных и сложнейш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о - педагогических проблем. У значите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и учащихся с ОВЗ  наблюдается преобладание низ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ня развития познавательного интереса, которы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оде из класса в класс у многих остаётся на прежн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не или даже снижает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09560" y="6072120"/>
            <a:ext cx="383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Психолого-педагогическая характеристика учен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777240" y="1928880"/>
            <a:ext cx="835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путей и средств повышения 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познавательного интереса у младш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ольников показывает, что одним из приоритетных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м направлении, наряду с традиционными, признаё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средств ИКТ. Применение электро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х материалов на уроках и занятиях не только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ым миром, но и способствует развитию 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ой компетентности и коррек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вательной сф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400960" cy="15001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53080" y="1225440"/>
            <a:ext cx="908856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применения ИКТ формирование УУД в объемах и измерениях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черченных стандартом, невозможно. Тем самым ИКТ-компетентность  станови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ом для формирования УУД в современной массовой школе. Сегодня УУ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дается огромное значение. Это совокупность способов действий обучающегос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торая обеспечивает его способность к самостоятельному усвоению новых знаний, включ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организацию самого процесса усвоения. УУД можно сгруппировать в четыре основ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ока: 1) личностные; 2) регулятивные; 3) познавательные; 4) коммуникатив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чностные действия позволяют сделать учение осмысленным, увязывая и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льными жизненными целями и ситуац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ятивные действия обеспечивают возможность управления познавательной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бной деятельностью посредством постановки целей, планирования, контрол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ррекции своих действий, оценки успешности усво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навательные действия включают действия исследования, поиска, отбора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уктурирования необходимой информации, моделирования изучаемого содержания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ммуникативные действия обеспечивают возможности сотрудничества: ум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ышать, слушать и понимать партнера, планировать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сованно выполнять совместную деятельность, распределять роли, взаим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тролировать действия друг друга, уметь договар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тьс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ести дискуссию, правиль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ражать свои мысли, оказывать поддержку друг другу и эффективно сотрудничать как 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ем, так и со сверстн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1160" y="176040"/>
            <a:ext cx="3127320" cy="84780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2"/>
          <p:cNvSpPr/>
          <p:nvPr/>
        </p:nvSpPr>
        <p:spPr>
          <a:xfrm>
            <a:off x="0" y="1285920"/>
            <a:ext cx="4071960" cy="16430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 action="ppaction://hlinksldjump"/>
              </a:rPr>
              <a:t>Распредели по групп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 action="ppaction://hlinksldjump"/>
              </a:rPr>
              <a:t>Что лишн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4" action="ppaction://hlinksldjump"/>
              </a:rPr>
              <a:t>На переме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786200" y="28584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я на закреп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4286160" y="1357200"/>
            <a:ext cx="4857840" cy="15004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Кроссв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Восстанови последов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Заполни пропу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57120" y="35719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я на обоб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357120" y="4143240"/>
            <a:ext cx="3714840" cy="1486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8"/>
              </a:rPr>
              <a:t>Цветные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нови соответ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000760" y="36432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оговы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Скругленный прямоугольник 10"/>
          <p:cNvSpPr/>
          <p:nvPr/>
        </p:nvSpPr>
        <p:spPr>
          <a:xfrm>
            <a:off x="5000760" y="4143240"/>
            <a:ext cx="4000320" cy="15573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ст на оце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т слайд использует макрос Drag and Drop, созданный hw@lemitec.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2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8" descr=""/>
          <p:cNvPicPr/>
          <p:nvPr/>
        </p:nvPicPr>
        <p:blipFill>
          <a:blip r:embed="rId2"/>
          <a:stretch/>
        </p:blipFill>
        <p:spPr>
          <a:xfrm>
            <a:off x="993600" y="1238400"/>
            <a:ext cx="201168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9" descr=""/>
          <p:cNvPicPr/>
          <p:nvPr/>
        </p:nvPicPr>
        <p:blipFill>
          <a:blip r:embed="rId3"/>
          <a:stretch/>
        </p:blipFill>
        <p:spPr>
          <a:xfrm>
            <a:off x="4780080" y="1170000"/>
            <a:ext cx="2011320" cy="450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1"/>
          <p:cNvSpPr/>
          <p:nvPr/>
        </p:nvSpPr>
        <p:spPr>
          <a:xfrm>
            <a:off x="1006560" y="52862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t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2292120" y="5572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3075120" y="5357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4220280" y="550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1471320" y="29876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348560" y="34052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1411560" y="2508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5576400" y="44290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8362080" y="48578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1412640" y="18972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4578480" y="47862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ля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5418000" y="3352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ф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5578560" y="5572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б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7288200" y="5143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еж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6718680" y="48578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5320440" y="2917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ба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5618160" y="19065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у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5253120" y="230652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сс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9"/>
          <p:cNvSpPr/>
          <p:nvPr/>
        </p:nvSpPr>
        <p:spPr>
          <a:xfrm>
            <a:off x="5715000" y="50720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тю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30"/>
          <p:cNvSpPr/>
          <p:nvPr/>
        </p:nvSpPr>
        <p:spPr>
          <a:xfrm>
            <a:off x="-1569960" y="-28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ю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Стрелка влево 25"/>
          <p:cNvSpPr/>
          <p:nvPr/>
        </p:nvSpPr>
        <p:spPr>
          <a:xfrm>
            <a:off x="7000920" y="6000840"/>
            <a:ext cx="1692360" cy="857160"/>
          </a:xfrm>
          <a:prstGeom prst="leftArrow">
            <a:avLst>
              <a:gd name="adj1" fmla="val 50000"/>
              <a:gd name="adj2" fmla="val 4104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2"/>
          <a:stretch/>
        </p:blipFill>
        <p:spPr>
          <a:xfrm>
            <a:off x="1566720" y="2786040"/>
            <a:ext cx="363852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3" descr=""/>
          <p:cNvPicPr/>
          <p:nvPr/>
        </p:nvPicPr>
        <p:blipFill>
          <a:blip r:embed="rId3"/>
          <a:stretch/>
        </p:blipFill>
        <p:spPr>
          <a:xfrm>
            <a:off x="4668840" y="2066760"/>
            <a:ext cx="3225960" cy="121284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4"/>
          <a:stretch/>
        </p:blipFill>
        <p:spPr>
          <a:xfrm>
            <a:off x="731880" y="1500120"/>
            <a:ext cx="2498760" cy="12128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5" descr=""/>
          <p:cNvPicPr/>
          <p:nvPr/>
        </p:nvPicPr>
        <p:blipFill>
          <a:blip r:embed="rId5"/>
          <a:stretch/>
        </p:blipFill>
        <p:spPr>
          <a:xfrm>
            <a:off x="5303880" y="4853160"/>
            <a:ext cx="2462040" cy="121284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6"/>
          <p:cNvSpPr/>
          <p:nvPr/>
        </p:nvSpPr>
        <p:spPr>
          <a:xfrm>
            <a:off x="7000920" y="6000840"/>
            <a:ext cx="1692360" cy="857160"/>
          </a:xfrm>
          <a:prstGeom prst="leftArrow">
            <a:avLst>
              <a:gd name="adj1" fmla="val 50000"/>
              <a:gd name="adj2" fmla="val 4104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cde</cp:lastModifiedBy>
  <dcterms:modified xsi:type="dcterms:W3CDTF">2016-12-15T11:58:09Z</dcterms:modified>
  <cp:revision>79</cp:revision>
  <dc:subject/>
  <dc:title>Слайд 1</dc:title>
</cp:coreProperties>
</file>