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A7F-A16D-42F5-9D30-DBC8482B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074-CCAB-4B13-A3D0-C76E0C14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C1C-3D60-4BC2-BD48-8B700912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471-CCCB-4313-8ABE-82C0B440E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0134-C7B1-48A5-BAF2-230DE969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C50E-45B3-4DB9-9F92-50665482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03C4-90BF-42DE-974F-DBF92088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F158-B12C-44D0-8529-27B4EBED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36F8-1A15-484D-A0A4-51595C97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A12D-17AE-4953-A2C8-35F71F89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6072-3C63-4BFC-B1D9-3B349C2F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9F9D-D9E2-49C0-ACBC-A4938E72E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EC49-6E1E-4C0F-A14C-DA36CDD2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6228-7006-49E0-9047-784E8C85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ABF6-F791-4500-8EA1-70D57CAE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2C3E-2B78-4932-9C16-25A7C990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30EA-7346-472E-8395-D5DA9F6E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EDB-0654-4801-B631-38A1E0B3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F742-CE64-47C1-A4D3-40E9258F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7F5-005C-4160-A51B-990A23C0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AE2-DD5C-4D11-8280-3A7BFB1C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7A1A-BF2D-4E58-8B96-1E70B91F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15BC-9DC8-4B34-9471-8F921DC5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B59-BCBC-44C7-9A7F-6A19ED92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92BC-9B02-4558-A4D3-FA5C833B33F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DBF7-0836-4893-9470-E1957C360A56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1087;&#1089;&#1080;&#1093;&#1086;&#1083;&#1086;&#1075;&#1086;-&#1087;&#1077;&#1076;&#1072;&#1075;&#1086;&#1075;&#1080;&#1095;&#1077;&#1089;&#1082;&#1072;&#1103;%20&#1093;&#1072;&#1088;&#1082;&#1072;&#1090;&#1077;&#1088;&#1080;&#1089;&#1090;&#1080;&#1082;&#1072;.odt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hyperlink" Target="file:///&#1050;&#1072;&#1088;&#1090;&#1086;&#1096;&#1082;&#1072;&#1052;&#1080;&#1085;&#1077;&#1090;&#1076;&#1080;&#1085;&#1086;&#1074;&#1072;/&#1082;&#1088;&#1086;&#1089;&#1089;&#1074;&#1086;&#1088;&#1076;.htm" TargetMode="External"/><Relationship Id="rId6" Type="http://schemas.openxmlformats.org/officeDocument/2006/relationships/hyperlink" Target="file:///&#1050;&#1072;&#1088;&#1090;&#1086;&#1096;&#1082;&#1072;&#1052;&#1080;&#1085;&#1077;&#1090;&#1076;&#1080;&#1085;&#1086;&#1074;&#1072;/&#1087;&#1086;&#1089;&#1083;&#1077;&#1076;&#1086;&#1074;&#1072;&#1090;&#1077;&#1083;&#1100;&#1085;&#1086;&#1089;&#1090;&#1100;.htm" TargetMode="External"/><Relationship Id="rId7" Type="http://schemas.openxmlformats.org/officeDocument/2006/relationships/hyperlink" Target="file:///&#1050;&#1072;&#1088;&#1090;&#1086;&#1096;&#1082;&#1072;&#1052;&#1080;&#1085;&#1077;&#1090;&#1076;&#1080;&#1085;&#1086;&#1074;&#1072;/&#1087;&#1088;&#1086;&#1087;&#1091;&#1089;&#1082;&#1080;.htm" TargetMode="External"/><Relationship Id="rId8" Type="http://schemas.openxmlformats.org/officeDocument/2006/relationships/hyperlink" Target="file:///Cvetnye_voprosy.pptx" TargetMode="Externa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66640" y="146160"/>
            <a:ext cx="8242560" cy="2835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00120" y="40006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полнил(а):  Минетдинова Алия Хасановна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английского языка ГБОУ СОШ №1 «ОЦ» п.г.т.Стройкерам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36" name="Солнце 2"/>
          <p:cNvSpPr/>
          <p:nvPr/>
        </p:nvSpPr>
        <p:spPr>
          <a:xfrm>
            <a:off x="3429000" y="2286000"/>
            <a:ext cx="1800360" cy="792000"/>
          </a:xfrm>
          <a:prstGeom prst="sun">
            <a:avLst>
              <a:gd name="adj" fmla="val 25000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Box 3"/>
          <p:cNvSpPr/>
          <p:nvPr/>
        </p:nvSpPr>
        <p:spPr>
          <a:xfrm>
            <a:off x="933840" y="571500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2720160" y="578628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4141800" y="49291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-shi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6720480" y="44290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2071800" y="442908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r co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6719400" y="60008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5361840" y="57150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трелка влево 10"/>
          <p:cNvSpPr/>
          <p:nvPr/>
        </p:nvSpPr>
        <p:spPr>
          <a:xfrm>
            <a:off x="7451640" y="6000840"/>
            <a:ext cx="1692360" cy="857160"/>
          </a:xfrm>
          <a:prstGeom prst="leftArrow">
            <a:avLst>
              <a:gd name="adj1" fmla="val 50000"/>
              <a:gd name="adj2" fmla="val 41042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 содержан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-0.04676 L -0.21233 -0.35116 E">
                                      <p:cBhvr>
                                        <p:cTn id="37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7754 L 0.00955 -0.40301 E">
                                      <p:cBhvr>
                                        <p:cTn id="42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6621 L 0.33819 -0.52825 E">
                                      <p:cBhvr>
                                        <p:cTn id="4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04 -0.09769 L -0.1033 -0.4757 E">
                                      <p:cBhvr>
                                        <p:cTn id="5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временные ИКТ представляют для обучения принципиально новые возможности. Данна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ота предлагает различные типы интерактивных заданий и игр, позволяющие на каком-то этапе урока организовать самостоятельную работу ученика при закреплении лексического материала по иностранному языку по теме «Одежда» в 6-м класс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644400" y="17146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663840" y="1643040"/>
            <a:ext cx="841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ти с ОВЗ - это «особые» дети, состояние здоровь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торых препятствует освоению образователь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 вне специальных условий обу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компьютеров в учебной и внеуроч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ятельности школы выглядит очень естественным,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очки зрения ребёнка и является одним из эффектив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ов повышения мотивации и индивидуализ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го обучения, развития творческих способностей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благоприятного эмоционального ф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71080" y="1928880"/>
            <a:ext cx="8808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смотря на то, что проблема развития интереса к учен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школьников с ОВЗ исследуется различными автора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а и сегодня является одной из актуальных и сложнейш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сихолого - педагогических проблем. У значитель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асти учащихся с ОВЗ  наблюдается преобладание низк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вня развития познавательного интереса, который п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ходе из класса в класс у многих остаётся на прежн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вне или даже снижаетс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509560" y="6072120"/>
            <a:ext cx="383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10082"/>
                </a:solidFill>
                <a:uFillTx/>
                <a:latin typeface="Arial"/>
                <a:hlinkClick r:id="rId2"/>
              </a:rPr>
              <a:t>Психолого-педагогическая характеристика учен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777240" y="1928880"/>
            <a:ext cx="835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 путей и средств повышения эффектив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я познавательного интереса у младш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ольников показывает, что одним из приоритетных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м направлении, наряду с традиционными, признаё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средств ИКТ. Применение электро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х материалов на уроках и занятиях не только 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метным миром, но и способствует развитию 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ой компетентности и коррек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вательной сф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7200" y="109440"/>
            <a:ext cx="8400960" cy="15001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53080" y="1225440"/>
            <a:ext cx="9088560" cy="59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з применения ИКТ формирование УУД в объемах и измерениях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черченных стандартом, невозможно. Тем самым ИКТ-компетентность  становитс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даментом для формирования УУД в современной массовой школе. Сегодня УУ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дается огромное значение. Это совокупность способов действий обучающегося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торая обеспечивает его способность к самостоятельному усвоению новых знаний, включ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 организацию самого процесса усвоения. УУД можно сгруппировать в четыре основ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лока: 1) личностные; 2) регулятивные; 3) познавательные; 4) коммуникативны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Личностные действия позволяют сделать учение осмысленным, увязывая их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альными жизненными целями и ситуация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гулятивные действия обеспечивают возможность управления познавательной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бной деятельностью посредством постановки целей, планирования, контрол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ррекции своих действий, оценки успешности усвоени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знавательные действия включают действия исследования, поиска, отбора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труктурирования необходимой информации, моделирования изучаемого содержания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ммуникативные действия обеспечивают возможности сотрудничества: ум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лышать, слушать и понимать партнера, планировать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гласованно выполнять совместную деятельность, распределять роли, взаим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тролировать действия друг друга, уметь договар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тьс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вести дискуссию, правиль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ражать свои мысли, оказывать поддержку друг другу и эффективно сотрудничать как 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ителем, так и со сверстник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81160" y="176040"/>
            <a:ext cx="3127320" cy="847800"/>
          </a:xfrm>
          <a:prstGeom prst="rect">
            <a:avLst/>
          </a:prstGeom>
          <a:ln w="0">
            <a:noFill/>
          </a:ln>
        </p:spPr>
      </p:pic>
      <p:sp>
        <p:nvSpPr>
          <p:cNvPr id="97" name="Скругленный прямоугольник 2"/>
          <p:cNvSpPr/>
          <p:nvPr/>
        </p:nvSpPr>
        <p:spPr>
          <a:xfrm>
            <a:off x="0" y="1285920"/>
            <a:ext cx="4071960" cy="16430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2" action="ppaction://hlinksldjump"/>
              </a:rPr>
              <a:t>Распредели по групп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3" action="ppaction://hlinksldjump"/>
              </a:rPr>
              <a:t>Что лишне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4" action="ppaction://hlinksldjump"/>
              </a:rPr>
              <a:t>На перемещ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4786200" y="28584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ния на закреп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Скругленный прямоугольник 4"/>
          <p:cNvSpPr/>
          <p:nvPr/>
        </p:nvSpPr>
        <p:spPr>
          <a:xfrm>
            <a:off x="4286160" y="1357200"/>
            <a:ext cx="4857840" cy="15004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5"/>
              </a:rPr>
              <a:t>Кроссвор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6"/>
              </a:rPr>
              <a:t>Восстанови последова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7"/>
              </a:rPr>
              <a:t>Заполни пропу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57120" y="3571920"/>
            <a:ext cx="42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ния на обобщ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Скругленный прямоугольник 6"/>
          <p:cNvSpPr/>
          <p:nvPr/>
        </p:nvSpPr>
        <p:spPr>
          <a:xfrm>
            <a:off x="357120" y="4143240"/>
            <a:ext cx="3714840" cy="1486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10082"/>
                </a:solidFill>
                <a:uFillTx/>
                <a:latin typeface="Times New Roman"/>
                <a:hlinkClick r:id="rId8"/>
              </a:rPr>
              <a:t>Цветные вопро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станови соответств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икторина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5000760" y="364320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тоговый контро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Скругленный прямоугольник 10"/>
          <p:cNvSpPr/>
          <p:nvPr/>
        </p:nvSpPr>
        <p:spPr>
          <a:xfrm>
            <a:off x="5000760" y="4143240"/>
            <a:ext cx="4000320" cy="15573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ст на оцен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042920" y="630864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от слайд использует макрос Drag and Drop, созданный hw@lemitec.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Заголовок 2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8" descr=""/>
          <p:cNvPicPr/>
          <p:nvPr/>
        </p:nvPicPr>
        <p:blipFill>
          <a:blip r:embed="rId2"/>
          <a:stretch/>
        </p:blipFill>
        <p:spPr>
          <a:xfrm>
            <a:off x="993600" y="1238400"/>
            <a:ext cx="2011680" cy="45720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9" descr=""/>
          <p:cNvPicPr/>
          <p:nvPr/>
        </p:nvPicPr>
        <p:blipFill>
          <a:blip r:embed="rId3"/>
          <a:stretch/>
        </p:blipFill>
        <p:spPr>
          <a:xfrm>
            <a:off x="4780080" y="1170000"/>
            <a:ext cx="2011320" cy="4507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1"/>
          <p:cNvSpPr/>
          <p:nvPr/>
        </p:nvSpPr>
        <p:spPr>
          <a:xfrm>
            <a:off x="1006560" y="52862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t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2292120" y="5572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o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3075120" y="5357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4220280" y="550080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1471320" y="29876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i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16"/>
          <p:cNvSpPr/>
          <p:nvPr/>
        </p:nvSpPr>
        <p:spPr>
          <a:xfrm>
            <a:off x="1348560" y="34052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1411560" y="250812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i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5576400" y="442908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9"/>
          <p:cNvSpPr/>
          <p:nvPr/>
        </p:nvSpPr>
        <p:spPr>
          <a:xfrm>
            <a:off x="8362080" y="485784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ki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1412640" y="189720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o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Box 21"/>
          <p:cNvSpPr/>
          <p:nvPr/>
        </p:nvSpPr>
        <p:spPr>
          <a:xfrm>
            <a:off x="4578480" y="47862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ля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5418000" y="3352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уф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5578560" y="55720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б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Box 24"/>
          <p:cNvSpPr/>
          <p:nvPr/>
        </p:nvSpPr>
        <p:spPr>
          <a:xfrm>
            <a:off x="7288200" y="51436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еж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25"/>
          <p:cNvSpPr/>
          <p:nvPr/>
        </p:nvSpPr>
        <p:spPr>
          <a:xfrm>
            <a:off x="6718680" y="485784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ь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26"/>
          <p:cNvSpPr/>
          <p:nvPr/>
        </p:nvSpPr>
        <p:spPr>
          <a:xfrm>
            <a:off x="5320440" y="291780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ба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Box 27"/>
          <p:cNvSpPr/>
          <p:nvPr/>
        </p:nvSpPr>
        <p:spPr>
          <a:xfrm>
            <a:off x="5618160" y="19065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уз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28"/>
          <p:cNvSpPr/>
          <p:nvPr/>
        </p:nvSpPr>
        <p:spPr>
          <a:xfrm>
            <a:off x="5253120" y="230652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оссо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29"/>
          <p:cNvSpPr/>
          <p:nvPr/>
        </p:nvSpPr>
        <p:spPr>
          <a:xfrm>
            <a:off x="5715000" y="50720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стю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30"/>
          <p:cNvSpPr/>
          <p:nvPr/>
        </p:nvSpPr>
        <p:spPr>
          <a:xfrm>
            <a:off x="-1569960" y="-2844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рю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Стрелка влево 25"/>
          <p:cNvSpPr/>
          <p:nvPr/>
        </p:nvSpPr>
        <p:spPr>
          <a:xfrm>
            <a:off x="7000920" y="6000840"/>
            <a:ext cx="1692360" cy="857160"/>
          </a:xfrm>
          <a:prstGeom prst="leftArrow">
            <a:avLst>
              <a:gd name="adj1" fmla="val 50000"/>
              <a:gd name="adj2" fmla="val 41042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 содержан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2" descr=""/>
          <p:cNvPicPr/>
          <p:nvPr/>
        </p:nvPicPr>
        <p:blipFill>
          <a:blip r:embed="rId2"/>
          <a:stretch/>
        </p:blipFill>
        <p:spPr>
          <a:xfrm>
            <a:off x="1566720" y="2786040"/>
            <a:ext cx="3638520" cy="121284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3" descr=""/>
          <p:cNvPicPr/>
          <p:nvPr/>
        </p:nvPicPr>
        <p:blipFill>
          <a:blip r:embed="rId3"/>
          <a:stretch/>
        </p:blipFill>
        <p:spPr>
          <a:xfrm>
            <a:off x="4668840" y="2066760"/>
            <a:ext cx="3225960" cy="121284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4" descr=""/>
          <p:cNvPicPr/>
          <p:nvPr/>
        </p:nvPicPr>
        <p:blipFill>
          <a:blip r:embed="rId4"/>
          <a:stretch/>
        </p:blipFill>
        <p:spPr>
          <a:xfrm>
            <a:off x="731880" y="1500120"/>
            <a:ext cx="2498760" cy="121284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5" descr=""/>
          <p:cNvPicPr/>
          <p:nvPr/>
        </p:nvPicPr>
        <p:blipFill>
          <a:blip r:embed="rId5"/>
          <a:stretch/>
        </p:blipFill>
        <p:spPr>
          <a:xfrm>
            <a:off x="5303880" y="4853160"/>
            <a:ext cx="2462040" cy="1212840"/>
          </a:xfrm>
          <a:prstGeom prst="rect">
            <a:avLst/>
          </a:prstGeom>
          <a:ln w="0">
            <a:noFill/>
          </a:ln>
        </p:spPr>
      </p:pic>
      <p:sp>
        <p:nvSpPr>
          <p:cNvPr id="134" name="Стрелка влево 6"/>
          <p:cNvSpPr/>
          <p:nvPr/>
        </p:nvSpPr>
        <p:spPr>
          <a:xfrm>
            <a:off x="7000920" y="6000840"/>
            <a:ext cx="1692360" cy="857160"/>
          </a:xfrm>
          <a:prstGeom prst="leftArrow">
            <a:avLst>
              <a:gd name="adj1" fmla="val 50000"/>
              <a:gd name="adj2" fmla="val 41042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 содержани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03:00:43Z</dcterms:created>
  <dc:creator>User</dc:creator>
  <dc:description/>
  <dc:language>en-US</dc:language>
  <cp:lastModifiedBy>cde</cp:lastModifiedBy>
  <dcterms:modified xsi:type="dcterms:W3CDTF">2016-12-15T11:58:09Z</dcterms:modified>
  <cp:revision>79</cp:revision>
  <dc:subject/>
  <dc:title>Слайд 1</dc:title>
</cp:coreProperties>
</file>