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TYPE.WAV" ContentType="audio/x-wav"/>
  <Override PartName="/ppt/media/image4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D31-5D69-4530-BED3-A1FDF819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44A-71CD-44E6-867D-C1507442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8096-4916-4072-B9BE-7E6CB0C0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81C9-A0F9-4DED-809D-D4C715A8E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BD17-31FE-49E6-B7AB-6AD32D95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65E9-4E59-4EC7-A55A-8965C60C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644F-F66D-405E-A992-951CC55F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DA26-B4A9-45F0-99D7-3B97DBE0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CDA-2519-47A4-97B5-94713004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6E807-E416-4B45-8546-627E537A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E4DF-FD73-494E-8637-D2A5DEC6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2FC4-6592-41C7-A921-6482BD4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AB58-1149-4895-AD07-7014C1B2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4B66-E27F-4AE4-BCCD-1647306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C12-15D4-421A-8FEA-3A38CFDF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EEB9-4F5D-4A85-A885-1A570923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1802-77BC-45C9-ADC7-A5DA60E01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B67-A352-4568-AE5A-BEBEC45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3779-A577-45CA-B6F2-35A6F3D3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6A4-E550-4BEF-BADB-DBE258D9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9B9-9DB2-40B2-A366-A0A85F22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4CBF-53E2-41F1-96AB-539EF236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E583-6A47-4B2A-BE8D-F8CE79E2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B88-73C1-4C99-933D-DB90E0DE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CB8A-5D61-4379-B36D-3048D817A6C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D355-C752-4F63-8119-CFB8073C924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file:///block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hyperlink" Target="file:///block" TargetMode="Externa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124000" y="476280"/>
            <a:ext cx="6769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 УГЛОВ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УГОЛЬНИКА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21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ТЕМА</a:t>
            </a:r>
            <a:br>
              <a:rPr sz="2400"/>
            </a:b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УРО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2373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5229360" y="3938760"/>
            <a:ext cx="3375000" cy="2568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00000" y="3933720"/>
            <a:ext cx="3399120" cy="2506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900000" y="1484280"/>
            <a:ext cx="3384720" cy="21859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5219640" y="148428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564000" y="3141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83724"/>
                </a:solidFill>
                <a:latin typeface="Arial"/>
              </a:rPr>
              <a:t>30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101080" y="3213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83724"/>
                </a:solidFill>
                <a:latin typeface="Arial"/>
              </a:rPr>
              <a:t>50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71640" y="3860640"/>
            <a:ext cx="244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83724"/>
                </a:solidFill>
                <a:latin typeface="Arial"/>
              </a:rPr>
              <a:t>а) 50*,50*,80*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83724"/>
                </a:solidFill>
                <a:latin typeface="Arial"/>
              </a:rPr>
              <a:t>50*,65*,65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4724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3724"/>
                </a:solidFill>
                <a:latin typeface="Arial"/>
              </a:rPr>
              <a:t>б) 100*,40*,40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24720" y="393372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3724"/>
                </a:solidFill>
                <a:latin typeface="Arial"/>
              </a:rPr>
              <a:t>&lt;KMS = 120*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24000" y="6093000"/>
            <a:ext cx="360360" cy="57600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27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жет ли в треугольнике быть два прямых угла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жет ли в треугольнике быть два тупых угла? Почем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83724"/>
                </a:solidFill>
                <a:latin typeface="Comic Sans MS"/>
              </a:rPr>
              <a:t>Сделайте выво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95280" y="5229360"/>
            <a:ext cx="2664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3348000" y="5084640"/>
            <a:ext cx="554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треугольнике 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быть более одного прямого или тупого уг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еорему и следствие 1 выучить с доказательств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едствие 2 доказ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e8372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24; 228(а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Треугольником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называется фигура, которая состоит из трех точек, не лежащих на одной прямой, и трех отрезков, соединяющих эти точки попарно. Точки называются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вершинам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а отрезки – 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сторонами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треугольника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284720" y="1483920"/>
            <a:ext cx="48592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Углом треугольник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треугольник обозначается Δ 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при вершине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(или углом между сторонам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 называется угол, образованный лучам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=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CAB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Внешним углом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треугольника при данной вершине называется угол, смежный с углом треугольника при этой верши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835280" y="260280"/>
            <a:ext cx="4897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ВТОРЕНИЕ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808360" cy="2106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4437000"/>
            <a:ext cx="2808360" cy="214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1" name=""/>
          <p:cNvGraphicFramePr/>
          <p:nvPr/>
        </p:nvGraphicFramePr>
        <p:xfrm>
          <a:off x="-4527720" y="-8045280"/>
          <a:ext cx="182880" cy="23866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5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Times New Roman"/>
                          <a:hlinkClick r:id="rId5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4.1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ий угол треугольни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780408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838044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9167760" y="-8915400"/>
            <a:ext cx="200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-4527720" y="-8045280"/>
          <a:ext cx="182880" cy="23866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5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b200"/>
                          </a:solidFill>
                          <a:uFillTx/>
                          <a:latin typeface="Times New Roman"/>
                          <a:hlinkClick r:id="rId9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4.1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ий угол треугольни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780408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838044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9167760" y="-8915400"/>
            <a:ext cx="200160" cy="28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-4527720" y="-8045280"/>
          <a:ext cx="182880" cy="23866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752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9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8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сунок 4.1.1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шний угол треугольник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" descr=""/>
          <p:cNvPicPr/>
          <p:nvPr/>
        </p:nvPicPr>
        <p:blipFill>
          <a:blip r:embed="rId13"/>
          <a:stretch/>
        </p:blipFill>
        <p:spPr>
          <a:xfrm>
            <a:off x="780408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4"/>
          <a:stretch/>
        </p:blipFill>
        <p:spPr>
          <a:xfrm>
            <a:off x="8380440" y="-8915400"/>
            <a:ext cx="200160" cy="285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5"/>
          <a:stretch/>
        </p:blipFill>
        <p:spPr>
          <a:xfrm>
            <a:off x="9167760" y="-8915400"/>
            <a:ext cx="2001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403280" y="333360"/>
            <a:ext cx="65534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ОВЫЙ МАТЕРИАЛ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95280" y="2133720"/>
            <a:ext cx="374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Е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411280" y="1413000"/>
            <a:ext cx="64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50920" y="364500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1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56000" y="494172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ледствие 2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02920" y="2997360"/>
            <a:ext cx="360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40000" y="3141720"/>
            <a:ext cx="129528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08720" y="3357720"/>
            <a:ext cx="3311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репление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5940360" y="1557360"/>
            <a:ext cx="136836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156360" y="4149720"/>
            <a:ext cx="503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076720" y="479736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дачи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77080" y="5589720"/>
            <a:ext cx="208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просы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7667640" y="4149720"/>
            <a:ext cx="4334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Чему равна сумма углов треугольн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447920"/>
            <a:ext cx="8458200" cy="94716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опробуй ответить на этот вопрос с помощью практической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09480" y="2742840"/>
            <a:ext cx="8077320" cy="1676880"/>
            <a:chOff x="609480" y="2742840"/>
            <a:chExt cx="8077320" cy="167688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 flipH="1" rot="10800000">
              <a:off x="609480" y="2742840"/>
              <a:ext cx="195588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2666880" y="2743200"/>
              <a:ext cx="20066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800600" y="2743200"/>
              <a:ext cx="19051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4"/>
            <a:stretch/>
          </p:blipFill>
          <p:spPr>
            <a:xfrm>
              <a:off x="6781680" y="2743200"/>
              <a:ext cx="19051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" name=""/>
          <p:cNvSpPr/>
          <p:nvPr/>
        </p:nvSpPr>
        <p:spPr>
          <a:xfrm>
            <a:off x="380880" y="4724280"/>
            <a:ext cx="8534520" cy="1373760"/>
          </a:xfrm>
          <a:prstGeom prst="rect">
            <a:avLst/>
          </a:prstGeom>
          <a:solidFill>
            <a:srgbClr val="ffff66"/>
          </a:solidFill>
          <a:ln cap="sq"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Возьмите треугольник и, выполняя перегибания его, как показано на рисунке, убедись,что сумма углов треугольника равн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0880" y="60948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азвёрнутому углу, т.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1905120"/>
            <a:ext cx="8458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900" spc="-1" strike="noStrike">
                <a:solidFill>
                  <a:srgbClr val="990000"/>
                </a:solidFill>
                <a:latin typeface="Times New Roman"/>
              </a:rPr>
              <a:t>180</a:t>
            </a:r>
            <a:r>
              <a:rPr b="1" lang="en-US" sz="18900" spc="-1" strike="noStrike">
                <a:solidFill>
                  <a:srgbClr val="990000"/>
                </a:solidFill>
                <a:latin typeface="Symbol"/>
                <a:ea typeface="Symbol"/>
              </a:rPr>
              <a:t></a:t>
            </a:r>
            <a:r>
              <a:rPr b="1" lang="en-US" sz="189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685800" y="2286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Но ты уже знаешь, что в геометрии любой факт требует доказатель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5238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Докажем  теорему о сумме углов треугольника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3048120"/>
            <a:ext cx="5486400" cy="581400"/>
          </a:xfrm>
          <a:prstGeom prst="rect">
            <a:avLst/>
          </a:prstGeom>
          <a:solidFill>
            <a:srgbClr val="ffef66"/>
          </a:solidFill>
          <a:ln cap="sq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Times New Roman"/>
              </a:rPr>
              <a:t>Историческая спр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90920" y="3809880"/>
            <a:ext cx="6248160" cy="2654280"/>
          </a:xfrm>
          <a:prstGeom prst="rect">
            <a:avLst/>
          </a:prstGeom>
          <a:solidFill>
            <a:srgbClr val="ffff66"/>
          </a:solidFill>
          <a:ln cap="sq"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Доказательство данного факта,изложенное в современных учебниках, содержалось ещё в комментарии к «Началам» Евклида древнегреческого учёного Прокла (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 в.н.э.) Прокл утверждает,что согласно Евдему Родосскому, это доказательство было открыто ещё пифагорейцами (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в.до н.э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20574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MS Mincho"/>
              </a:rPr>
              <a:t>Но сначала</a:t>
            </a:r>
            <a:r>
              <a:rPr b="1" lang="en-US" sz="3600" spc="-1" strike="noStrike">
                <a:solidFill>
                  <a:srgbClr val="0000ff"/>
                </a:solidFill>
                <a:latin typeface="Microsoft Sans Serif"/>
              </a:rPr>
              <a:t> </a:t>
            </a:r>
            <a:r>
              <a:rPr b="1" lang="en-US" sz="3600" spc="-1" strike="noStrike">
                <a:solidFill>
                  <a:srgbClr val="990000"/>
                </a:solidFill>
                <a:latin typeface="Microsoft Sans Serif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75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33520" y="228600"/>
            <a:ext cx="7848360" cy="581400"/>
          </a:xfrm>
          <a:prstGeom prst="rect">
            <a:avLst/>
          </a:prstGeom>
          <a:solidFill>
            <a:srgbClr val="ffff66"/>
          </a:solidFill>
          <a:ln cap="sq"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Georgia"/>
              </a:rPr>
              <a:t>ТЕОР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990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ff"/>
                </a:solidFill>
                <a:uFillTx/>
                <a:latin typeface="Palatino Linotype"/>
              </a:rPr>
              <a:t>Сумма углов треугольника равна 18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5238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990000"/>
                </a:solidFill>
                <a:uFillTx/>
                <a:latin typeface="Palatino Linotype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981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Palatino Linotype"/>
              </a:rPr>
              <a:t>Пусть дан треугольник АВ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80880" y="2895480"/>
            <a:ext cx="2878200" cy="2745720"/>
            <a:chOff x="380880" y="2895480"/>
            <a:chExt cx="2878200" cy="2745720"/>
          </a:xfrm>
        </p:grpSpPr>
        <p:grpSp>
          <p:nvGrpSpPr>
            <p:cNvPr id="206" name=""/>
            <p:cNvGrpSpPr/>
            <p:nvPr/>
          </p:nvGrpSpPr>
          <p:grpSpPr>
            <a:xfrm>
              <a:off x="838080" y="3429000"/>
              <a:ext cx="1997280" cy="1846440"/>
              <a:chOff x="838080" y="3429000"/>
              <a:chExt cx="1997280" cy="1846440"/>
            </a:xfrm>
          </p:grpSpPr>
          <p:sp>
            <p:nvSpPr>
              <p:cNvPr id="207" name=""/>
              <p:cNvSpPr/>
              <p:nvPr/>
            </p:nvSpPr>
            <p:spPr>
              <a:xfrm>
                <a:off x="838080" y="5275440"/>
                <a:ext cx="1962360" cy="0"/>
              </a:xfrm>
              <a:prstGeom prst="line">
                <a:avLst/>
              </a:prstGeom>
              <a:ln cap="sq"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847440" y="3429000"/>
                <a:ext cx="523800" cy="1846440"/>
              </a:xfrm>
              <a:prstGeom prst="line">
                <a:avLst/>
              </a:prstGeom>
              <a:ln cap="sq"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80960" y="3429000"/>
                <a:ext cx="1454400" cy="1828800"/>
              </a:xfrm>
              <a:prstGeom prst="line">
                <a:avLst/>
              </a:prstGeom>
              <a:ln cap="sq" w="381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380880" y="5181480"/>
              <a:ext cx="4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Palatino Linotype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95280" y="2895480"/>
              <a:ext cx="65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Palatino Linotype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9548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Palatino Linotype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3657600" y="25146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Palatino Linotype"/>
              </a:rPr>
              <a:t>Докажем, что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+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В+ </a:t>
            </a:r>
            <a:r>
              <a:rPr b="1" lang="en-US" sz="24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С=18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52680" y="304812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1)Проведём через т.В прямую </a:t>
            </a:r>
            <a:r>
              <a:rPr b="1" i="1" lang="en-US" sz="2000" spc="-1" strike="noStrike">
                <a:solidFill>
                  <a:srgbClr val="800080"/>
                </a:solidFill>
                <a:latin typeface="Palatino Linotype"/>
              </a:rPr>
              <a:t>а ||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29000" y="3505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Palatino Linotype"/>
              </a:rPr>
              <a:t>2) 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1=</a:t>
            </a:r>
            <a:r>
              <a:rPr b="1" lang="en-US" sz="16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Подумай, почему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962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3)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3= </a:t>
            </a:r>
            <a:r>
              <a:rPr b="1" lang="en-US" sz="20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449568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4)Но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4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2+</a:t>
            </a: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5=18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Почему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5029200"/>
            <a:ext cx="51814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Palatino Linotype"/>
              </a:rPr>
              <a:t>5) Из 2 ) и 3) (с учётом равенства 4 ) следует.что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1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2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3=180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,т.е.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А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В+ </a:t>
            </a:r>
            <a:r>
              <a:rPr b="1" lang="en-US" sz="1800" spc="-1" strike="noStrike">
                <a:solidFill>
                  <a:srgbClr val="80008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С=180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°</a:t>
            </a:r>
            <a:r>
              <a:rPr b="1" lang="en-US" sz="1600" spc="-1" strike="noStrike">
                <a:solidFill>
                  <a:srgbClr val="800080"/>
                </a:solidFill>
                <a:latin typeface="Times New Roman"/>
              </a:rPr>
              <a:t>,ч.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51440" y="5842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09480" y="3429000"/>
            <a:ext cx="2362320" cy="459720"/>
            <a:chOff x="609480" y="3429000"/>
            <a:chExt cx="2362320" cy="459720"/>
          </a:xfrm>
        </p:grpSpPr>
        <p:sp>
          <p:nvSpPr>
            <p:cNvPr id="221" name=""/>
            <p:cNvSpPr/>
            <p:nvPr/>
          </p:nvSpPr>
          <p:spPr>
            <a:xfrm>
              <a:off x="609480" y="3429000"/>
              <a:ext cx="2362320" cy="0"/>
            </a:xfrm>
            <a:prstGeom prst="line">
              <a:avLst/>
            </a:prstGeom>
            <a:ln cap="sq"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99840" y="3429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0000"/>
                  </a:solidFill>
                  <a:latin typeface="Palatino Linotype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6095880" y="616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609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90560" y="303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30880" y="3429000"/>
            <a:ext cx="1799280" cy="1907640"/>
            <a:chOff x="830880" y="3429000"/>
            <a:chExt cx="1799280" cy="1907640"/>
          </a:xfrm>
        </p:grpSpPr>
        <p:sp>
          <p:nvSpPr>
            <p:cNvPr id="229" name=""/>
            <p:cNvSpPr/>
            <p:nvPr/>
          </p:nvSpPr>
          <p:spPr>
            <a:xfrm>
              <a:off x="830880" y="48769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Palatino Linotype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8080" y="35812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Palatino Linotype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78800" y="487692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Palatino Linotype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45280" y="342900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Palatino Linotype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400" y="3429000"/>
              <a:ext cx="48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Palatino Linotype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140000" y="2636640"/>
            <a:ext cx="500364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усть дан Δ 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B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Точка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лежит на прямой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так, что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лежит между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Тогда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– внешний к углу треугольника при вершине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180°. Но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180°, и, следовательно,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180° –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Отсюда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= 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+ 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&lt;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 Следствие доказан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908000" y="333360"/>
            <a:ext cx="529920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едствие 1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3240360" cy="24670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95280" y="14130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двух углов треугольника, не смежных с н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84720" y="2276640"/>
            <a:ext cx="360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2205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83724"/>
                </a:solidFill>
                <a:latin typeface="Arial"/>
              </a:rPr>
              <a:t>ДОКАЗАТЕЛЬСТВ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6237360"/>
            <a:ext cx="360360" cy="431640"/>
          </a:xfrm>
          <a:custGeom>
            <a:avLst/>
            <a:gdLst>
              <a:gd name="textAreaLeft" fmla="*/ 48240 w 360360"/>
              <a:gd name="textAreaRight" fmla="*/ 312120 w 360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нешний угол треугольника больше любого угла треугольника, не смежного с ним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/>
          <p:nvPr/>
        </p:nvSpPr>
        <p:spPr>
          <a:xfrm>
            <a:off x="2776680" y="3141720"/>
            <a:ext cx="36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83724"/>
                </a:solidFill>
                <a:latin typeface="Arial"/>
              </a:rPr>
              <a:t>ДОКАЗАТЕЛЬСТВ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378936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Следствие докажите дома самостоятель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093000"/>
            <a:ext cx="432000" cy="576000"/>
          </a:xfrm>
          <a:custGeom>
            <a:avLst/>
            <a:gdLst>
              <a:gd name="textAreaLeft" fmla="*/ 57600 w 432000"/>
              <a:gd name="textAreaRight" fmla="*/ 374400 w 432000"/>
              <a:gd name="textAreaTop" fmla="*/ 100800 h 576000"/>
              <a:gd name="textAreaBottom" fmla="*/ 4176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4:01:38Z</dcterms:created>
  <dc:creator>Barboss</dc:creator>
  <dc:description/>
  <dc:language>en-US</dc:language>
  <cp:lastModifiedBy>Barboss</cp:lastModifiedBy>
  <dcterms:modified xsi:type="dcterms:W3CDTF">2016-02-29T04:54:36Z</dcterms:modified>
  <cp:revision>4</cp:revision>
  <dc:subject/>
  <dc:title>Слайд 1</dc:title>
</cp:coreProperties>
</file>