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52C-4F05-487C-8761-A9992A955E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F87-5EDE-4599-B37F-7685CF7B39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D2C-02CA-4C66-9C46-1D7534D0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4EF-97B0-4033-A0A2-718BD36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329-9743-4A30-87A6-F687244F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902-77EB-42F8-B00B-07649E2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B53A-9AC6-44F1-B7DF-7251C5C2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583D-E376-4EC7-88E6-BB9FDBEF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B06F-FBCB-488F-A47C-0D7FB54B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FF66-6ED4-46AA-B3B4-E8F87E7A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EF4-E018-4BB1-869D-350FFF86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26A7-F1FE-4FE6-8CAE-6FBCC96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324-6009-440B-BDF6-87DD9B8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B66-E577-4D94-87C9-81B31413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B38-B8A5-48A6-B803-38DF3CA4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81D-EF38-4D3E-8BE3-BDC2A37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02C4-DEF3-4608-A103-CB7D155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E933-B527-4993-BB62-69C3B131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5255-D89B-40C4-A602-B2ED0609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EE2F-39B3-4BD1-B5CC-630B9F3E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8C19F-8519-452E-924A-CB22C6F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0241-D658-4DE7-8879-8F211056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1E57-A16B-4C5C-BF54-92D4B22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FF57-F8C0-4A02-A699-DD73BA8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510-3200-4A26-ABF3-1767117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090B-22D1-4DCE-97F4-36BCBBF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96816-7F16-41C3-BF09-052865A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7634-1A64-4998-964E-0999093D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B90D-F43C-42F3-8352-82ABDDC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4EF3-9E01-4448-B15B-575FB0BE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797D-41D6-4E86-9767-4F591BEB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D14B-7254-4A68-9D1D-B151EEBA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1931-266A-4856-9495-49D9350D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B3F5-96D6-4414-8283-F6042D7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5B1D-9501-4C56-8968-EDD51D06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897-DF51-4241-94A0-86BB8819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9687B-5E9F-46E3-8FB7-B0FF54C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D039-3320-4E61-BC55-604F2E84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E56C-007E-412C-92B8-4442DFE5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B0A6-F27D-4920-95F9-A12F3EB8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D473-0DBD-440B-BB85-BCCABA73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56E65-A102-4C22-8449-F21687E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D05D-B356-44F6-8D0B-21DB95EC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7DCA-36E9-4A60-80CD-6ABAAB43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DEEA-C5F6-4F74-9663-B4A47C48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83DC-B9FC-45E5-8284-05BA6928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B6F-2B35-4445-8F9F-AC2985FD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286F6-C923-40E2-8D43-5E06CCD5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041F-3F50-46F2-8312-93127D77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5671-2DCA-47FD-8510-72CC062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C385-447B-439A-A941-FA12ACB0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DC1C8-A798-4A2E-9D39-78487FA9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DCED-0446-4158-B7B3-9655D2B5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D2F49-F757-48E5-A071-101D234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CCC3-90C2-4C0D-8A72-0EB3607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ADF2-51DE-47E7-9617-023ED2B9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F3F0-1B6B-471D-8FD5-A77B628A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032-10EE-4F0A-9356-4A404D5F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69F2-7B76-4C70-A46D-7BFF0494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11D-FF8D-4991-A3FD-F0E5AE7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726-C647-4FD9-9370-4F05E30E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E44-6359-41C8-80FA-6DDCA5F2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F264-73D4-437F-9E9D-0A717FBF92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1461-CBB5-4374-BB47-A8A64CAB93D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F3A6-7090-4655-AFF6-309D08D06D1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9AC-8039-47E6-99E1-B1D96701913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D1D-B0C1-42DE-9A8F-1EA458DE024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stranamasterov.ru/technic/origami_module?tid=451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322280" y="828720"/>
            <a:ext cx="9156960" cy="2822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хника: модульное оригам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43200" y="5516640"/>
            <a:ext cx="6400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педагог  доп. образования  МБУ ДО «ДДТ»  К. К. Тыштыкб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4737960" y="1052640"/>
            <a:ext cx="338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тер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63640" y="259920"/>
            <a:ext cx="3529080" cy="287964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 же способом присоедините к заготовке ещё 2 модул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5" descr="DSCN5550"/>
          <p:cNvPicPr/>
          <p:nvPr/>
        </p:nvPicPr>
        <p:blipFill>
          <a:blip r:embed="rId1"/>
          <a:stretch/>
        </p:blipFill>
        <p:spPr>
          <a:xfrm rot="468000">
            <a:off x="4788000" y="3428640"/>
            <a:ext cx="4152960" cy="3116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DSCN5548"/>
          <p:cNvPicPr/>
          <p:nvPr/>
        </p:nvPicPr>
        <p:blipFill>
          <a:blip r:embed="rId2"/>
          <a:stretch/>
        </p:blipFill>
        <p:spPr>
          <a:xfrm rot="21151800">
            <a:off x="250920" y="404280"/>
            <a:ext cx="4105080" cy="3078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68360" y="3645000"/>
            <a:ext cx="4174920" cy="2736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епенно соберите цепочку из двух рядов, по 8 модулей в каждом ряду. Замкните коль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39640" y="404280"/>
            <a:ext cx="8229600" cy="158436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отайте соломинку для коктейлей полоской гофрированной бумаги зелёного цве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7" descr="P2220159"/>
          <p:cNvPicPr/>
          <p:nvPr/>
        </p:nvPicPr>
        <p:blipFill>
          <a:blip r:embed="rId1"/>
          <a:stretch/>
        </p:blipFill>
        <p:spPr>
          <a:xfrm rot="21139800">
            <a:off x="324000" y="2636640"/>
            <a:ext cx="4248000" cy="318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P2220162"/>
          <p:cNvPicPr/>
          <p:nvPr/>
        </p:nvPicPr>
        <p:blipFill>
          <a:blip r:embed="rId2"/>
          <a:stretch/>
        </p:blipFill>
        <p:spPr>
          <a:xfrm rot="567000">
            <a:off x="4572000" y="2708280"/>
            <a:ext cx="4249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476280"/>
            <a:ext cx="8497800" cy="1512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ьмите прямоугольник желтой гофрированной бумаги. Сложите его таким образ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7" descr="DSCN5557"/>
          <p:cNvPicPr/>
          <p:nvPr/>
        </p:nvPicPr>
        <p:blipFill>
          <a:blip r:embed="rId1"/>
          <a:stretch/>
        </p:blipFill>
        <p:spPr>
          <a:xfrm>
            <a:off x="1835280" y="2205000"/>
            <a:ext cx="5761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95280" y="476280"/>
            <a:ext cx="8229600" cy="15415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ьте жёлтую серединку в соломинку и ещё раз обмотайте место соединения зелёной бумаго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6" descr="P2220164"/>
          <p:cNvPicPr/>
          <p:nvPr/>
        </p:nvPicPr>
        <p:blipFill>
          <a:blip r:embed="rId1"/>
          <a:stretch/>
        </p:blipFill>
        <p:spPr>
          <a:xfrm>
            <a:off x="1476360" y="220500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7"/>
          <p:cNvSpPr/>
          <p:nvPr/>
        </p:nvSpPr>
        <p:spPr>
          <a:xfrm>
            <a:off x="395280" y="476280"/>
            <a:ext cx="8229600" cy="15415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ьте жёлтую серединку в соломинку и ещё раз обмотайте место соединения зелёной бума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3280" y="333360"/>
            <a:ext cx="3837240" cy="2016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ьте соломинку с сердцевиной в заготовку цвет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68360" y="3860640"/>
            <a:ext cx="3600360" cy="2160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ейте к получившемуся стебельку листоч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P2220168"/>
          <p:cNvPicPr/>
          <p:nvPr/>
        </p:nvPicPr>
        <p:blipFill>
          <a:blip r:embed="rId1"/>
          <a:stretch/>
        </p:blipFill>
        <p:spPr>
          <a:xfrm>
            <a:off x="324000" y="18900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P2220170"/>
          <p:cNvPicPr/>
          <p:nvPr/>
        </p:nvPicPr>
        <p:blipFill>
          <a:blip r:embed="rId2"/>
          <a:stretch/>
        </p:blipFill>
        <p:spPr>
          <a:xfrm>
            <a:off x="4356000" y="2924280"/>
            <a:ext cx="4570560" cy="34272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468360" y="3860640"/>
            <a:ext cx="3600360" cy="2160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ейте к получившемуся стебельку листоч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1" descr="зимняя прогулка 039"/>
          <p:cNvPicPr/>
          <p:nvPr/>
        </p:nvPicPr>
        <p:blipFill>
          <a:blip r:embed="rId1"/>
          <a:stretch/>
        </p:blipFill>
        <p:spPr>
          <a:xfrm>
            <a:off x="1042920" y="1125360"/>
            <a:ext cx="7128000" cy="5472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3"/>
          <p:cNvSpPr/>
          <p:nvPr/>
        </p:nvSpPr>
        <p:spPr>
          <a:xfrm>
            <a:off x="1332000" y="189000"/>
            <a:ext cx="6553080" cy="1197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рциссы гот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1332000" y="189000"/>
            <a:ext cx="6553080" cy="1197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рциссы гот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1332000" y="189000"/>
            <a:ext cx="6553080" cy="1197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рциссы гот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91960" y="469800"/>
            <a:ext cx="8487000" cy="1157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042920" y="1915920"/>
            <a:ext cx="7129440" cy="2879640"/>
          </a:xfrm>
          <a:prstGeom prst="rect">
            <a:avLst/>
          </a:prstGeom>
          <a:solidFill>
            <a:srgbClr val="ffffff">
              <a:alpha val="75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Проснякова «Забавные фигурки» модульное ориг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stranamasterov.ru/technic/origami_module?tid=45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отографии авторск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1692360" y="981000"/>
            <a:ext cx="5877000" cy="408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96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1" lang="en-US" sz="96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96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86640" cy="865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творчество 028"/>
          <p:cNvPicPr/>
          <p:nvPr/>
        </p:nvPicPr>
        <p:blipFill>
          <a:blip r:embed="rId2"/>
          <a:stretch/>
        </p:blipFill>
        <p:spPr>
          <a:xfrm>
            <a:off x="1619280" y="2565360"/>
            <a:ext cx="5832360" cy="3997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2"/>
          <p:cNvPicPr/>
          <p:nvPr/>
        </p:nvPicPr>
        <p:blipFill>
          <a:blip r:embed="rId3"/>
          <a:stretch/>
        </p:blipFill>
        <p:spPr>
          <a:xfrm rot="20730600">
            <a:off x="395280" y="1628640"/>
            <a:ext cx="2577960" cy="2808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4"/>
          <p:cNvPicPr/>
          <p:nvPr/>
        </p:nvPicPr>
        <p:blipFill>
          <a:blip r:embed="rId4"/>
          <a:stretch/>
        </p:blipFill>
        <p:spPr>
          <a:xfrm rot="1078200">
            <a:off x="6227280" y="1628640"/>
            <a:ext cx="2533680" cy="2808360"/>
          </a:xfrm>
          <a:prstGeom prst="rect">
            <a:avLst/>
          </a:prstGeom>
          <a:ln w="0">
            <a:noFill/>
          </a:ln>
        </p:spPr>
      </p:pic>
      <p:sp>
        <p:nvSpPr>
          <p:cNvPr id="235" name="Subtitle 2"/>
          <p:cNvSpPr/>
          <p:nvPr/>
        </p:nvSpPr>
        <p:spPr>
          <a:xfrm>
            <a:off x="2411280" y="765000"/>
            <a:ext cx="4321440" cy="1608480"/>
          </a:xfrm>
          <a:prstGeom prst="rect">
            <a:avLst/>
          </a:prstGeom>
          <a:solidFill>
            <a:srgbClr val="ffffff">
              <a:alpha val="49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техника создания объёмных фигур из модулей треуголь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8107560" cy="1487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0" y="1413000"/>
            <a:ext cx="5076720" cy="2976480"/>
          </a:xfrm>
          <a:prstGeom prst="rect">
            <a:avLst/>
          </a:prstGeom>
          <a:solidFill>
            <a:srgbClr val="ffffff">
              <a:alpha val="49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Этот модуль складыва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з прямоугольн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цветной или белой бумаг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 rot="267000">
            <a:off x="4932360" y="1699920"/>
            <a:ext cx="3943440" cy="3409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2843280" y="5013360"/>
            <a:ext cx="583416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отношение сторон прямоугольника должно быть примерно 1 : 1,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31840" y="171360"/>
            <a:ext cx="8474040" cy="1236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50920" y="1557000"/>
            <a:ext cx="8640720" cy="5041800"/>
          </a:xfrm>
          <a:prstGeom prst="rect">
            <a:avLst/>
          </a:prstGeom>
          <a:solidFill>
            <a:srgbClr val="ffffff">
              <a:alpha val="75000"/>
            </a:srgbClr>
          </a:solidFill>
          <a:ln cap="rnd" w="88920">
            <a:solidFill>
              <a:srgbClr val="ff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гните попола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гни и разогн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   прямоугольник,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           чтоб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линию сгиб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954600" cy="238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4321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 rot="21256200">
            <a:off x="250560" y="692280"/>
            <a:ext cx="4535280" cy="1847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 rot="543600">
            <a:off x="5003280" y="2923920"/>
            <a:ext cx="3961080" cy="26175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5148360" y="549360"/>
            <a:ext cx="3682800" cy="221760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гните края к сере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042920" y="3284640"/>
            <a:ext cx="3683160" cy="221760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вер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797360" y="353880"/>
            <a:ext cx="3730680" cy="2614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 rot="21243000">
            <a:off x="178920" y="404280"/>
            <a:ext cx="4319640" cy="2570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 rot="380400">
            <a:off x="4643280" y="3429000"/>
            <a:ext cx="4032360" cy="28209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539640" y="3645000"/>
            <a:ext cx="3467160" cy="250668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нимите края 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176720" cy="1994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-360" y="2636640"/>
            <a:ext cx="8785080" cy="388764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лучившейся модуль име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ва угла           и            два кармаш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003640" y="333360"/>
            <a:ext cx="3745080" cy="216072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ожите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952720" cy="271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2987640" cy="2583000"/>
          </a:xfrm>
          <a:prstGeom prst="rect">
            <a:avLst/>
          </a:prstGeom>
          <a:ln w="0">
            <a:noFill/>
          </a:ln>
        </p:spPr>
      </p:pic>
      <p:sp>
        <p:nvSpPr>
          <p:cNvPr id="257" name="Line 10"/>
          <p:cNvSpPr/>
          <p:nvPr/>
        </p:nvSpPr>
        <p:spPr>
          <a:xfrm flipH="1">
            <a:off x="900000" y="3789360"/>
            <a:ext cx="1008000" cy="158436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2195640" y="3716280"/>
            <a:ext cx="647640" cy="165744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>
            <a:off x="6659640" y="3789360"/>
            <a:ext cx="288720" cy="64764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7380000" y="3716280"/>
            <a:ext cx="360360" cy="72072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50920" y="1557360"/>
            <a:ext cx="3960720" cy="496728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6 треугольных модул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ломинка для коктейл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фрированная бумага зелёног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жёлтого цве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5" descr="P2220158"/>
          <p:cNvPicPr/>
          <p:nvPr/>
        </p:nvPicPr>
        <p:blipFill>
          <a:blip r:embed="rId2"/>
          <a:stretch/>
        </p:blipFill>
        <p:spPr>
          <a:xfrm>
            <a:off x="4356000" y="1989000"/>
            <a:ext cx="4640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39640" y="1125000"/>
            <a:ext cx="4114800" cy="403236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ьмите 3 модуля и расположите их таким способом, чтобы уголки двух модулей вошли в кармашки третьег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5" descr="DSCN5546"/>
          <p:cNvPicPr/>
          <p:nvPr/>
        </p:nvPicPr>
        <p:blipFill>
          <a:blip r:embed="rId1"/>
          <a:stretch/>
        </p:blipFill>
        <p:spPr>
          <a:xfrm>
            <a:off x="4859280" y="333360"/>
            <a:ext cx="4044960" cy="3033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DSCN5547"/>
          <p:cNvPicPr/>
          <p:nvPr/>
        </p:nvPicPr>
        <p:blipFill>
          <a:blip r:embed="rId2"/>
          <a:stretch/>
        </p:blipFill>
        <p:spPr>
          <a:xfrm>
            <a:off x="4788000" y="3500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1-12T19:09:35Z</dcterms:modified>
  <cp:revision>1</cp:revision>
  <dc:subject/>
  <dc:title>«Нарциссы для мамы»</dc:title>
</cp:coreProperties>
</file>