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7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2.png" ContentType="image/png"/>
  <Override PartName="/ppt/media/image36.png" ContentType="image/png"/>
  <Override PartName="/ppt/media/image6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3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E55A-2869-418D-84D5-1C92F229BE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C527-0038-4458-AA77-E3420BDC1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CC3-F74F-4CA8-AD8B-93DD4BAC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38F0-F171-47EE-A12A-A7940D51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4D19-6C2B-44AB-B811-1A113045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6E4-B5B4-4FEB-9307-43415128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1CFE-386B-4B48-B49C-72F05AEF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AACC8-8B81-4305-90C9-0545313C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8DBF-6547-418B-82A4-F4DEE2FB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8D8A-F862-4C8B-9A5F-CCA3E28A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B320-84F4-4A3E-9643-D038268A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AC6E-3D0E-492C-8AE0-EFA65E3B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6FC7-671D-4890-B93E-3F7934E4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A48-5539-4973-AA91-C5AFEB65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3E71-4E18-459B-B870-70C62F1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6CD2-2E47-4238-8F3B-2B692A9A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19C7-2CCA-4698-AE90-C9DD9FC2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12D3-1227-423E-9354-99122927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2356-428A-470D-86F7-D44C9FFB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86A8-8074-4C1A-BB6D-4C7FCBD1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C4D1E-1D23-4525-A066-AFD2E9D0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44AE3-05F4-4834-9884-D5672CD3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612D1-2E7B-4B83-A1E3-DC75AC11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868DB-6233-4A48-B836-2494CD93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19B-3080-4222-9DF8-45B795FF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529B4-A243-4F9C-AFF7-888768F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1508-4025-43BB-97C6-22236CFE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A3BF6-359D-49E3-9825-A18A4544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5B3F-3C1A-426D-A5EC-93AB7535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C9A7-93CD-4A67-8607-E7B2DEB5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BB6F-394D-432C-9A76-CD3AE532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365A-E417-48C8-B9C3-00D470E2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88A2D-51BA-49BB-B11A-CF50980F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600FC-DFEA-49D4-9638-837AA81A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B6A00-1D8A-4D5F-8CFF-64887832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804-4753-400B-94C8-ACA175C2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5F55-AA8E-42A2-BC80-4E7E5136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E9539-5A1E-4090-9946-224105B7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516E-A7BD-4E9D-A4E5-3DAFD9EC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8A914-54E5-491D-B52C-919B0006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83D5-C02F-48EF-8C4A-E7A63152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1E97-F599-4B11-816C-887312EA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CE516-BA04-43BA-8B06-A838B555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6A8DC-EDC8-4973-841A-A5897E2B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6186-24E2-4AEC-B9C5-89FE1B3A7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D6CB-7275-4F3C-96D8-F15CD3B0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E40-87C6-4863-BA7F-7193723D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0C3CF-C56A-45B5-B261-F3B5C2B6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377D-3F00-4C57-8A84-86E2C95B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F5300-939F-4064-BE57-58654885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A0FE5-C1D8-4751-9087-04C31F6C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EAC2A-AC12-4DB4-B93A-2C555F7F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9ED07-2135-4FB5-9A95-4C8EF94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7C904-E586-4B7C-9E9D-274FFF77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D310-4126-4C5A-A07E-B1670BBA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7EBEB-58B3-4661-8A89-1D5135F2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1004A-2AD6-4D3C-966B-D2C8A537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1C5D-5017-4FD4-A211-9DB48562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B5B9-C859-456B-BD96-E7827E6C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0D26-5512-4DA3-A3AB-D790AD92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64A5-E20E-45FB-BADD-FAD7BCC7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5EB-6FE8-422E-8407-69E0EC8D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FF98-8591-4941-885B-7C393058FFB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63AD-C65A-4307-B487-EC07EFECCF4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0315-4ECD-4263-A2D4-D878F4BF1BE3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39FC-03C3-49B5-BC18-18DA148D2EB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F75F-802E-4081-BB3B-15D2ABE8110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hyperlink" Target="http://stranamasterov.ru/technic/origami_module?tid=451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Rectangle 2" descr=""/>
          <p:cNvPicPr/>
          <p:nvPr/>
        </p:nvPicPr>
        <p:blipFill>
          <a:blip r:embed="rId1"/>
          <a:stretch/>
        </p:blipFill>
        <p:spPr>
          <a:xfrm>
            <a:off x="1322280" y="828720"/>
            <a:ext cx="9156960" cy="2822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техника: модульное оригами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2743200" y="5516640"/>
            <a:ext cx="64008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р: педагог  доп. образования  МБУ ДО «ДДТ»  К. К. Тыштыкб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4737960" y="1052640"/>
            <a:ext cx="338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астер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5363640" y="259920"/>
            <a:ext cx="3529080" cy="287964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им же способом присоедините к заготовке ещё 2 модуля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8" name="Picture 5" descr="DSCN5550"/>
          <p:cNvPicPr/>
          <p:nvPr/>
        </p:nvPicPr>
        <p:blipFill>
          <a:blip r:embed="rId1"/>
          <a:stretch/>
        </p:blipFill>
        <p:spPr>
          <a:xfrm rot="468000">
            <a:off x="4788000" y="3428640"/>
            <a:ext cx="4152960" cy="3116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DSCN5548"/>
          <p:cNvPicPr/>
          <p:nvPr/>
        </p:nvPicPr>
        <p:blipFill>
          <a:blip r:embed="rId2"/>
          <a:stretch/>
        </p:blipFill>
        <p:spPr>
          <a:xfrm rot="21151800">
            <a:off x="250920" y="404280"/>
            <a:ext cx="4105080" cy="3078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7"/>
          <p:cNvSpPr/>
          <p:nvPr/>
        </p:nvSpPr>
        <p:spPr>
          <a:xfrm>
            <a:off x="468360" y="3645000"/>
            <a:ext cx="4174920" cy="27367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епенно соберите цепочку из двух рядов, по 8 модулей в каждом ряду. Замкните коль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539640" y="404280"/>
            <a:ext cx="8229600" cy="158436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мотайте соломинку для коктейлей полоской гофрированной бумаги зелёного цве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7" descr="P2220159"/>
          <p:cNvPicPr/>
          <p:nvPr/>
        </p:nvPicPr>
        <p:blipFill>
          <a:blip r:embed="rId1"/>
          <a:stretch/>
        </p:blipFill>
        <p:spPr>
          <a:xfrm rot="21139800">
            <a:off x="324000" y="2636640"/>
            <a:ext cx="4248000" cy="3187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P2220162"/>
          <p:cNvPicPr/>
          <p:nvPr/>
        </p:nvPicPr>
        <p:blipFill>
          <a:blip r:embed="rId2"/>
          <a:stretch/>
        </p:blipFill>
        <p:spPr>
          <a:xfrm rot="567000">
            <a:off x="4572000" y="2708280"/>
            <a:ext cx="42498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94920" y="476280"/>
            <a:ext cx="8497800" cy="15127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ьмите прямоугольник желтой гофрированной бумаги. Сложите его таким образом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7" descr="DSCN5557"/>
          <p:cNvPicPr/>
          <p:nvPr/>
        </p:nvPicPr>
        <p:blipFill>
          <a:blip r:embed="rId1"/>
          <a:stretch/>
        </p:blipFill>
        <p:spPr>
          <a:xfrm>
            <a:off x="1835280" y="2205000"/>
            <a:ext cx="57610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95280" y="476280"/>
            <a:ext cx="8229600" cy="15415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ьте жёлтую серединку в соломинку и ещё раз обмотайте место соединения зелёной бумагой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6" descr="P2220164"/>
          <p:cNvPicPr/>
          <p:nvPr/>
        </p:nvPicPr>
        <p:blipFill>
          <a:blip r:embed="rId1"/>
          <a:stretch/>
        </p:blipFill>
        <p:spPr>
          <a:xfrm>
            <a:off x="1476360" y="2205000"/>
            <a:ext cx="5832360" cy="437364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7"/>
          <p:cNvSpPr/>
          <p:nvPr/>
        </p:nvSpPr>
        <p:spPr>
          <a:xfrm>
            <a:off x="395280" y="476280"/>
            <a:ext cx="8229600" cy="15415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ьте жёлтую серединку в соломинку и ещё раз обмотайте место соединения зелёной бумаг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5003280" y="333360"/>
            <a:ext cx="3837240" cy="201600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вьте соломинку с сердцевиной в заготовку цветк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468360" y="3860640"/>
            <a:ext cx="3600360" cy="21607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ейте к получившемуся стебельку листочк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P2220168"/>
          <p:cNvPicPr/>
          <p:nvPr/>
        </p:nvPicPr>
        <p:blipFill>
          <a:blip r:embed="rId1"/>
          <a:stretch/>
        </p:blipFill>
        <p:spPr>
          <a:xfrm>
            <a:off x="324000" y="189000"/>
            <a:ext cx="4319280" cy="3240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P2220170"/>
          <p:cNvPicPr/>
          <p:nvPr/>
        </p:nvPicPr>
        <p:blipFill>
          <a:blip r:embed="rId2"/>
          <a:stretch/>
        </p:blipFill>
        <p:spPr>
          <a:xfrm>
            <a:off x="4356000" y="2924280"/>
            <a:ext cx="4570560" cy="34272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11"/>
          <p:cNvSpPr/>
          <p:nvPr/>
        </p:nvSpPr>
        <p:spPr>
          <a:xfrm>
            <a:off x="468360" y="3860640"/>
            <a:ext cx="3600360" cy="216072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клейте к получившемуся стебельку листочки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1" descr="зимняя прогулка 039"/>
          <p:cNvPicPr/>
          <p:nvPr/>
        </p:nvPicPr>
        <p:blipFill>
          <a:blip r:embed="rId1"/>
          <a:stretch/>
        </p:blipFill>
        <p:spPr>
          <a:xfrm>
            <a:off x="1042920" y="1125360"/>
            <a:ext cx="7128000" cy="54723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3"/>
          <p:cNvSpPr/>
          <p:nvPr/>
        </p:nvSpPr>
        <p:spPr>
          <a:xfrm>
            <a:off x="1332000" y="189000"/>
            <a:ext cx="6553080" cy="119700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рциссы гот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1332000" y="189000"/>
            <a:ext cx="6553080" cy="119700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рциссы гот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"/>
          <p:cNvSpPr/>
          <p:nvPr/>
        </p:nvSpPr>
        <p:spPr>
          <a:xfrm>
            <a:off x="1332000" y="189000"/>
            <a:ext cx="6553080" cy="119700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рциссы готовы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Rectangle 2" descr=""/>
          <p:cNvPicPr/>
          <p:nvPr/>
        </p:nvPicPr>
        <p:blipFill>
          <a:blip r:embed="rId1"/>
          <a:stretch/>
        </p:blipFill>
        <p:spPr>
          <a:xfrm>
            <a:off x="291960" y="469800"/>
            <a:ext cx="8487000" cy="11574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 txBox="1"/>
          <p:nvPr/>
        </p:nvSpPr>
        <p:spPr>
          <a:xfrm>
            <a:off x="1042920" y="1915920"/>
            <a:ext cx="7129440" cy="2879640"/>
          </a:xfrm>
          <a:prstGeom prst="rect">
            <a:avLst/>
          </a:prstGeom>
          <a:solidFill>
            <a:srgbClr val="ffffff">
              <a:alpha val="75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. Проснякова «Забавные фигурки» модульное оригам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de66"/>
                </a:solidFill>
                <a:uFillTx/>
                <a:latin typeface="Trebuchet MS"/>
                <a:hlinkClick r:id="rId2"/>
              </a:rPr>
              <a:t>http://stranamasterov.ru/technic/origami_module?tid=45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Фотографии авторск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WordArt 4"/>
          <p:cNvSpPr txBox="1"/>
          <p:nvPr/>
        </p:nvSpPr>
        <p:spPr>
          <a:xfrm>
            <a:off x="1692360" y="981000"/>
            <a:ext cx="5877000" cy="408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96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</a:t>
            </a:r>
            <a:endParaRPr b="1" lang="en-US" sz="96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cap="rnd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9600" spc="1" strike="noStrike">
              <a:ln cap="rnd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2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86640" cy="8654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творчество 028"/>
          <p:cNvPicPr/>
          <p:nvPr/>
        </p:nvPicPr>
        <p:blipFill>
          <a:blip r:embed="rId2"/>
          <a:stretch/>
        </p:blipFill>
        <p:spPr>
          <a:xfrm>
            <a:off x="1619280" y="2565360"/>
            <a:ext cx="5832360" cy="3997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2"/>
          <p:cNvPicPr/>
          <p:nvPr/>
        </p:nvPicPr>
        <p:blipFill>
          <a:blip r:embed="rId3"/>
          <a:stretch/>
        </p:blipFill>
        <p:spPr>
          <a:xfrm rot="20730600">
            <a:off x="395280" y="1628640"/>
            <a:ext cx="2577960" cy="2808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4"/>
          <p:cNvPicPr/>
          <p:nvPr/>
        </p:nvPicPr>
        <p:blipFill>
          <a:blip r:embed="rId4"/>
          <a:stretch/>
        </p:blipFill>
        <p:spPr>
          <a:xfrm rot="1078200">
            <a:off x="6227280" y="1628640"/>
            <a:ext cx="2533680" cy="2808360"/>
          </a:xfrm>
          <a:prstGeom prst="rect">
            <a:avLst/>
          </a:prstGeom>
          <a:ln w="0">
            <a:noFill/>
          </a:ln>
        </p:spPr>
      </p:pic>
      <p:sp>
        <p:nvSpPr>
          <p:cNvPr id="235" name="Subtitle 2"/>
          <p:cNvSpPr/>
          <p:nvPr/>
        </p:nvSpPr>
        <p:spPr>
          <a:xfrm>
            <a:off x="2411280" y="765000"/>
            <a:ext cx="4321440" cy="1608480"/>
          </a:xfrm>
          <a:prstGeom prst="rect">
            <a:avLst/>
          </a:prstGeom>
          <a:solidFill>
            <a:srgbClr val="ffffff">
              <a:alpha val="49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то техника создания объёмных фигур из модулей треуголь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1042920" y="-6480"/>
            <a:ext cx="8107560" cy="14875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0" y="1413000"/>
            <a:ext cx="5076720" cy="2976480"/>
          </a:xfrm>
          <a:prstGeom prst="rect">
            <a:avLst/>
          </a:prstGeom>
          <a:solidFill>
            <a:srgbClr val="ffffff">
              <a:alpha val="49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Этот модуль складывает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из прямоугольни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цветной или белой бумаг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2"/>
          <a:stretch/>
        </p:blipFill>
        <p:spPr>
          <a:xfrm rot="267000">
            <a:off x="4932360" y="1699920"/>
            <a:ext cx="3943440" cy="34099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2843280" y="5013360"/>
            <a:ext cx="5834160" cy="1556280"/>
          </a:xfrm>
          <a:prstGeom prst="rect">
            <a:avLst/>
          </a:prstGeom>
          <a:solidFill>
            <a:srgbClr val="ffffff">
              <a:alpha val="49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отношение сторон прямоугольника должно быть примерно 1 : 1,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Rectangle 2" descr=""/>
          <p:cNvPicPr/>
          <p:nvPr/>
        </p:nvPicPr>
        <p:blipFill>
          <a:blip r:embed="rId1"/>
          <a:stretch/>
        </p:blipFill>
        <p:spPr>
          <a:xfrm>
            <a:off x="231840" y="171360"/>
            <a:ext cx="8474040" cy="1236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250920" y="1557000"/>
            <a:ext cx="8640720" cy="5041800"/>
          </a:xfrm>
          <a:prstGeom prst="rect">
            <a:avLst/>
          </a:prstGeom>
          <a:solidFill>
            <a:srgbClr val="ffffff">
              <a:alpha val="75000"/>
            </a:srgbClr>
          </a:solidFill>
          <a:ln cap="rnd" w="88920">
            <a:solidFill>
              <a:srgbClr val="ff00ff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огните пополам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ямоугольни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Согни и разогн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    прямоугольник,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               чтоб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линию сгиб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3954600" cy="2386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3"/>
          <a:stretch/>
        </p:blipFill>
        <p:spPr>
          <a:xfrm>
            <a:off x="324000" y="4292640"/>
            <a:ext cx="432108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 rot="21256200">
            <a:off x="250560" y="692280"/>
            <a:ext cx="4535280" cy="1847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2"/>
          <a:stretch/>
        </p:blipFill>
        <p:spPr>
          <a:xfrm rot="543600">
            <a:off x="5003280" y="2923920"/>
            <a:ext cx="3961080" cy="261756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5148360" y="549360"/>
            <a:ext cx="3682800" cy="221760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гните края к серед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042920" y="3284640"/>
            <a:ext cx="3683160" cy="221760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реверни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4797360" y="353880"/>
            <a:ext cx="3730680" cy="26146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2"/>
          <a:stretch/>
        </p:blipFill>
        <p:spPr>
          <a:xfrm rot="21243000">
            <a:off x="178920" y="404280"/>
            <a:ext cx="4319640" cy="25704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"/>
          <p:cNvPicPr/>
          <p:nvPr/>
        </p:nvPicPr>
        <p:blipFill>
          <a:blip r:embed="rId3"/>
          <a:stretch/>
        </p:blipFill>
        <p:spPr>
          <a:xfrm rot="380400">
            <a:off x="4643280" y="3429000"/>
            <a:ext cx="4032360" cy="282096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539640" y="3645000"/>
            <a:ext cx="3467160" cy="250668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днимите края ввер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4176720" cy="1994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-360" y="2636640"/>
            <a:ext cx="8785080" cy="388764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олучившейся модуль име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два угла           и            два кармаш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5003640" y="333360"/>
            <a:ext cx="3745080" cy="2160720"/>
          </a:xfrm>
          <a:prstGeom prst="rect">
            <a:avLst/>
          </a:prstGeom>
          <a:solidFill>
            <a:srgbClr val="ffffff">
              <a:alpha val="74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ожите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8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2952720" cy="2716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3"/>
          <a:stretch/>
        </p:blipFill>
        <p:spPr>
          <a:xfrm>
            <a:off x="5508720" y="4076640"/>
            <a:ext cx="2987640" cy="2583000"/>
          </a:xfrm>
          <a:prstGeom prst="rect">
            <a:avLst/>
          </a:prstGeom>
          <a:ln w="0">
            <a:noFill/>
          </a:ln>
        </p:spPr>
      </p:pic>
      <p:sp>
        <p:nvSpPr>
          <p:cNvPr id="257" name="Line 10"/>
          <p:cNvSpPr/>
          <p:nvPr/>
        </p:nvSpPr>
        <p:spPr>
          <a:xfrm flipH="1">
            <a:off x="900000" y="3789360"/>
            <a:ext cx="1008000" cy="1584360"/>
          </a:xfrm>
          <a:prstGeom prst="line">
            <a:avLst/>
          </a:prstGeom>
          <a:ln cap="rnd" w="8892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>
            <a:off x="2195640" y="3716280"/>
            <a:ext cx="647640" cy="1657440"/>
          </a:xfrm>
          <a:prstGeom prst="line">
            <a:avLst/>
          </a:prstGeom>
          <a:ln cap="rnd" w="8892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2"/>
          <p:cNvSpPr/>
          <p:nvPr/>
        </p:nvSpPr>
        <p:spPr>
          <a:xfrm>
            <a:off x="6659640" y="3789360"/>
            <a:ext cx="288720" cy="647640"/>
          </a:xfrm>
          <a:prstGeom prst="line">
            <a:avLst/>
          </a:prstGeom>
          <a:ln cap="rnd" w="8892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4"/>
          <p:cNvSpPr/>
          <p:nvPr/>
        </p:nvSpPr>
        <p:spPr>
          <a:xfrm flipH="1">
            <a:off x="7380000" y="3716280"/>
            <a:ext cx="360360" cy="720720"/>
          </a:xfrm>
          <a:prstGeom prst="line">
            <a:avLst/>
          </a:prstGeom>
          <a:ln cap="rnd" w="88920">
            <a:solidFill>
              <a:srgbClr val="ff00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7480440" cy="1243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250920" y="1557360"/>
            <a:ext cx="3960720" cy="496728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6 треугольных модул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оломинка для коктейл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офрированная бумага зелёного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жёлтого цвет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ей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ожниц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3" name="Picture 5" descr="P2220158"/>
          <p:cNvPicPr/>
          <p:nvPr/>
        </p:nvPicPr>
        <p:blipFill>
          <a:blip r:embed="rId2"/>
          <a:stretch/>
        </p:blipFill>
        <p:spPr>
          <a:xfrm>
            <a:off x="4356000" y="1989000"/>
            <a:ext cx="46404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39640" y="1125000"/>
            <a:ext cx="4114800" cy="4032360"/>
          </a:xfrm>
          <a:prstGeom prst="rect">
            <a:avLst/>
          </a:prstGeom>
          <a:solidFill>
            <a:srgbClr val="ffffff">
              <a:alpha val="73000"/>
            </a:srgbClr>
          </a:solidFill>
          <a:ln cap="rnd" w="88920">
            <a:solidFill>
              <a:srgbClr val="b83d68"/>
            </a:solidFill>
            <a:custDash>
              <a:ds d="100000" sp="1000"/>
            </a:custDash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озьмите 3 модуля и расположите их таким способом, чтобы уголки двух модулей вошли в кармашки третьего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Picture 5" descr="DSCN5546"/>
          <p:cNvPicPr/>
          <p:nvPr/>
        </p:nvPicPr>
        <p:blipFill>
          <a:blip r:embed="rId1"/>
          <a:stretch/>
        </p:blipFill>
        <p:spPr>
          <a:xfrm>
            <a:off x="4859280" y="333360"/>
            <a:ext cx="4044960" cy="3033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DSCN5547"/>
          <p:cNvPicPr/>
          <p:nvPr/>
        </p:nvPicPr>
        <p:blipFill>
          <a:blip r:embed="rId2"/>
          <a:stretch/>
        </p:blipFill>
        <p:spPr>
          <a:xfrm>
            <a:off x="4788000" y="350028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01-12T19:09:35Z</dcterms:modified>
  <cp:revision>1</cp:revision>
  <dc:subject/>
  <dc:title>«Нарциссы для мамы»</dc:title>
</cp:coreProperties>
</file>