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E74-F9A5-47E7-94F8-DEC5CB45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AD-A1A6-4D8A-A6C6-58131E9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9B6-F8E2-4DE9-8665-94A25D95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767-D1FC-4934-9899-B1A69AAE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76E-94DA-4972-BBB9-5A56A35B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7C0-38C5-48EF-AE07-1C5A8C81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6E1-4886-4869-96E7-9DCAD410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C41-1B6D-451C-86D0-FDCD9974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216-EF78-43D9-9116-EFD22F5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B1F-227F-4F1B-B4BE-1F66E72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3F5-8566-4B64-BD83-5E1ECF3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C6A-0892-4ED1-8CD9-9A00679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C70F-4801-44E1-8986-557A06AF2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1840" y="2349360"/>
            <a:ext cx="7848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МАСТЕРСКАЯ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ОВА ВИКТОРИЯ НИКОЛАЕВНА 1 КВ.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3785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«Детский сад №5 «Одуванч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терск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(в которую на время превращается групповое помещение) – специально организованное пространство, где целенаправленно созидаются красивые интересные и нужные для детской жизни вещ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224820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468360" y="1268280"/>
            <a:ext cx="7119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ставу участников мастерские подразде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занятия только дл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для педагогов (родителей (законных представителей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е могут быть (при коррекции) проведены и со взрослыми (например с родителями (законными представителями)), и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целям и видам деятельности выделяют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художественн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еатр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мастерская игр и игр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увенирн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рхитектурная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3024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временной продолжительности мастерские разделяются на «однократные» (в течении одного занятия, 25-30 минут) и длительного действия (2-3 занятия), когда работа прерывиста, может продолжаться неделю (метод «погружения») или даже в течение нескольких нед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и правила ведения мастерско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общего пространства для работы в мастерской, где мастер-педагог и дети будут находиться вместе, на одном уровне, без жестко закрепленных рабочих мест, с правом выбора сос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озможность перестроить реальное пространство, в котором устраивается мастерская, в зависимости от задачи каждого этап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бодное вхождение детей в процесс мастерской через привлечение к новой идее, подготовленным материалам и др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свободы в рамках принятых правил, что дает ощущение внутренней свобод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2"/>
          <a:stretch/>
        </p:blipFill>
        <p:spPr>
          <a:xfrm>
            <a:off x="792000" y="1847880"/>
            <a:ext cx="374364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316320" cy="266544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1" descr=""/>
          <p:cNvPicPr/>
          <p:nvPr/>
        </p:nvPicPr>
        <p:blipFill>
          <a:blip r:embed="rId4"/>
          <a:stretch/>
        </p:blipFill>
        <p:spPr>
          <a:xfrm>
            <a:off x="828720" y="1847880"/>
            <a:ext cx="37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ократическое руководство работой детей. Решительное ограничение участия, практической деятельности мастера-педагога как авторитета на всех этапах мастерск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ценочность, отсутствие критических замечаний в адрес любого участника мастерск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ый временной конец (каждый ребенок работает в своем темпе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мосфера, создаваемая при работе в мастерской, должна обеспечивать эмоциональный комфорт каждому ребенку, способствовать и стимулировать творческое саморазвитие личности дошколь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609480" y="3067200"/>
            <a:ext cx="2603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7:52:54Z</dcterms:created>
  <dc:creator>DAY</dc:creator>
  <dc:description/>
  <dc:language>en-US</dc:language>
  <cp:lastModifiedBy>User</cp:lastModifiedBy>
  <dcterms:modified xsi:type="dcterms:W3CDTF">2016-12-20T02:13:26Z</dcterms:modified>
  <cp:revision>36</cp:revision>
  <dc:subject/>
  <dc:title>Слайд 1</dc:title>
</cp:coreProperties>
</file>