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E26D-75FB-470D-AABA-8E908CEA0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4A6E-555C-4BE0-A5F8-470C462D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DCD5-914A-43BA-96D4-C370FD7C4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66D8-8BD9-4894-BB9D-7469529EE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14F5-2F4D-4329-96DE-62F0C6A9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B56B-0858-4D35-A098-63965CC6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DEFC-31FE-4068-985C-6A5697D9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7FDE-6EF7-46F0-9CCB-5B8ED593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A913-EF42-45E9-BD22-362A5B1A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03E3-3216-4EAA-9537-3DE4CFD9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167A-82A3-4829-8ABE-04DA0A65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FCF3-27B7-40E7-B26F-8AB5AECB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8EC1-86BA-4F3A-98A4-92BB4ACC78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61840" y="2349360"/>
            <a:ext cx="784872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АЯ МАСТЕРСКАЯ</a:t>
            </a:r>
            <a:br>
              <a:rPr sz="4000"/>
            </a:br>
            <a:br>
              <a:rPr sz="40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ВОСПИТАТЕЛ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ПОВА ВИКТОРИЯ НИКОЛАЕВНА 1 КВ. КАТЕГО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32000" y="1484280"/>
            <a:ext cx="73785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ДОУ «Детский сад №5 «Одуванчи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стерска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 (в которую на время превращается групповое помещение) – специально организованное пространство, где целенаправленно созидаются красивые интересные и нужные для детской жизни вещ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4000" y="2248200"/>
            <a:ext cx="7848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5" name="Подзаголовок 2"/>
          <p:cNvSpPr/>
          <p:nvPr/>
        </p:nvSpPr>
        <p:spPr>
          <a:xfrm>
            <a:off x="468360" y="1268280"/>
            <a:ext cx="7119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7000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составу участников мастерские подразделяю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занятия только для дет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лько для педагогов (родителей (законных представителей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торые могут быть (при коррекции) проведены и со взрослыми (например с родителями (законными представителями)), и с деть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целям и видам деятельности выделяются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художественная мастер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театр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мастерская игр и игруш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сувенирная мастер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архитектурная мастер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1" descr=""/>
          <p:cNvPicPr/>
          <p:nvPr/>
        </p:nvPicPr>
        <p:blipFill>
          <a:blip r:embed="rId2"/>
          <a:stretch/>
        </p:blipFill>
        <p:spPr>
          <a:xfrm>
            <a:off x="5508720" y="2924280"/>
            <a:ext cx="302400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временной продолжительности мастерские разделяются на «однократные» (в течении одного занятия, 25-30 минут) и длительного действия (2-3 занятия), когда работа прерывиста, может продолжаться неделю (метод «погружения») или даже в течение нескольких недел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нципы и правила ведения мастерской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рганизация общего пространства для работы в мастерской, где мастер-педагог и дети будут находиться вместе, на одном уровне, без жестко закрепленных рабочих мест, с правом выбора сосе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возможность перестроить реальное пространство, в котором устраивается мастерская, в зависимости от задачи каждого этап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вободное вхождение детей в процесс мастерской через привлечение к новой идее, подготовленным материалам и др.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7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оставление свободы в рамках принятых правил, что дает ощущение внутренней свободы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Объект 1" descr=""/>
          <p:cNvPicPr/>
          <p:nvPr/>
        </p:nvPicPr>
        <p:blipFill>
          <a:blip r:embed="rId2"/>
          <a:stretch/>
        </p:blipFill>
        <p:spPr>
          <a:xfrm>
            <a:off x="792000" y="1847880"/>
            <a:ext cx="3743640" cy="30956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"/>
          <p:cNvPicPr/>
          <p:nvPr/>
        </p:nvPicPr>
        <p:blipFill>
          <a:blip r:embed="rId3"/>
          <a:stretch/>
        </p:blipFill>
        <p:spPr>
          <a:xfrm>
            <a:off x="5292720" y="1700280"/>
            <a:ext cx="3316320" cy="2665440"/>
          </a:xfrm>
          <a:prstGeom prst="rect">
            <a:avLst/>
          </a:prstGeom>
          <a:ln w="0">
            <a:noFill/>
          </a:ln>
        </p:spPr>
      </p:pic>
      <p:pic>
        <p:nvPicPr>
          <p:cNvPr id="52" name="Объект 1" descr=""/>
          <p:cNvPicPr/>
          <p:nvPr/>
        </p:nvPicPr>
        <p:blipFill>
          <a:blip r:embed="rId4"/>
          <a:stretch/>
        </p:blipFill>
        <p:spPr>
          <a:xfrm>
            <a:off x="828720" y="1847880"/>
            <a:ext cx="37432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7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мократическое руководство работой детей. Решительное ограничение участия, практической деятельности мастера-педагога как авторитета на всех этапах мастерско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7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зоценочность, отсутствие критических замечаний в адрес любого участника мастерско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7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крытый временной конец (каждый ребенок работает в своем темпе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just">
              <a:lnSpc>
                <a:spcPct val="107000"/>
              </a:lnSpc>
              <a:spcBef>
                <a:spcPts val="451"/>
              </a:spcBef>
              <a:spcAft>
                <a:spcPts val="7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тмосфера, создаваемая при работе в мастерской, должна обеспечивать эмоциональный комфорт каждому ребенку, способствовать и стимулировать творческое саморазвитие личности дошкольни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"/>
          <p:cNvPicPr/>
          <p:nvPr/>
        </p:nvPicPr>
        <p:blipFill>
          <a:blip r:embed="rId2"/>
          <a:stretch/>
        </p:blipFill>
        <p:spPr>
          <a:xfrm>
            <a:off x="609480" y="3067200"/>
            <a:ext cx="2603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2T17:52:54Z</dcterms:created>
  <dc:creator>DAY</dc:creator>
  <dc:description/>
  <dc:language>en-US</dc:language>
  <cp:lastModifiedBy>User</cp:lastModifiedBy>
  <dcterms:modified xsi:type="dcterms:W3CDTF">2016-12-20T02:13:26Z</dcterms:modified>
  <cp:revision>36</cp:revision>
  <dc:subject/>
  <dc:title>Слайд 1</dc:title>
</cp:coreProperties>
</file>