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31.gif" ContentType="image/gif"/>
  <Override PartName="/ppt/media/image23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30.gif" ContentType="image/gif"/>
  <Override PartName="/ppt/media/image33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D79-8DE2-4105-BC2A-94EA518F78D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A86B-9F8B-4CD0-870B-D7E34D7A69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404-9D01-44E9-A6D7-A44752DF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1F5-9E45-4FD8-A5AF-4B4FFE15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9AD24-C42D-4540-B6A6-362074E3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1BF44-81D3-4033-A1CB-707A31AC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E9095-5973-4F46-AED7-4A1586A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0AC95-DC2E-4083-8057-F656CF6C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7B202E-3DC5-489E-BC3E-E2B6A8B2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6A148-7A76-40F5-9BCB-6B17970E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28868-F7EB-484D-85F9-B7175DD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BC4D5-2AFE-4DED-AE89-4867D0CF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27E41-66DD-48AC-A3A3-03079753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6613-A7E7-4ECE-97EF-D625F822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0973-F53C-4947-A4CD-05539B2E6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5628-3001-4E4F-906F-BE4D2DBC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C86F-86B6-48F5-B970-1EC840DD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B809-AB1E-4CD3-B3E2-2E10148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A34-2866-4291-9F64-C43CFDBC7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21A4-6597-4254-9BF8-5B2A89D6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6725-7FE2-4ACE-8D02-7D600A0E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1F8A-7DCC-4CA6-8FE5-E53FB204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134-D960-4FFE-8EB5-85D444A9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20C-E933-4B8F-AFCA-02DF3ADA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DA2-D248-4AB9-8E5D-46993CAD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5E54-480B-497C-B3E5-D93355B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4D64-F0C2-4C0A-8846-5EC009D0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88DC-BA4B-4196-970C-0414D63D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CDDB-081D-4A32-A11D-D50D45F0C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13D28-018D-4CA7-950A-9BCE132E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30B9A-0CB8-41DC-912F-6D8E7DAE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A46F-C3A4-4E99-985A-CD10E78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4554B-8DBB-42F6-9A54-4A7A732A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2D1-772A-4981-81D0-3583DE9B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13EC-0CA2-452A-9886-D5D6BF4F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AB05-734D-4198-9DD5-5A6F2068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2DE4-2336-4C9C-9B4F-B6208729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FBC81-573D-48B2-842C-27B2F378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A7E1-FF82-42BA-8AB0-1A6754B5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EC701-8296-4AF2-BD23-449D1B3B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0527-6083-46FB-99A8-490FDED49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2775-4E3C-49C0-B97D-A20B1169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C2AE-6497-4D50-B503-03457A6E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0EE4-9B4F-4AE6-A824-9AA0F842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FE9-D5A9-4D1F-AEFA-044A3222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59FB-A93C-4582-82FB-D486A75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922B4-BEA1-4944-81C4-21B941C0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2B8D8-418F-4613-8794-58973F61C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242D6-EF4F-4CD9-9106-0E69955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4F81B-54D7-423B-9E02-098AF67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4D21-95E0-4A67-8518-39580A70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CA153-F294-4697-A32D-DE4082E1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E8A65-FD12-453A-9825-5DCCE93C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22B0-C596-4E49-B9C3-39848C22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336EF-B95C-4B1D-A44F-F0FF659D5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D777-5574-422A-A7A9-7252E733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92AD8-3FDB-490A-8E2F-7D1B547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C475-0998-48F0-BB3B-5F1CC260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D547-6E26-4A26-AD39-37E99BE7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D336-080E-437A-BF8A-80545274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1B33E-10AE-49A9-A58F-D67F5ACD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EBFF-2040-402F-9105-6A1911E7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0AD4D-917E-48E4-B456-53411757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0AFF-DA94-4721-8C9C-D879B9BC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D7A13-4EF1-45E6-851D-B234572F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A7AB-A21F-4088-80A1-A2474579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68A-1E47-47EC-ADC9-795B68C2C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E74E3-89BC-4F51-B458-53274383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B6AB2-B7AC-42F0-A12D-B80491D5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8F8EF-F8F4-40DF-8CD9-97F5AEE1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903FF-F0F9-4B3F-9E91-CBC008B0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D2DC0-83A6-4822-A13E-8AA97505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02449-6D1A-4A76-B50F-0B914276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7D96D-93CD-4A02-ACAB-3A370CD7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EB089-3715-4EC3-BB6C-236F94DB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B689E-D5AA-4047-ACFF-51B58CE0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3C179-0E46-410F-861C-99FB8F58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DA0-751D-4D5B-BEF6-513A7ADA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A0EF8-DC7D-480A-A1BA-349738D9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FEED6-76B1-48B3-B445-6406C0F5A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D099-E461-45D3-982E-F100DC8F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CA63-F90A-4607-BCA4-8BEA35C5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85F0A-2080-4111-934F-113012BC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F1C74-9D85-4721-8B81-51AEBC34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F579B-91FC-401D-9D66-4BDE7EA9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FDD3B-A7D5-401F-AFDF-313DC02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79B49-4D16-4E18-9989-B930ACD4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B4005-9A1F-4747-AD60-F34ADCC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D08-EC46-4986-85F7-21551310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0ACEE-BBD2-4581-8B7B-AAD6D1C8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BFE14-E78D-4561-B1B8-33E365E1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864AA-FE80-4895-986B-00B47E38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66122-55DB-4D46-88C4-0D045CAA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0C74-D101-456C-9A19-7F1A4073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0E78D-797E-420E-A133-0B06E5A7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FC87C-56B0-4BA1-887D-56AADAB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53C70-F597-4A9F-A344-049610BB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4A6A9-9BE5-4C9A-A74D-FE6BF4E1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E0A26-033E-42CB-9EF2-1E27A2A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FAF9-658C-43B4-849D-96647A7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EABDC-739A-4307-B6A2-0A2F4593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88A21-8BA1-46AE-927A-327C9D04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F1D00-342A-49C3-A565-45F09D2D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6F4CF-4C54-4015-8AF0-24F60108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E5420-6034-4D46-871B-A6A7ED32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FD37-0BC9-4556-AD51-767E71A5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8B1B5-794E-4AEB-AC5D-BDBCC32D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DF5E1-370A-47F8-BF27-1613E965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3B34A-63B6-43A5-9D88-63523A52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793ED-B019-4397-9361-3C8F7719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5E9C-7764-4F56-8135-C0447154EB2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1D20-F348-4216-BDCC-CAD8F70F8A96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F44F-1BDA-410A-B2CB-FF799D76E658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eece1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ce1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eeece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8BF4-27E5-434E-BA56-B086EAD59100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503-695D-4098-88E0-38BB8A14EE52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384F-61F5-441B-A35B-9D91126EE2FD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6505-731E-4CD6-A834-6646C2C820FE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1AC-7398-46B0-9A22-0CA2B17C4BF5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471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5108-704C-4EF3-8316-182F116808C0}" type="slidenum">
              <a:rPr b="0" lang="ru-RU" sz="1200" spc="-1" strike="noStrike">
                <a:solidFill>
                  <a:srgbClr val="4471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0.gif"/><Relationship Id="rId3" Type="http://schemas.openxmlformats.org/officeDocument/2006/relationships/image" Target="../media/image30.gif"/><Relationship Id="rId4" Type="http://schemas.openxmlformats.org/officeDocument/2006/relationships/hyperlink" Target="http://klub-drug.ru/wp-content/uploads/2011/04/61444841.gif" TargetMode="External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1852560" y="1243080"/>
            <a:ext cx="701028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2071440" y="457200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Учитель Технологии ВКК Сомова В.Н.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МБОУ «СОШ № 79»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1a3f6d"/>
                </a:solidFill>
                <a:latin typeface="Verdana"/>
              </a:rPr>
              <a:t>г Владивостока 2016 г.</a:t>
            </a:r>
            <a:endParaRPr b="0" lang="en-US" sz="24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08" name="Заголовок 1"/>
          <p:cNvSpPr/>
          <p:nvPr/>
        </p:nvSpPr>
        <p:spPr>
          <a:xfrm>
            <a:off x="1643040" y="2320920"/>
            <a:ext cx="721512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2000160" y="3678120"/>
            <a:ext cx="69296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f497d"/>
                </a:solidFill>
                <a:latin typeface="Verdana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8"/>
          <p:cNvSpPr/>
          <p:nvPr/>
        </p:nvSpPr>
        <p:spPr>
          <a:xfrm>
            <a:off x="552600" y="3071880"/>
            <a:ext cx="72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Verdana"/>
              </a:rPr>
              <a:t>Ухода за одеждой и обувь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Универсальный поливинилацетатный (ПВА-МБ). Им можно клеить бумагу, картон, кожу, ткань, приклеивать их к деревянным, стеклянным или металлическим поверхностям. 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Клей ПВА супер (ПВА-М). Им можно клеить все бумажные основы, фарфор, ткань, кожу, изделия из дерева (ДСП, МДФ), а так же линолеум, паркет, плитку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4" descr="http://всемайкитут.рф/images/f6/futbolka-zaplatka-na-serdtse_item14061.jpg"/>
          <p:cNvPicPr/>
          <p:nvPr/>
        </p:nvPicPr>
        <p:blipFill>
          <a:blip r:embed="rId1"/>
          <a:stretch/>
        </p:blipFill>
        <p:spPr>
          <a:xfrm rot="618000">
            <a:off x="4049640" y="12024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357120" y="85680"/>
            <a:ext cx="8358120" cy="69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Arial"/>
                <a:ea typeface="FrankRuehl"/>
              </a:rPr>
              <a:t>ТЕОРЕТИЧЕСКИЕ СВЕДЕНИЯ ПО УХОДУ ЗА ОДЕЖ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дежда в жизни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сновные способы ремонта одежды с указанием вида повре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штоп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заплата (накладная, подкладна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аппликация, термоаппл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Символы по уходу за одеждой и их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Технология стирки и сушки изделий из хлопчатобумажных и льняных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Утюжка изделий из хлопчатобумажных и льняных тка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9" descr="watermark.jpg"/>
          <p:cNvPicPr/>
          <p:nvPr/>
        </p:nvPicPr>
        <p:blipFill>
          <a:blip r:embed="rId2"/>
          <a:stretch/>
        </p:blipFill>
        <p:spPr>
          <a:xfrm>
            <a:off x="6357960" y="2928960"/>
            <a:ext cx="2381400" cy="1785960"/>
          </a:xfrm>
          <a:prstGeom prst="rect">
            <a:avLst/>
          </a:prstGeom>
          <a:ln w="0">
            <a:noFill/>
          </a:ln>
        </p:spPr>
      </p:pic>
      <p:pic>
        <p:nvPicPr>
          <p:cNvPr id="445" name="Рисунок 10" descr="1358335768.jpg"/>
          <p:cNvPicPr/>
          <p:nvPr/>
        </p:nvPicPr>
        <p:blipFill>
          <a:blip r:embed="rId3"/>
          <a:stretch/>
        </p:blipFill>
        <p:spPr>
          <a:xfrm>
            <a:off x="857160" y="4286160"/>
            <a:ext cx="4357800" cy="80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Одежда имеет большое значение в жизни человека. Она согревает его, скрывает недостатки фигуры, украшает. Представить человека без одежды невозможно. В ней он учится, работает, занимается спортом, отдыхает. Для того чтобы вещи, которые мы носим, служили дольше, за ними нужно правильно ухаживать.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99224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Если в ткани образовался небольшой разрыв, можно использовать штопку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Если изношенное место большого размера или образовалась дырка на одежде, то ставят заплаты. Они могут быть подкладными или накладными. Рисунок и направление долевой нити заплаты должен быть таким же, как в ткани изделия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Ремонт заплатами могут заменить готовые аппликации или термоаппликации, купленные в магазине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82280" cy="1506240"/>
          </a:xfrm>
          <a:prstGeom prst="rect">
            <a:avLst/>
          </a:prstGeom>
          <a:ln w="0">
            <a:noFill/>
          </a:ln>
        </p:spPr>
      </p:pic>
      <p:pic>
        <p:nvPicPr>
          <p:cNvPr id="451" name="Содержимое 3" descr="cGxWpt_rsoo.jpg"/>
          <p:cNvPicPr/>
          <p:nvPr/>
        </p:nvPicPr>
        <p:blipFill>
          <a:blip r:embed="rId2"/>
          <a:stretch/>
        </p:blipFill>
        <p:spPr>
          <a:xfrm>
            <a:off x="500040" y="1428840"/>
            <a:ext cx="8358120" cy="5429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Выстиранные вещи и белье лучше сушить на свежем воздухе. Изделия выворачивают на изнаночную сторону, чтобы они не выгорали на солнце, и встряхивают, чтобы расправились складки, и легче было утюжить. Постельное белье лучше сушить, развешивая за длинную сторону, а полотенца – за короткую. Чтобы сорочки и блузки не деформировались, их сушат на плечиках, а брюки прикрепляют к веревке за пояс несколькими прищепками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Заголовок 1" descr=""/>
          <p:cNvPicPr/>
          <p:nvPr/>
        </p:nvPicPr>
        <p:blipFill>
          <a:blip r:embed="rId1"/>
          <a:stretch/>
        </p:blipFill>
        <p:spPr>
          <a:xfrm>
            <a:off x="133200" y="-225360"/>
            <a:ext cx="8864640" cy="1993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Белье утюжат чуть влажным. Температура нагрева утюга для разных видов ткани различна. Изделия из хлопка и льна можно утюжить при верхнем температурном режиме (150–210*С). Если белье пересохло, его можно завернуть на несколько минут в мокрое полотенце или утюжить утюгом с пароувлажнителем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214200" y="928800"/>
          <a:ext cx="7358040" cy="5348160"/>
        </p:xfrm>
        <a:graphic>
          <a:graphicData uri="http://schemas.openxmlformats.org/drawingml/2006/table">
            <a:tbl>
              <a:tblPr/>
              <a:tblGrid>
                <a:gridCol w="401760"/>
                <a:gridCol w="2313000"/>
                <a:gridCol w="4643280"/>
              </a:tblGrid>
              <a:tr h="2134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арианты отв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64116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Оптимальная температура сушки обу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не выше 2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не выше 5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не ниже 100</a:t>
                      </a:r>
                      <a:r>
                        <a:rPr b="0" lang="ru-RU" sz="1400" spc="-1" strike="noStrike" baseline="30000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0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541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Чистк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ремонт одеж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химическое вещество для беления ткан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удаление пятен с верхней одеж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Клей для ремонта обув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казеиновы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П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специаль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Одежд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наружный покров те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изделие, изготовленное на ткацком станк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вещи, которые носит челове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Для чистки замшевой обуви применяю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губку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щетку с металлическими проволочк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щетк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415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Починка – это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опасное насекомо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ремонт одежд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распределение белья для стир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Что придает обуви мягкость и блеск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лак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краситель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в) крем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639720">
                <a:tc>
                  <a:txBody>
                    <a:bodyPr lIns="42120" rIns="4212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Для чего производители одежды используют символы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2120" rIns="4212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а) для красот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62626"/>
                          </a:solidFill>
                          <a:latin typeface="Arial"/>
                          <a:ea typeface="Arial"/>
                        </a:rPr>
                        <a:t>б) для подробной информации об уходе за издел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120" marR="4212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57" name="Прямоугольник 2"/>
          <p:cNvSpPr/>
          <p:nvPr/>
        </p:nvSpPr>
        <p:spPr>
          <a:xfrm>
            <a:off x="1323720" y="214200"/>
            <a:ext cx="572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СТОВАЯ ПРОВЕРОЧ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http://miranimashek.com/Alfavit/Blik_zolota/vopros.gif"/>
          <p:cNvPicPr/>
          <p:nvPr/>
        </p:nvPicPr>
        <p:blipFill>
          <a:blip r:embed="rId1"/>
          <a:stretch/>
        </p:blipFill>
        <p:spPr>
          <a:xfrm rot="19800000">
            <a:off x="7759800" y="263340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6" descr="http://miranimashek.com/Alfavit/Blik_zolota/vopros.gif"/>
          <p:cNvPicPr/>
          <p:nvPr/>
        </p:nvPicPr>
        <p:blipFill>
          <a:blip r:embed="rId2"/>
          <a:stretch/>
        </p:blipFill>
        <p:spPr>
          <a:xfrm rot="900000">
            <a:off x="8067240" y="204120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6" descr="http://miranimashek.com/Alfavit/Blik_zolota/vopros.gif"/>
          <p:cNvPicPr/>
          <p:nvPr/>
        </p:nvPicPr>
        <p:blipFill>
          <a:blip r:embed="rId3"/>
          <a:stretch/>
        </p:blipFill>
        <p:spPr>
          <a:xfrm rot="900000">
            <a:off x="8353080" y="2541240"/>
            <a:ext cx="399960" cy="5713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8" descr="http://klub-drug.ru/wp-content/uploads/2011/04/61444841.gi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643880" y="3362400"/>
            <a:ext cx="1038240" cy="780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Заголовок 1" descr=""/>
          <p:cNvPicPr/>
          <p:nvPr/>
        </p:nvPicPr>
        <p:blipFill>
          <a:blip r:embed="rId1"/>
          <a:stretch/>
        </p:blipFill>
        <p:spPr>
          <a:xfrm>
            <a:off x="347760" y="-6480"/>
            <a:ext cx="7583400" cy="847800"/>
          </a:xfrm>
          <a:prstGeom prst="rect">
            <a:avLst/>
          </a:prstGeom>
          <a:ln w="0">
            <a:noFill/>
          </a:ln>
        </p:spPr>
      </p:pic>
      <p:sp>
        <p:nvSpPr>
          <p:cNvPr id="463" name="Овал 5"/>
          <p:cNvSpPr/>
          <p:nvPr/>
        </p:nvSpPr>
        <p:spPr>
          <a:xfrm>
            <a:off x="214200" y="5226120"/>
            <a:ext cx="4000680" cy="121428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6480">
            <a:solidFill>
              <a:srgbClr val="4a7ebb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ремонта одежды подкладной запла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http://static.diary.ru/userdir/1/7/5/3/17536/17337166.jpg"/>
          <p:cNvPicPr/>
          <p:nvPr/>
        </p:nvPicPr>
        <p:blipFill>
          <a:blip r:embed="rId2"/>
          <a:stretch/>
        </p:blipFill>
        <p:spPr>
          <a:xfrm>
            <a:off x="4929120" y="136836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465" name="Овал 8"/>
          <p:cNvSpPr/>
          <p:nvPr/>
        </p:nvSpPr>
        <p:spPr>
          <a:xfrm>
            <a:off x="4572000" y="3368520"/>
            <a:ext cx="4000680" cy="1214640"/>
          </a:xfrm>
          <a:prstGeom prst="ellipse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cap="rnd" w="6480">
            <a:solidFill>
              <a:srgbClr val="4a7ebb"/>
            </a:solidFill>
            <a:miter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дклеивание кожи к резиновой осно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Выгнутая вверх стрелка 10"/>
          <p:cNvGrpSpPr/>
          <p:nvPr/>
        </p:nvGrpSpPr>
        <p:grpSpPr>
          <a:xfrm>
            <a:off x="1966320" y="740880"/>
            <a:ext cx="2936160" cy="1873800"/>
            <a:chOff x="1966320" y="740880"/>
            <a:chExt cx="2936160" cy="1873800"/>
          </a:xfrm>
        </p:grpSpPr>
        <p:pic>
          <p:nvPicPr>
            <p:cNvPr id="467" name="Выгнутая вверх стрелка 10" descr=""/>
            <p:cNvPicPr/>
            <p:nvPr/>
          </p:nvPicPr>
          <p:blipFill>
            <a:blip r:embed="rId3"/>
            <a:stretch/>
          </p:blipFill>
          <p:spPr>
            <a:xfrm>
              <a:off x="2167560" y="1011240"/>
              <a:ext cx="26722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 rot="20644800">
              <a:off x="2060280" y="1096920"/>
              <a:ext cx="274752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Выгнутая вверх стрелка 11"/>
          <p:cNvGrpSpPr/>
          <p:nvPr/>
        </p:nvGrpSpPr>
        <p:grpSpPr>
          <a:xfrm>
            <a:off x="4208400" y="4767120"/>
            <a:ext cx="2903040" cy="1982880"/>
            <a:chOff x="4208400" y="4767120"/>
            <a:chExt cx="2903040" cy="1982880"/>
          </a:xfrm>
        </p:grpSpPr>
        <p:pic>
          <p:nvPicPr>
            <p:cNvPr id="470" name="Выгнутая вверх стрелка 11" descr=""/>
            <p:cNvPicPr/>
            <p:nvPr/>
          </p:nvPicPr>
          <p:blipFill>
            <a:blip r:embed="rId4"/>
            <a:stretch/>
          </p:blipFill>
          <p:spPr>
            <a:xfrm>
              <a:off x="4286160" y="4767120"/>
              <a:ext cx="257400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 rot="9606600">
              <a:off x="4309920" y="5250960"/>
              <a:ext cx="2699640" cy="10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Рисунок 12" descr="watermark.jpg"/>
          <p:cNvPicPr/>
          <p:nvPr/>
        </p:nvPicPr>
        <p:blipFill>
          <a:blip r:embed="rId5"/>
          <a:stretch/>
        </p:blipFill>
        <p:spPr>
          <a:xfrm>
            <a:off x="285840" y="2357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Заголовок 1"/>
          <p:cNvSpPr/>
          <p:nvPr/>
        </p:nvSpPr>
        <p:spPr>
          <a:xfrm>
            <a:off x="428760" y="214200"/>
            <a:ext cx="746748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ИНСТРУКЦИОНН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285840" y="785880"/>
          <a:ext cx="8429400" cy="5837040"/>
        </p:xfrm>
        <a:graphic>
          <a:graphicData uri="http://schemas.openxmlformats.org/drawingml/2006/table">
            <a:tbl>
              <a:tblPr/>
              <a:tblGrid>
                <a:gridCol w="4357440"/>
                <a:gridCol w="4071960"/>
              </a:tblGrid>
              <a:tr h="583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актическая работа №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«Ремонт одежды подкладной заплатой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Материалы, инструменты и оборудование: ткани для образца и для заплаты, нитки швейные, игла, ножницы, утюг, рабочая тетрад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резать повреждённое место в форме овала или прямоугольника. Определить направление долевой нит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огнуть срезы на изнаночную сторону изделия, заметат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Определить долевую нить ткани, предназначенной для заплаты. Выкроить заплату, её размеры должны быть в два раза больше размеров отверст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одогнуть и заметать срезы заплаты на изнаночную сторону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Наложить заплату лицевой стороной на изнаночную сторону изделия, наметать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шить заплату к изделию с изнаночной стороны мелкими косыми стежк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метать подогнутые края отверстия к заплате с лицевой стороны. Пришить мелкими косыми стежкам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Удалить нитки временного назнач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утюжить заплату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оверить качество выполнения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клеить образец в рабочую тетрадь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актическая работа №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«Подклеивание кожи на резиновую основу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Материалы, инструменты и оборудование: кусочки кожи и резины, наждачная бумага, обезжириватель, два вида клея, бельевые прищепки, ватные палочки, салфет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Зачистить места склеивания наждачной бумагой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Обезжирить эти места, смочив ватную палочку обезжиривателем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Смазать тонким слоем участки кожи и резины  клеем ПВА и оставить на 10 минут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зять другие заготовки кожи и резины и провести также подготовку поверхностей к склеиванию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Смазать ватной палочкой склеиваемые участки тонким слоем клея ПВ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жать склеиваемые мест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Взять первую заготовку после 10-минутной выдержк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  <a:ea typeface="FrankRuehl"/>
                        </a:rPr>
                        <a:t>Прижать склеиваемые места прищепками и оставить на 24 часа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7583400" cy="88416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3"/>
          <p:cNvSpPr/>
          <p:nvPr/>
        </p:nvSpPr>
        <p:spPr>
          <a:xfrm>
            <a:off x="285840" y="1571760"/>
            <a:ext cx="850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образовательн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создать условия для изучения учащимися видов ремонта одежды и обу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Содержимое 2"/>
          <p:cNvSpPr/>
          <p:nvPr/>
        </p:nvSpPr>
        <p:spPr>
          <a:xfrm>
            <a:off x="285840" y="2857680"/>
            <a:ext cx="8429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развивающ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способствовать формированию знаний и навыков по уходу за одеждой и обувью, ремонту одежды и  обув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Содержимое 2"/>
          <p:cNvSpPr/>
          <p:nvPr/>
        </p:nvSpPr>
        <p:spPr>
          <a:xfrm>
            <a:off x="285840" y="4714920"/>
            <a:ext cx="83581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воспитательная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: воспитывать культуру труда, ответственность за личную и общественную безопасность при выполнении работ,  аккуратность при выполнении различных заданий, бережливость, эстетический вк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7944120" cy="26593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1b76acb5c559d54a2b1a39934fd9a2a9_1.jpg"/>
          <p:cNvPicPr/>
          <p:nvPr/>
        </p:nvPicPr>
        <p:blipFill>
          <a:blip r:embed="rId2"/>
          <a:stretch/>
        </p:blipFill>
        <p:spPr>
          <a:xfrm>
            <a:off x="5929200" y="3571920"/>
            <a:ext cx="2684520" cy="26715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6" descr="1997477079.jpg"/>
          <p:cNvPicPr/>
          <p:nvPr/>
        </p:nvPicPr>
        <p:blipFill>
          <a:blip r:embed="rId3"/>
          <a:stretch/>
        </p:blipFill>
        <p:spPr>
          <a:xfrm>
            <a:off x="571680" y="4000680"/>
            <a:ext cx="3390840" cy="2257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47760" y="195120"/>
            <a:ext cx="7583400" cy="8478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28400" y="1127160"/>
            <a:ext cx="7715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компьютер, проектор, экран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учебник, рабочая тетрадь;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заготовки (лоскут ткани, куски резины и кожи)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клей обувной нетоксичный, без запаха, обезжириватель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наждачная бумага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нитки, иголка, напёрсток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утюг, ножницы;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бельевые прищепки.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  <p:pic>
        <p:nvPicPr>
          <p:cNvPr id="417" name="Picture 2" descr="http://img1.liveinternet.ru/images/attach/c/1/51/228/51228710_i.jpg"/>
          <p:cNvPicPr/>
          <p:nvPr/>
        </p:nvPicPr>
        <p:blipFill>
          <a:blip r:embed="rId2"/>
          <a:stretch/>
        </p:blipFill>
        <p:spPr>
          <a:xfrm>
            <a:off x="5643720" y="5072040"/>
            <a:ext cx="2143080" cy="1785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" descr="http://tcboe21.wikispaces.com/file/view/Scissors.jpg/35152509/Scissors.jpg"/>
          <p:cNvPicPr/>
          <p:nvPr/>
        </p:nvPicPr>
        <p:blipFill>
          <a:blip r:embed="rId3"/>
          <a:stretch/>
        </p:blipFill>
        <p:spPr>
          <a:xfrm>
            <a:off x="6500880" y="3214800"/>
            <a:ext cx="2071800" cy="20714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0" descr="Braun_2478_264454.jpg"/>
          <p:cNvPicPr/>
          <p:nvPr/>
        </p:nvPicPr>
        <p:blipFill>
          <a:blip r:embed="rId4"/>
          <a:stretch/>
        </p:blipFill>
        <p:spPr>
          <a:xfrm>
            <a:off x="3357720" y="4572000"/>
            <a:ext cx="1928520" cy="228600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11" descr="187b-500x500.gif"/>
          <p:cNvPicPr/>
          <p:nvPr/>
        </p:nvPicPr>
        <p:blipFill>
          <a:blip r:embed="rId5"/>
          <a:stretch/>
        </p:blipFill>
        <p:spPr>
          <a:xfrm>
            <a:off x="4929120" y="3571920"/>
            <a:ext cx="1405080" cy="135720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12" descr="армированные.jpg"/>
          <p:cNvPicPr/>
          <p:nvPr/>
        </p:nvPicPr>
        <p:blipFill>
          <a:blip r:embed="rId6"/>
          <a:stretch/>
        </p:blipFill>
        <p:spPr>
          <a:xfrm>
            <a:off x="6500880" y="214200"/>
            <a:ext cx="2286000" cy="185112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13" descr="0-prischepki-belevyie-derevyannyie.jpg"/>
          <p:cNvPicPr/>
          <p:nvPr/>
        </p:nvPicPr>
        <p:blipFill>
          <a:blip r:embed="rId7"/>
          <a:stretch/>
        </p:blipFill>
        <p:spPr>
          <a:xfrm>
            <a:off x="1071720" y="5286240"/>
            <a:ext cx="2095200" cy="1571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7583400" cy="8845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285840" y="514332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рактическая работа по группам</a:t>
            </a:r>
            <a:br>
              <a:rPr sz="2000"/>
            </a:br>
            <a:r>
              <a:rPr b="0" lang="ru-RU" sz="2000" spc="-1" strike="noStrike">
                <a:solidFill>
                  <a:srgbClr val="953735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f497d"/>
              </a:solidFill>
              <a:latin typeface="Verdana"/>
            </a:endParaRPr>
          </a:p>
        </p:txBody>
      </p:sp>
      <p:sp>
        <p:nvSpPr>
          <p:cNvPr id="425" name="Содержимое 2"/>
          <p:cNvSpPr/>
          <p:nvPr/>
        </p:nvSpPr>
        <p:spPr>
          <a:xfrm>
            <a:off x="285840" y="1328760"/>
            <a:ext cx="80722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Организационный мо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проверка готовности учащихся к урок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формулирование цел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Содержимое 2"/>
          <p:cNvSpPr/>
          <p:nvPr/>
        </p:nvSpPr>
        <p:spPr>
          <a:xfrm>
            <a:off x="285840" y="5786280"/>
            <a:ext cx="74674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одведение итогов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одержимое 2"/>
          <p:cNvSpPr/>
          <p:nvPr/>
        </p:nvSpPr>
        <p:spPr>
          <a:xfrm>
            <a:off x="214200" y="3114720"/>
            <a:ext cx="835848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Изучение нов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сообщение теоретическ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знакомство с технологией   способов ремонта  одежды и обуви в домашних условиях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Arial"/>
              </a:rPr>
              <a:t>-  инструктаж по технике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Заголовок 1"/>
          <p:cNvSpPr/>
          <p:nvPr/>
        </p:nvSpPr>
        <p:spPr>
          <a:xfrm>
            <a:off x="214200" y="285840"/>
            <a:ext cx="84297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ТЕОРЕТИЧЕСКИЕ СВЕДЕНИЯ  ПО УХОДУ ЗА ОБУВ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Содержимое 2"/>
          <p:cNvSpPr/>
          <p:nvPr/>
        </p:nvSpPr>
        <p:spPr>
          <a:xfrm>
            <a:off x="285840" y="1285920"/>
            <a:ext cx="807228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Необходимость чистки и ухода за  кожаной обу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Подготовка обуви к чистке и нанесению крема для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Рекомендации к подбору крема для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Технология ухода за обувь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суш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нанесение крем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595959"/>
                </a:solidFill>
                <a:latin typeface="Arial"/>
                <a:ea typeface="Times New Roman"/>
              </a:rPr>
              <a:t>сохранение формы обу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53735"/>
                </a:solidFill>
                <a:latin typeface="Arial"/>
                <a:ea typeface="Arial"/>
              </a:rPr>
              <a:t>Знакомство с видами клея для ремонта кожаной обу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4" descr="БЛЕСК - набор для чистки обуви"/>
          <p:cNvPicPr/>
          <p:nvPr/>
        </p:nvPicPr>
        <p:blipFill>
          <a:blip r:embed="rId1"/>
          <a:stretch/>
        </p:blipFill>
        <p:spPr>
          <a:xfrm>
            <a:off x="5143680" y="3286080"/>
            <a:ext cx="3286080" cy="21574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5" descr="187b-500x500.gif"/>
          <p:cNvPicPr/>
          <p:nvPr/>
        </p:nvPicPr>
        <p:blipFill>
          <a:blip r:embed="rId2"/>
          <a:stretch/>
        </p:blipFill>
        <p:spPr>
          <a:xfrm>
            <a:off x="7500960" y="1285920"/>
            <a:ext cx="1643040" cy="1928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1"/>
          <a:stretch/>
        </p:blipFill>
        <p:spPr>
          <a:xfrm>
            <a:off x="195120" y="420840"/>
            <a:ext cx="8802720" cy="111600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Кожаную обувь нужно чистить постоянно не только потому, что это восстанавливает ее внешний вид, но и потому, что в кремах содержатся вещества, смягчающие кожу и увеличивающие ее водостойкость. Обувь, которую носят во влажных условиях, необходимо регулярно смазывать твердыми жирами (салом) или касторовым маслом. Жиры и масло втирают в кожу до исчезновения их с поверхности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864640" cy="15048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f497d"/>
                </a:solidFill>
                <a:latin typeface="Verdana"/>
              </a:rPr>
              <a:t>Перед тем, как на поверхность обуви нанести крем, следует хорошо очистить ее от пыли и грязи. Для придания блеска нужно после нанесения крема тщательно почистить обувь сначала щеткой, а затем мягкой тряпкой с ворсом (лучше всего бархоткой). Хорошо смягчает кожу и придает блеск универсальная эмульсия, она пригодна для кожаной обуви разных цветов. Для освежения обуви из белой кожи можно пользоваться слабым мыльным раствором или молоком и бесцветным кремом.</a:t>
            </a: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944200" cy="15048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Verdana"/>
              </a:rPr>
              <a:t>Для ухода за обувью применяют различные средства: пасты, эмульсии и жидкие кремы, содержащие воски, церезины, твердые парафины, растворители (уайт-спирит, скипидар или их смесь), жиро- и водорастворимые красители.</a:t>
            </a:r>
            <a:endParaRPr b="0" lang="en-US" sz="32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133200" y="262080"/>
            <a:ext cx="8864640" cy="10429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Сушить кожаную обувь надо при температуре не выше +50</a:t>
            </a:r>
            <a:r>
              <a:rPr b="0" lang="ru-RU" sz="3000" spc="-1" strike="noStrike" baseline="30000">
                <a:solidFill>
                  <a:srgbClr val="1f497d"/>
                </a:solidFill>
                <a:latin typeface="Verdana"/>
              </a:rPr>
              <a:t>0</a:t>
            </a:r>
            <a:r>
              <a:rPr b="0" lang="ru-RU" sz="3000" spc="-1" strike="noStrike">
                <a:solidFill>
                  <a:srgbClr val="1f497d"/>
                </a:solidFill>
                <a:latin typeface="Verdana"/>
              </a:rPr>
              <a:t>С, иначе она может покоробиться. При просушке обувь следует ставить так, чтобы вся поверхность– и внутренняя, и наружная– была открыта для испарения влаги. Замшевую обувь рекомендуется чистить щетками, в которых, кроме волосяной щетины, вставлены металлические проволочки (для восстановления ворса).</a:t>
            </a:r>
            <a:endParaRPr b="0" lang="en-US" sz="3000" spc="-1" strike="noStrike">
              <a:solidFill>
                <a:srgbClr val="1f497d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4:04:14Z</dcterms:created>
  <dc:creator>сомова</dc:creator>
  <dc:description/>
  <dc:language>en-US</dc:language>
  <cp:lastModifiedBy>123</cp:lastModifiedBy>
  <dcterms:modified xsi:type="dcterms:W3CDTF">2016-06-26T00:26:16Z</dcterms:modified>
  <cp:revision>63</cp:revision>
  <dc:subject/>
  <dc:title>интегрированный урок</dc:title>
</cp:coreProperties>
</file>