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31.gif" ContentType="image/gif"/>
  <Override PartName="/ppt/media/image23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30.gif" ContentType="image/gif"/>
  <Override PartName="/ppt/media/image3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F736-3B7E-4117-B705-2E4C1DB7FA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48F1-53E9-4774-845E-22E922196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877-58DC-4FBD-96FD-C84439CE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7D7-D892-4EAE-8EFA-B40BFBC7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FD4DE-ED5F-4973-BA0A-CE38EF9D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699E3-7E24-447E-B0B0-A7A864F6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C4192-E3CE-4061-BBF2-82EC9899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F2F01-9363-423E-9DFE-B3070125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1346D-C137-477D-BEA5-78549A4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B86CC-BDE5-4F9C-928B-5A76850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6B06F-BE08-4425-9EA2-EF349BAA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E2455-E46D-4D37-A16C-10C28FDF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764BD-A63D-4721-8A93-D67DBCF0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CD0-3417-4CA6-8027-27B67736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DC0-C07B-48C0-BE07-39CFD739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A513-2A5F-4B10-A346-51079F39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2C31-53CE-4DBF-9C8E-B91CE01F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FBDD-733C-4C0D-B849-42438FF3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A9A8-D6BE-46DF-AD9A-7677C07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0CA1-0F6A-4125-9743-712E159F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EA30-7977-4AEE-9176-86964C7B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79B8-7E68-4458-AAE9-3657EC0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1E1-2073-451E-95BE-7796B853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C0CC-69F9-42D8-B32B-8902AE6E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28FA-C5DD-45B9-A397-C3EEB1D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64EB-5E44-4430-A66D-6048F630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C849-1710-45A9-830C-0D823E33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938C-0A8D-4EA8-AB01-ED144FCA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B73E-78BF-45B6-BD6D-43C77CEF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00DD-B45F-415F-8330-5923AB88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DA4C-F7E7-44A0-881A-E81DF01D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5CA6-8DBA-4831-8A1F-A59A35CF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80D36-171E-4D27-A518-AE31AF41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EDD-85F6-4020-9A4D-AC542BC3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98D63-7DF1-4B5F-9519-0B0D3B79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C1D8-197F-461D-8FEB-6056C15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DB92-58CC-42C2-83DB-59990452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F262-CFEB-45B7-8630-85F8F0B9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C31E-8A0B-454A-A676-2075BE8C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8D8B-9C3E-428C-AC2F-DE289ED3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FA31-1045-450E-9539-A832AFAB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616D-46BB-4D67-A392-A40BEEA1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47A1-52A6-4DEA-AD1A-880E47C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7EEB-BD27-4FF6-97F7-62042E9C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510-5F15-4700-B47A-AE2FDB03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D0E4-A4C5-467E-9B33-4804CD03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92EA-FBA8-4519-8891-F5B1EB31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86CDF-CE1E-418B-933A-D3E1B09F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09DFE-B92D-48CE-A03A-1DC1BF3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D321-E315-4DB4-8909-F09B2919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B05A8-A283-42BF-ADF8-700591EF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42D8-CA79-4F23-BB24-AE5EB397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8955-7F87-4012-A9A3-2425DE94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83A51-7425-4D07-BC3A-30D8805D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8AE2-F04E-4C71-88CD-231303EA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271-7CEB-4F50-AB41-8376F3B6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B0BA7-AD2C-4EBC-96A0-9FA444B2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C8F04-C193-4B72-93AB-2932B9D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F3627-7F8F-4900-A7FB-8B078375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81F7E-7947-4187-8DB8-49B9AF38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1C8DC-8A46-4EFF-960F-17A2D502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72CB0-F196-4CF2-9837-DAF3B52C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0D799-369A-47B3-B6DA-3658CE83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A8BE1-2098-4532-AD2B-A240A874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D9F8-3ACA-4487-AAE1-E338424A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2922D-0D97-4513-BCEA-7A55242A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07D-A189-4EDF-9D1D-FF6B2D76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0502-F81F-4BB7-A7CC-098CD47F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D669F-0E06-4C65-99FD-319C0043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13D6-D5C7-4E30-8138-3048FF87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4F98-1B4E-472B-9E0A-6FC46CFE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8621A-05D5-4D93-A8ED-0B643233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BADF1-9EA4-42FD-BD71-9B4E24CD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EAD1-CF8F-4F92-B5B3-FDE9BE6A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C275A-5AC4-4CB6-B885-8D6B91C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E1AE-7F7F-4618-BDF0-994843D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30CE1-608A-4DCC-829E-F2C93D5C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6D3-9A40-497D-95B7-A2B01430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EEEAF-98BD-4B86-AD29-CBFCA9D6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82098-34E9-492E-A542-8FDEB637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DF61D-B35B-4A40-A4A5-0EA980CA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F15D7-94BB-49CF-B7EC-C0EC61CB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F4B04-C124-41EF-958A-771216B7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2D978-4972-4D08-BF8C-0ADD6082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99850-7683-478B-8137-8C8159B4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836DD-4784-4196-B702-0814C1FC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6946B-D0BA-4D4A-94A4-EF5869F3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40E39-2951-4C21-B802-E6B5E54A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680-5545-4391-98B8-0544EDC4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9B16C-20B4-407C-86EF-71E600F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468F0-CDEB-4244-A5A3-38E14A68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5E0FF-E7AC-4D5B-BDAF-CFD81D30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1F76-32B9-4BEE-866D-234B4717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24146-F495-460B-B265-2E3189EE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98BD8-EAF8-4E0C-95BC-AD325046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D96C-789E-4DDC-BC01-9F47511D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483B-FDBD-4DA6-96D3-FCF3AB7A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3EF15-89AF-4EA6-9833-8C6A6412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67FB6-E470-41AB-9D3A-A0027BE0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34F-F080-43A9-819E-89643A5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D7DE3-0FEC-44D4-BC6A-87E023A0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2905A-CEC6-43E5-BB4D-51AB3F0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6687-DAA2-440F-BDED-B9A0A92F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3E0F6-B984-42F5-AE2D-3BAB0431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C897C-AFFF-4EF4-9E8D-47757A49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ABB89-D9D2-4784-B739-E6CC19C8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CBCCE-5717-4243-9572-32B07D8F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5ACB4-8331-469D-BACF-F4ED1C7F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108A9-FC31-4468-96B1-AB08849C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72BDF-5486-48F5-ABF5-BF1DADBE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2F90-839B-4D1A-8741-4A6650BB9BC2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3313-40AD-4BCC-9BB4-FD1FCDAA7F12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EA7D-AC27-449E-A2DA-473F4B3D2004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8A81-B562-4FD6-BF65-7C832543ACF9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F9AA-001C-438A-AF7B-3C5A6EDB5AFE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CEC5-1BFB-4ABB-AD4E-17650BC27858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9D1D-ADB7-405E-A273-2AD52007F986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54F8-29E6-440A-8364-285C541A6635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891B-F0A3-4A7D-A318-82C707B9D6B0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hyperlink" Target="http://klub-drug.ru/wp-content/uploads/2011/04/61444841.gif" TargetMode="External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852560" y="1243080"/>
            <a:ext cx="701028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071440" y="4572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Verdana"/>
              </a:rPr>
              <a:t>Учитель Технологии ВКК Сомова В.Н.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Verdana"/>
              </a:rPr>
              <a:t>МБОУ «СОШ № 79»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1a3f6d"/>
                </a:solidFill>
                <a:latin typeface="Verdana"/>
              </a:rPr>
              <a:t>г Владивостока 2016 г.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8" name="Заголовок 1"/>
          <p:cNvSpPr/>
          <p:nvPr/>
        </p:nvSpPr>
        <p:spPr>
          <a:xfrm>
            <a:off x="1643040" y="2320920"/>
            <a:ext cx="7215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Заголовок 1"/>
          <p:cNvSpPr/>
          <p:nvPr/>
        </p:nvSpPr>
        <p:spPr>
          <a:xfrm>
            <a:off x="2000160" y="3678120"/>
            <a:ext cx="692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Verdana"/>
              </a:rPr>
              <a:t>5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8"/>
          <p:cNvSpPr/>
          <p:nvPr/>
        </p:nvSpPr>
        <p:spPr>
          <a:xfrm>
            <a:off x="552600" y="3071880"/>
            <a:ext cx="72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Verdana"/>
              </a:rPr>
              <a:t>Ухода за одеждой и обувь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33200" y="-225360"/>
            <a:ext cx="8864640" cy="19936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Универсальный поливинилацетатный (ПВА-МБ). Им можно клеить бумагу, картон, кожу, ткань, приклеивать их к деревянным, стеклянным или металлическим поверхностям. 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Клей ПВА супер (ПВА-М). Им можно клеить все бумажные основы, фарфор, ткань, кожу, изделия из дерева (ДСП, МДФ), а так же линолеум, паркет, плитку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http://всемайкитут.рф/images/f6/futbolka-zaplatka-na-serdtse_item14061.jpg"/>
          <p:cNvPicPr/>
          <p:nvPr/>
        </p:nvPicPr>
        <p:blipFill>
          <a:blip r:embed="rId1"/>
          <a:stretch/>
        </p:blipFill>
        <p:spPr>
          <a:xfrm rot="618000">
            <a:off x="4049640" y="12024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"/>
          <p:cNvSpPr/>
          <p:nvPr/>
        </p:nvSpPr>
        <p:spPr>
          <a:xfrm>
            <a:off x="357120" y="85680"/>
            <a:ext cx="835812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  <a:ea typeface="FrankRuehl"/>
              </a:rPr>
              <a:t>ТЕОРЕТИЧЕСКИЕ СВЕДЕНИЯ ПО УХОДУ ЗА ОДЕЖ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Одежда в жизн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Основные способы ремонта одежды с указанием вида повре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штоп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заплата (накладная, подкладна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аппликация, термоаппл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Символы по уходу за одеждой и их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Технология стирки и сушки изделий из хлопчатобумажных и льняных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Утюжка изделий из хлопчатобумажных и льняных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9" descr="watermark.jpg"/>
          <p:cNvPicPr/>
          <p:nvPr/>
        </p:nvPicPr>
        <p:blipFill>
          <a:blip r:embed="rId2"/>
          <a:stretch/>
        </p:blipFill>
        <p:spPr>
          <a:xfrm>
            <a:off x="6357960" y="292896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0" descr="1358335768.jpg"/>
          <p:cNvPicPr/>
          <p:nvPr/>
        </p:nvPicPr>
        <p:blipFill>
          <a:blip r:embed="rId3"/>
          <a:stretch/>
        </p:blipFill>
        <p:spPr>
          <a:xfrm>
            <a:off x="857160" y="4286160"/>
            <a:ext cx="4357800" cy="80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Verdana"/>
              </a:rPr>
              <a:t>Одежда имеет большое значение в жизни человека. Она согревает его, скрывает недостатки фигуры, украшает. Представить человека без одежды невозможно. В ней он учится, работает, занимается спортом, отдыхает. Для того чтобы вещи, которые мы носим, служили дольше, за ними нужно правильно ухаживать.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864640" cy="19922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Если в ткани образовался небольшой разрыв, можно использовать штопку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Если изношенное место большого размера или образовалась дырка на одежде, то ставят заплаты. Они могут быть подкладными или накладными. Рисунок и направление долевой нити заплаты должен быть таким же, как в ткани изделия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Ремонт заплатами могут заменить готовые аппликации или термоаппликации, купленные в магазине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82280" cy="1506240"/>
          </a:xfrm>
          <a:prstGeom prst="rect">
            <a:avLst/>
          </a:prstGeom>
          <a:ln w="0">
            <a:noFill/>
          </a:ln>
        </p:spPr>
      </p:pic>
      <p:pic>
        <p:nvPicPr>
          <p:cNvPr id="451" name="Содержимое 3" descr="cGxWpt_rsoo.jpg"/>
          <p:cNvPicPr/>
          <p:nvPr/>
        </p:nvPicPr>
        <p:blipFill>
          <a:blip r:embed="rId2"/>
          <a:stretch/>
        </p:blipFill>
        <p:spPr>
          <a:xfrm>
            <a:off x="500040" y="1428840"/>
            <a:ext cx="835812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133200" y="-225360"/>
            <a:ext cx="8864640" cy="19936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Выстиранные вещи и белье лучше сушить на свежем воздухе. Изделия выворачивают на изнаночную сторону, чтобы они не выгорали на солнце, и встряхивают, чтобы расправились складки, и легче было утюжить. Постельное белье лучше сушить, развешивая за длинную сторону, а полотенца – за короткую. Чтобы сорочки и блузки не деформировались, их сушат на плечиках, а брюки прикрепляют к веревке за пояс несколькими прищепками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133200" y="-225360"/>
            <a:ext cx="8864640" cy="1993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Белье утюжат чуть влажным. Температура нагрева утюга для разных видов ткани различна. Изделия из хлопка и льна можно утюжить при верхнем температурном режиме (150–210*С). Если белье пересохло, его можно завернуть на несколько минут в мокрое полотенце или утюжить утюгом с пароувлажнителем.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214200" y="928800"/>
          <a:ext cx="7358040" cy="5348160"/>
        </p:xfrm>
        <a:graphic>
          <a:graphicData uri="http://schemas.openxmlformats.org/drawingml/2006/table">
            <a:tbl>
              <a:tblPr/>
              <a:tblGrid>
                <a:gridCol w="401760"/>
                <a:gridCol w="2313000"/>
                <a:gridCol w="4643280"/>
              </a:tblGrid>
              <a:tr h="21348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арианты от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4116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Оптимальная температура сушки обув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не выше 20</a:t>
                      </a:r>
                      <a:r>
                        <a:rPr b="0" lang="ru-RU" sz="1400" spc="-1" strike="noStrike" baseline="30000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не выше 50</a:t>
                      </a:r>
                      <a:r>
                        <a:rPr b="0" lang="ru-RU" sz="1400" spc="-1" strike="noStrike" baseline="30000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не ниже 100</a:t>
                      </a:r>
                      <a:r>
                        <a:rPr b="0" lang="ru-RU" sz="1400" spc="-1" strike="noStrike" baseline="30000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541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Чистка – эт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ремонт одежд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химическое вещество для беления тка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удаление пятен с верхней одеж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Клей для ремонта обув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казеиновы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П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специальны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Одежда – эт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наружный покров те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изделие, изготовленное на ткацком стан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вещи, которые носит челов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Для чистки замшевой обуви применяю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губ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щетку с металлическими проволочк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щет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15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Починка – эт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опасное насекомо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ремонт одежд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распределение белья для стир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Что придает обуви мягкость и блеск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лак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красител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крем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Для чего производители одежды используют символы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для крас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для подробной информации об уходе за издел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57" name="Прямоугольник 2"/>
          <p:cNvSpPr/>
          <p:nvPr/>
        </p:nvSpPr>
        <p:spPr>
          <a:xfrm>
            <a:off x="1323720" y="21420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ЕСТОВАЯ ПРОВЕРОЧ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http://miranimashek.com/Alfavit/Blik_zolota/vopros.gif"/>
          <p:cNvPicPr/>
          <p:nvPr/>
        </p:nvPicPr>
        <p:blipFill>
          <a:blip r:embed="rId1"/>
          <a:stretch/>
        </p:blipFill>
        <p:spPr>
          <a:xfrm rot="19800000">
            <a:off x="7759800" y="2633400"/>
            <a:ext cx="399960" cy="571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http://miranimashek.com/Alfavit/Blik_zolota/vopros.gif"/>
          <p:cNvPicPr/>
          <p:nvPr/>
        </p:nvPicPr>
        <p:blipFill>
          <a:blip r:embed="rId2"/>
          <a:stretch/>
        </p:blipFill>
        <p:spPr>
          <a:xfrm rot="900000">
            <a:off x="8067240" y="2041200"/>
            <a:ext cx="399960" cy="571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http://miranimashek.com/Alfavit/Blik_zolota/vopros.gif"/>
          <p:cNvPicPr/>
          <p:nvPr/>
        </p:nvPicPr>
        <p:blipFill>
          <a:blip r:embed="rId3"/>
          <a:stretch/>
        </p:blipFill>
        <p:spPr>
          <a:xfrm rot="900000">
            <a:off x="8353080" y="2541240"/>
            <a:ext cx="399960" cy="571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http://klub-drug.ru/wp-content/uploads/2011/04/61444841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43880" y="3362400"/>
            <a:ext cx="1038240" cy="780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347760" y="-6480"/>
            <a:ext cx="7583400" cy="847800"/>
          </a:xfrm>
          <a:prstGeom prst="rect">
            <a:avLst/>
          </a:prstGeom>
          <a:ln w="0">
            <a:noFill/>
          </a:ln>
        </p:spPr>
      </p:pic>
      <p:sp>
        <p:nvSpPr>
          <p:cNvPr id="463" name="Овал 5"/>
          <p:cNvSpPr/>
          <p:nvPr/>
        </p:nvSpPr>
        <p:spPr>
          <a:xfrm>
            <a:off x="214200" y="5226120"/>
            <a:ext cx="4000680" cy="12142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6480">
            <a:solidFill>
              <a:srgbClr val="4a7ebb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ремонта одежды подкладной запла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http://static.diary.ru/userdir/1/7/5/3/17536/17337166.jpg"/>
          <p:cNvPicPr/>
          <p:nvPr/>
        </p:nvPicPr>
        <p:blipFill>
          <a:blip r:embed="rId2"/>
          <a:stretch/>
        </p:blipFill>
        <p:spPr>
          <a:xfrm>
            <a:off x="4929120" y="13683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65" name="Овал 8"/>
          <p:cNvSpPr/>
          <p:nvPr/>
        </p:nvSpPr>
        <p:spPr>
          <a:xfrm>
            <a:off x="4572000" y="3368520"/>
            <a:ext cx="4000680" cy="12146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6480">
            <a:solidFill>
              <a:srgbClr val="4a7ebb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клеивание кожи к резиново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Выгнутая вверх стрелка 10"/>
          <p:cNvGrpSpPr/>
          <p:nvPr/>
        </p:nvGrpSpPr>
        <p:grpSpPr>
          <a:xfrm>
            <a:off x="1966320" y="740880"/>
            <a:ext cx="2936160" cy="1873800"/>
            <a:chOff x="1966320" y="740880"/>
            <a:chExt cx="2936160" cy="1873800"/>
          </a:xfrm>
        </p:grpSpPr>
        <p:pic>
          <p:nvPicPr>
            <p:cNvPr id="467" name="Выгнутая вверх стрелка 10" descr=""/>
            <p:cNvPicPr/>
            <p:nvPr/>
          </p:nvPicPr>
          <p:blipFill>
            <a:blip r:embed="rId3"/>
            <a:stretch/>
          </p:blipFill>
          <p:spPr>
            <a:xfrm>
              <a:off x="2167560" y="1011240"/>
              <a:ext cx="26722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 rot="20644800">
              <a:off x="2060280" y="1096920"/>
              <a:ext cx="2747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Выгнутая вверх стрелка 11"/>
          <p:cNvGrpSpPr/>
          <p:nvPr/>
        </p:nvGrpSpPr>
        <p:grpSpPr>
          <a:xfrm>
            <a:off x="4208400" y="4767120"/>
            <a:ext cx="2903040" cy="1982880"/>
            <a:chOff x="4208400" y="4767120"/>
            <a:chExt cx="2903040" cy="1982880"/>
          </a:xfrm>
        </p:grpSpPr>
        <p:pic>
          <p:nvPicPr>
            <p:cNvPr id="470" name="Выгнутая вверх стрелка 11" descr=""/>
            <p:cNvPicPr/>
            <p:nvPr/>
          </p:nvPicPr>
          <p:blipFill>
            <a:blip r:embed="rId4"/>
            <a:stretch/>
          </p:blipFill>
          <p:spPr>
            <a:xfrm>
              <a:off x="4286160" y="4767120"/>
              <a:ext cx="25740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 rot="9606600">
              <a:off x="4309920" y="5250960"/>
              <a:ext cx="26996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Рисунок 12" descr="watermark.jpg"/>
          <p:cNvPicPr/>
          <p:nvPr/>
        </p:nvPicPr>
        <p:blipFill>
          <a:blip r:embed="rId5"/>
          <a:stretch/>
        </p:blipFill>
        <p:spPr>
          <a:xfrm>
            <a:off x="285840" y="2357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Заголовок 1"/>
          <p:cNvSpPr/>
          <p:nvPr/>
        </p:nvSpPr>
        <p:spPr>
          <a:xfrm>
            <a:off x="428760" y="214200"/>
            <a:ext cx="7467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ИНСТРУКЦИОНН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85840" y="785880"/>
          <a:ext cx="8429400" cy="5837040"/>
        </p:xfrm>
        <a:graphic>
          <a:graphicData uri="http://schemas.openxmlformats.org/drawingml/2006/table">
            <a:tbl>
              <a:tblPr/>
              <a:tblGrid>
                <a:gridCol w="4357440"/>
                <a:gridCol w="4071960"/>
              </a:tblGrid>
              <a:tr h="583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актическая работа №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«Ремонт одежды подкладной заплатой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Материалы, инструменты и оборудование: ткани для образца и для заплаты, нитки швейные, игла, ножницы, утюг, рабочая тетрад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одрезать повреждённое место в форме овала или прямоугольника. Определить направление долевой нит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одогнуть срезы на изнаночную сторону изделия, замета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Определить долевую нить ткани, предназначенной для заплаты. Выкроить заплату, её размеры должны быть в два раза больше размеров отверст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одогнуть и заметать срезы заплаты на изнаночную сторону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Наложить заплату лицевой стороной на изнаночную сторону изделия, наметать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шить заплату к изделию с изнаночной стороны мелкими косыми стежк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метать подогнутые края отверстия к заплате с лицевой стороны. Пришить мелкими косыми стежк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Удалить нитки временного назнач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утюжить заплату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оверить качество выполн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Вклеить образец в рабочую тетрад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актическая работа №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«Подклеивание кожи на резиновую основу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Материалы, инструменты и оборудование: кусочки кожи и резины, наждачная бумага, обезжириватель, два вида клея, бельевые прищепки, ватные палочки, салфетк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Зачистить места склеивания наждачной бумаг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Обезжирить эти места, смочив ватную палочку обезжиривателе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Смазать тонким слоем участки кожи и резины  клеем ПВА и оставить на 10 мину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Взять другие заготовки кожи и резины и провести также подготовку поверхностей к склеиванию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Смазать ватной палочкой склеиваемые участки тонким слоем клея ПВ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жать склеиваемые мес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Взять первую заготовку после 10-минутной выдержк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жать склеиваемые места прищепками и оставить на 24 час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7583400" cy="88416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3"/>
          <p:cNvSpPr/>
          <p:nvPr/>
        </p:nvSpPr>
        <p:spPr>
          <a:xfrm>
            <a:off x="285840" y="157176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образовательная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: создать условия для изучения учащимися видов ремонта одежды и обу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одержимое 2"/>
          <p:cNvSpPr/>
          <p:nvPr/>
        </p:nvSpPr>
        <p:spPr>
          <a:xfrm>
            <a:off x="285840" y="2857680"/>
            <a:ext cx="8429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развивающая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: способствовать формированию знаний и навыков по уходу за одеждой и обувью, ремонту одежды и  обу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одержимое 2"/>
          <p:cNvSpPr/>
          <p:nvPr/>
        </p:nvSpPr>
        <p:spPr>
          <a:xfrm>
            <a:off x="285840" y="4714920"/>
            <a:ext cx="8358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воспитательная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: воспитывать культуру труда, ответственность за личную и общественную безопасность при выполнении работ,  аккуратность при выполнении различных заданий, бережливость, эстетический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7944120" cy="26593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5" descr="1b76acb5c559d54a2b1a39934fd9a2a9_1.jpg"/>
          <p:cNvPicPr/>
          <p:nvPr/>
        </p:nvPicPr>
        <p:blipFill>
          <a:blip r:embed="rId2"/>
          <a:stretch/>
        </p:blipFill>
        <p:spPr>
          <a:xfrm>
            <a:off x="5929200" y="3571920"/>
            <a:ext cx="2684520" cy="26715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6" descr="1997477079.jpg"/>
          <p:cNvPicPr/>
          <p:nvPr/>
        </p:nvPicPr>
        <p:blipFill>
          <a:blip r:embed="rId3"/>
          <a:stretch/>
        </p:blipFill>
        <p:spPr>
          <a:xfrm>
            <a:off x="571680" y="4000680"/>
            <a:ext cx="3390840" cy="225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7583400" cy="847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28400" y="112716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компьютер, проектор, экран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учебник, рабочая тетрадь;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заготовки (лоскут ткани, куски резины и кожи)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клей обувной нетоксичный, без запаха, обезжириватель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наждачная бумага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нитки, иголка, напёрсток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утюг, ножницы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бельевые прищепки.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</p:txBody>
      </p:sp>
      <p:pic>
        <p:nvPicPr>
          <p:cNvPr id="417" name="Picture 2" descr="http://img1.liveinternet.ru/images/attach/c/1/51/228/51228710_i.jpg"/>
          <p:cNvPicPr/>
          <p:nvPr/>
        </p:nvPicPr>
        <p:blipFill>
          <a:blip r:embed="rId2"/>
          <a:stretch/>
        </p:blipFill>
        <p:spPr>
          <a:xfrm>
            <a:off x="5643720" y="507204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tcboe21.wikispaces.com/file/view/Scissors.jpg/35152509/Scissors.jpg"/>
          <p:cNvPicPr/>
          <p:nvPr/>
        </p:nvPicPr>
        <p:blipFill>
          <a:blip r:embed="rId3"/>
          <a:stretch/>
        </p:blipFill>
        <p:spPr>
          <a:xfrm>
            <a:off x="6500880" y="321480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0" descr="Braun_2478_264454.jpg"/>
          <p:cNvPicPr/>
          <p:nvPr/>
        </p:nvPicPr>
        <p:blipFill>
          <a:blip r:embed="rId4"/>
          <a:stretch/>
        </p:blipFill>
        <p:spPr>
          <a:xfrm>
            <a:off x="3357720" y="4572000"/>
            <a:ext cx="192852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1" descr="187b-500x500.gif"/>
          <p:cNvPicPr/>
          <p:nvPr/>
        </p:nvPicPr>
        <p:blipFill>
          <a:blip r:embed="rId5"/>
          <a:stretch/>
        </p:blipFill>
        <p:spPr>
          <a:xfrm>
            <a:off x="4929120" y="3571920"/>
            <a:ext cx="1405080" cy="135720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2" descr="армированные.jpg"/>
          <p:cNvPicPr/>
          <p:nvPr/>
        </p:nvPicPr>
        <p:blipFill>
          <a:blip r:embed="rId6"/>
          <a:stretch/>
        </p:blipFill>
        <p:spPr>
          <a:xfrm>
            <a:off x="6500880" y="214200"/>
            <a:ext cx="2286000" cy="18511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13" descr="0-prischepki-belevyie-derevyannyie.jpg"/>
          <p:cNvPicPr/>
          <p:nvPr/>
        </p:nvPicPr>
        <p:blipFill>
          <a:blip r:embed="rId7"/>
          <a:stretch/>
        </p:blipFill>
        <p:spPr>
          <a:xfrm>
            <a:off x="1071720" y="5286240"/>
            <a:ext cx="209520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7583400" cy="8845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285840" y="514332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Практическая работа по группам</a:t>
            </a:r>
            <a:br>
              <a:rPr sz="2000"/>
            </a:br>
            <a:r>
              <a:rPr b="0" lang="ru-RU" sz="2000" spc="-1" strike="noStrike">
                <a:solidFill>
                  <a:srgbClr val="95373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5" name="Содержимое 2"/>
          <p:cNvSpPr/>
          <p:nvPr/>
        </p:nvSpPr>
        <p:spPr>
          <a:xfrm>
            <a:off x="285840" y="1328760"/>
            <a:ext cx="80722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проверка готовности учащихся к уро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формулирование цели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одержимое 2"/>
          <p:cNvSpPr/>
          <p:nvPr/>
        </p:nvSpPr>
        <p:spPr>
          <a:xfrm>
            <a:off x="285840" y="5786280"/>
            <a:ext cx="7467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Подведение итогов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одержимое 2"/>
          <p:cNvSpPr/>
          <p:nvPr/>
        </p:nvSpPr>
        <p:spPr>
          <a:xfrm>
            <a:off x="214200" y="3114720"/>
            <a:ext cx="83584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сообщение теоретическ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знакомство с технологией   способов ремонта  одежды и обуви в домашних условиях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инструктаж по технике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Заголовок 1"/>
          <p:cNvSpPr/>
          <p:nvPr/>
        </p:nvSpPr>
        <p:spPr>
          <a:xfrm>
            <a:off x="214200" y="285840"/>
            <a:ext cx="84297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ЕОРЕТИЧЕСКИЕ СВЕДЕНИЯ  ПО УХОДУ ЗА ОБУ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одержимое 2"/>
          <p:cNvSpPr/>
          <p:nvPr/>
        </p:nvSpPr>
        <p:spPr>
          <a:xfrm>
            <a:off x="285840" y="1285920"/>
            <a:ext cx="80722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Необходимость чистки и ухода за  кожаной обу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Подготовка обуви к чистке и нанесению крема для обу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Рекомендации к подбору крема для обу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Технология ухода за обувь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суш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нанесение кре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сохранение формы обу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Знакомство с видами клея для ремонта кожаной обу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БЛЕСК - набор для чистки обуви"/>
          <p:cNvPicPr/>
          <p:nvPr/>
        </p:nvPicPr>
        <p:blipFill>
          <a:blip r:embed="rId1"/>
          <a:stretch/>
        </p:blipFill>
        <p:spPr>
          <a:xfrm>
            <a:off x="5143680" y="3286080"/>
            <a:ext cx="3286080" cy="215748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5" descr="187b-500x500.gif"/>
          <p:cNvPicPr/>
          <p:nvPr/>
        </p:nvPicPr>
        <p:blipFill>
          <a:blip r:embed="rId2"/>
          <a:stretch/>
        </p:blipFill>
        <p:spPr>
          <a:xfrm>
            <a:off x="7500960" y="1285920"/>
            <a:ext cx="164304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1"/>
          <a:stretch/>
        </p:blipFill>
        <p:spPr>
          <a:xfrm>
            <a:off x="195120" y="420840"/>
            <a:ext cx="8802720" cy="1116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Кожаную обувь нужно чистить постоянно не только потому, что это восстанавливает ее внешний вид, но и потому, что в кремах содержатся вещества, смягчающие кожу и увеличивающие ее водостойкость. Обувь, которую носят во влажных условиях, необходимо регулярно смазывать твердыми жирами (салом) или касторовым маслом. Жиры и масло втирают в кожу до исчезновения их с поверхности.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864640" cy="15048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Перед тем, как на поверхность обуви нанести крем, следует хорошо очистить ее от пыли и грязи. Для придания блеска нужно после нанесения крема тщательно почистить обувь сначала щеткой, а затем мягкой тряпкой с ворсом (лучше всего бархоткой). Хорошо смягчает кожу и придает блеск универсальная эмульсия, она пригодна для кожаной обуви разных цветов. Для освежения обуви из белой кожи можно пользоваться слабым мыльным раствором или молоком и бесцветным кремом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944200" cy="15048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Verdana"/>
              </a:rPr>
              <a:t>Для ухода за обувью применяют различные средства: пасты, эмульсии и жидкие кремы, содержащие воски, церезины, твердые парафины, растворители (уайт-спирит, скипидар или их смесь), жиро- и водорастворимые красители.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Сушить кожаную обувь надо при температуре не выше +50</a:t>
            </a:r>
            <a:r>
              <a:rPr b="0" lang="ru-RU" sz="3000" spc="-1" strike="noStrike" baseline="30000">
                <a:solidFill>
                  <a:srgbClr val="1f497d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С, иначе она может покоробиться. При просушке обувь следует ставить так, чтобы вся поверхность– и внутренняя, и наружная– была открыта для испарения влаги. Замшевую обувь рекомендуется чистить щетками, в которых, кроме волосяной щетины, вставлены металлические проволочки (для восстановления ворса).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4:04:14Z</dcterms:created>
  <dc:creator>сомова</dc:creator>
  <dc:description/>
  <dc:language>en-US</dc:language>
  <cp:lastModifiedBy>123</cp:lastModifiedBy>
  <dcterms:modified xsi:type="dcterms:W3CDTF">2016-06-26T00:26:16Z</dcterms:modified>
  <cp:revision>63</cp:revision>
  <dc:subject/>
  <dc:title>интегрированный урок</dc:title>
</cp:coreProperties>
</file>