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5.gif" ContentType="image/gif"/>
  <Override PartName="/ppt/media/image9.png" ContentType="image/png"/>
  <Override PartName="/ppt/media/image6.wmf" ContentType="image/x-wmf"/>
  <Override PartName="/ppt/media/image11.png" ContentType="image/png"/>
  <Override PartName="/ppt/media/image37.gif" ContentType="image/gif"/>
  <Override PartName="/ppt/media/image38.gif" ContentType="image/gif"/>
  <Override PartName="/ppt/media/image10.png" ContentType="image/png"/>
  <Override PartName="/ppt/media/image4.png" ContentType="image/png"/>
  <Override PartName="/ppt/media/image27.png" ContentType="image/png"/>
  <Override PartName="/ppt/media/image34.gif" ContentType="image/gif"/>
  <Override PartName="/ppt/media/image14.wmf" ContentType="image/x-wmf"/>
  <Override PartName="/ppt/media/image29.png" ContentType="image/png"/>
  <Override PartName="/ppt/media/image36.gif" ContentType="image/gif"/>
  <Override PartName="/ppt/media/image15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D778-FAB4-43B4-9F29-421DC8EB60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A51E-9100-440B-8003-D1E347A66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F12C-49BF-4896-875B-C6D0B2ED1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E70-4F35-4237-8103-34DE5DBC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8D3-D3C1-4E55-899D-A05CB069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B48-7B97-4893-8D19-B978AC9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31D-A1C9-470D-B2E2-1A584B5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424-511B-46E3-BCA0-8DC7948E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6A1-6FC6-4A02-A936-49F888FF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D036-F86F-44FF-BA11-DC6729CB4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CCDA-8D29-44A9-B76F-A854B852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E637-F12A-43F3-9F15-817B66AB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399-951E-43DA-8403-96F8D9B5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E49-A8E2-4D01-8456-4C22E8D67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F02E-4B9D-4837-A70C-F5B6460F8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1.png"/><Relationship Id="rId13" Type="http://schemas.openxmlformats.org/officeDocument/2006/relationships/image" Target="../media/image16.jpeg"/><Relationship Id="rId14" Type="http://schemas.openxmlformats.org/officeDocument/2006/relationships/image" Target="../media/image16.jpeg"/><Relationship Id="rId15" Type="http://schemas.openxmlformats.org/officeDocument/2006/relationships/image" Target="../media/image16.jpeg"/><Relationship Id="rId16" Type="http://schemas.openxmlformats.org/officeDocument/2006/relationships/image" Target="../media/image16.jpeg"/><Relationship Id="rId17" Type="http://schemas.openxmlformats.org/officeDocument/2006/relationships/image" Target="../media/image24.png"/><Relationship Id="rId18" Type="http://schemas.openxmlformats.org/officeDocument/2006/relationships/image" Target="../media/image25.png"/><Relationship Id="rId19" Type="http://schemas.openxmlformats.org/officeDocument/2006/relationships/image" Target="../media/image26.png"/><Relationship Id="rId20" Type="http://schemas.openxmlformats.org/officeDocument/2006/relationships/image" Target="../media/image27.png"/><Relationship Id="rId21" Type="http://schemas.openxmlformats.org/officeDocument/2006/relationships/image" Target="../media/image28.png"/><Relationship Id="rId22" Type="http://schemas.openxmlformats.org/officeDocument/2006/relationships/image" Target="../media/image26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16.jpeg"/><Relationship Id="rId27" Type="http://schemas.openxmlformats.org/officeDocument/2006/relationships/image" Target="../media/image16.jpe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gif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робные выраж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 1. Найдем значение выражения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478" descr=""/>
          <p:cNvPicPr/>
          <p:nvPr/>
        </p:nvPicPr>
        <p:blipFill>
          <a:blip r:embed="rId1"/>
          <a:stretch/>
        </p:blipFill>
        <p:spPr>
          <a:xfrm>
            <a:off x="8101080" y="333360"/>
            <a:ext cx="57456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79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5376960" cy="2087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3"/>
          <a:stretch/>
        </p:blipFill>
        <p:spPr>
          <a:xfrm>
            <a:off x="1476360" y="4437000"/>
            <a:ext cx="651672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0" y="1409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 какими числами были составлены все наши примеры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5343480" cy="20383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обные выра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.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ражение, стоящее НАД чертой, называют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числителем,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а выражение, стоящее ПОД чертой –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знаменателем дробного выраж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-1035000"/>
            <a:ext cx="8229600" cy="56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6769080" cy="2448000"/>
          </a:xfrm>
          <a:prstGeom prst="rect">
            <a:avLst/>
          </a:prstGeom>
          <a:ln w="0">
            <a:noFill/>
          </a:ln>
        </p:spPr>
      </p:pic>
      <p:grpSp>
        <p:nvGrpSpPr>
          <p:cNvPr id="96" name="Группа 14"/>
          <p:cNvGrpSpPr/>
          <p:nvPr/>
        </p:nvGrpSpPr>
        <p:grpSpPr>
          <a:xfrm>
            <a:off x="0" y="404640"/>
            <a:ext cx="5256360" cy="3430080"/>
            <a:chOff x="0" y="404640"/>
            <a:chExt cx="5256360" cy="3430080"/>
          </a:xfrm>
        </p:grpSpPr>
        <p:sp>
          <p:nvSpPr>
            <p:cNvPr id="97" name="Прямоугольник 4"/>
            <p:cNvSpPr/>
            <p:nvPr/>
          </p:nvSpPr>
          <p:spPr>
            <a:xfrm>
              <a:off x="2179800" y="404640"/>
              <a:ext cx="3076560" cy="10731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" name="Соединительная линия уступом 6"/>
            <p:cNvCxnSpPr>
              <a:stCxn id="97" idx="1"/>
            </p:cNvCxnSpPr>
            <p:nvPr/>
          </p:nvCxnSpPr>
          <p:spPr>
            <a:xfrm flipV="1" rot="10800000">
              <a:off x="1010520" y="940680"/>
              <a:ext cx="1168920" cy="2434320"/>
            </a:xfrm>
            <a:prstGeom prst="bentConnector2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99" name="TextBox 7"/>
            <p:cNvSpPr/>
            <p:nvPr/>
          </p:nvSpPr>
          <p:spPr>
            <a:xfrm>
              <a:off x="0" y="3375000"/>
              <a:ext cx="2021040" cy="45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Calibri"/>
                </a:rPr>
                <a:t>числител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15"/>
          <p:cNvGrpSpPr/>
          <p:nvPr/>
        </p:nvGrpSpPr>
        <p:grpSpPr>
          <a:xfrm>
            <a:off x="2124000" y="1484280"/>
            <a:ext cx="3168720" cy="3076560"/>
            <a:chOff x="2124000" y="1484280"/>
            <a:chExt cx="3168720" cy="3076560"/>
          </a:xfrm>
        </p:grpSpPr>
        <p:sp>
          <p:nvSpPr>
            <p:cNvPr id="101" name="Прямоугольник 8"/>
            <p:cNvSpPr/>
            <p:nvPr/>
          </p:nvSpPr>
          <p:spPr>
            <a:xfrm>
              <a:off x="2124000" y="1484280"/>
              <a:ext cx="3168720" cy="10335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Прямая со стрелкой 10"/>
            <p:cNvCxnSpPr/>
            <p:nvPr/>
          </p:nvCxnSpPr>
          <p:spPr>
            <a:xfrm>
              <a:off x="3708000" y="2517480"/>
              <a:ext cx="1080" cy="1523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03" name="TextBox 13"/>
            <p:cNvSpPr/>
            <p:nvPr/>
          </p:nvSpPr>
          <p:spPr>
            <a:xfrm>
              <a:off x="2627280" y="4040280"/>
              <a:ext cx="2625840" cy="520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   </a:t>
              </a:r>
              <a:r>
                <a:rPr b="1" lang="ru-RU" sz="2800" spc="-1" strike="noStrike">
                  <a:solidFill>
                    <a:srgbClr val="ff0000"/>
                  </a:solidFill>
                  <a:latin typeface="Calibri"/>
                </a:rPr>
                <a:t>знамена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№</a:t>
            </a: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695 (а,г,ж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3664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9280" y="333000"/>
            <a:ext cx="8785440" cy="60483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485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7623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ить № 712 (а;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с последующей проверко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ь № 712 (в) на до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Решить № 712 (а; б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с последующей проверкой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ить № 712 (в) на дос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)  49: 0,35 = 4900 : 35 = 14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59040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486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7999560" cy="13683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87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7211880" cy="1295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8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703"/>
          <p:cNvGrpSpPr/>
          <p:nvPr/>
        </p:nvGrpSpPr>
        <p:grpSpPr>
          <a:xfrm>
            <a:off x="-30240" y="3347280"/>
            <a:ext cx="1848240" cy="2450520"/>
            <a:chOff x="-30240" y="3347280"/>
            <a:chExt cx="1848240" cy="2450520"/>
          </a:xfrm>
        </p:grpSpPr>
        <p:grpSp>
          <p:nvGrpSpPr>
            <p:cNvPr id="121" name="Group 498"/>
            <p:cNvGrpSpPr/>
            <p:nvPr/>
          </p:nvGrpSpPr>
          <p:grpSpPr>
            <a:xfrm>
              <a:off x="-30240" y="3347280"/>
              <a:ext cx="1848240" cy="1467000"/>
              <a:chOff x="-30240" y="3347280"/>
              <a:chExt cx="1848240" cy="1467000"/>
            </a:xfrm>
          </p:grpSpPr>
          <p:grpSp>
            <p:nvGrpSpPr>
              <p:cNvPr id="122" name="Group 499"/>
              <p:cNvGrpSpPr/>
              <p:nvPr/>
            </p:nvGrpSpPr>
            <p:grpSpPr>
              <a:xfrm>
                <a:off x="-19080" y="3689280"/>
                <a:ext cx="1837080" cy="1125000"/>
                <a:chOff x="-19080" y="3689280"/>
                <a:chExt cx="1837080" cy="1125000"/>
              </a:xfrm>
            </p:grpSpPr>
            <p:sp>
              <p:nvSpPr>
                <p:cNvPr id="123" name="AutoShape 500"/>
                <p:cNvSpPr/>
                <p:nvPr/>
              </p:nvSpPr>
              <p:spPr>
                <a:xfrm>
                  <a:off x="-19080" y="3689280"/>
                  <a:ext cx="1837080" cy="112500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01"/>
                <p:cNvSpPr/>
                <p:nvPr/>
              </p:nvSpPr>
              <p:spPr>
                <a:xfrm>
                  <a:off x="974880" y="3700800"/>
                  <a:ext cx="843120" cy="1107360"/>
                </a:xfrm>
                <a:custGeom>
                  <a:avLst/>
                  <a:gdLst>
                    <a:gd name="textAreaLeft" fmla="*/ 0 w 843120"/>
                    <a:gd name="textAreaRight" fmla="*/ 843120 w 843120"/>
                    <a:gd name="textAreaTop" fmla="*/ 0 h 1107360"/>
                    <a:gd name="textAreaBottom" fmla="*/ 1107720 h 110736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" name="Group 502"/>
              <p:cNvGrpSpPr/>
              <p:nvPr/>
            </p:nvGrpSpPr>
            <p:grpSpPr>
              <a:xfrm>
                <a:off x="-11880" y="3752640"/>
                <a:ext cx="1829520" cy="1025640"/>
                <a:chOff x="-11880" y="3752640"/>
                <a:chExt cx="1829520" cy="1025640"/>
              </a:xfrm>
            </p:grpSpPr>
            <p:sp>
              <p:nvSpPr>
                <p:cNvPr id="126" name="Freeform 503"/>
                <p:cNvSpPr/>
                <p:nvPr/>
              </p:nvSpPr>
              <p:spPr>
                <a:xfrm>
                  <a:off x="-11880" y="4694400"/>
                  <a:ext cx="979920" cy="30240"/>
                </a:xfrm>
                <a:custGeom>
                  <a:avLst/>
                  <a:gdLst>
                    <a:gd name="textAreaLeft" fmla="*/ 0 w 979920"/>
                    <a:gd name="textAreaRight" fmla="*/ 980280 w 979920"/>
                    <a:gd name="textAreaTop" fmla="*/ 0 h 30240"/>
                    <a:gd name="textAreaBottom" fmla="*/ 30600 h 30240"/>
                  </a:gdLst>
                  <a:ahLst/>
                  <a:rect l="textAreaLeft" t="textAreaTop" r="textAreaRight" b="textAreaBottom"/>
                  <a:pathLst>
                    <a:path w="1302" h="42">
                      <a:moveTo>
                        <a:pt x="3" y="0"/>
                      </a:moveTo>
                      <a:lnTo>
                        <a:pt x="363" y="18"/>
                      </a:lnTo>
                      <a:lnTo>
                        <a:pt x="1302" y="18"/>
                      </a:lnTo>
                      <a:lnTo>
                        <a:pt x="1302" y="36"/>
                      </a:lnTo>
                      <a:lnTo>
                        <a:pt x="219" y="42"/>
                      </a:lnTo>
                      <a:lnTo>
                        <a:pt x="0" y="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504"/>
                <p:cNvSpPr/>
                <p:nvPr/>
              </p:nvSpPr>
              <p:spPr>
                <a:xfrm>
                  <a:off x="-11880" y="4598280"/>
                  <a:ext cx="979920" cy="21600"/>
                </a:xfrm>
                <a:custGeom>
                  <a:avLst/>
                  <a:gdLst>
                    <a:gd name="textAreaLeft" fmla="*/ 0 w 979920"/>
                    <a:gd name="textAreaRight" fmla="*/ 980280 w 979920"/>
                    <a:gd name="textAreaTop" fmla="*/ 0 h 21600"/>
                    <a:gd name="textAreaBottom" fmla="*/ 21960 h 21600"/>
                  </a:gdLst>
                  <a:ahLst/>
                  <a:rect l="textAreaLeft" t="textAreaTop" r="textAreaRight" b="textAreaBottom"/>
                  <a:pathLst>
                    <a:path w="1302" h="30">
                      <a:moveTo>
                        <a:pt x="0" y="6"/>
                      </a:moveTo>
                      <a:lnTo>
                        <a:pt x="1299" y="0"/>
                      </a:lnTo>
                      <a:lnTo>
                        <a:pt x="1302" y="30"/>
                      </a:lnTo>
                      <a:lnTo>
                        <a:pt x="0" y="3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505"/>
                <p:cNvSpPr/>
                <p:nvPr/>
              </p:nvSpPr>
              <p:spPr>
                <a:xfrm>
                  <a:off x="979560" y="3775680"/>
                  <a:ext cx="838080" cy="844200"/>
                </a:xfrm>
                <a:custGeom>
                  <a:avLst/>
                  <a:gdLst>
                    <a:gd name="textAreaLeft" fmla="*/ 0 w 838080"/>
                    <a:gd name="textAreaRight" fmla="*/ 838440 w 838080"/>
                    <a:gd name="textAreaTop" fmla="*/ 0 h 844200"/>
                    <a:gd name="textAreaBottom" fmla="*/ 844560 h 844200"/>
                  </a:gdLst>
                  <a:ahLst/>
                  <a:rect l="textAreaLeft" t="textAreaTop" r="textAreaRight" b="textAreaBottom"/>
                  <a:pathLst>
                    <a:path w="1113" h="1158">
                      <a:moveTo>
                        <a:pt x="0" y="1134"/>
                      </a:moveTo>
                      <a:lnTo>
                        <a:pt x="1113" y="0"/>
                      </a:lnTo>
                      <a:lnTo>
                        <a:pt x="1113" y="30"/>
                      </a:lnTo>
                      <a:lnTo>
                        <a:pt x="0" y="1158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Oval 506"/>
                <p:cNvSpPr/>
                <p:nvPr/>
              </p:nvSpPr>
              <p:spPr>
                <a:xfrm>
                  <a:off x="6120" y="45572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Oval 507"/>
                <p:cNvSpPr/>
                <p:nvPr/>
              </p:nvSpPr>
              <p:spPr>
                <a:xfrm>
                  <a:off x="923040" y="45442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Oval 508"/>
                <p:cNvSpPr/>
                <p:nvPr/>
              </p:nvSpPr>
              <p:spPr>
                <a:xfrm>
                  <a:off x="927720" y="465372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Oval 509"/>
                <p:cNvSpPr/>
                <p:nvPr/>
              </p:nvSpPr>
              <p:spPr>
                <a:xfrm>
                  <a:off x="927720" y="47498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Oval 510"/>
                <p:cNvSpPr/>
                <p:nvPr/>
              </p:nvSpPr>
              <p:spPr>
                <a:xfrm>
                  <a:off x="5040" y="4644360"/>
                  <a:ext cx="20160" cy="20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Oval 511"/>
                <p:cNvSpPr/>
                <p:nvPr/>
              </p:nvSpPr>
              <p:spPr>
                <a:xfrm>
                  <a:off x="14400" y="4758120"/>
                  <a:ext cx="20160" cy="201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Oval 512"/>
                <p:cNvSpPr/>
                <p:nvPr/>
              </p:nvSpPr>
              <p:spPr>
                <a:xfrm>
                  <a:off x="981720" y="453996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Oval 513"/>
                <p:cNvSpPr/>
                <p:nvPr/>
              </p:nvSpPr>
              <p:spPr>
                <a:xfrm>
                  <a:off x="981720" y="46580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Oval 514"/>
                <p:cNvSpPr/>
                <p:nvPr/>
              </p:nvSpPr>
              <p:spPr>
                <a:xfrm>
                  <a:off x="981720" y="47368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Oval 515"/>
                <p:cNvSpPr/>
                <p:nvPr/>
              </p:nvSpPr>
              <p:spPr>
                <a:xfrm>
                  <a:off x="1790640" y="394488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516"/>
                <p:cNvSpPr/>
                <p:nvPr/>
              </p:nvSpPr>
              <p:spPr>
                <a:xfrm>
                  <a:off x="1790640" y="385740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Oval 517"/>
                <p:cNvSpPr/>
                <p:nvPr/>
              </p:nvSpPr>
              <p:spPr>
                <a:xfrm>
                  <a:off x="1790640" y="3752640"/>
                  <a:ext cx="20160" cy="194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518"/>
                <p:cNvSpPr/>
                <p:nvPr/>
              </p:nvSpPr>
              <p:spPr>
                <a:xfrm>
                  <a:off x="977400" y="3885120"/>
                  <a:ext cx="840240" cy="839880"/>
                </a:xfrm>
                <a:custGeom>
                  <a:avLst/>
                  <a:gdLst>
                    <a:gd name="textAreaLeft" fmla="*/ 0 w 840240"/>
                    <a:gd name="textAreaRight" fmla="*/ 840600 w 840240"/>
                    <a:gd name="textAreaTop" fmla="*/ 0 h 839880"/>
                    <a:gd name="textAreaBottom" fmla="*/ 840240 h 839880"/>
                  </a:gdLst>
                  <a:ahLst/>
                  <a:rect l="textAreaLeft" t="textAreaTop" r="textAreaRight" b="textAreaBottom"/>
                  <a:pathLst>
                    <a:path w="1116" h="1152">
                      <a:moveTo>
                        <a:pt x="0" y="1116"/>
                      </a:moveTo>
                      <a:lnTo>
                        <a:pt x="1110" y="0"/>
                      </a:lnTo>
                      <a:lnTo>
                        <a:pt x="1116" y="24"/>
                      </a:lnTo>
                      <a:lnTo>
                        <a:pt x="3" y="1152"/>
                      </a:lnTo>
                      <a:lnTo>
                        <a:pt x="0" y="1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Freeform 519"/>
              <p:cNvSpPr/>
              <p:nvPr/>
            </p:nvSpPr>
            <p:spPr>
              <a:xfrm>
                <a:off x="392400" y="382032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20"/>
              <p:cNvSpPr/>
              <p:nvPr/>
            </p:nvSpPr>
            <p:spPr>
              <a:xfrm>
                <a:off x="-30240" y="413784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21"/>
              <p:cNvSpPr/>
              <p:nvPr/>
            </p:nvSpPr>
            <p:spPr>
              <a:xfrm>
                <a:off x="275760" y="405108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22"/>
              <p:cNvSpPr/>
              <p:nvPr/>
            </p:nvSpPr>
            <p:spPr>
              <a:xfrm rot="15610200">
                <a:off x="905760" y="3932640"/>
                <a:ext cx="579960" cy="415440"/>
              </a:xfrm>
              <a:custGeom>
                <a:avLst/>
                <a:gdLst>
                  <a:gd name="textAreaLeft" fmla="*/ 0 w 579960"/>
                  <a:gd name="textAreaRight" fmla="*/ 579960 w 579960"/>
                  <a:gd name="textAreaTop" fmla="*/ 0 h 415440"/>
                  <a:gd name="textAreaBottom" fmla="*/ 415800 h 41544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Group 523"/>
              <p:cNvGrpSpPr/>
              <p:nvPr/>
            </p:nvGrpSpPr>
            <p:grpSpPr>
              <a:xfrm>
                <a:off x="222840" y="3774600"/>
                <a:ext cx="627840" cy="730440"/>
                <a:chOff x="222840" y="3774600"/>
                <a:chExt cx="627840" cy="730440"/>
              </a:xfrm>
            </p:grpSpPr>
            <p:sp>
              <p:nvSpPr>
                <p:cNvPr id="147" name="Freeform 524"/>
                <p:cNvSpPr/>
                <p:nvPr/>
              </p:nvSpPr>
              <p:spPr>
                <a:xfrm rot="15554400">
                  <a:off x="302040" y="397332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7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525"/>
                <p:cNvSpPr/>
                <p:nvPr/>
              </p:nvSpPr>
              <p:spPr>
                <a:xfrm rot="521400">
                  <a:off x="235440" y="402336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526"/>
                <p:cNvSpPr/>
                <p:nvPr/>
              </p:nvSpPr>
              <p:spPr>
                <a:xfrm flipH="1" flipV="1" rot="15578400">
                  <a:off x="205200" y="383364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527"/>
              <p:cNvGrpSpPr/>
              <p:nvPr/>
            </p:nvGrpSpPr>
            <p:grpSpPr>
              <a:xfrm>
                <a:off x="498240" y="3400560"/>
                <a:ext cx="713160" cy="721440"/>
                <a:chOff x="498240" y="3400560"/>
                <a:chExt cx="713160" cy="721440"/>
              </a:xfrm>
            </p:grpSpPr>
            <p:sp>
              <p:nvSpPr>
                <p:cNvPr id="151" name="Freeform 528"/>
                <p:cNvSpPr/>
                <p:nvPr/>
              </p:nvSpPr>
              <p:spPr>
                <a:xfrm rot="15032400">
                  <a:off x="628920" y="357156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8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529"/>
                <p:cNvSpPr/>
                <p:nvPr/>
              </p:nvSpPr>
              <p:spPr>
                <a:xfrm>
                  <a:off x="555480" y="365868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530"/>
                <p:cNvSpPr/>
                <p:nvPr/>
              </p:nvSpPr>
              <p:spPr>
                <a:xfrm flipH="1" flipV="1" rot="15057000">
                  <a:off x="498600" y="346968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Freeform 531"/>
              <p:cNvSpPr/>
              <p:nvPr/>
            </p:nvSpPr>
            <p:spPr>
              <a:xfrm>
                <a:off x="858960" y="361836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532"/>
              <p:cNvSpPr/>
              <p:nvPr/>
            </p:nvSpPr>
            <p:spPr>
              <a:xfrm>
                <a:off x="1077480" y="354600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533"/>
              <p:cNvSpPr/>
              <p:nvPr/>
            </p:nvSpPr>
            <p:spPr>
              <a:xfrm rot="12215400">
                <a:off x="997200" y="3409200"/>
                <a:ext cx="362520" cy="248760"/>
              </a:xfrm>
              <a:custGeom>
                <a:avLst/>
                <a:gdLst>
                  <a:gd name="textAreaLeft" fmla="*/ 0 w 362520"/>
                  <a:gd name="textAreaRight" fmla="*/ 362880 w 36252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702" h="468">
                    <a:moveTo>
                      <a:pt x="0" y="468"/>
                    </a:moveTo>
                    <a:cubicBezTo>
                      <a:pt x="6" y="466"/>
                      <a:pt x="114" y="423"/>
                      <a:pt x="139" y="404"/>
                    </a:cubicBezTo>
                    <a:cubicBezTo>
                      <a:pt x="164" y="385"/>
                      <a:pt x="142" y="377"/>
                      <a:pt x="152" y="353"/>
                    </a:cubicBezTo>
                    <a:cubicBezTo>
                      <a:pt x="162" y="329"/>
                      <a:pt x="195" y="285"/>
                      <a:pt x="200" y="258"/>
                    </a:cubicBezTo>
                    <a:cubicBezTo>
                      <a:pt x="206" y="230"/>
                      <a:pt x="188" y="213"/>
                      <a:pt x="186" y="188"/>
                    </a:cubicBezTo>
                    <a:cubicBezTo>
                      <a:pt x="185" y="162"/>
                      <a:pt x="182" y="129"/>
                      <a:pt x="193" y="105"/>
                    </a:cubicBezTo>
                    <a:cubicBezTo>
                      <a:pt x="205" y="80"/>
                      <a:pt x="213" y="58"/>
                      <a:pt x="255" y="41"/>
                    </a:cubicBezTo>
                    <a:cubicBezTo>
                      <a:pt x="297" y="24"/>
                      <a:pt x="390" y="8"/>
                      <a:pt x="443" y="4"/>
                    </a:cubicBezTo>
                    <a:cubicBezTo>
                      <a:pt x="496" y="0"/>
                      <a:pt x="534" y="9"/>
                      <a:pt x="571" y="20"/>
                    </a:cubicBezTo>
                    <a:cubicBezTo>
                      <a:pt x="608" y="31"/>
                      <a:pt x="654" y="52"/>
                      <a:pt x="667" y="68"/>
                    </a:cubicBezTo>
                    <a:cubicBezTo>
                      <a:pt x="680" y="84"/>
                      <a:pt x="654" y="113"/>
                      <a:pt x="651" y="116"/>
                    </a:cubicBezTo>
                    <a:cubicBezTo>
                      <a:pt x="648" y="119"/>
                      <a:pt x="646" y="81"/>
                      <a:pt x="651" y="84"/>
                    </a:cubicBezTo>
                    <a:cubicBezTo>
                      <a:pt x="656" y="87"/>
                      <a:pt x="675" y="108"/>
                      <a:pt x="683" y="132"/>
                    </a:cubicBezTo>
                    <a:cubicBezTo>
                      <a:pt x="691" y="156"/>
                      <a:pt x="696" y="207"/>
                      <a:pt x="699" y="228"/>
                    </a:cubicBezTo>
                    <a:cubicBezTo>
                      <a:pt x="702" y="249"/>
                      <a:pt x="702" y="244"/>
                      <a:pt x="699" y="260"/>
                    </a:cubicBezTo>
                    <a:cubicBezTo>
                      <a:pt x="696" y="276"/>
                      <a:pt x="698" y="302"/>
                      <a:pt x="683" y="324"/>
                    </a:cubicBezTo>
                    <a:cubicBezTo>
                      <a:pt x="668" y="346"/>
                      <a:pt x="639" y="375"/>
                      <a:pt x="607" y="392"/>
                    </a:cubicBezTo>
                    <a:cubicBezTo>
                      <a:pt x="575" y="409"/>
                      <a:pt x="528" y="425"/>
                      <a:pt x="490" y="424"/>
                    </a:cubicBezTo>
                    <a:cubicBezTo>
                      <a:pt x="452" y="422"/>
                      <a:pt x="406" y="397"/>
                      <a:pt x="380" y="385"/>
                    </a:cubicBezTo>
                    <a:cubicBezTo>
                      <a:pt x="353" y="374"/>
                      <a:pt x="356" y="359"/>
                      <a:pt x="331" y="353"/>
                    </a:cubicBezTo>
                    <a:cubicBezTo>
                      <a:pt x="307" y="348"/>
                      <a:pt x="273" y="343"/>
                      <a:pt x="235" y="353"/>
                    </a:cubicBezTo>
                    <a:cubicBezTo>
                      <a:pt x="197" y="364"/>
                      <a:pt x="145" y="397"/>
                      <a:pt x="104" y="417"/>
                    </a:cubicBezTo>
                    <a:cubicBezTo>
                      <a:pt x="62" y="438"/>
                      <a:pt x="16" y="461"/>
                      <a:pt x="0" y="468"/>
                    </a:cubicBezTo>
                    <a:close/>
                  </a:path>
                </a:pathLst>
              </a:cu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Group 534"/>
              <p:cNvGrpSpPr/>
              <p:nvPr/>
            </p:nvGrpSpPr>
            <p:grpSpPr>
              <a:xfrm>
                <a:off x="471600" y="4012200"/>
                <a:ext cx="874440" cy="651240"/>
                <a:chOff x="471600" y="4012200"/>
                <a:chExt cx="874440" cy="651240"/>
              </a:xfrm>
            </p:grpSpPr>
            <p:sp>
              <p:nvSpPr>
                <p:cNvPr id="158" name="Freeform 535"/>
                <p:cNvSpPr/>
                <p:nvPr/>
              </p:nvSpPr>
              <p:spPr>
                <a:xfrm rot="12618600">
                  <a:off x="700920" y="4129920"/>
                  <a:ext cx="579960" cy="415440"/>
                </a:xfrm>
                <a:custGeom>
                  <a:avLst/>
                  <a:gdLst>
                    <a:gd name="textAreaLeft" fmla="*/ 0 w 579960"/>
                    <a:gd name="textAreaRight" fmla="*/ 579960 w 579960"/>
                    <a:gd name="textAreaTop" fmla="*/ 0 h 415440"/>
                    <a:gd name="textAreaBottom" fmla="*/ 415800 h 415440"/>
                  </a:gdLst>
                  <a:ahLst/>
                  <a:rect l="textAreaLeft" t="textAreaTop" r="textAreaRight" b="textAreaBottom"/>
                  <a:pathLst>
                    <a:path w="1491" h="1144">
                      <a:moveTo>
                        <a:pt x="19" y="1117"/>
                      </a:moveTo>
                      <a:cubicBezTo>
                        <a:pt x="38" y="1090"/>
                        <a:pt x="294" y="917"/>
                        <a:pt x="371" y="829"/>
                      </a:cubicBezTo>
                      <a:cubicBezTo>
                        <a:pt x="448" y="741"/>
                        <a:pt x="470" y="658"/>
                        <a:pt x="483" y="589"/>
                      </a:cubicBezTo>
                      <a:cubicBezTo>
                        <a:pt x="496" y="520"/>
                        <a:pt x="454" y="477"/>
                        <a:pt x="451" y="413"/>
                      </a:cubicBezTo>
                      <a:cubicBezTo>
                        <a:pt x="448" y="349"/>
                        <a:pt x="440" y="266"/>
                        <a:pt x="467" y="205"/>
                      </a:cubicBezTo>
                      <a:cubicBezTo>
                        <a:pt x="494" y="144"/>
                        <a:pt x="552" y="77"/>
                        <a:pt x="611" y="45"/>
                      </a:cubicBezTo>
                      <a:cubicBezTo>
                        <a:pt x="670" y="13"/>
                        <a:pt x="752" y="0"/>
                        <a:pt x="819" y="13"/>
                      </a:cubicBezTo>
                      <a:cubicBezTo>
                        <a:pt x="886" y="26"/>
                        <a:pt x="966" y="82"/>
                        <a:pt x="1011" y="125"/>
                      </a:cubicBezTo>
                      <a:cubicBezTo>
                        <a:pt x="1056" y="168"/>
                        <a:pt x="1064" y="234"/>
                        <a:pt x="1091" y="269"/>
                      </a:cubicBezTo>
                      <a:cubicBezTo>
                        <a:pt x="1118" y="304"/>
                        <a:pt x="1131" y="314"/>
                        <a:pt x="1171" y="333"/>
                      </a:cubicBezTo>
                      <a:cubicBezTo>
                        <a:pt x="1211" y="352"/>
                        <a:pt x="1288" y="357"/>
                        <a:pt x="1331" y="381"/>
                      </a:cubicBezTo>
                      <a:cubicBezTo>
                        <a:pt x="1374" y="405"/>
                        <a:pt x="1400" y="424"/>
                        <a:pt x="1427" y="477"/>
                      </a:cubicBezTo>
                      <a:cubicBezTo>
                        <a:pt x="1454" y="530"/>
                        <a:pt x="1491" y="626"/>
                        <a:pt x="1491" y="701"/>
                      </a:cubicBezTo>
                      <a:cubicBezTo>
                        <a:pt x="1491" y="776"/>
                        <a:pt x="1483" y="874"/>
                        <a:pt x="1427" y="925"/>
                      </a:cubicBezTo>
                      <a:cubicBezTo>
                        <a:pt x="1371" y="976"/>
                        <a:pt x="1243" y="1008"/>
                        <a:pt x="1155" y="1005"/>
                      </a:cubicBezTo>
                      <a:cubicBezTo>
                        <a:pt x="1067" y="1002"/>
                        <a:pt x="960" y="938"/>
                        <a:pt x="899" y="909"/>
                      </a:cubicBezTo>
                      <a:cubicBezTo>
                        <a:pt x="838" y="880"/>
                        <a:pt x="843" y="842"/>
                        <a:pt x="787" y="829"/>
                      </a:cubicBezTo>
                      <a:cubicBezTo>
                        <a:pt x="731" y="816"/>
                        <a:pt x="651" y="802"/>
                        <a:pt x="563" y="829"/>
                      </a:cubicBezTo>
                      <a:cubicBezTo>
                        <a:pt x="475" y="856"/>
                        <a:pt x="355" y="938"/>
                        <a:pt x="259" y="989"/>
                      </a:cubicBezTo>
                      <a:cubicBezTo>
                        <a:pt x="163" y="1040"/>
                        <a:pt x="0" y="1144"/>
                        <a:pt x="19" y="1117"/>
                      </a:cubicBezTo>
                      <a:close/>
                    </a:path>
                  </a:pathLst>
                </a:cu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36"/>
                <p:cNvSpPr/>
                <p:nvPr/>
              </p:nvSpPr>
              <p:spPr>
                <a:xfrm rot="19185600">
                  <a:off x="668520" y="4383000"/>
                  <a:ext cx="233280" cy="187560"/>
                </a:xfrm>
                <a:custGeom>
                  <a:avLst/>
                  <a:gdLst>
                    <a:gd name="textAreaLeft" fmla="*/ 0 w 233280"/>
                    <a:gd name="textAreaRight" fmla="*/ 233640 w 233280"/>
                    <a:gd name="textAreaTop" fmla="*/ 0 h 187560"/>
                    <a:gd name="textAreaBottom" fmla="*/ 187920 h 1875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37"/>
                <p:cNvSpPr/>
                <p:nvPr/>
              </p:nvSpPr>
              <p:spPr>
                <a:xfrm flipH="1" flipV="1" rot="12642600">
                  <a:off x="505800" y="4249440"/>
                  <a:ext cx="302760" cy="218160"/>
                </a:xfrm>
                <a:custGeom>
                  <a:avLst/>
                  <a:gdLst>
                    <a:gd name="textAreaLeft" fmla="*/ -360 w 302760"/>
                    <a:gd name="textAreaRight" fmla="*/ 302760 w 302760"/>
                    <a:gd name="textAreaTop" fmla="*/ 360 h 218160"/>
                    <a:gd name="textAreaBottom" fmla="*/ 218880 h 218160"/>
                  </a:gdLst>
                  <a:ahLst/>
                  <a:rect l="textAreaLeft" t="textAreaTop" r="textAreaRight" b="textAreaBottom"/>
                  <a:pathLst>
                    <a:path w="336" h="240">
                      <a:moveTo>
                        <a:pt x="336" y="39"/>
                      </a:moveTo>
                      <a:lnTo>
                        <a:pt x="201" y="46"/>
                      </a:lnTo>
                      <a:lnTo>
                        <a:pt x="176" y="16"/>
                      </a:lnTo>
                      <a:lnTo>
                        <a:pt x="154" y="149"/>
                      </a:lnTo>
                      <a:lnTo>
                        <a:pt x="107" y="224"/>
                      </a:lnTo>
                      <a:lnTo>
                        <a:pt x="0" y="240"/>
                      </a:lnTo>
                      <a:lnTo>
                        <a:pt x="32" y="112"/>
                      </a:lnTo>
                      <a:lnTo>
                        <a:pt x="48" y="32"/>
                      </a:lnTo>
                      <a:lnTo>
                        <a:pt x="128" y="0"/>
                      </a:lnTo>
                      <a:lnTo>
                        <a:pt x="221" y="32"/>
                      </a:lnTo>
                      <a:lnTo>
                        <a:pt x="336" y="39"/>
                      </a:lnTo>
                      <a:close/>
                    </a:path>
                  </a:pathLst>
                </a:custGeom>
                <a:solidFill>
                  <a:srgbClr val="01b323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Freeform 538"/>
              <p:cNvSpPr/>
              <p:nvPr/>
            </p:nvSpPr>
            <p:spPr>
              <a:xfrm>
                <a:off x="523440" y="3834720"/>
                <a:ext cx="585720" cy="411120"/>
              </a:xfrm>
              <a:custGeom>
                <a:avLst/>
                <a:gdLst>
                  <a:gd name="textAreaLeft" fmla="*/ 0 w 585720"/>
                  <a:gd name="textAreaRight" fmla="*/ 585720 w 585720"/>
                  <a:gd name="textAreaTop" fmla="*/ 0 h 411120"/>
                  <a:gd name="textAreaBottom" fmla="*/ 411480 h 41112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solidFill>
                <a:srgbClr val="a4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539"/>
            <p:cNvGrpSpPr/>
            <p:nvPr/>
          </p:nvGrpSpPr>
          <p:grpSpPr>
            <a:xfrm>
              <a:off x="1080" y="4344480"/>
              <a:ext cx="1795680" cy="1453320"/>
              <a:chOff x="1080" y="4344480"/>
              <a:chExt cx="1795680" cy="1453320"/>
            </a:xfrm>
          </p:grpSpPr>
          <p:grpSp>
            <p:nvGrpSpPr>
              <p:cNvPr id="163" name="Group 540"/>
              <p:cNvGrpSpPr/>
              <p:nvPr/>
            </p:nvGrpSpPr>
            <p:grpSpPr>
              <a:xfrm>
                <a:off x="39600" y="4672800"/>
                <a:ext cx="1752480" cy="1106640"/>
                <a:chOff x="39600" y="4672800"/>
                <a:chExt cx="1752480" cy="1106640"/>
              </a:xfrm>
            </p:grpSpPr>
            <p:sp>
              <p:nvSpPr>
                <p:cNvPr id="164" name="AutoShape 541"/>
                <p:cNvSpPr/>
                <p:nvPr/>
              </p:nvSpPr>
              <p:spPr>
                <a:xfrm>
                  <a:off x="39600" y="4672800"/>
                  <a:ext cx="1752480" cy="1106640"/>
                </a:xfrm>
                <a:prstGeom prst="cube">
                  <a:avLst>
                    <a:gd name="adj" fmla="val 72666"/>
                  </a:avLst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28440">
                  <a:solidFill>
                    <a:srgbClr val="8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542"/>
                <p:cNvSpPr/>
                <p:nvPr/>
              </p:nvSpPr>
              <p:spPr>
                <a:xfrm>
                  <a:off x="987840" y="4684320"/>
                  <a:ext cx="804240" cy="1089360"/>
                </a:xfrm>
                <a:custGeom>
                  <a:avLst/>
                  <a:gdLst>
                    <a:gd name="textAreaLeft" fmla="*/ 0 w 804240"/>
                    <a:gd name="textAreaRight" fmla="*/ 804600 w 804240"/>
                    <a:gd name="textAreaTop" fmla="*/ 0 h 1089360"/>
                    <a:gd name="textAreaBottom" fmla="*/ 1089720 h 1089360"/>
                  </a:gdLst>
                  <a:ahLst/>
                  <a:rect l="textAreaLeft" t="textAreaTop" r="textAreaRight" b="textAreaBottom"/>
                  <a:pathLst>
                    <a:path w="1120" h="1520">
                      <a:moveTo>
                        <a:pt x="0" y="1520"/>
                      </a:moveTo>
                      <a:lnTo>
                        <a:pt x="1120" y="384"/>
                      </a:lnTo>
                      <a:lnTo>
                        <a:pt x="1120" y="0"/>
                      </a:lnTo>
                      <a:lnTo>
                        <a:pt x="0" y="1120"/>
                      </a:lnTo>
                      <a:lnTo>
                        <a:pt x="0" y="1520"/>
                      </a:lnTo>
                      <a:close/>
                    </a:path>
                  </a:pathLst>
                </a:custGeom>
                <a:blipFill rotWithShape="0">
                  <a:blip r:embed="rId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Group 543"/>
              <p:cNvGrpSpPr/>
              <p:nvPr/>
            </p:nvGrpSpPr>
            <p:grpSpPr>
              <a:xfrm>
                <a:off x="46440" y="4735080"/>
                <a:ext cx="1745640" cy="1008720"/>
                <a:chOff x="46440" y="4735080"/>
                <a:chExt cx="1745640" cy="1008720"/>
              </a:xfrm>
            </p:grpSpPr>
            <p:sp>
              <p:nvSpPr>
                <p:cNvPr id="167" name="Freeform 544"/>
                <p:cNvSpPr/>
                <p:nvPr/>
              </p:nvSpPr>
              <p:spPr>
                <a:xfrm>
                  <a:off x="46440" y="5661720"/>
                  <a:ext cx="935280" cy="29880"/>
                </a:xfrm>
                <a:custGeom>
                  <a:avLst/>
                  <a:gdLst>
                    <a:gd name="textAreaLeft" fmla="*/ 0 w 935280"/>
                    <a:gd name="textAreaRight" fmla="*/ 935640 w 935280"/>
                    <a:gd name="textAreaTop" fmla="*/ 0 h 29880"/>
                    <a:gd name="textAreaBottom" fmla="*/ 30240 h 29880"/>
                  </a:gdLst>
                  <a:ahLst/>
                  <a:rect l="textAreaLeft" t="textAreaTop" r="textAreaRight" b="textAreaBottom"/>
                  <a:pathLst>
                    <a:path w="1302" h="42">
                      <a:moveTo>
                        <a:pt x="3" y="0"/>
                      </a:moveTo>
                      <a:lnTo>
                        <a:pt x="363" y="18"/>
                      </a:lnTo>
                      <a:lnTo>
                        <a:pt x="1302" y="18"/>
                      </a:lnTo>
                      <a:lnTo>
                        <a:pt x="1302" y="36"/>
                      </a:lnTo>
                      <a:lnTo>
                        <a:pt x="219" y="42"/>
                      </a:lnTo>
                      <a:lnTo>
                        <a:pt x="0" y="3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545"/>
                <p:cNvSpPr/>
                <p:nvPr/>
              </p:nvSpPr>
              <p:spPr>
                <a:xfrm>
                  <a:off x="46440" y="5567040"/>
                  <a:ext cx="935280" cy="21240"/>
                </a:xfrm>
                <a:custGeom>
                  <a:avLst/>
                  <a:gdLst>
                    <a:gd name="textAreaLeft" fmla="*/ 0 w 935280"/>
                    <a:gd name="textAreaRight" fmla="*/ 935640 w 9352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1302" h="30">
                      <a:moveTo>
                        <a:pt x="0" y="6"/>
                      </a:moveTo>
                      <a:lnTo>
                        <a:pt x="1299" y="0"/>
                      </a:lnTo>
                      <a:lnTo>
                        <a:pt x="1302" y="30"/>
                      </a:lnTo>
                      <a:lnTo>
                        <a:pt x="0" y="3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546"/>
                <p:cNvSpPr/>
                <p:nvPr/>
              </p:nvSpPr>
              <p:spPr>
                <a:xfrm>
                  <a:off x="992160" y="4757760"/>
                  <a:ext cx="799560" cy="830520"/>
                </a:xfrm>
                <a:custGeom>
                  <a:avLst/>
                  <a:gdLst>
                    <a:gd name="textAreaLeft" fmla="*/ 0 w 799560"/>
                    <a:gd name="textAreaRight" fmla="*/ 799920 w 799560"/>
                    <a:gd name="textAreaTop" fmla="*/ 0 h 830520"/>
                    <a:gd name="textAreaBottom" fmla="*/ 830880 h 830520"/>
                  </a:gdLst>
                  <a:ahLst/>
                  <a:rect l="textAreaLeft" t="textAreaTop" r="textAreaRight" b="textAreaBottom"/>
                  <a:pathLst>
                    <a:path w="1113" h="1158">
                      <a:moveTo>
                        <a:pt x="0" y="1134"/>
                      </a:moveTo>
                      <a:lnTo>
                        <a:pt x="1113" y="0"/>
                      </a:lnTo>
                      <a:lnTo>
                        <a:pt x="1113" y="30"/>
                      </a:lnTo>
                      <a:lnTo>
                        <a:pt x="0" y="1158"/>
                      </a:lnTo>
                      <a:lnTo>
                        <a:pt x="0" y="113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Oval 547"/>
                <p:cNvSpPr/>
                <p:nvPr/>
              </p:nvSpPr>
              <p:spPr>
                <a:xfrm>
                  <a:off x="63360" y="55267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Oval 548"/>
                <p:cNvSpPr/>
                <p:nvPr/>
              </p:nvSpPr>
              <p:spPr>
                <a:xfrm>
                  <a:off x="938520" y="551412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Oval 549"/>
                <p:cNvSpPr/>
                <p:nvPr/>
              </p:nvSpPr>
              <p:spPr>
                <a:xfrm>
                  <a:off x="942840" y="562140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Oval 550"/>
                <p:cNvSpPr/>
                <p:nvPr/>
              </p:nvSpPr>
              <p:spPr>
                <a:xfrm>
                  <a:off x="942840" y="5716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Oval 551"/>
                <p:cNvSpPr/>
                <p:nvPr/>
              </p:nvSpPr>
              <p:spPr>
                <a:xfrm>
                  <a:off x="62640" y="5612400"/>
                  <a:ext cx="19080" cy="1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Oval 552"/>
                <p:cNvSpPr/>
                <p:nvPr/>
              </p:nvSpPr>
              <p:spPr>
                <a:xfrm>
                  <a:off x="71280" y="5724000"/>
                  <a:ext cx="19080" cy="1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Oval 553"/>
                <p:cNvSpPr/>
                <p:nvPr/>
              </p:nvSpPr>
              <p:spPr>
                <a:xfrm>
                  <a:off x="994680" y="55094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Oval 554"/>
                <p:cNvSpPr/>
                <p:nvPr/>
              </p:nvSpPr>
              <p:spPr>
                <a:xfrm>
                  <a:off x="994680" y="5626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Oval 555"/>
                <p:cNvSpPr/>
                <p:nvPr/>
              </p:nvSpPr>
              <p:spPr>
                <a:xfrm>
                  <a:off x="994680" y="57034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Oval 556"/>
                <p:cNvSpPr/>
                <p:nvPr/>
              </p:nvSpPr>
              <p:spPr>
                <a:xfrm>
                  <a:off x="1766160" y="49244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Oval 557"/>
                <p:cNvSpPr/>
                <p:nvPr/>
              </p:nvSpPr>
              <p:spPr>
                <a:xfrm>
                  <a:off x="1766160" y="483804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558"/>
                <p:cNvSpPr/>
                <p:nvPr/>
              </p:nvSpPr>
              <p:spPr>
                <a:xfrm>
                  <a:off x="1766160" y="4735080"/>
                  <a:ext cx="19080" cy="19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9"/>
                <p:cNvSpPr/>
                <p:nvPr/>
              </p:nvSpPr>
              <p:spPr>
                <a:xfrm>
                  <a:off x="990360" y="4865400"/>
                  <a:ext cx="801720" cy="8262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826200"/>
                    <a:gd name="textAreaBottom" fmla="*/ 826560 h 826200"/>
                  </a:gdLst>
                  <a:ahLst/>
                  <a:rect l="textAreaLeft" t="textAreaTop" r="textAreaRight" b="textAreaBottom"/>
                  <a:pathLst>
                    <a:path w="1116" h="1152">
                      <a:moveTo>
                        <a:pt x="0" y="1116"/>
                      </a:moveTo>
                      <a:lnTo>
                        <a:pt x="1110" y="0"/>
                      </a:lnTo>
                      <a:lnTo>
                        <a:pt x="1116" y="24"/>
                      </a:lnTo>
                      <a:lnTo>
                        <a:pt x="3" y="1152"/>
                      </a:lnTo>
                      <a:lnTo>
                        <a:pt x="0" y="111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cc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560"/>
              <p:cNvGrpSpPr/>
              <p:nvPr/>
            </p:nvGrpSpPr>
            <p:grpSpPr>
              <a:xfrm>
                <a:off x="657000" y="4349160"/>
                <a:ext cx="806760" cy="641160"/>
                <a:chOff x="657000" y="4349160"/>
                <a:chExt cx="806760" cy="641160"/>
              </a:xfrm>
            </p:grpSpPr>
            <p:sp>
              <p:nvSpPr>
                <p:cNvPr id="184" name="Freeform 561"/>
                <p:cNvSpPr/>
                <p:nvPr/>
              </p:nvSpPr>
              <p:spPr>
                <a:xfrm rot="14860200">
                  <a:off x="858600" y="431640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562"/>
                <p:cNvSpPr/>
                <p:nvPr/>
              </p:nvSpPr>
              <p:spPr>
                <a:xfrm rot="14860200">
                  <a:off x="667440" y="46443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563"/>
                <p:cNvSpPr/>
                <p:nvPr/>
              </p:nvSpPr>
              <p:spPr>
                <a:xfrm rot="14860200">
                  <a:off x="768960" y="46720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564"/>
                <p:cNvSpPr/>
                <p:nvPr/>
              </p:nvSpPr>
              <p:spPr>
                <a:xfrm rot="14860200">
                  <a:off x="848520" y="46724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565"/>
                <p:cNvSpPr/>
                <p:nvPr/>
              </p:nvSpPr>
              <p:spPr>
                <a:xfrm rot="14860200">
                  <a:off x="850680" y="46537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566"/>
                <p:cNvSpPr/>
                <p:nvPr/>
              </p:nvSpPr>
              <p:spPr>
                <a:xfrm rot="14860200">
                  <a:off x="962640" y="46789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567"/>
                <p:cNvSpPr/>
                <p:nvPr/>
              </p:nvSpPr>
              <p:spPr>
                <a:xfrm rot="16675800">
                  <a:off x="1045800" y="47170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568"/>
                <p:cNvSpPr/>
                <p:nvPr/>
              </p:nvSpPr>
              <p:spPr>
                <a:xfrm rot="14860200">
                  <a:off x="1182600" y="46778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569"/>
                <p:cNvSpPr/>
                <p:nvPr/>
              </p:nvSpPr>
              <p:spPr>
                <a:xfrm rot="14860200">
                  <a:off x="1178280" y="46666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570"/>
                <p:cNvSpPr/>
                <p:nvPr/>
              </p:nvSpPr>
              <p:spPr>
                <a:xfrm rot="14860200">
                  <a:off x="1105920" y="46699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571"/>
              <p:cNvGrpSpPr/>
              <p:nvPr/>
            </p:nvGrpSpPr>
            <p:grpSpPr>
              <a:xfrm>
                <a:off x="766080" y="4659480"/>
                <a:ext cx="810720" cy="731520"/>
                <a:chOff x="766080" y="4659480"/>
                <a:chExt cx="810720" cy="731520"/>
              </a:xfrm>
            </p:grpSpPr>
            <p:sp>
              <p:nvSpPr>
                <p:cNvPr id="195" name="Freeform 572"/>
                <p:cNvSpPr/>
                <p:nvPr/>
              </p:nvSpPr>
              <p:spPr>
                <a:xfrm rot="3336600">
                  <a:off x="969840" y="467172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573"/>
                <p:cNvSpPr/>
                <p:nvPr/>
              </p:nvSpPr>
              <p:spPr>
                <a:xfrm rot="3336600">
                  <a:off x="1455480" y="492912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574"/>
                <p:cNvSpPr/>
                <p:nvPr/>
              </p:nvSpPr>
              <p:spPr>
                <a:xfrm rot="3336600">
                  <a:off x="1348560" y="49053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575"/>
                <p:cNvSpPr/>
                <p:nvPr/>
              </p:nvSpPr>
              <p:spPr>
                <a:xfrm rot="3336600">
                  <a:off x="1270440" y="49215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576"/>
                <p:cNvSpPr/>
                <p:nvPr/>
              </p:nvSpPr>
              <p:spPr>
                <a:xfrm rot="3336600">
                  <a:off x="1301040" y="498420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577"/>
                <p:cNvSpPr/>
                <p:nvPr/>
              </p:nvSpPr>
              <p:spPr>
                <a:xfrm rot="3336600">
                  <a:off x="1187640" y="49935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578"/>
                <p:cNvSpPr/>
                <p:nvPr/>
              </p:nvSpPr>
              <p:spPr>
                <a:xfrm rot="5151600">
                  <a:off x="1098360" y="49737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579"/>
                <p:cNvSpPr/>
                <p:nvPr/>
              </p:nvSpPr>
              <p:spPr>
                <a:xfrm rot="3336600">
                  <a:off x="984600" y="50004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80"/>
                <p:cNvSpPr/>
                <p:nvPr/>
              </p:nvSpPr>
              <p:spPr>
                <a:xfrm rot="3336600">
                  <a:off x="991440" y="50101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81"/>
                <p:cNvSpPr/>
                <p:nvPr/>
              </p:nvSpPr>
              <p:spPr>
                <a:xfrm rot="3336600">
                  <a:off x="1061280" y="49921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582"/>
              <p:cNvGrpSpPr/>
              <p:nvPr/>
            </p:nvGrpSpPr>
            <p:grpSpPr>
              <a:xfrm>
                <a:off x="291600" y="5090400"/>
                <a:ext cx="813240" cy="707400"/>
                <a:chOff x="291600" y="5090400"/>
                <a:chExt cx="813240" cy="707400"/>
              </a:xfrm>
            </p:grpSpPr>
            <p:sp>
              <p:nvSpPr>
                <p:cNvPr id="206" name="Freeform 583"/>
                <p:cNvSpPr/>
                <p:nvPr/>
              </p:nvSpPr>
              <p:spPr>
                <a:xfrm rot="3555000">
                  <a:off x="496800" y="509076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84"/>
                <p:cNvSpPr/>
                <p:nvPr/>
              </p:nvSpPr>
              <p:spPr>
                <a:xfrm rot="3555000">
                  <a:off x="986400" y="53694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32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85"/>
                <p:cNvSpPr/>
                <p:nvPr/>
              </p:nvSpPr>
              <p:spPr>
                <a:xfrm rot="3555000">
                  <a:off x="880200" y="53391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86"/>
                <p:cNvSpPr/>
                <p:nvPr/>
              </p:nvSpPr>
              <p:spPr>
                <a:xfrm rot="3555000">
                  <a:off x="801720" y="53503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7"/>
                <p:cNvSpPr/>
                <p:nvPr/>
              </p:nvSpPr>
              <p:spPr>
                <a:xfrm rot="3555000">
                  <a:off x="829800" y="541368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588"/>
                <p:cNvSpPr/>
                <p:nvPr/>
              </p:nvSpPr>
              <p:spPr>
                <a:xfrm rot="3555000">
                  <a:off x="716040" y="54158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589"/>
                <p:cNvSpPr/>
                <p:nvPr/>
              </p:nvSpPr>
              <p:spPr>
                <a:xfrm rot="5370000">
                  <a:off x="628200" y="53906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590"/>
                <p:cNvSpPr/>
                <p:nvPr/>
              </p:nvSpPr>
              <p:spPr>
                <a:xfrm rot="3555000">
                  <a:off x="511920" y="54093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591"/>
                <p:cNvSpPr/>
                <p:nvPr/>
              </p:nvSpPr>
              <p:spPr>
                <a:xfrm rot="3555000">
                  <a:off x="518040" y="5419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592"/>
                <p:cNvSpPr/>
                <p:nvPr/>
              </p:nvSpPr>
              <p:spPr>
                <a:xfrm rot="3555000">
                  <a:off x="588960" y="54057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593"/>
              <p:cNvGrpSpPr/>
              <p:nvPr/>
            </p:nvGrpSpPr>
            <p:grpSpPr>
              <a:xfrm>
                <a:off x="550800" y="4839840"/>
                <a:ext cx="795600" cy="597960"/>
                <a:chOff x="550800" y="4839840"/>
                <a:chExt cx="795600" cy="597960"/>
              </a:xfrm>
            </p:grpSpPr>
            <p:sp>
              <p:nvSpPr>
                <p:cNvPr id="217" name="Freeform 594"/>
                <p:cNvSpPr/>
                <p:nvPr/>
              </p:nvSpPr>
              <p:spPr>
                <a:xfrm rot="4341600">
                  <a:off x="747000" y="478548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95"/>
                <p:cNvSpPr/>
                <p:nvPr/>
              </p:nvSpPr>
              <p:spPr>
                <a:xfrm rot="4341600">
                  <a:off x="1239120" y="51426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96"/>
                <p:cNvSpPr/>
                <p:nvPr/>
              </p:nvSpPr>
              <p:spPr>
                <a:xfrm rot="4341600">
                  <a:off x="1140840" y="50882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97"/>
                <p:cNvSpPr/>
                <p:nvPr/>
              </p:nvSpPr>
              <p:spPr>
                <a:xfrm rot="4341600">
                  <a:off x="1061640" y="508140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98"/>
                <p:cNvSpPr/>
                <p:nvPr/>
              </p:nvSpPr>
              <p:spPr>
                <a:xfrm rot="4341600">
                  <a:off x="1080360" y="514764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99"/>
                <p:cNvSpPr/>
                <p:nvPr/>
              </p:nvSpPr>
              <p:spPr>
                <a:xfrm rot="4341600">
                  <a:off x="970200" y="51242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600"/>
                <p:cNvSpPr/>
                <p:nvPr/>
              </p:nvSpPr>
              <p:spPr>
                <a:xfrm rot="6156600">
                  <a:off x="891000" y="50796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601"/>
                <p:cNvSpPr/>
                <p:nvPr/>
              </p:nvSpPr>
              <p:spPr>
                <a:xfrm rot="4341600">
                  <a:off x="768600" y="50691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602"/>
                <p:cNvSpPr/>
                <p:nvPr/>
              </p:nvSpPr>
              <p:spPr>
                <a:xfrm rot="4341600">
                  <a:off x="772200" y="50803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603"/>
                <p:cNvSpPr/>
                <p:nvPr/>
              </p:nvSpPr>
              <p:spPr>
                <a:xfrm rot="4341600">
                  <a:off x="844560" y="50832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604"/>
              <p:cNvGrpSpPr/>
              <p:nvPr/>
            </p:nvGrpSpPr>
            <p:grpSpPr>
              <a:xfrm>
                <a:off x="476280" y="4888800"/>
                <a:ext cx="806760" cy="641160"/>
                <a:chOff x="476280" y="4888800"/>
                <a:chExt cx="806760" cy="641160"/>
              </a:xfrm>
            </p:grpSpPr>
            <p:sp>
              <p:nvSpPr>
                <p:cNvPr id="228" name="Freeform 605"/>
                <p:cNvSpPr/>
                <p:nvPr/>
              </p:nvSpPr>
              <p:spPr>
                <a:xfrm rot="14860200">
                  <a:off x="677880" y="485604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606"/>
                <p:cNvSpPr/>
                <p:nvPr/>
              </p:nvSpPr>
              <p:spPr>
                <a:xfrm rot="14860200">
                  <a:off x="486720" y="51840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607"/>
                <p:cNvSpPr/>
                <p:nvPr/>
              </p:nvSpPr>
              <p:spPr>
                <a:xfrm rot="14860200">
                  <a:off x="588240" y="52117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608"/>
                <p:cNvSpPr/>
                <p:nvPr/>
              </p:nvSpPr>
              <p:spPr>
                <a:xfrm rot="14860200">
                  <a:off x="667800" y="52120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609"/>
                <p:cNvSpPr/>
                <p:nvPr/>
              </p:nvSpPr>
              <p:spPr>
                <a:xfrm rot="14860200">
                  <a:off x="669960" y="51933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610"/>
                <p:cNvSpPr/>
                <p:nvPr/>
              </p:nvSpPr>
              <p:spPr>
                <a:xfrm rot="14860200">
                  <a:off x="781920" y="52185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611"/>
                <p:cNvSpPr/>
                <p:nvPr/>
              </p:nvSpPr>
              <p:spPr>
                <a:xfrm rot="16675800">
                  <a:off x="865080" y="52567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612"/>
                <p:cNvSpPr/>
                <p:nvPr/>
              </p:nvSpPr>
              <p:spPr>
                <a:xfrm rot="14860200">
                  <a:off x="1001880" y="52174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613"/>
                <p:cNvSpPr/>
                <p:nvPr/>
              </p:nvSpPr>
              <p:spPr>
                <a:xfrm rot="14860200">
                  <a:off x="997560" y="52063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4"/>
                <p:cNvSpPr/>
                <p:nvPr/>
              </p:nvSpPr>
              <p:spPr>
                <a:xfrm rot="14860200">
                  <a:off x="925200" y="52095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Group 615"/>
              <p:cNvGrpSpPr/>
              <p:nvPr/>
            </p:nvGrpSpPr>
            <p:grpSpPr>
              <a:xfrm>
                <a:off x="1080" y="5003640"/>
                <a:ext cx="811080" cy="666720"/>
                <a:chOff x="1080" y="5003640"/>
                <a:chExt cx="811080" cy="666720"/>
              </a:xfrm>
            </p:grpSpPr>
            <p:sp>
              <p:nvSpPr>
                <p:cNvPr id="239" name="Freeform 616"/>
                <p:cNvSpPr/>
                <p:nvPr/>
              </p:nvSpPr>
              <p:spPr>
                <a:xfrm rot="14677800">
                  <a:off x="204840" y="498348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617"/>
                <p:cNvSpPr/>
                <p:nvPr/>
              </p:nvSpPr>
              <p:spPr>
                <a:xfrm rot="14677800">
                  <a:off x="14400" y="532944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18"/>
                <p:cNvSpPr/>
                <p:nvPr/>
              </p:nvSpPr>
              <p:spPr>
                <a:xfrm rot="14677800">
                  <a:off x="117360" y="53521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619"/>
                <p:cNvSpPr/>
                <p:nvPr/>
              </p:nvSpPr>
              <p:spPr>
                <a:xfrm rot="14677800">
                  <a:off x="196920" y="53485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20"/>
                <p:cNvSpPr/>
                <p:nvPr/>
              </p:nvSpPr>
              <p:spPr>
                <a:xfrm rot="14677800">
                  <a:off x="197280" y="53301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621"/>
                <p:cNvSpPr/>
                <p:nvPr/>
              </p:nvSpPr>
              <p:spPr>
                <a:xfrm rot="14677800">
                  <a:off x="309960" y="53496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622"/>
                <p:cNvSpPr/>
                <p:nvPr/>
              </p:nvSpPr>
              <p:spPr>
                <a:xfrm rot="16492800">
                  <a:off x="394920" y="53834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623"/>
                <p:cNvSpPr/>
                <p:nvPr/>
              </p:nvSpPr>
              <p:spPr>
                <a:xfrm rot="14677800">
                  <a:off x="530640" y="53370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624"/>
                <p:cNvSpPr/>
                <p:nvPr/>
              </p:nvSpPr>
              <p:spPr>
                <a:xfrm rot="14677800">
                  <a:off x="525600" y="53262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625"/>
                <p:cNvSpPr/>
                <p:nvPr/>
              </p:nvSpPr>
              <p:spPr>
                <a:xfrm rot="14677800">
                  <a:off x="453600" y="53330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Group 626"/>
              <p:cNvGrpSpPr/>
              <p:nvPr/>
            </p:nvGrpSpPr>
            <p:grpSpPr>
              <a:xfrm>
                <a:off x="629280" y="4505400"/>
                <a:ext cx="806760" cy="641160"/>
                <a:chOff x="629280" y="4505400"/>
                <a:chExt cx="806760" cy="641160"/>
              </a:xfrm>
            </p:grpSpPr>
            <p:sp>
              <p:nvSpPr>
                <p:cNvPr id="250" name="Freeform 627"/>
                <p:cNvSpPr/>
                <p:nvPr/>
              </p:nvSpPr>
              <p:spPr>
                <a:xfrm rot="14860200">
                  <a:off x="830880" y="447264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628"/>
                <p:cNvSpPr/>
                <p:nvPr/>
              </p:nvSpPr>
              <p:spPr>
                <a:xfrm rot="14860200">
                  <a:off x="639720" y="48006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29"/>
                <p:cNvSpPr/>
                <p:nvPr/>
              </p:nvSpPr>
              <p:spPr>
                <a:xfrm rot="14860200">
                  <a:off x="741240" y="48283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30"/>
                <p:cNvSpPr/>
                <p:nvPr/>
              </p:nvSpPr>
              <p:spPr>
                <a:xfrm rot="14860200">
                  <a:off x="820800" y="48286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631"/>
                <p:cNvSpPr/>
                <p:nvPr/>
              </p:nvSpPr>
              <p:spPr>
                <a:xfrm rot="14860200">
                  <a:off x="822960" y="48099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632"/>
                <p:cNvSpPr/>
                <p:nvPr/>
              </p:nvSpPr>
              <p:spPr>
                <a:xfrm rot="14860200">
                  <a:off x="934920" y="483516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633"/>
                <p:cNvSpPr/>
                <p:nvPr/>
              </p:nvSpPr>
              <p:spPr>
                <a:xfrm rot="16675800">
                  <a:off x="1018080" y="48733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634"/>
                <p:cNvSpPr/>
                <p:nvPr/>
              </p:nvSpPr>
              <p:spPr>
                <a:xfrm rot="14860200">
                  <a:off x="1154880" y="48340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635"/>
                <p:cNvSpPr/>
                <p:nvPr/>
              </p:nvSpPr>
              <p:spPr>
                <a:xfrm rot="14860200">
                  <a:off x="1150560" y="48229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636"/>
                <p:cNvSpPr/>
                <p:nvPr/>
              </p:nvSpPr>
              <p:spPr>
                <a:xfrm rot="14860200">
                  <a:off x="1078200" y="482616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" name="Group 637"/>
              <p:cNvGrpSpPr/>
              <p:nvPr/>
            </p:nvGrpSpPr>
            <p:grpSpPr>
              <a:xfrm>
                <a:off x="392760" y="4604760"/>
                <a:ext cx="806760" cy="641160"/>
                <a:chOff x="392760" y="4604760"/>
                <a:chExt cx="806760" cy="641160"/>
              </a:xfrm>
            </p:grpSpPr>
            <p:sp>
              <p:nvSpPr>
                <p:cNvPr id="261" name="Freeform 638"/>
                <p:cNvSpPr/>
                <p:nvPr/>
              </p:nvSpPr>
              <p:spPr>
                <a:xfrm rot="14860200">
                  <a:off x="594360" y="457200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639"/>
                <p:cNvSpPr/>
                <p:nvPr/>
              </p:nvSpPr>
              <p:spPr>
                <a:xfrm rot="14860200">
                  <a:off x="403200" y="48999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640"/>
                <p:cNvSpPr/>
                <p:nvPr/>
              </p:nvSpPr>
              <p:spPr>
                <a:xfrm rot="14860200">
                  <a:off x="504720" y="49276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641"/>
                <p:cNvSpPr/>
                <p:nvPr/>
              </p:nvSpPr>
              <p:spPr>
                <a:xfrm rot="14860200">
                  <a:off x="584280" y="492804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642"/>
                <p:cNvSpPr/>
                <p:nvPr/>
              </p:nvSpPr>
              <p:spPr>
                <a:xfrm rot="14860200">
                  <a:off x="586440" y="49093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643"/>
                <p:cNvSpPr/>
                <p:nvPr/>
              </p:nvSpPr>
              <p:spPr>
                <a:xfrm rot="14860200">
                  <a:off x="698400" y="493452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644"/>
                <p:cNvSpPr/>
                <p:nvPr/>
              </p:nvSpPr>
              <p:spPr>
                <a:xfrm rot="16675800">
                  <a:off x="781560" y="49726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645"/>
                <p:cNvSpPr/>
                <p:nvPr/>
              </p:nvSpPr>
              <p:spPr>
                <a:xfrm rot="14860200">
                  <a:off x="918360" y="4933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646"/>
                <p:cNvSpPr/>
                <p:nvPr/>
              </p:nvSpPr>
              <p:spPr>
                <a:xfrm rot="14860200">
                  <a:off x="914040" y="49222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647"/>
                <p:cNvSpPr/>
                <p:nvPr/>
              </p:nvSpPr>
              <p:spPr>
                <a:xfrm rot="14860200">
                  <a:off x="841680" y="49255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648"/>
              <p:cNvGrpSpPr/>
              <p:nvPr/>
            </p:nvGrpSpPr>
            <p:grpSpPr>
              <a:xfrm>
                <a:off x="1020240" y="4397400"/>
                <a:ext cx="776520" cy="799920"/>
                <a:chOff x="1020240" y="4397400"/>
                <a:chExt cx="776520" cy="799920"/>
              </a:xfrm>
            </p:grpSpPr>
            <p:sp>
              <p:nvSpPr>
                <p:cNvPr id="272" name="Freeform 649"/>
                <p:cNvSpPr/>
                <p:nvPr/>
              </p:nvSpPr>
              <p:spPr>
                <a:xfrm rot="2526600">
                  <a:off x="1211040" y="4436280"/>
                  <a:ext cx="394560" cy="72144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440"/>
                    <a:gd name="textAreaBottom" fmla="*/ 721800 h 72144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650"/>
                <p:cNvSpPr/>
                <p:nvPr/>
              </p:nvSpPr>
              <p:spPr>
                <a:xfrm rot="2526600">
                  <a:off x="1670400" y="461808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651"/>
                <p:cNvSpPr/>
                <p:nvPr/>
              </p:nvSpPr>
              <p:spPr>
                <a:xfrm rot="2526600">
                  <a:off x="1563120" y="462132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652"/>
                <p:cNvSpPr/>
                <p:nvPr/>
              </p:nvSpPr>
              <p:spPr>
                <a:xfrm rot="2526600">
                  <a:off x="1490400" y="465732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653"/>
                <p:cNvSpPr/>
                <p:nvPr/>
              </p:nvSpPr>
              <p:spPr>
                <a:xfrm rot="2526600">
                  <a:off x="1528920" y="471420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654"/>
                <p:cNvSpPr/>
                <p:nvPr/>
              </p:nvSpPr>
              <p:spPr>
                <a:xfrm rot="2526600">
                  <a:off x="1418400" y="475272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655"/>
                <p:cNvSpPr/>
                <p:nvPr/>
              </p:nvSpPr>
              <p:spPr>
                <a:xfrm rot="4341600">
                  <a:off x="1327680" y="475596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656"/>
                <p:cNvSpPr/>
                <p:nvPr/>
              </p:nvSpPr>
              <p:spPr>
                <a:xfrm rot="2526600">
                  <a:off x="1226160" y="481212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657"/>
                <p:cNvSpPr/>
                <p:nvPr/>
              </p:nvSpPr>
              <p:spPr>
                <a:xfrm rot="2526600">
                  <a:off x="1235160" y="482004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658"/>
                <p:cNvSpPr/>
                <p:nvPr/>
              </p:nvSpPr>
              <p:spPr>
                <a:xfrm rot="2526600">
                  <a:off x="1299240" y="478440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659"/>
              <p:cNvGrpSpPr/>
              <p:nvPr/>
            </p:nvGrpSpPr>
            <p:grpSpPr>
              <a:xfrm>
                <a:off x="101520" y="4996800"/>
                <a:ext cx="748800" cy="482040"/>
                <a:chOff x="101520" y="4996800"/>
                <a:chExt cx="748800" cy="482040"/>
              </a:xfrm>
            </p:grpSpPr>
            <p:sp>
              <p:nvSpPr>
                <p:cNvPr id="283" name="Freeform 660"/>
                <p:cNvSpPr/>
                <p:nvPr/>
              </p:nvSpPr>
              <p:spPr>
                <a:xfrm rot="15800400">
                  <a:off x="274320" y="488412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Freeform 661"/>
                <p:cNvSpPr/>
                <p:nvPr/>
              </p:nvSpPr>
              <p:spPr>
                <a:xfrm rot="15800400">
                  <a:off x="96480" y="511956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Freeform 662"/>
                <p:cNvSpPr/>
                <p:nvPr/>
              </p:nvSpPr>
              <p:spPr>
                <a:xfrm rot="15800400">
                  <a:off x="184320" y="51739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663"/>
                <p:cNvSpPr/>
                <p:nvPr/>
              </p:nvSpPr>
              <p:spPr>
                <a:xfrm rot="15800400">
                  <a:off x="260640" y="519588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664"/>
                <p:cNvSpPr/>
                <p:nvPr/>
              </p:nvSpPr>
              <p:spPr>
                <a:xfrm rot="15800400">
                  <a:off x="274320" y="517572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665"/>
                <p:cNvSpPr/>
                <p:nvPr/>
              </p:nvSpPr>
              <p:spPr>
                <a:xfrm rot="15800400">
                  <a:off x="376920" y="523080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666"/>
                <p:cNvSpPr/>
                <p:nvPr/>
              </p:nvSpPr>
              <p:spPr>
                <a:xfrm rot="17616000">
                  <a:off x="446400" y="52898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667"/>
                <p:cNvSpPr/>
                <p:nvPr/>
              </p:nvSpPr>
              <p:spPr>
                <a:xfrm rot="15800400">
                  <a:off x="583920" y="528588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Freeform 668"/>
                <p:cNvSpPr/>
                <p:nvPr/>
              </p:nvSpPr>
              <p:spPr>
                <a:xfrm rot="15800400">
                  <a:off x="582480" y="52740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669"/>
                <p:cNvSpPr/>
                <p:nvPr/>
              </p:nvSpPr>
              <p:spPr>
                <a:xfrm rot="15800400">
                  <a:off x="512280" y="525780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3" name="Group 670"/>
              <p:cNvGrpSpPr/>
              <p:nvPr/>
            </p:nvGrpSpPr>
            <p:grpSpPr>
              <a:xfrm>
                <a:off x="310320" y="4897440"/>
                <a:ext cx="748800" cy="482040"/>
                <a:chOff x="310320" y="4897440"/>
                <a:chExt cx="748800" cy="482040"/>
              </a:xfrm>
            </p:grpSpPr>
            <p:sp>
              <p:nvSpPr>
                <p:cNvPr id="294" name="Freeform 671"/>
                <p:cNvSpPr/>
                <p:nvPr/>
              </p:nvSpPr>
              <p:spPr>
                <a:xfrm rot="15800400">
                  <a:off x="483120" y="4784760"/>
                  <a:ext cx="402840" cy="706680"/>
                </a:xfrm>
                <a:custGeom>
                  <a:avLst/>
                  <a:gdLst>
                    <a:gd name="textAreaLeft" fmla="*/ 0 w 402840"/>
                    <a:gd name="textAreaRight" fmla="*/ 403200 w 402840"/>
                    <a:gd name="textAreaTop" fmla="*/ 0 h 706680"/>
                    <a:gd name="textAreaBottom" fmla="*/ 707040 h 70668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672"/>
                <p:cNvSpPr/>
                <p:nvPr/>
              </p:nvSpPr>
              <p:spPr>
                <a:xfrm rot="15800400">
                  <a:off x="305280" y="5020200"/>
                  <a:ext cx="100800" cy="49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73"/>
                <p:cNvSpPr/>
                <p:nvPr/>
              </p:nvSpPr>
              <p:spPr>
                <a:xfrm rot="15800400">
                  <a:off x="393120" y="507456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674"/>
                <p:cNvSpPr/>
                <p:nvPr/>
              </p:nvSpPr>
              <p:spPr>
                <a:xfrm rot="15800400">
                  <a:off x="469440" y="5096520"/>
                  <a:ext cx="100800" cy="67680"/>
                </a:xfrm>
                <a:custGeom>
                  <a:avLst/>
                  <a:gdLst>
                    <a:gd name="textAreaLeft" fmla="*/ 0 w 100800"/>
                    <a:gd name="textAreaRight" fmla="*/ 101160 w 100800"/>
                    <a:gd name="textAreaTop" fmla="*/ 0 h 67680"/>
                    <a:gd name="textAreaBottom" fmla="*/ 68040 h 6768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675"/>
                <p:cNvSpPr/>
                <p:nvPr/>
              </p:nvSpPr>
              <p:spPr>
                <a:xfrm rot="15800400">
                  <a:off x="483120" y="5076360"/>
                  <a:ext cx="76680" cy="2088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20880"/>
                    <a:gd name="textAreaBottom" fmla="*/ 21240 h 208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676"/>
                <p:cNvSpPr/>
                <p:nvPr/>
              </p:nvSpPr>
              <p:spPr>
                <a:xfrm rot="15800400">
                  <a:off x="585720" y="513144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677"/>
                <p:cNvSpPr/>
                <p:nvPr/>
              </p:nvSpPr>
              <p:spPr>
                <a:xfrm rot="17616000">
                  <a:off x="655200" y="5190480"/>
                  <a:ext cx="76680" cy="9720"/>
                </a:xfrm>
                <a:custGeom>
                  <a:avLst/>
                  <a:gdLst>
                    <a:gd name="textAreaLeft" fmla="*/ 0 w 76680"/>
                    <a:gd name="textAreaRight" fmla="*/ 77040 w 76680"/>
                    <a:gd name="textAreaTop" fmla="*/ 0 h 9720"/>
                    <a:gd name="textAreaBottom" fmla="*/ 10080 h 972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78"/>
                <p:cNvSpPr/>
                <p:nvPr/>
              </p:nvSpPr>
              <p:spPr>
                <a:xfrm rot="15800400">
                  <a:off x="792720" y="518652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679"/>
                <p:cNvSpPr/>
                <p:nvPr/>
              </p:nvSpPr>
              <p:spPr>
                <a:xfrm rot="15800400">
                  <a:off x="791280" y="51746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680"/>
                <p:cNvSpPr/>
                <p:nvPr/>
              </p:nvSpPr>
              <p:spPr>
                <a:xfrm rot="15800400">
                  <a:off x="721080" y="5158440"/>
                  <a:ext cx="60480" cy="48960"/>
                </a:xfrm>
                <a:custGeom>
                  <a:avLst/>
                  <a:gdLst>
                    <a:gd name="textAreaLeft" fmla="*/ 0 w 60480"/>
                    <a:gd name="textAreaRight" fmla="*/ 60840 w 6048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681"/>
              <p:cNvGrpSpPr/>
              <p:nvPr/>
            </p:nvGrpSpPr>
            <p:grpSpPr>
              <a:xfrm>
                <a:off x="648360" y="4543560"/>
                <a:ext cx="657720" cy="820080"/>
                <a:chOff x="648360" y="4543560"/>
                <a:chExt cx="657720" cy="820080"/>
              </a:xfrm>
            </p:grpSpPr>
            <p:sp>
              <p:nvSpPr>
                <p:cNvPr id="305" name="Freeform 682"/>
                <p:cNvSpPr/>
                <p:nvPr/>
              </p:nvSpPr>
              <p:spPr>
                <a:xfrm rot="12267000">
                  <a:off x="779760" y="4592880"/>
                  <a:ext cx="394560" cy="72144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440"/>
                    <a:gd name="textAreaBottom" fmla="*/ 721800 h 72144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683"/>
                <p:cNvSpPr/>
                <p:nvPr/>
              </p:nvSpPr>
              <p:spPr>
                <a:xfrm rot="12267000">
                  <a:off x="677880" y="516888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684"/>
                <p:cNvSpPr/>
                <p:nvPr/>
              </p:nvSpPr>
              <p:spPr>
                <a:xfrm rot="12267000">
                  <a:off x="776520" y="51152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685"/>
                <p:cNvSpPr/>
                <p:nvPr/>
              </p:nvSpPr>
              <p:spPr>
                <a:xfrm rot="12267000">
                  <a:off x="834840" y="505908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686"/>
                <p:cNvSpPr/>
                <p:nvPr/>
              </p:nvSpPr>
              <p:spPr>
                <a:xfrm rot="12267000">
                  <a:off x="811440" y="505980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687"/>
                <p:cNvSpPr/>
                <p:nvPr/>
              </p:nvSpPr>
              <p:spPr>
                <a:xfrm rot="12267000">
                  <a:off x="906840" y="500076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688"/>
                <p:cNvSpPr/>
                <p:nvPr/>
              </p:nvSpPr>
              <p:spPr>
                <a:xfrm rot="14082000">
                  <a:off x="992160" y="496980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689"/>
                <p:cNvSpPr/>
                <p:nvPr/>
              </p:nvSpPr>
              <p:spPr>
                <a:xfrm rot="12267000">
                  <a:off x="1081080" y="48441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690"/>
                <p:cNvSpPr/>
                <p:nvPr/>
              </p:nvSpPr>
              <p:spPr>
                <a:xfrm rot="12267000">
                  <a:off x="1070280" y="483948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691"/>
                <p:cNvSpPr/>
                <p:nvPr/>
              </p:nvSpPr>
              <p:spPr>
                <a:xfrm rot="12267000">
                  <a:off x="1019880" y="48927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Group 692"/>
              <p:cNvGrpSpPr/>
              <p:nvPr/>
            </p:nvGrpSpPr>
            <p:grpSpPr>
              <a:xfrm>
                <a:off x="729720" y="4344480"/>
                <a:ext cx="662400" cy="820800"/>
                <a:chOff x="729720" y="4344480"/>
                <a:chExt cx="662400" cy="820800"/>
              </a:xfrm>
            </p:grpSpPr>
            <p:sp>
              <p:nvSpPr>
                <p:cNvPr id="316" name="Freeform 693"/>
                <p:cNvSpPr/>
                <p:nvPr/>
              </p:nvSpPr>
              <p:spPr>
                <a:xfrm rot="1497600">
                  <a:off x="863280" y="4393800"/>
                  <a:ext cx="394560" cy="721800"/>
                </a:xfrm>
                <a:custGeom>
                  <a:avLst/>
                  <a:gdLst>
                    <a:gd name="textAreaLeft" fmla="*/ 0 w 394560"/>
                    <a:gd name="textAreaRight" fmla="*/ 394920 w 394560"/>
                    <a:gd name="textAreaTop" fmla="*/ 0 h 721800"/>
                    <a:gd name="textAreaBottom" fmla="*/ 721800 h 721800"/>
                  </a:gdLst>
                  <a:ahLst/>
                  <a:rect l="textAreaLeft" t="textAreaTop" r="textAreaRight" b="textAreaBottom"/>
                  <a:pathLst>
                    <a:path w="1062" h="1997">
                      <a:moveTo>
                        <a:pt x="67" y="1736"/>
                      </a:moveTo>
                      <a:cubicBezTo>
                        <a:pt x="134" y="1475"/>
                        <a:pt x="419" y="560"/>
                        <a:pt x="531" y="280"/>
                      </a:cubicBezTo>
                      <a:cubicBezTo>
                        <a:pt x="643" y="0"/>
                        <a:pt x="656" y="75"/>
                        <a:pt x="739" y="56"/>
                      </a:cubicBezTo>
                      <a:cubicBezTo>
                        <a:pt x="822" y="37"/>
                        <a:pt x="992" y="109"/>
                        <a:pt x="1027" y="168"/>
                      </a:cubicBezTo>
                      <a:cubicBezTo>
                        <a:pt x="1062" y="227"/>
                        <a:pt x="1051" y="205"/>
                        <a:pt x="947" y="408"/>
                      </a:cubicBezTo>
                      <a:cubicBezTo>
                        <a:pt x="843" y="611"/>
                        <a:pt x="539" y="1144"/>
                        <a:pt x="403" y="1384"/>
                      </a:cubicBezTo>
                      <a:cubicBezTo>
                        <a:pt x="267" y="1624"/>
                        <a:pt x="190" y="1789"/>
                        <a:pt x="131" y="1848"/>
                      </a:cubicBezTo>
                      <a:cubicBezTo>
                        <a:pt x="72" y="1907"/>
                        <a:pt x="0" y="1997"/>
                        <a:pt x="67" y="1736"/>
                      </a:cubicBezTo>
                      <a:close/>
                    </a:path>
                  </a:pathLst>
                </a:custGeom>
                <a:solidFill>
                  <a:srgbClr val="ff66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694"/>
                <p:cNvSpPr/>
                <p:nvPr/>
              </p:nvSpPr>
              <p:spPr>
                <a:xfrm rot="1497600">
                  <a:off x="1263600" y="4490640"/>
                  <a:ext cx="98640" cy="5076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266" h="141">
                      <a:moveTo>
                        <a:pt x="5" y="13"/>
                      </a:moveTo>
                      <a:cubicBezTo>
                        <a:pt x="10" y="26"/>
                        <a:pt x="122" y="109"/>
                        <a:pt x="165" y="125"/>
                      </a:cubicBezTo>
                      <a:cubicBezTo>
                        <a:pt x="208" y="141"/>
                        <a:pt x="266" y="122"/>
                        <a:pt x="261" y="109"/>
                      </a:cubicBezTo>
                      <a:cubicBezTo>
                        <a:pt x="256" y="96"/>
                        <a:pt x="176" y="58"/>
                        <a:pt x="133" y="45"/>
                      </a:cubicBezTo>
                      <a:cubicBezTo>
                        <a:pt x="90" y="32"/>
                        <a:pt x="0" y="0"/>
                        <a:pt x="5" y="13"/>
                      </a:cubicBezTo>
                      <a:close/>
                    </a:path>
                  </a:pathLst>
                </a:custGeom>
                <a:solidFill>
                  <a:srgbClr val="1f497d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695"/>
                <p:cNvSpPr/>
                <p:nvPr/>
              </p:nvSpPr>
              <p:spPr>
                <a:xfrm rot="1497600">
                  <a:off x="1164600" y="45248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696"/>
                <p:cNvSpPr/>
                <p:nvPr/>
              </p:nvSpPr>
              <p:spPr>
                <a:xfrm rot="1497600">
                  <a:off x="1105560" y="4580640"/>
                  <a:ext cx="98640" cy="691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69120"/>
                    <a:gd name="textAreaBottom" fmla="*/ 69480 h 69120"/>
                  </a:gdLst>
                  <a:ahLst/>
                  <a:rect l="textAreaLeft" t="textAreaTop" r="textAreaRight" b="textAreaBottom"/>
                  <a:pathLst>
                    <a:path w="266" h="192">
                      <a:moveTo>
                        <a:pt x="13" y="13"/>
                      </a:moveTo>
                      <a:cubicBezTo>
                        <a:pt x="26" y="26"/>
                        <a:pt x="53" y="114"/>
                        <a:pt x="93" y="141"/>
                      </a:cubicBezTo>
                      <a:cubicBezTo>
                        <a:pt x="133" y="168"/>
                        <a:pt x="240" y="165"/>
                        <a:pt x="253" y="173"/>
                      </a:cubicBezTo>
                      <a:cubicBezTo>
                        <a:pt x="266" y="181"/>
                        <a:pt x="202" y="192"/>
                        <a:pt x="173" y="189"/>
                      </a:cubicBezTo>
                      <a:cubicBezTo>
                        <a:pt x="144" y="186"/>
                        <a:pt x="104" y="178"/>
                        <a:pt x="77" y="157"/>
                      </a:cubicBezTo>
                      <a:cubicBezTo>
                        <a:pt x="50" y="136"/>
                        <a:pt x="21" y="85"/>
                        <a:pt x="13" y="61"/>
                      </a:cubicBezTo>
                      <a:cubicBezTo>
                        <a:pt x="5" y="37"/>
                        <a:pt x="0" y="0"/>
                        <a:pt x="13" y="13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697"/>
                <p:cNvSpPr/>
                <p:nvPr/>
              </p:nvSpPr>
              <p:spPr>
                <a:xfrm rot="1497600">
                  <a:off x="1152360" y="4628520"/>
                  <a:ext cx="74880" cy="2124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21240"/>
                    <a:gd name="textAreaBottom" fmla="*/ 21600 h 2124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698"/>
                <p:cNvSpPr/>
                <p:nvPr/>
              </p:nvSpPr>
              <p:spPr>
                <a:xfrm rot="1497600">
                  <a:off x="1056960" y="469764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699"/>
                <p:cNvSpPr/>
                <p:nvPr/>
              </p:nvSpPr>
              <p:spPr>
                <a:xfrm rot="3313200">
                  <a:off x="970560" y="4728240"/>
                  <a:ext cx="74880" cy="10080"/>
                </a:xfrm>
                <a:custGeom>
                  <a:avLst/>
                  <a:gdLst>
                    <a:gd name="textAreaLeft" fmla="*/ 0 w 74880"/>
                    <a:gd name="textAreaRight" fmla="*/ 75240 w 74880"/>
                    <a:gd name="textAreaTop" fmla="*/ 0 h 10080"/>
                    <a:gd name="textAreaBottom" fmla="*/ 10440 h 10080"/>
                  </a:gdLst>
                  <a:ahLst/>
                  <a:rect l="textAreaLeft" t="textAreaTop" r="textAreaRight" b="textAreaBottom"/>
                  <a:pathLst>
                    <a:path w="202" h="59">
                      <a:moveTo>
                        <a:pt x="13" y="8"/>
                      </a:moveTo>
                      <a:cubicBezTo>
                        <a:pt x="8" y="0"/>
                        <a:pt x="0" y="3"/>
                        <a:pt x="29" y="8"/>
                      </a:cubicBezTo>
                      <a:cubicBezTo>
                        <a:pt x="58" y="13"/>
                        <a:pt x="176" y="32"/>
                        <a:pt x="189" y="40"/>
                      </a:cubicBezTo>
                      <a:cubicBezTo>
                        <a:pt x="202" y="48"/>
                        <a:pt x="138" y="59"/>
                        <a:pt x="109" y="56"/>
                      </a:cubicBezTo>
                      <a:cubicBezTo>
                        <a:pt x="80" y="53"/>
                        <a:pt x="21" y="24"/>
                        <a:pt x="13" y="24"/>
                      </a:cubicBezTo>
                      <a:cubicBezTo>
                        <a:pt x="5" y="24"/>
                        <a:pt x="61" y="59"/>
                        <a:pt x="61" y="56"/>
                      </a:cubicBezTo>
                      <a:cubicBezTo>
                        <a:pt x="61" y="53"/>
                        <a:pt x="18" y="16"/>
                        <a:pt x="13" y="8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700"/>
                <p:cNvSpPr/>
                <p:nvPr/>
              </p:nvSpPr>
              <p:spPr>
                <a:xfrm rot="1497600">
                  <a:off x="896760" y="481284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701"/>
                <p:cNvSpPr/>
                <p:nvPr/>
              </p:nvSpPr>
              <p:spPr>
                <a:xfrm rot="1497600">
                  <a:off x="907560" y="481788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702"/>
                <p:cNvSpPr/>
                <p:nvPr/>
              </p:nvSpPr>
              <p:spPr>
                <a:xfrm rot="1497600">
                  <a:off x="958320" y="4764960"/>
                  <a:ext cx="59400" cy="50040"/>
                </a:xfrm>
                <a:custGeom>
                  <a:avLst/>
                  <a:gdLst>
                    <a:gd name="textAreaLeft" fmla="*/ 0 w 59400"/>
                    <a:gd name="textAreaRight" fmla="*/ 59760 w 59400"/>
                    <a:gd name="textAreaTop" fmla="*/ 0 h 50040"/>
                    <a:gd name="textAreaBottom" fmla="*/ 50400 h 50040"/>
                  </a:gdLst>
                  <a:ahLst/>
                  <a:rect l="textAreaLeft" t="textAreaTop" r="textAreaRight" b="textAreaBottom"/>
                  <a:pathLst>
                    <a:path w="160" h="139">
                      <a:moveTo>
                        <a:pt x="10" y="10"/>
                      </a:moveTo>
                      <a:cubicBezTo>
                        <a:pt x="7" y="4"/>
                        <a:pt x="0" y="0"/>
                        <a:pt x="23" y="18"/>
                      </a:cubicBezTo>
                      <a:cubicBezTo>
                        <a:pt x="47" y="34"/>
                        <a:pt x="148" y="99"/>
                        <a:pt x="154" y="111"/>
                      </a:cubicBezTo>
                      <a:cubicBezTo>
                        <a:pt x="160" y="123"/>
                        <a:pt x="82" y="106"/>
                        <a:pt x="57" y="90"/>
                      </a:cubicBezTo>
                      <a:cubicBezTo>
                        <a:pt x="32" y="74"/>
                        <a:pt x="11" y="8"/>
                        <a:pt x="6" y="16"/>
                      </a:cubicBezTo>
                      <a:cubicBezTo>
                        <a:pt x="1" y="24"/>
                        <a:pt x="24" y="139"/>
                        <a:pt x="25" y="138"/>
                      </a:cubicBezTo>
                      <a:cubicBezTo>
                        <a:pt x="26" y="137"/>
                        <a:pt x="13" y="37"/>
                        <a:pt x="10" y="10"/>
                      </a:cubicBezTo>
                      <a:close/>
                    </a:path>
                  </a:pathLst>
                </a:custGeom>
                <a:solidFill>
                  <a:srgbClr val="cc3300"/>
                </a:solidFill>
                <a:ln w="93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6" name="Group 497"/>
          <p:cNvGrpSpPr/>
          <p:nvPr/>
        </p:nvGrpSpPr>
        <p:grpSpPr>
          <a:xfrm>
            <a:off x="173160" y="2133360"/>
            <a:ext cx="3219480" cy="2579400"/>
            <a:chOff x="173160" y="2133360"/>
            <a:chExt cx="3219480" cy="2579400"/>
          </a:xfrm>
        </p:grpSpPr>
        <p:grpSp>
          <p:nvGrpSpPr>
            <p:cNvPr id="327" name="Group 5"/>
            <p:cNvGrpSpPr/>
            <p:nvPr/>
          </p:nvGrpSpPr>
          <p:grpSpPr>
            <a:xfrm>
              <a:off x="192240" y="2733480"/>
              <a:ext cx="3200400" cy="1979280"/>
              <a:chOff x="192240" y="2733480"/>
              <a:chExt cx="3200400" cy="1979280"/>
            </a:xfrm>
          </p:grpSpPr>
          <p:sp>
            <p:nvSpPr>
              <p:cNvPr id="328" name="AutoShape 6"/>
              <p:cNvSpPr/>
              <p:nvPr/>
            </p:nvSpPr>
            <p:spPr>
              <a:xfrm>
                <a:off x="192240" y="2733480"/>
                <a:ext cx="3200400" cy="197928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15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7"/>
              <p:cNvSpPr/>
              <p:nvPr/>
            </p:nvSpPr>
            <p:spPr>
              <a:xfrm>
                <a:off x="1923480" y="2754000"/>
                <a:ext cx="1468800" cy="194832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948320"/>
                  <a:gd name="textAreaBottom" fmla="*/ 1948680 h 1948320"/>
                </a:gdLst>
                <a:ahLst/>
                <a:rect l="textAreaLeft" t="textAreaTop" r="textAreaRight" b="textAreaBottom"/>
                <a:pathLst>
                  <a:path w="1120" h="1520">
                    <a:moveTo>
                      <a:pt x="0" y="1520"/>
                    </a:moveTo>
                    <a:lnTo>
                      <a:pt x="1120" y="384"/>
                    </a:lnTo>
                    <a:lnTo>
                      <a:pt x="1120" y="0"/>
                    </a:lnTo>
                    <a:lnTo>
                      <a:pt x="0" y="1120"/>
                    </a:lnTo>
                    <a:lnTo>
                      <a:pt x="0" y="152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129"/>
            <p:cNvGrpSpPr/>
            <p:nvPr/>
          </p:nvGrpSpPr>
          <p:grpSpPr>
            <a:xfrm>
              <a:off x="204840" y="2844720"/>
              <a:ext cx="3187440" cy="1804320"/>
              <a:chOff x="204840" y="2844720"/>
              <a:chExt cx="3187440" cy="1804320"/>
            </a:xfrm>
          </p:grpSpPr>
          <p:sp>
            <p:nvSpPr>
              <p:cNvPr id="331" name="Freeform 130"/>
              <p:cNvSpPr/>
              <p:nvPr/>
            </p:nvSpPr>
            <p:spPr>
              <a:xfrm>
                <a:off x="204840" y="4501800"/>
                <a:ext cx="1707840" cy="5364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31"/>
              <p:cNvSpPr/>
              <p:nvPr/>
            </p:nvSpPr>
            <p:spPr>
              <a:xfrm>
                <a:off x="204840" y="4332600"/>
                <a:ext cx="1707840" cy="3816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2"/>
              <p:cNvSpPr/>
              <p:nvPr/>
            </p:nvSpPr>
            <p:spPr>
              <a:xfrm>
                <a:off x="1932120" y="2885400"/>
                <a:ext cx="1460160" cy="1485000"/>
              </a:xfrm>
              <a:custGeom>
                <a:avLst/>
                <a:gdLst>
                  <a:gd name="textAreaLeft" fmla="*/ 0 w 1460160"/>
                  <a:gd name="textAreaRight" fmla="*/ 1460520 w 1460160"/>
                  <a:gd name="textAreaTop" fmla="*/ 0 h 1485000"/>
                  <a:gd name="textAreaBottom" fmla="*/ 1485360 h 148500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Oval 133"/>
              <p:cNvSpPr/>
              <p:nvPr/>
            </p:nvSpPr>
            <p:spPr>
              <a:xfrm>
                <a:off x="236160" y="42606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Oval 134"/>
              <p:cNvSpPr/>
              <p:nvPr/>
            </p:nvSpPr>
            <p:spPr>
              <a:xfrm>
                <a:off x="1833840" y="423756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135"/>
              <p:cNvSpPr/>
              <p:nvPr/>
            </p:nvSpPr>
            <p:spPr>
              <a:xfrm>
                <a:off x="1841760" y="44298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Oval 136"/>
              <p:cNvSpPr/>
              <p:nvPr/>
            </p:nvSpPr>
            <p:spPr>
              <a:xfrm>
                <a:off x="1841760" y="459936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Oval 137"/>
              <p:cNvSpPr/>
              <p:nvPr/>
            </p:nvSpPr>
            <p:spPr>
              <a:xfrm>
                <a:off x="234720" y="441324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Oval 138"/>
              <p:cNvSpPr/>
              <p:nvPr/>
            </p:nvSpPr>
            <p:spPr>
              <a:xfrm>
                <a:off x="250560" y="461340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Oval 139"/>
              <p:cNvSpPr/>
              <p:nvPr/>
            </p:nvSpPr>
            <p:spPr>
              <a:xfrm>
                <a:off x="1936440" y="4229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140"/>
              <p:cNvSpPr/>
              <p:nvPr/>
            </p:nvSpPr>
            <p:spPr>
              <a:xfrm>
                <a:off x="1936440" y="44377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Oval 141"/>
              <p:cNvSpPr/>
              <p:nvPr/>
            </p:nvSpPr>
            <p:spPr>
              <a:xfrm>
                <a:off x="1936440" y="45763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142"/>
              <p:cNvSpPr/>
              <p:nvPr/>
            </p:nvSpPr>
            <p:spPr>
              <a:xfrm>
                <a:off x="3345120" y="31831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Oval 143"/>
              <p:cNvSpPr/>
              <p:nvPr/>
            </p:nvSpPr>
            <p:spPr>
              <a:xfrm>
                <a:off x="3345120" y="30294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144"/>
              <p:cNvSpPr/>
              <p:nvPr/>
            </p:nvSpPr>
            <p:spPr>
              <a:xfrm>
                <a:off x="3345120" y="28447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45"/>
              <p:cNvSpPr/>
              <p:nvPr/>
            </p:nvSpPr>
            <p:spPr>
              <a:xfrm>
                <a:off x="1928160" y="3078000"/>
                <a:ext cx="1464120" cy="147744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1477440"/>
                  <a:gd name="textAreaBottom" fmla="*/ 1477800 h 147744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Freeform 475"/>
            <p:cNvSpPr/>
            <p:nvPr/>
          </p:nvSpPr>
          <p:spPr>
            <a:xfrm>
              <a:off x="909720" y="2963880"/>
              <a:ext cx="1020600" cy="72324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240"/>
                <a:gd name="textAreaBottom" fmla="*/ 723600 h 72324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76"/>
            <p:cNvSpPr/>
            <p:nvPr/>
          </p:nvSpPr>
          <p:spPr>
            <a:xfrm>
              <a:off x="173160" y="352260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77"/>
            <p:cNvSpPr/>
            <p:nvPr/>
          </p:nvSpPr>
          <p:spPr>
            <a:xfrm>
              <a:off x="706320" y="3369960"/>
              <a:ext cx="1020960" cy="723600"/>
            </a:xfrm>
            <a:custGeom>
              <a:avLst/>
              <a:gdLst>
                <a:gd name="textAreaLeft" fmla="*/ 0 w 1020960"/>
                <a:gd name="textAreaRight" fmla="*/ 1021320 w 102096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478"/>
            <p:cNvSpPr/>
            <p:nvPr/>
          </p:nvSpPr>
          <p:spPr>
            <a:xfrm rot="15610200">
              <a:off x="1799640" y="3165480"/>
              <a:ext cx="1020600" cy="72396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482"/>
            <p:cNvGrpSpPr/>
            <p:nvPr/>
          </p:nvGrpSpPr>
          <p:grpSpPr>
            <a:xfrm>
              <a:off x="613440" y="2883240"/>
              <a:ext cx="1095480" cy="1285560"/>
              <a:chOff x="613440" y="2883240"/>
              <a:chExt cx="1095480" cy="1285560"/>
            </a:xfrm>
          </p:grpSpPr>
          <p:sp>
            <p:nvSpPr>
              <p:cNvPr id="352" name="Freeform 479"/>
              <p:cNvSpPr/>
              <p:nvPr/>
            </p:nvSpPr>
            <p:spPr>
              <a:xfrm rot="15554400">
                <a:off x="747360" y="323784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480"/>
              <p:cNvSpPr/>
              <p:nvPr/>
            </p:nvSpPr>
            <p:spPr>
              <a:xfrm rot="521400">
                <a:off x="636840" y="332208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481"/>
              <p:cNvSpPr/>
              <p:nvPr/>
            </p:nvSpPr>
            <p:spPr>
              <a:xfrm flipH="1" flipV="1" rot="15578400">
                <a:off x="581400" y="298872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Group 484"/>
            <p:cNvGrpSpPr/>
            <p:nvPr/>
          </p:nvGrpSpPr>
          <p:grpSpPr>
            <a:xfrm>
              <a:off x="1091880" y="2224800"/>
              <a:ext cx="1246320" cy="1269360"/>
              <a:chOff x="1091880" y="2224800"/>
              <a:chExt cx="1246320" cy="1269360"/>
            </a:xfrm>
          </p:grpSpPr>
          <p:sp>
            <p:nvSpPr>
              <p:cNvPr id="356" name="Freeform 485"/>
              <p:cNvSpPr/>
              <p:nvPr/>
            </p:nvSpPr>
            <p:spPr>
              <a:xfrm rot="15032400">
                <a:off x="1316520" y="253008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solidFill>
                <a:srgbClr val="ac0000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486"/>
              <p:cNvSpPr/>
              <p:nvPr/>
            </p:nvSpPr>
            <p:spPr>
              <a:xfrm>
                <a:off x="1193760" y="267912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487"/>
              <p:cNvSpPr/>
              <p:nvPr/>
            </p:nvSpPr>
            <p:spPr>
              <a:xfrm flipH="1" flipV="1" rot="15057000">
                <a:off x="1091880" y="234792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9" name="Freeform 488"/>
            <p:cNvSpPr/>
            <p:nvPr/>
          </p:nvSpPr>
          <p:spPr>
            <a:xfrm>
              <a:off x="1722600" y="260820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89"/>
            <p:cNvSpPr/>
            <p:nvPr/>
          </p:nvSpPr>
          <p:spPr>
            <a:xfrm>
              <a:off x="2103480" y="248112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90"/>
            <p:cNvSpPr/>
            <p:nvPr/>
          </p:nvSpPr>
          <p:spPr>
            <a:xfrm rot="12215400">
              <a:off x="1963440" y="2241360"/>
              <a:ext cx="631800" cy="437760"/>
            </a:xfrm>
            <a:custGeom>
              <a:avLst/>
              <a:gdLst>
                <a:gd name="textAreaLeft" fmla="*/ 0 w 631800"/>
                <a:gd name="textAreaRight" fmla="*/ 632160 w 6318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702" h="468">
                  <a:moveTo>
                    <a:pt x="0" y="468"/>
                  </a:moveTo>
                  <a:cubicBezTo>
                    <a:pt x="6" y="466"/>
                    <a:pt x="114" y="423"/>
                    <a:pt x="139" y="404"/>
                  </a:cubicBezTo>
                  <a:cubicBezTo>
                    <a:pt x="164" y="385"/>
                    <a:pt x="142" y="377"/>
                    <a:pt x="152" y="353"/>
                  </a:cubicBezTo>
                  <a:cubicBezTo>
                    <a:pt x="162" y="329"/>
                    <a:pt x="195" y="285"/>
                    <a:pt x="200" y="258"/>
                  </a:cubicBezTo>
                  <a:cubicBezTo>
                    <a:pt x="206" y="230"/>
                    <a:pt x="188" y="213"/>
                    <a:pt x="186" y="188"/>
                  </a:cubicBezTo>
                  <a:cubicBezTo>
                    <a:pt x="185" y="162"/>
                    <a:pt x="182" y="129"/>
                    <a:pt x="193" y="105"/>
                  </a:cubicBezTo>
                  <a:cubicBezTo>
                    <a:pt x="205" y="80"/>
                    <a:pt x="213" y="58"/>
                    <a:pt x="255" y="41"/>
                  </a:cubicBezTo>
                  <a:cubicBezTo>
                    <a:pt x="297" y="24"/>
                    <a:pt x="390" y="8"/>
                    <a:pt x="443" y="4"/>
                  </a:cubicBezTo>
                  <a:cubicBezTo>
                    <a:pt x="496" y="0"/>
                    <a:pt x="534" y="9"/>
                    <a:pt x="571" y="20"/>
                  </a:cubicBezTo>
                  <a:cubicBezTo>
                    <a:pt x="608" y="31"/>
                    <a:pt x="654" y="52"/>
                    <a:pt x="667" y="68"/>
                  </a:cubicBezTo>
                  <a:cubicBezTo>
                    <a:pt x="680" y="84"/>
                    <a:pt x="654" y="113"/>
                    <a:pt x="651" y="116"/>
                  </a:cubicBezTo>
                  <a:cubicBezTo>
                    <a:pt x="648" y="119"/>
                    <a:pt x="646" y="81"/>
                    <a:pt x="651" y="84"/>
                  </a:cubicBezTo>
                  <a:cubicBezTo>
                    <a:pt x="656" y="87"/>
                    <a:pt x="675" y="108"/>
                    <a:pt x="683" y="132"/>
                  </a:cubicBezTo>
                  <a:cubicBezTo>
                    <a:pt x="691" y="156"/>
                    <a:pt x="696" y="207"/>
                    <a:pt x="699" y="228"/>
                  </a:cubicBezTo>
                  <a:cubicBezTo>
                    <a:pt x="702" y="249"/>
                    <a:pt x="702" y="244"/>
                    <a:pt x="699" y="260"/>
                  </a:cubicBezTo>
                  <a:cubicBezTo>
                    <a:pt x="696" y="276"/>
                    <a:pt x="698" y="302"/>
                    <a:pt x="683" y="324"/>
                  </a:cubicBezTo>
                  <a:cubicBezTo>
                    <a:pt x="668" y="346"/>
                    <a:pt x="639" y="375"/>
                    <a:pt x="607" y="392"/>
                  </a:cubicBezTo>
                  <a:cubicBezTo>
                    <a:pt x="575" y="409"/>
                    <a:pt x="528" y="425"/>
                    <a:pt x="490" y="424"/>
                  </a:cubicBezTo>
                  <a:cubicBezTo>
                    <a:pt x="452" y="422"/>
                    <a:pt x="406" y="397"/>
                    <a:pt x="380" y="385"/>
                  </a:cubicBezTo>
                  <a:cubicBezTo>
                    <a:pt x="353" y="374"/>
                    <a:pt x="356" y="359"/>
                    <a:pt x="331" y="353"/>
                  </a:cubicBezTo>
                  <a:cubicBezTo>
                    <a:pt x="307" y="348"/>
                    <a:pt x="273" y="343"/>
                    <a:pt x="235" y="353"/>
                  </a:cubicBezTo>
                  <a:cubicBezTo>
                    <a:pt x="197" y="364"/>
                    <a:pt x="145" y="397"/>
                    <a:pt x="104" y="417"/>
                  </a:cubicBezTo>
                  <a:cubicBezTo>
                    <a:pt x="62" y="438"/>
                    <a:pt x="16" y="461"/>
                    <a:pt x="0" y="468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Group 492"/>
            <p:cNvGrpSpPr/>
            <p:nvPr/>
          </p:nvGrpSpPr>
          <p:grpSpPr>
            <a:xfrm>
              <a:off x="1041840" y="3306240"/>
              <a:ext cx="1535400" cy="1140120"/>
              <a:chOff x="1041840" y="3306240"/>
              <a:chExt cx="1535400" cy="1140120"/>
            </a:xfrm>
          </p:grpSpPr>
          <p:sp>
            <p:nvSpPr>
              <p:cNvPr id="363" name="Freeform 493"/>
              <p:cNvSpPr/>
              <p:nvPr/>
            </p:nvSpPr>
            <p:spPr>
              <a:xfrm rot="12618600">
                <a:off x="1443240" y="3514320"/>
                <a:ext cx="1020600" cy="723960"/>
              </a:xfrm>
              <a:custGeom>
                <a:avLst/>
                <a:gdLst>
                  <a:gd name="textAreaLeft" fmla="*/ 0 w 1020600"/>
                  <a:gd name="textAreaRight" fmla="*/ 1020960 w 1020600"/>
                  <a:gd name="textAreaTop" fmla="*/ 0 h 723960"/>
                  <a:gd name="textAreaBottom" fmla="*/ 724320 h 723960"/>
                </a:gdLst>
                <a:ahLst/>
                <a:rect l="textAreaLeft" t="textAreaTop" r="textAreaRight" b="textAreaBottom"/>
                <a:pathLst>
                  <a:path w="1491" h="1144">
                    <a:moveTo>
                      <a:pt x="19" y="1117"/>
                    </a:moveTo>
                    <a:cubicBezTo>
                      <a:pt x="38" y="1090"/>
                      <a:pt x="294" y="917"/>
                      <a:pt x="371" y="829"/>
                    </a:cubicBezTo>
                    <a:cubicBezTo>
                      <a:pt x="448" y="741"/>
                      <a:pt x="470" y="658"/>
                      <a:pt x="483" y="589"/>
                    </a:cubicBezTo>
                    <a:cubicBezTo>
                      <a:pt x="496" y="520"/>
                      <a:pt x="454" y="477"/>
                      <a:pt x="451" y="413"/>
                    </a:cubicBezTo>
                    <a:cubicBezTo>
                      <a:pt x="448" y="349"/>
                      <a:pt x="440" y="266"/>
                      <a:pt x="467" y="205"/>
                    </a:cubicBezTo>
                    <a:cubicBezTo>
                      <a:pt x="494" y="144"/>
                      <a:pt x="552" y="77"/>
                      <a:pt x="611" y="45"/>
                    </a:cubicBezTo>
                    <a:cubicBezTo>
                      <a:pt x="670" y="13"/>
                      <a:pt x="752" y="0"/>
                      <a:pt x="819" y="13"/>
                    </a:cubicBezTo>
                    <a:cubicBezTo>
                      <a:pt x="886" y="26"/>
                      <a:pt x="966" y="82"/>
                      <a:pt x="1011" y="125"/>
                    </a:cubicBezTo>
                    <a:cubicBezTo>
                      <a:pt x="1056" y="168"/>
                      <a:pt x="1064" y="234"/>
                      <a:pt x="1091" y="269"/>
                    </a:cubicBezTo>
                    <a:cubicBezTo>
                      <a:pt x="1118" y="304"/>
                      <a:pt x="1131" y="314"/>
                      <a:pt x="1171" y="333"/>
                    </a:cubicBezTo>
                    <a:cubicBezTo>
                      <a:pt x="1211" y="352"/>
                      <a:pt x="1288" y="357"/>
                      <a:pt x="1331" y="381"/>
                    </a:cubicBezTo>
                    <a:cubicBezTo>
                      <a:pt x="1374" y="405"/>
                      <a:pt x="1400" y="424"/>
                      <a:pt x="1427" y="477"/>
                    </a:cubicBezTo>
                    <a:cubicBezTo>
                      <a:pt x="1454" y="530"/>
                      <a:pt x="1491" y="626"/>
                      <a:pt x="1491" y="701"/>
                    </a:cubicBezTo>
                    <a:cubicBezTo>
                      <a:pt x="1491" y="776"/>
                      <a:pt x="1483" y="874"/>
                      <a:pt x="1427" y="925"/>
                    </a:cubicBezTo>
                    <a:cubicBezTo>
                      <a:pt x="1371" y="976"/>
                      <a:pt x="1243" y="1008"/>
                      <a:pt x="1155" y="1005"/>
                    </a:cubicBezTo>
                    <a:cubicBezTo>
                      <a:pt x="1067" y="1002"/>
                      <a:pt x="960" y="938"/>
                      <a:pt x="899" y="909"/>
                    </a:cubicBezTo>
                    <a:cubicBezTo>
                      <a:pt x="838" y="880"/>
                      <a:pt x="843" y="842"/>
                      <a:pt x="787" y="829"/>
                    </a:cubicBezTo>
                    <a:cubicBezTo>
                      <a:pt x="731" y="816"/>
                      <a:pt x="651" y="802"/>
                      <a:pt x="563" y="829"/>
                    </a:cubicBezTo>
                    <a:cubicBezTo>
                      <a:pt x="475" y="856"/>
                      <a:pt x="355" y="938"/>
                      <a:pt x="259" y="989"/>
                    </a:cubicBezTo>
                    <a:cubicBezTo>
                      <a:pt x="163" y="1040"/>
                      <a:pt x="0" y="1144"/>
                      <a:pt x="19" y="1117"/>
                    </a:cubicBezTo>
                    <a:close/>
                  </a:path>
                </a:pathLst>
              </a:cu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494"/>
              <p:cNvSpPr/>
              <p:nvPr/>
            </p:nvSpPr>
            <p:spPr>
              <a:xfrm rot="19185600">
                <a:off x="1391040" y="3951720"/>
                <a:ext cx="406440" cy="33048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495"/>
              <p:cNvSpPr/>
              <p:nvPr/>
            </p:nvSpPr>
            <p:spPr>
              <a:xfrm flipH="1" flipV="1" rot="12642600">
                <a:off x="1101240" y="3718440"/>
                <a:ext cx="533160" cy="380880"/>
              </a:xfrm>
              <a:custGeom>
                <a:avLst/>
                <a:gdLst>
                  <a:gd name="textAreaLeft" fmla="*/ -360 w 533160"/>
                  <a:gd name="textAreaRight" fmla="*/ 533160 w 533160"/>
                  <a:gd name="textAreaTop" fmla="*/ 360 h 380880"/>
                  <a:gd name="textAreaBottom" fmla="*/ 381600 h 380880"/>
                </a:gdLst>
                <a:ahLst/>
                <a:rect l="textAreaLeft" t="textAreaTop" r="textAreaRight" b="textAreaBottom"/>
                <a:pathLst>
                  <a:path w="336" h="240">
                    <a:moveTo>
                      <a:pt x="336" y="39"/>
                    </a:moveTo>
                    <a:lnTo>
                      <a:pt x="201" y="46"/>
                    </a:lnTo>
                    <a:lnTo>
                      <a:pt x="176" y="16"/>
                    </a:lnTo>
                    <a:lnTo>
                      <a:pt x="154" y="149"/>
                    </a:lnTo>
                    <a:lnTo>
                      <a:pt x="107" y="224"/>
                    </a:lnTo>
                    <a:lnTo>
                      <a:pt x="0" y="240"/>
                    </a:lnTo>
                    <a:lnTo>
                      <a:pt x="32" y="112"/>
                    </a:lnTo>
                    <a:lnTo>
                      <a:pt x="48" y="32"/>
                    </a:lnTo>
                    <a:lnTo>
                      <a:pt x="128" y="0"/>
                    </a:lnTo>
                    <a:lnTo>
                      <a:pt x="221" y="32"/>
                    </a:lnTo>
                    <a:lnTo>
                      <a:pt x="336" y="39"/>
                    </a:lnTo>
                    <a:close/>
                  </a:path>
                </a:pathLst>
              </a:custGeom>
              <a:solidFill>
                <a:srgbClr val="01b323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Freeform 496"/>
            <p:cNvSpPr/>
            <p:nvPr/>
          </p:nvSpPr>
          <p:spPr>
            <a:xfrm>
              <a:off x="1138320" y="2989080"/>
              <a:ext cx="1020600" cy="723600"/>
            </a:xfrm>
            <a:custGeom>
              <a:avLst/>
              <a:gdLst>
                <a:gd name="textAreaLeft" fmla="*/ 0 w 1020600"/>
                <a:gd name="textAreaRight" fmla="*/ 1020960 w 1020600"/>
                <a:gd name="textAreaTop" fmla="*/ 0 h 723600"/>
                <a:gd name="textAreaBottom" fmla="*/ 723960 h 723600"/>
              </a:gdLst>
              <a:ahLst/>
              <a:rect l="textAreaLeft" t="textAreaTop" r="textAreaRight" b="textAreaBottom"/>
              <a:pathLst>
                <a:path w="1491" h="1144">
                  <a:moveTo>
                    <a:pt x="19" y="1117"/>
                  </a:moveTo>
                  <a:cubicBezTo>
                    <a:pt x="38" y="1090"/>
                    <a:pt x="294" y="917"/>
                    <a:pt x="371" y="829"/>
                  </a:cubicBezTo>
                  <a:cubicBezTo>
                    <a:pt x="448" y="741"/>
                    <a:pt x="470" y="658"/>
                    <a:pt x="483" y="589"/>
                  </a:cubicBezTo>
                  <a:cubicBezTo>
                    <a:pt x="496" y="520"/>
                    <a:pt x="454" y="477"/>
                    <a:pt x="451" y="413"/>
                  </a:cubicBezTo>
                  <a:cubicBezTo>
                    <a:pt x="448" y="349"/>
                    <a:pt x="440" y="266"/>
                    <a:pt x="467" y="205"/>
                  </a:cubicBezTo>
                  <a:cubicBezTo>
                    <a:pt x="494" y="144"/>
                    <a:pt x="552" y="77"/>
                    <a:pt x="611" y="45"/>
                  </a:cubicBezTo>
                  <a:cubicBezTo>
                    <a:pt x="670" y="13"/>
                    <a:pt x="752" y="0"/>
                    <a:pt x="819" y="13"/>
                  </a:cubicBezTo>
                  <a:cubicBezTo>
                    <a:pt x="886" y="26"/>
                    <a:pt x="966" y="82"/>
                    <a:pt x="1011" y="125"/>
                  </a:cubicBezTo>
                  <a:cubicBezTo>
                    <a:pt x="1056" y="168"/>
                    <a:pt x="1064" y="234"/>
                    <a:pt x="1091" y="269"/>
                  </a:cubicBezTo>
                  <a:cubicBezTo>
                    <a:pt x="1118" y="304"/>
                    <a:pt x="1131" y="314"/>
                    <a:pt x="1171" y="333"/>
                  </a:cubicBezTo>
                  <a:cubicBezTo>
                    <a:pt x="1211" y="352"/>
                    <a:pt x="1288" y="357"/>
                    <a:pt x="1331" y="381"/>
                  </a:cubicBezTo>
                  <a:cubicBezTo>
                    <a:pt x="1374" y="405"/>
                    <a:pt x="1400" y="424"/>
                    <a:pt x="1427" y="477"/>
                  </a:cubicBezTo>
                  <a:cubicBezTo>
                    <a:pt x="1454" y="530"/>
                    <a:pt x="1491" y="626"/>
                    <a:pt x="1491" y="701"/>
                  </a:cubicBezTo>
                  <a:cubicBezTo>
                    <a:pt x="1491" y="776"/>
                    <a:pt x="1483" y="874"/>
                    <a:pt x="1427" y="925"/>
                  </a:cubicBezTo>
                  <a:cubicBezTo>
                    <a:pt x="1371" y="976"/>
                    <a:pt x="1243" y="1008"/>
                    <a:pt x="1155" y="1005"/>
                  </a:cubicBezTo>
                  <a:cubicBezTo>
                    <a:pt x="1067" y="1002"/>
                    <a:pt x="960" y="938"/>
                    <a:pt x="899" y="909"/>
                  </a:cubicBezTo>
                  <a:cubicBezTo>
                    <a:pt x="838" y="880"/>
                    <a:pt x="843" y="842"/>
                    <a:pt x="787" y="829"/>
                  </a:cubicBezTo>
                  <a:cubicBezTo>
                    <a:pt x="731" y="816"/>
                    <a:pt x="651" y="802"/>
                    <a:pt x="563" y="829"/>
                  </a:cubicBezTo>
                  <a:cubicBezTo>
                    <a:pt x="475" y="856"/>
                    <a:pt x="355" y="938"/>
                    <a:pt x="259" y="989"/>
                  </a:cubicBezTo>
                  <a:cubicBezTo>
                    <a:pt x="163" y="1040"/>
                    <a:pt x="0" y="1144"/>
                    <a:pt x="19" y="1117"/>
                  </a:cubicBezTo>
                  <a:close/>
                </a:path>
              </a:pathLst>
            </a:custGeom>
            <a:solidFill>
              <a:srgbClr val="a40000"/>
            </a:solid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10"/>
          <p:cNvGrpSpPr/>
          <p:nvPr/>
        </p:nvGrpSpPr>
        <p:grpSpPr>
          <a:xfrm>
            <a:off x="633240" y="4023000"/>
            <a:ext cx="3267360" cy="2609640"/>
            <a:chOff x="633240" y="4023000"/>
            <a:chExt cx="3267360" cy="2609640"/>
          </a:xfrm>
        </p:grpSpPr>
        <p:grpSp>
          <p:nvGrpSpPr>
            <p:cNvPr id="368" name="Group 311"/>
            <p:cNvGrpSpPr/>
            <p:nvPr/>
          </p:nvGrpSpPr>
          <p:grpSpPr>
            <a:xfrm>
              <a:off x="700200" y="4613400"/>
              <a:ext cx="3200400" cy="1979640"/>
              <a:chOff x="700200" y="4613400"/>
              <a:chExt cx="3200400" cy="1979640"/>
            </a:xfrm>
          </p:grpSpPr>
          <p:sp>
            <p:nvSpPr>
              <p:cNvPr id="369" name="AutoShape 312"/>
              <p:cNvSpPr/>
              <p:nvPr/>
            </p:nvSpPr>
            <p:spPr>
              <a:xfrm>
                <a:off x="700200" y="4613400"/>
                <a:ext cx="3200400" cy="1979640"/>
              </a:xfrm>
              <a:prstGeom prst="cube">
                <a:avLst>
                  <a:gd name="adj" fmla="val 72666"/>
                </a:avLst>
              </a:prstGeom>
              <a:blipFill rotWithShape="0">
                <a:blip r:embed="rId26"/>
                <a:srcRect/>
                <a:tile tx="0" ty="0" sx="100000" sy="100000" algn="ctr"/>
              </a:blipFill>
              <a:ln w="2844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313"/>
              <p:cNvSpPr/>
              <p:nvPr/>
            </p:nvSpPr>
            <p:spPr>
              <a:xfrm>
                <a:off x="2431440" y="4633920"/>
                <a:ext cx="1468800" cy="1948680"/>
              </a:xfrm>
              <a:custGeom>
                <a:avLst/>
                <a:gdLst>
                  <a:gd name="textAreaLeft" fmla="*/ 0 w 1468800"/>
                  <a:gd name="textAreaRight" fmla="*/ 1469160 w 1468800"/>
                  <a:gd name="textAreaTop" fmla="*/ 0 h 1948680"/>
                  <a:gd name="textAreaBottom" fmla="*/ 1949040 h 1948680"/>
                </a:gdLst>
                <a:ahLst/>
                <a:rect l="textAreaLeft" t="textAreaTop" r="textAreaRight" b="textAreaBottom"/>
                <a:pathLst>
                  <a:path w="1120" h="1520">
                    <a:moveTo>
                      <a:pt x="0" y="1520"/>
                    </a:moveTo>
                    <a:lnTo>
                      <a:pt x="1120" y="384"/>
                    </a:lnTo>
                    <a:lnTo>
                      <a:pt x="1120" y="0"/>
                    </a:lnTo>
                    <a:lnTo>
                      <a:pt x="0" y="1120"/>
                    </a:lnTo>
                    <a:lnTo>
                      <a:pt x="0" y="1520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314"/>
            <p:cNvGrpSpPr/>
            <p:nvPr/>
          </p:nvGrpSpPr>
          <p:grpSpPr>
            <a:xfrm>
              <a:off x="712800" y="4724640"/>
              <a:ext cx="3187440" cy="1804680"/>
              <a:chOff x="712800" y="4724640"/>
              <a:chExt cx="3187440" cy="1804680"/>
            </a:xfrm>
          </p:grpSpPr>
          <p:sp>
            <p:nvSpPr>
              <p:cNvPr id="372" name="Freeform 315"/>
              <p:cNvSpPr/>
              <p:nvPr/>
            </p:nvSpPr>
            <p:spPr>
              <a:xfrm>
                <a:off x="712800" y="6382080"/>
                <a:ext cx="1707840" cy="5364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302" h="42">
                    <a:moveTo>
                      <a:pt x="3" y="0"/>
                    </a:moveTo>
                    <a:lnTo>
                      <a:pt x="363" y="18"/>
                    </a:lnTo>
                    <a:lnTo>
                      <a:pt x="1302" y="18"/>
                    </a:lnTo>
                    <a:lnTo>
                      <a:pt x="1302" y="36"/>
                    </a:lnTo>
                    <a:lnTo>
                      <a:pt x="219" y="42"/>
                    </a:lnTo>
                    <a:lnTo>
                      <a:pt x="0" y="3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316"/>
              <p:cNvSpPr/>
              <p:nvPr/>
            </p:nvSpPr>
            <p:spPr>
              <a:xfrm>
                <a:off x="712800" y="6212880"/>
                <a:ext cx="1707840" cy="38160"/>
              </a:xfrm>
              <a:custGeom>
                <a:avLst/>
                <a:gdLst>
                  <a:gd name="textAreaLeft" fmla="*/ 0 w 1707840"/>
                  <a:gd name="textAreaRight" fmla="*/ 1708200 w 170784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1302" h="30">
                    <a:moveTo>
                      <a:pt x="0" y="6"/>
                    </a:moveTo>
                    <a:lnTo>
                      <a:pt x="1299" y="0"/>
                    </a:lnTo>
                    <a:lnTo>
                      <a:pt x="1302" y="30"/>
                    </a:lnTo>
                    <a:lnTo>
                      <a:pt x="0" y="3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317"/>
              <p:cNvSpPr/>
              <p:nvPr/>
            </p:nvSpPr>
            <p:spPr>
              <a:xfrm>
                <a:off x="2440080" y="4765320"/>
                <a:ext cx="1460160" cy="1485360"/>
              </a:xfrm>
              <a:custGeom>
                <a:avLst/>
                <a:gdLst>
                  <a:gd name="textAreaLeft" fmla="*/ 0 w 1460160"/>
                  <a:gd name="textAreaRight" fmla="*/ 1460520 w 1460160"/>
                  <a:gd name="textAreaTop" fmla="*/ 0 h 1485360"/>
                  <a:gd name="textAreaBottom" fmla="*/ 1485720 h 1485360"/>
                </a:gdLst>
                <a:ahLst/>
                <a:rect l="textAreaLeft" t="textAreaTop" r="textAreaRight" b="textAreaBottom"/>
                <a:pathLst>
                  <a:path w="1113" h="1158">
                    <a:moveTo>
                      <a:pt x="0" y="1134"/>
                    </a:moveTo>
                    <a:lnTo>
                      <a:pt x="1113" y="0"/>
                    </a:lnTo>
                    <a:lnTo>
                      <a:pt x="1113" y="30"/>
                    </a:lnTo>
                    <a:lnTo>
                      <a:pt x="0" y="1158"/>
                    </a:lnTo>
                    <a:lnTo>
                      <a:pt x="0" y="113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Oval 318"/>
              <p:cNvSpPr/>
              <p:nvPr/>
            </p:nvSpPr>
            <p:spPr>
              <a:xfrm>
                <a:off x="744120" y="614088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Oval 319"/>
              <p:cNvSpPr/>
              <p:nvPr/>
            </p:nvSpPr>
            <p:spPr>
              <a:xfrm>
                <a:off x="2341800" y="61178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320"/>
              <p:cNvSpPr/>
              <p:nvPr/>
            </p:nvSpPr>
            <p:spPr>
              <a:xfrm>
                <a:off x="2349720" y="631008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Oval 321"/>
              <p:cNvSpPr/>
              <p:nvPr/>
            </p:nvSpPr>
            <p:spPr>
              <a:xfrm>
                <a:off x="2349720" y="6479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Oval 322"/>
              <p:cNvSpPr/>
              <p:nvPr/>
            </p:nvSpPr>
            <p:spPr>
              <a:xfrm>
                <a:off x="742680" y="629352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323"/>
              <p:cNvSpPr/>
              <p:nvPr/>
            </p:nvSpPr>
            <p:spPr>
              <a:xfrm>
                <a:off x="758520" y="6493680"/>
                <a:ext cx="35280" cy="35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Oval 324"/>
              <p:cNvSpPr/>
              <p:nvPr/>
            </p:nvSpPr>
            <p:spPr>
              <a:xfrm>
                <a:off x="2444400" y="61099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Oval 325"/>
              <p:cNvSpPr/>
              <p:nvPr/>
            </p:nvSpPr>
            <p:spPr>
              <a:xfrm>
                <a:off x="2444400" y="63180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326"/>
              <p:cNvSpPr/>
              <p:nvPr/>
            </p:nvSpPr>
            <p:spPr>
              <a:xfrm>
                <a:off x="2444400" y="645660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327"/>
              <p:cNvSpPr/>
              <p:nvPr/>
            </p:nvSpPr>
            <p:spPr>
              <a:xfrm>
                <a:off x="3853080" y="50630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328"/>
              <p:cNvSpPr/>
              <p:nvPr/>
            </p:nvSpPr>
            <p:spPr>
              <a:xfrm>
                <a:off x="3853080" y="490932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329"/>
              <p:cNvSpPr/>
              <p:nvPr/>
            </p:nvSpPr>
            <p:spPr>
              <a:xfrm>
                <a:off x="3853080" y="4724640"/>
                <a:ext cx="35280" cy="3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30"/>
              <p:cNvSpPr/>
              <p:nvPr/>
            </p:nvSpPr>
            <p:spPr>
              <a:xfrm>
                <a:off x="2436120" y="4957920"/>
                <a:ext cx="1464120" cy="1477800"/>
              </a:xfrm>
              <a:custGeom>
                <a:avLst/>
                <a:gdLst>
                  <a:gd name="textAreaLeft" fmla="*/ 0 w 1464120"/>
                  <a:gd name="textAreaRight" fmla="*/ 1464480 w 1464120"/>
                  <a:gd name="textAreaTop" fmla="*/ 0 h 1477800"/>
                  <a:gd name="textAreaBottom" fmla="*/ 1478160 h 1477800"/>
                </a:gdLst>
                <a:ahLst/>
                <a:rect l="textAreaLeft" t="textAreaTop" r="textAreaRight" b="textAreaBottom"/>
                <a:pathLst>
                  <a:path w="1116" h="1152">
                    <a:moveTo>
                      <a:pt x="0" y="1116"/>
                    </a:moveTo>
                    <a:lnTo>
                      <a:pt x="1110" y="0"/>
                    </a:lnTo>
                    <a:lnTo>
                      <a:pt x="1116" y="24"/>
                    </a:lnTo>
                    <a:lnTo>
                      <a:pt x="3" y="1152"/>
                    </a:lnTo>
                    <a:lnTo>
                      <a:pt x="0" y="11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c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331"/>
            <p:cNvGrpSpPr/>
            <p:nvPr/>
          </p:nvGrpSpPr>
          <p:grpSpPr>
            <a:xfrm>
              <a:off x="1830600" y="4030200"/>
              <a:ext cx="1467720" cy="1157040"/>
              <a:chOff x="1830600" y="4030200"/>
              <a:chExt cx="1467720" cy="1157040"/>
            </a:xfrm>
          </p:grpSpPr>
          <p:sp>
            <p:nvSpPr>
              <p:cNvPr id="389" name="Freeform 332"/>
              <p:cNvSpPr/>
              <p:nvPr/>
            </p:nvSpPr>
            <p:spPr>
              <a:xfrm rot="14860200">
                <a:off x="2203920" y="39632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333"/>
              <p:cNvSpPr/>
              <p:nvPr/>
            </p:nvSpPr>
            <p:spPr>
              <a:xfrm rot="14860200">
                <a:off x="1851480" y="45662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334"/>
              <p:cNvSpPr/>
              <p:nvPr/>
            </p:nvSpPr>
            <p:spPr>
              <a:xfrm rot="14860200">
                <a:off x="2035440" y="46152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335"/>
              <p:cNvSpPr/>
              <p:nvPr/>
            </p:nvSpPr>
            <p:spPr>
              <a:xfrm rot="14860200">
                <a:off x="2180520" y="46141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336"/>
              <p:cNvSpPr/>
              <p:nvPr/>
            </p:nvSpPr>
            <p:spPr>
              <a:xfrm rot="14860200">
                <a:off x="2184480" y="45820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337"/>
              <p:cNvSpPr/>
              <p:nvPr/>
            </p:nvSpPr>
            <p:spPr>
              <a:xfrm rot="14860200">
                <a:off x="2388240" y="46260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338"/>
              <p:cNvSpPr/>
              <p:nvPr/>
            </p:nvSpPr>
            <p:spPr>
              <a:xfrm rot="16675800">
                <a:off x="2539080" y="46933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339"/>
              <p:cNvSpPr/>
              <p:nvPr/>
            </p:nvSpPr>
            <p:spPr>
              <a:xfrm rot="14860200">
                <a:off x="2788200" y="4620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340"/>
              <p:cNvSpPr/>
              <p:nvPr/>
            </p:nvSpPr>
            <p:spPr>
              <a:xfrm rot="14860200">
                <a:off x="2780280" y="4600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341"/>
              <p:cNvSpPr/>
              <p:nvPr/>
            </p:nvSpPr>
            <p:spPr>
              <a:xfrm rot="14860200">
                <a:off x="2648520" y="46072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Group 342"/>
            <p:cNvGrpSpPr/>
            <p:nvPr/>
          </p:nvGrpSpPr>
          <p:grpSpPr>
            <a:xfrm>
              <a:off x="2031480" y="4582080"/>
              <a:ext cx="1472040" cy="1323720"/>
              <a:chOff x="2031480" y="4582080"/>
              <a:chExt cx="1472040" cy="1323720"/>
            </a:xfrm>
          </p:grpSpPr>
          <p:sp>
            <p:nvSpPr>
              <p:cNvPr id="400" name="Freeform 343"/>
              <p:cNvSpPr/>
              <p:nvPr/>
            </p:nvSpPr>
            <p:spPr>
              <a:xfrm rot="3336600">
                <a:off x="2406960" y="45986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44"/>
              <p:cNvSpPr/>
              <p:nvPr/>
            </p:nvSpPr>
            <p:spPr>
              <a:xfrm rot="3336600">
                <a:off x="3285360" y="506448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45"/>
              <p:cNvSpPr/>
              <p:nvPr/>
            </p:nvSpPr>
            <p:spPr>
              <a:xfrm rot="3336600">
                <a:off x="3092040" y="50227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46"/>
              <p:cNvSpPr/>
              <p:nvPr/>
            </p:nvSpPr>
            <p:spPr>
              <a:xfrm rot="3336600">
                <a:off x="2950200" y="50540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47"/>
              <p:cNvSpPr/>
              <p:nvPr/>
            </p:nvSpPr>
            <p:spPr>
              <a:xfrm rot="3336600">
                <a:off x="3004920" y="51667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8"/>
              <p:cNvSpPr/>
              <p:nvPr/>
            </p:nvSpPr>
            <p:spPr>
              <a:xfrm rot="3336600">
                <a:off x="2798640" y="5186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9"/>
              <p:cNvSpPr/>
              <p:nvPr/>
            </p:nvSpPr>
            <p:spPr>
              <a:xfrm rot="5151600">
                <a:off x="2637000" y="51516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50"/>
              <p:cNvSpPr/>
              <p:nvPr/>
            </p:nvSpPr>
            <p:spPr>
              <a:xfrm rot="3336600">
                <a:off x="2429280" y="5201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51"/>
              <p:cNvSpPr/>
              <p:nvPr/>
            </p:nvSpPr>
            <p:spPr>
              <a:xfrm rot="3336600">
                <a:off x="2441160" y="5219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52"/>
              <p:cNvSpPr/>
              <p:nvPr/>
            </p:nvSpPr>
            <p:spPr>
              <a:xfrm rot="3336600">
                <a:off x="2568240" y="5185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353"/>
            <p:cNvGrpSpPr/>
            <p:nvPr/>
          </p:nvGrpSpPr>
          <p:grpSpPr>
            <a:xfrm>
              <a:off x="1164960" y="5353200"/>
              <a:ext cx="1477800" cy="1279440"/>
              <a:chOff x="1164960" y="5353200"/>
              <a:chExt cx="1477800" cy="1279440"/>
            </a:xfrm>
          </p:grpSpPr>
          <p:sp>
            <p:nvSpPr>
              <p:cNvPr id="411" name="Freeform 354"/>
              <p:cNvSpPr/>
              <p:nvPr/>
            </p:nvSpPr>
            <p:spPr>
              <a:xfrm rot="3555000">
                <a:off x="1543320" y="53474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355"/>
              <p:cNvSpPr/>
              <p:nvPr/>
            </p:nvSpPr>
            <p:spPr>
              <a:xfrm rot="3555000">
                <a:off x="2428920" y="585288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32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56"/>
              <p:cNvSpPr/>
              <p:nvPr/>
            </p:nvSpPr>
            <p:spPr>
              <a:xfrm rot="3555000">
                <a:off x="2237400" y="57988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57"/>
              <p:cNvSpPr/>
              <p:nvPr/>
            </p:nvSpPr>
            <p:spPr>
              <a:xfrm rot="3555000">
                <a:off x="2093760" y="58208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58"/>
              <p:cNvSpPr/>
              <p:nvPr/>
            </p:nvSpPr>
            <p:spPr>
              <a:xfrm rot="3555000">
                <a:off x="2144160" y="59353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59"/>
              <p:cNvSpPr/>
              <p:nvPr/>
            </p:nvSpPr>
            <p:spPr>
              <a:xfrm rot="3555000">
                <a:off x="1937880" y="59418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60"/>
              <p:cNvSpPr/>
              <p:nvPr/>
            </p:nvSpPr>
            <p:spPr>
              <a:xfrm rot="5370000">
                <a:off x="1778760" y="5897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61"/>
              <p:cNvSpPr/>
              <p:nvPr/>
            </p:nvSpPr>
            <p:spPr>
              <a:xfrm rot="3555000">
                <a:off x="1566000" y="5932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62"/>
              <p:cNvSpPr/>
              <p:nvPr/>
            </p:nvSpPr>
            <p:spPr>
              <a:xfrm rot="3555000">
                <a:off x="1577160" y="5951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63"/>
              <p:cNvSpPr/>
              <p:nvPr/>
            </p:nvSpPr>
            <p:spPr>
              <a:xfrm rot="3555000">
                <a:off x="1706040" y="5925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364"/>
            <p:cNvGrpSpPr/>
            <p:nvPr/>
          </p:nvGrpSpPr>
          <p:grpSpPr>
            <a:xfrm>
              <a:off x="1636920" y="4907880"/>
              <a:ext cx="1448280" cy="1077840"/>
              <a:chOff x="1636920" y="4907880"/>
              <a:chExt cx="1448280" cy="1077840"/>
            </a:xfrm>
          </p:grpSpPr>
          <p:sp>
            <p:nvSpPr>
              <p:cNvPr id="422" name="Freeform 365"/>
              <p:cNvSpPr/>
              <p:nvPr/>
            </p:nvSpPr>
            <p:spPr>
              <a:xfrm rot="4341600">
                <a:off x="2000520" y="48013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366"/>
              <p:cNvSpPr/>
              <p:nvPr/>
            </p:nvSpPr>
            <p:spPr>
              <a:xfrm rot="4341600">
                <a:off x="2891520" y="54486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367"/>
              <p:cNvSpPr/>
              <p:nvPr/>
            </p:nvSpPr>
            <p:spPr>
              <a:xfrm rot="4341600">
                <a:off x="2713320" y="53521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8"/>
              <p:cNvSpPr/>
              <p:nvPr/>
            </p:nvSpPr>
            <p:spPr>
              <a:xfrm rot="4341600">
                <a:off x="2568600" y="53409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9"/>
              <p:cNvSpPr/>
              <p:nvPr/>
            </p:nvSpPr>
            <p:spPr>
              <a:xfrm rot="4341600">
                <a:off x="2602080" y="54604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70"/>
              <p:cNvSpPr/>
              <p:nvPr/>
            </p:nvSpPr>
            <p:spPr>
              <a:xfrm rot="4341600">
                <a:off x="2401920" y="5420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71"/>
              <p:cNvSpPr/>
              <p:nvPr/>
            </p:nvSpPr>
            <p:spPr>
              <a:xfrm rot="6156600">
                <a:off x="2256840" y="53406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72"/>
              <p:cNvSpPr/>
              <p:nvPr/>
            </p:nvSpPr>
            <p:spPr>
              <a:xfrm rot="4341600">
                <a:off x="2034000" y="5322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73"/>
              <p:cNvSpPr/>
              <p:nvPr/>
            </p:nvSpPr>
            <p:spPr>
              <a:xfrm rot="4341600">
                <a:off x="2040480" y="534312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74"/>
              <p:cNvSpPr/>
              <p:nvPr/>
            </p:nvSpPr>
            <p:spPr>
              <a:xfrm rot="4341600">
                <a:off x="2172240" y="53470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375"/>
            <p:cNvGrpSpPr/>
            <p:nvPr/>
          </p:nvGrpSpPr>
          <p:grpSpPr>
            <a:xfrm>
              <a:off x="1500480" y="4995360"/>
              <a:ext cx="1467720" cy="1157040"/>
              <a:chOff x="1500480" y="4995360"/>
              <a:chExt cx="1467720" cy="1157040"/>
            </a:xfrm>
          </p:grpSpPr>
          <p:sp>
            <p:nvSpPr>
              <p:cNvPr id="433" name="Freeform 376"/>
              <p:cNvSpPr/>
              <p:nvPr/>
            </p:nvSpPr>
            <p:spPr>
              <a:xfrm rot="14860200">
                <a:off x="1873800" y="49284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377"/>
              <p:cNvSpPr/>
              <p:nvPr/>
            </p:nvSpPr>
            <p:spPr>
              <a:xfrm rot="14860200">
                <a:off x="1521360" y="55314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378"/>
              <p:cNvSpPr/>
              <p:nvPr/>
            </p:nvSpPr>
            <p:spPr>
              <a:xfrm rot="14860200">
                <a:off x="1705320" y="55803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79"/>
              <p:cNvSpPr/>
              <p:nvPr/>
            </p:nvSpPr>
            <p:spPr>
              <a:xfrm rot="14860200">
                <a:off x="1850400" y="55792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380"/>
              <p:cNvSpPr/>
              <p:nvPr/>
            </p:nvSpPr>
            <p:spPr>
              <a:xfrm rot="14860200">
                <a:off x="1854360" y="554724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381"/>
              <p:cNvSpPr/>
              <p:nvPr/>
            </p:nvSpPr>
            <p:spPr>
              <a:xfrm rot="14860200">
                <a:off x="2058120" y="55911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382"/>
              <p:cNvSpPr/>
              <p:nvPr/>
            </p:nvSpPr>
            <p:spPr>
              <a:xfrm rot="16675800">
                <a:off x="2208960" y="56584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383"/>
              <p:cNvSpPr/>
              <p:nvPr/>
            </p:nvSpPr>
            <p:spPr>
              <a:xfrm rot="14860200">
                <a:off x="2458080" y="55854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384"/>
              <p:cNvSpPr/>
              <p:nvPr/>
            </p:nvSpPr>
            <p:spPr>
              <a:xfrm rot="14860200">
                <a:off x="2450160" y="5565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385"/>
              <p:cNvSpPr/>
              <p:nvPr/>
            </p:nvSpPr>
            <p:spPr>
              <a:xfrm rot="14860200">
                <a:off x="2318400" y="5572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Group 386"/>
            <p:cNvGrpSpPr/>
            <p:nvPr/>
          </p:nvGrpSpPr>
          <p:grpSpPr>
            <a:xfrm>
              <a:off x="633240" y="5200200"/>
              <a:ext cx="1474920" cy="1204200"/>
              <a:chOff x="633240" y="5200200"/>
              <a:chExt cx="1474920" cy="1204200"/>
            </a:xfrm>
          </p:grpSpPr>
          <p:sp>
            <p:nvSpPr>
              <p:cNvPr id="444" name="Freeform 387"/>
              <p:cNvSpPr/>
              <p:nvPr/>
            </p:nvSpPr>
            <p:spPr>
              <a:xfrm rot="14677800">
                <a:off x="1010160" y="51570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8"/>
              <p:cNvSpPr/>
              <p:nvPr/>
            </p:nvSpPr>
            <p:spPr>
              <a:xfrm rot="14677800">
                <a:off x="658440" y="579312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9"/>
              <p:cNvSpPr/>
              <p:nvPr/>
            </p:nvSpPr>
            <p:spPr>
              <a:xfrm rot="14677800">
                <a:off x="846000" y="58320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90"/>
              <p:cNvSpPr/>
              <p:nvPr/>
            </p:nvSpPr>
            <p:spPr>
              <a:xfrm rot="14677800">
                <a:off x="990720" y="58233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91"/>
              <p:cNvSpPr/>
              <p:nvPr/>
            </p:nvSpPr>
            <p:spPr>
              <a:xfrm rot="14677800">
                <a:off x="990360" y="579240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92"/>
              <p:cNvSpPr/>
              <p:nvPr/>
            </p:nvSpPr>
            <p:spPr>
              <a:xfrm rot="14677800">
                <a:off x="1195920" y="5825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93"/>
              <p:cNvSpPr/>
              <p:nvPr/>
            </p:nvSpPr>
            <p:spPr>
              <a:xfrm rot="16492800">
                <a:off x="1350000" y="58849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394"/>
              <p:cNvSpPr/>
              <p:nvPr/>
            </p:nvSpPr>
            <p:spPr>
              <a:xfrm rot="14677800">
                <a:off x="1597320" y="5799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395"/>
              <p:cNvSpPr/>
              <p:nvPr/>
            </p:nvSpPr>
            <p:spPr>
              <a:xfrm rot="14677800">
                <a:off x="1587960" y="57798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396"/>
              <p:cNvSpPr/>
              <p:nvPr/>
            </p:nvSpPr>
            <p:spPr>
              <a:xfrm rot="14677800">
                <a:off x="1456920" y="57938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397"/>
            <p:cNvGrpSpPr/>
            <p:nvPr/>
          </p:nvGrpSpPr>
          <p:grpSpPr>
            <a:xfrm>
              <a:off x="1779840" y="4309560"/>
              <a:ext cx="1467720" cy="1157040"/>
              <a:chOff x="1779840" y="4309560"/>
              <a:chExt cx="1467720" cy="1157040"/>
            </a:xfrm>
          </p:grpSpPr>
          <p:sp>
            <p:nvSpPr>
              <p:cNvPr id="455" name="Freeform 398"/>
              <p:cNvSpPr/>
              <p:nvPr/>
            </p:nvSpPr>
            <p:spPr>
              <a:xfrm rot="14860200">
                <a:off x="2153160" y="424260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399"/>
              <p:cNvSpPr/>
              <p:nvPr/>
            </p:nvSpPr>
            <p:spPr>
              <a:xfrm rot="14860200">
                <a:off x="1800720" y="48456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400"/>
              <p:cNvSpPr/>
              <p:nvPr/>
            </p:nvSpPr>
            <p:spPr>
              <a:xfrm rot="14860200">
                <a:off x="1984680" y="48945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401"/>
              <p:cNvSpPr/>
              <p:nvPr/>
            </p:nvSpPr>
            <p:spPr>
              <a:xfrm rot="14860200">
                <a:off x="2129760" y="48934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402"/>
              <p:cNvSpPr/>
              <p:nvPr/>
            </p:nvSpPr>
            <p:spPr>
              <a:xfrm rot="14860200">
                <a:off x="2133720" y="486144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403"/>
              <p:cNvSpPr/>
              <p:nvPr/>
            </p:nvSpPr>
            <p:spPr>
              <a:xfrm rot="14860200">
                <a:off x="2337480" y="49053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404"/>
              <p:cNvSpPr/>
              <p:nvPr/>
            </p:nvSpPr>
            <p:spPr>
              <a:xfrm rot="16675800">
                <a:off x="2488320" y="4972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405"/>
              <p:cNvSpPr/>
              <p:nvPr/>
            </p:nvSpPr>
            <p:spPr>
              <a:xfrm rot="14860200">
                <a:off x="2737440" y="48996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406"/>
              <p:cNvSpPr/>
              <p:nvPr/>
            </p:nvSpPr>
            <p:spPr>
              <a:xfrm rot="14860200">
                <a:off x="2729520" y="48798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407"/>
              <p:cNvSpPr/>
              <p:nvPr/>
            </p:nvSpPr>
            <p:spPr>
              <a:xfrm rot="14860200">
                <a:off x="2597760" y="4886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Group 408"/>
            <p:cNvGrpSpPr/>
            <p:nvPr/>
          </p:nvGrpSpPr>
          <p:grpSpPr>
            <a:xfrm>
              <a:off x="1348200" y="4487400"/>
              <a:ext cx="1467720" cy="1157040"/>
              <a:chOff x="1348200" y="4487400"/>
              <a:chExt cx="1467720" cy="1157040"/>
            </a:xfrm>
          </p:grpSpPr>
          <p:sp>
            <p:nvSpPr>
              <p:cNvPr id="466" name="Freeform 409"/>
              <p:cNvSpPr/>
              <p:nvPr/>
            </p:nvSpPr>
            <p:spPr>
              <a:xfrm rot="14860200">
                <a:off x="1721520" y="442044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10"/>
              <p:cNvSpPr/>
              <p:nvPr/>
            </p:nvSpPr>
            <p:spPr>
              <a:xfrm rot="14860200">
                <a:off x="1369080" y="50234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11"/>
              <p:cNvSpPr/>
              <p:nvPr/>
            </p:nvSpPr>
            <p:spPr>
              <a:xfrm rot="14860200">
                <a:off x="1553040" y="50724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12"/>
              <p:cNvSpPr/>
              <p:nvPr/>
            </p:nvSpPr>
            <p:spPr>
              <a:xfrm rot="14860200">
                <a:off x="1698120" y="50713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413"/>
              <p:cNvSpPr/>
              <p:nvPr/>
            </p:nvSpPr>
            <p:spPr>
              <a:xfrm rot="14860200">
                <a:off x="1702080" y="5039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14"/>
              <p:cNvSpPr/>
              <p:nvPr/>
            </p:nvSpPr>
            <p:spPr>
              <a:xfrm rot="14860200">
                <a:off x="1905840" y="508320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415"/>
              <p:cNvSpPr/>
              <p:nvPr/>
            </p:nvSpPr>
            <p:spPr>
              <a:xfrm rot="16675800">
                <a:off x="2056680" y="5150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16"/>
              <p:cNvSpPr/>
              <p:nvPr/>
            </p:nvSpPr>
            <p:spPr>
              <a:xfrm rot="14860200">
                <a:off x="2305800" y="50774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417"/>
              <p:cNvSpPr/>
              <p:nvPr/>
            </p:nvSpPr>
            <p:spPr>
              <a:xfrm rot="14860200">
                <a:off x="2297880" y="50576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418"/>
              <p:cNvSpPr/>
              <p:nvPr/>
            </p:nvSpPr>
            <p:spPr>
              <a:xfrm rot="14860200">
                <a:off x="2166120" y="506448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19"/>
            <p:cNvGrpSpPr/>
            <p:nvPr/>
          </p:nvGrpSpPr>
          <p:grpSpPr>
            <a:xfrm>
              <a:off x="2500200" y="4115880"/>
              <a:ext cx="1400040" cy="1440720"/>
              <a:chOff x="2500200" y="4115880"/>
              <a:chExt cx="1400040" cy="1440720"/>
            </a:xfrm>
          </p:grpSpPr>
          <p:sp>
            <p:nvSpPr>
              <p:cNvPr id="477" name="Freeform 420"/>
              <p:cNvSpPr/>
              <p:nvPr/>
            </p:nvSpPr>
            <p:spPr>
              <a:xfrm rot="2526600">
                <a:off x="2839680" y="419076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421"/>
              <p:cNvSpPr/>
              <p:nvPr/>
            </p:nvSpPr>
            <p:spPr>
              <a:xfrm rot="2526600">
                <a:off x="3670200" y="451872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422"/>
              <p:cNvSpPr/>
              <p:nvPr/>
            </p:nvSpPr>
            <p:spPr>
              <a:xfrm rot="2526600">
                <a:off x="3475800" y="45230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423"/>
              <p:cNvSpPr/>
              <p:nvPr/>
            </p:nvSpPr>
            <p:spPr>
              <a:xfrm rot="2526600">
                <a:off x="3345120" y="45864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424"/>
              <p:cNvSpPr/>
              <p:nvPr/>
            </p:nvSpPr>
            <p:spPr>
              <a:xfrm rot="2526600">
                <a:off x="3415680" y="468936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25"/>
              <p:cNvSpPr/>
              <p:nvPr/>
            </p:nvSpPr>
            <p:spPr>
              <a:xfrm rot="2526600">
                <a:off x="3217320" y="475704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26"/>
              <p:cNvSpPr/>
              <p:nvPr/>
            </p:nvSpPr>
            <p:spPr>
              <a:xfrm rot="4341600">
                <a:off x="3052080" y="47613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27"/>
              <p:cNvSpPr/>
              <p:nvPr/>
            </p:nvSpPr>
            <p:spPr>
              <a:xfrm rot="2526600">
                <a:off x="2870280" y="48600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8"/>
              <p:cNvSpPr/>
              <p:nvPr/>
            </p:nvSpPr>
            <p:spPr>
              <a:xfrm rot="2526600">
                <a:off x="2886480" y="48747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9"/>
              <p:cNvSpPr/>
              <p:nvPr/>
            </p:nvSpPr>
            <p:spPr>
              <a:xfrm rot="2526600">
                <a:off x="3002040" y="48117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430"/>
            <p:cNvGrpSpPr/>
            <p:nvPr/>
          </p:nvGrpSpPr>
          <p:grpSpPr>
            <a:xfrm>
              <a:off x="815040" y="5191920"/>
              <a:ext cx="1365480" cy="865440"/>
              <a:chOff x="815040" y="5191920"/>
              <a:chExt cx="1365480" cy="865440"/>
            </a:xfrm>
          </p:grpSpPr>
          <p:sp>
            <p:nvSpPr>
              <p:cNvPr id="488" name="Freeform 431"/>
              <p:cNvSpPr/>
              <p:nvPr/>
            </p:nvSpPr>
            <p:spPr>
              <a:xfrm rot="15800400">
                <a:off x="1137240" y="497916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432"/>
              <p:cNvSpPr/>
              <p:nvPr/>
            </p:nvSpPr>
            <p:spPr>
              <a:xfrm rot="15800400">
                <a:off x="807120" y="54140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433"/>
              <p:cNvSpPr/>
              <p:nvPr/>
            </p:nvSpPr>
            <p:spPr>
              <a:xfrm rot="15800400">
                <a:off x="966600" y="551016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434"/>
              <p:cNvSpPr/>
              <p:nvPr/>
            </p:nvSpPr>
            <p:spPr>
              <a:xfrm rot="15800400">
                <a:off x="1106640" y="55486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435"/>
              <p:cNvSpPr/>
              <p:nvPr/>
            </p:nvSpPr>
            <p:spPr>
              <a:xfrm rot="15800400">
                <a:off x="1131120" y="551412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436"/>
              <p:cNvSpPr/>
              <p:nvPr/>
            </p:nvSpPr>
            <p:spPr>
              <a:xfrm rot="15800400">
                <a:off x="1318320" y="5611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437"/>
              <p:cNvSpPr/>
              <p:nvPr/>
            </p:nvSpPr>
            <p:spPr>
              <a:xfrm rot="17616000">
                <a:off x="1445400" y="57175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438"/>
              <p:cNvSpPr/>
              <p:nvPr/>
            </p:nvSpPr>
            <p:spPr>
              <a:xfrm rot="15800400">
                <a:off x="1695960" y="5709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439"/>
              <p:cNvSpPr/>
              <p:nvPr/>
            </p:nvSpPr>
            <p:spPr>
              <a:xfrm rot="15800400">
                <a:off x="1693440" y="56880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440"/>
              <p:cNvSpPr/>
              <p:nvPr/>
            </p:nvSpPr>
            <p:spPr>
              <a:xfrm rot="15800400">
                <a:off x="1564920" y="5659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441"/>
            <p:cNvGrpSpPr/>
            <p:nvPr/>
          </p:nvGrpSpPr>
          <p:grpSpPr>
            <a:xfrm>
              <a:off x="1195920" y="5014080"/>
              <a:ext cx="1365480" cy="865440"/>
              <a:chOff x="1195920" y="5014080"/>
              <a:chExt cx="1365480" cy="865440"/>
            </a:xfrm>
          </p:grpSpPr>
          <p:sp>
            <p:nvSpPr>
              <p:cNvPr id="499" name="Freeform 442"/>
              <p:cNvSpPr/>
              <p:nvPr/>
            </p:nvSpPr>
            <p:spPr>
              <a:xfrm rot="15800400">
                <a:off x="1518120" y="48013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443"/>
              <p:cNvSpPr/>
              <p:nvPr/>
            </p:nvSpPr>
            <p:spPr>
              <a:xfrm rot="15800400">
                <a:off x="1188000" y="52362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44"/>
              <p:cNvSpPr/>
              <p:nvPr/>
            </p:nvSpPr>
            <p:spPr>
              <a:xfrm rot="15800400">
                <a:off x="1347480" y="53323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45"/>
              <p:cNvSpPr/>
              <p:nvPr/>
            </p:nvSpPr>
            <p:spPr>
              <a:xfrm rot="15800400">
                <a:off x="1487520" y="53708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46"/>
              <p:cNvSpPr/>
              <p:nvPr/>
            </p:nvSpPr>
            <p:spPr>
              <a:xfrm rot="15800400">
                <a:off x="1512000" y="5336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47"/>
              <p:cNvSpPr/>
              <p:nvPr/>
            </p:nvSpPr>
            <p:spPr>
              <a:xfrm rot="15800400">
                <a:off x="1699200" y="543384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8"/>
              <p:cNvSpPr/>
              <p:nvPr/>
            </p:nvSpPr>
            <p:spPr>
              <a:xfrm rot="17616000">
                <a:off x="1826280" y="55396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9"/>
              <p:cNvSpPr/>
              <p:nvPr/>
            </p:nvSpPr>
            <p:spPr>
              <a:xfrm rot="15800400">
                <a:off x="2076840" y="55314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50"/>
              <p:cNvSpPr/>
              <p:nvPr/>
            </p:nvSpPr>
            <p:spPr>
              <a:xfrm rot="15800400">
                <a:off x="2074320" y="5510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451"/>
              <p:cNvSpPr/>
              <p:nvPr/>
            </p:nvSpPr>
            <p:spPr>
              <a:xfrm rot="15800400">
                <a:off x="1945800" y="54813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Group 452"/>
            <p:cNvGrpSpPr/>
            <p:nvPr/>
          </p:nvGrpSpPr>
          <p:grpSpPr>
            <a:xfrm>
              <a:off x="1818360" y="4379040"/>
              <a:ext cx="1190160" cy="1473120"/>
              <a:chOff x="1818360" y="4379040"/>
              <a:chExt cx="1190160" cy="1473120"/>
            </a:xfrm>
          </p:grpSpPr>
          <p:sp>
            <p:nvSpPr>
              <p:cNvPr id="510" name="Freeform 453"/>
              <p:cNvSpPr/>
              <p:nvPr/>
            </p:nvSpPr>
            <p:spPr>
              <a:xfrm rot="12267000">
                <a:off x="2052720" y="4470120"/>
                <a:ext cx="720720" cy="129060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600"/>
                  <a:gd name="textAreaBottom" fmla="*/ 1290960 h 129060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454"/>
              <p:cNvSpPr/>
              <p:nvPr/>
            </p:nvSpPr>
            <p:spPr>
              <a:xfrm rot="12267000">
                <a:off x="1871280" y="549864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455"/>
              <p:cNvSpPr/>
              <p:nvPr/>
            </p:nvSpPr>
            <p:spPr>
              <a:xfrm rot="12267000">
                <a:off x="2050200" y="540360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456"/>
              <p:cNvSpPr/>
              <p:nvPr/>
            </p:nvSpPr>
            <p:spPr>
              <a:xfrm rot="12267000">
                <a:off x="2155320" y="530352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457"/>
              <p:cNvSpPr/>
              <p:nvPr/>
            </p:nvSpPr>
            <p:spPr>
              <a:xfrm rot="12267000">
                <a:off x="2112480" y="53038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458"/>
              <p:cNvSpPr/>
              <p:nvPr/>
            </p:nvSpPr>
            <p:spPr>
              <a:xfrm rot="12267000">
                <a:off x="2284200" y="519948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459"/>
              <p:cNvSpPr/>
              <p:nvPr/>
            </p:nvSpPr>
            <p:spPr>
              <a:xfrm rot="14082000">
                <a:off x="2440080" y="51451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460"/>
              <p:cNvSpPr/>
              <p:nvPr/>
            </p:nvSpPr>
            <p:spPr>
              <a:xfrm rot="12267000">
                <a:off x="2600640" y="4921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461"/>
              <p:cNvSpPr/>
              <p:nvPr/>
            </p:nvSpPr>
            <p:spPr>
              <a:xfrm rot="12267000">
                <a:off x="2580840" y="4912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462"/>
              <p:cNvSpPr/>
              <p:nvPr/>
            </p:nvSpPr>
            <p:spPr>
              <a:xfrm rot="12267000">
                <a:off x="2489760" y="500724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0" name="Group 463"/>
            <p:cNvGrpSpPr/>
            <p:nvPr/>
          </p:nvGrpSpPr>
          <p:grpSpPr>
            <a:xfrm>
              <a:off x="1966320" y="4023000"/>
              <a:ext cx="1198080" cy="1474560"/>
              <a:chOff x="1966320" y="4023000"/>
              <a:chExt cx="1198080" cy="1474560"/>
            </a:xfrm>
          </p:grpSpPr>
          <p:sp>
            <p:nvSpPr>
              <p:cNvPr id="521" name="Freeform 464"/>
              <p:cNvSpPr/>
              <p:nvPr/>
            </p:nvSpPr>
            <p:spPr>
              <a:xfrm rot="1497600">
                <a:off x="2204640" y="4114440"/>
                <a:ext cx="720720" cy="1290960"/>
              </a:xfrm>
              <a:custGeom>
                <a:avLst/>
                <a:gdLst>
                  <a:gd name="textAreaLeft" fmla="*/ 0 w 720720"/>
                  <a:gd name="textAreaRight" fmla="*/ 721080 w 720720"/>
                  <a:gd name="textAreaTop" fmla="*/ 0 h 1290960"/>
                  <a:gd name="textAreaBottom" fmla="*/ 1291320 h 1290960"/>
                </a:gdLst>
                <a:ahLst/>
                <a:rect l="textAreaLeft" t="textAreaTop" r="textAreaRight" b="textAreaBottom"/>
                <a:pathLst>
                  <a:path w="1062" h="1997">
                    <a:moveTo>
                      <a:pt x="67" y="1736"/>
                    </a:moveTo>
                    <a:cubicBezTo>
                      <a:pt x="134" y="1475"/>
                      <a:pt x="419" y="560"/>
                      <a:pt x="531" y="280"/>
                    </a:cubicBezTo>
                    <a:cubicBezTo>
                      <a:pt x="643" y="0"/>
                      <a:pt x="656" y="75"/>
                      <a:pt x="739" y="56"/>
                    </a:cubicBezTo>
                    <a:cubicBezTo>
                      <a:pt x="822" y="37"/>
                      <a:pt x="992" y="109"/>
                      <a:pt x="1027" y="168"/>
                    </a:cubicBezTo>
                    <a:cubicBezTo>
                      <a:pt x="1062" y="227"/>
                      <a:pt x="1051" y="205"/>
                      <a:pt x="947" y="408"/>
                    </a:cubicBezTo>
                    <a:cubicBezTo>
                      <a:pt x="843" y="611"/>
                      <a:pt x="539" y="1144"/>
                      <a:pt x="403" y="1384"/>
                    </a:cubicBezTo>
                    <a:cubicBezTo>
                      <a:pt x="267" y="1624"/>
                      <a:pt x="190" y="1789"/>
                      <a:pt x="131" y="1848"/>
                    </a:cubicBezTo>
                    <a:cubicBezTo>
                      <a:pt x="72" y="1907"/>
                      <a:pt x="0" y="1997"/>
                      <a:pt x="67" y="1736"/>
                    </a:cubicBezTo>
                    <a:close/>
                  </a:path>
                </a:pathLst>
              </a:custGeom>
              <a:solidFill>
                <a:srgbClr val="ff66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65"/>
              <p:cNvSpPr/>
              <p:nvPr/>
            </p:nvSpPr>
            <p:spPr>
              <a:xfrm rot="1497600">
                <a:off x="2930400" y="4289400"/>
                <a:ext cx="180360" cy="9108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91080"/>
                  <a:gd name="textAreaBottom" fmla="*/ 91440 h 91080"/>
                </a:gdLst>
                <a:ahLst/>
                <a:rect l="textAreaLeft" t="textAreaTop" r="textAreaRight" b="textAreaBottom"/>
                <a:pathLst>
                  <a:path w="266" h="141">
                    <a:moveTo>
                      <a:pt x="5" y="13"/>
                    </a:moveTo>
                    <a:cubicBezTo>
                      <a:pt x="10" y="26"/>
                      <a:pt x="122" y="109"/>
                      <a:pt x="165" y="125"/>
                    </a:cubicBezTo>
                    <a:cubicBezTo>
                      <a:pt x="208" y="141"/>
                      <a:pt x="266" y="122"/>
                      <a:pt x="261" y="109"/>
                    </a:cubicBezTo>
                    <a:cubicBezTo>
                      <a:pt x="256" y="96"/>
                      <a:pt x="176" y="58"/>
                      <a:pt x="133" y="45"/>
                    </a:cubicBezTo>
                    <a:cubicBezTo>
                      <a:pt x="90" y="32"/>
                      <a:pt x="0" y="0"/>
                      <a:pt x="5" y="13"/>
                    </a:cubicBezTo>
                    <a:close/>
                  </a:path>
                </a:pathLst>
              </a:custGeom>
              <a:solidFill>
                <a:srgbClr val="1f497d"/>
              </a:solid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66"/>
              <p:cNvSpPr/>
              <p:nvPr/>
            </p:nvSpPr>
            <p:spPr>
              <a:xfrm rot="1497600">
                <a:off x="2751120" y="434988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67"/>
              <p:cNvSpPr/>
              <p:nvPr/>
            </p:nvSpPr>
            <p:spPr>
              <a:xfrm rot="1497600">
                <a:off x="2644920" y="4449240"/>
                <a:ext cx="180360" cy="123840"/>
              </a:xfrm>
              <a:custGeom>
                <a:avLst/>
                <a:gdLst>
                  <a:gd name="textAreaLeft" fmla="*/ 0 w 180360"/>
                  <a:gd name="textAreaRight" fmla="*/ 180720 w 180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266" h="192">
                    <a:moveTo>
                      <a:pt x="13" y="13"/>
                    </a:moveTo>
                    <a:cubicBezTo>
                      <a:pt x="26" y="26"/>
                      <a:pt x="53" y="114"/>
                      <a:pt x="93" y="141"/>
                    </a:cubicBezTo>
                    <a:cubicBezTo>
                      <a:pt x="133" y="168"/>
                      <a:pt x="240" y="165"/>
                      <a:pt x="253" y="173"/>
                    </a:cubicBezTo>
                    <a:cubicBezTo>
                      <a:pt x="266" y="181"/>
                      <a:pt x="202" y="192"/>
                      <a:pt x="173" y="189"/>
                    </a:cubicBezTo>
                    <a:cubicBezTo>
                      <a:pt x="144" y="186"/>
                      <a:pt x="104" y="178"/>
                      <a:pt x="77" y="157"/>
                    </a:cubicBezTo>
                    <a:cubicBezTo>
                      <a:pt x="50" y="136"/>
                      <a:pt x="21" y="85"/>
                      <a:pt x="13" y="61"/>
                    </a:cubicBezTo>
                    <a:cubicBezTo>
                      <a:pt x="5" y="37"/>
                      <a:pt x="0" y="0"/>
                      <a:pt x="13" y="13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8"/>
              <p:cNvSpPr/>
              <p:nvPr/>
            </p:nvSpPr>
            <p:spPr>
              <a:xfrm rot="1497600">
                <a:off x="2730240" y="4535280"/>
                <a:ext cx="137160" cy="3816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9"/>
              <p:cNvSpPr/>
              <p:nvPr/>
            </p:nvSpPr>
            <p:spPr>
              <a:xfrm rot="1497600">
                <a:off x="2557800" y="465876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70"/>
              <p:cNvSpPr/>
              <p:nvPr/>
            </p:nvSpPr>
            <p:spPr>
              <a:xfrm rot="3313200">
                <a:off x="2401200" y="4711320"/>
                <a:ext cx="137160" cy="18000"/>
              </a:xfrm>
              <a:custGeom>
                <a:avLst/>
                <a:gdLst>
                  <a:gd name="textAreaLeft" fmla="*/ 0 w 137160"/>
                  <a:gd name="textAreaRight" fmla="*/ 137520 w 1371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02" h="59">
                    <a:moveTo>
                      <a:pt x="13" y="8"/>
                    </a:moveTo>
                    <a:cubicBezTo>
                      <a:pt x="8" y="0"/>
                      <a:pt x="0" y="3"/>
                      <a:pt x="29" y="8"/>
                    </a:cubicBezTo>
                    <a:cubicBezTo>
                      <a:pt x="58" y="13"/>
                      <a:pt x="176" y="32"/>
                      <a:pt x="189" y="40"/>
                    </a:cubicBezTo>
                    <a:cubicBezTo>
                      <a:pt x="202" y="48"/>
                      <a:pt x="138" y="59"/>
                      <a:pt x="109" y="56"/>
                    </a:cubicBezTo>
                    <a:cubicBezTo>
                      <a:pt x="80" y="53"/>
                      <a:pt x="21" y="24"/>
                      <a:pt x="13" y="24"/>
                    </a:cubicBezTo>
                    <a:cubicBezTo>
                      <a:pt x="5" y="24"/>
                      <a:pt x="61" y="59"/>
                      <a:pt x="61" y="56"/>
                    </a:cubicBezTo>
                    <a:cubicBezTo>
                      <a:pt x="61" y="53"/>
                      <a:pt x="18" y="16"/>
                      <a:pt x="13" y="8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71"/>
              <p:cNvSpPr/>
              <p:nvPr/>
            </p:nvSpPr>
            <p:spPr>
              <a:xfrm rot="1497600">
                <a:off x="2268000" y="4862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72"/>
              <p:cNvSpPr/>
              <p:nvPr/>
            </p:nvSpPr>
            <p:spPr>
              <a:xfrm rot="1497600">
                <a:off x="2287800" y="487116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473"/>
              <p:cNvSpPr/>
              <p:nvPr/>
            </p:nvSpPr>
            <p:spPr>
              <a:xfrm rot="1497600">
                <a:off x="2379600" y="4777200"/>
                <a:ext cx="108360" cy="89640"/>
              </a:xfrm>
              <a:custGeom>
                <a:avLst/>
                <a:gdLst>
                  <a:gd name="textAreaLeft" fmla="*/ 0 w 108360"/>
                  <a:gd name="textAreaRight" fmla="*/ 108720 w 1083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160" h="139">
                    <a:moveTo>
                      <a:pt x="10" y="10"/>
                    </a:moveTo>
                    <a:cubicBezTo>
                      <a:pt x="7" y="4"/>
                      <a:pt x="0" y="0"/>
                      <a:pt x="23" y="18"/>
                    </a:cubicBezTo>
                    <a:cubicBezTo>
                      <a:pt x="47" y="34"/>
                      <a:pt x="148" y="99"/>
                      <a:pt x="154" y="111"/>
                    </a:cubicBezTo>
                    <a:cubicBezTo>
                      <a:pt x="160" y="123"/>
                      <a:pt x="82" y="106"/>
                      <a:pt x="57" y="90"/>
                    </a:cubicBezTo>
                    <a:cubicBezTo>
                      <a:pt x="32" y="74"/>
                      <a:pt x="11" y="8"/>
                      <a:pt x="6" y="16"/>
                    </a:cubicBezTo>
                    <a:cubicBezTo>
                      <a:pt x="1" y="24"/>
                      <a:pt x="24" y="139"/>
                      <a:pt x="25" y="138"/>
                    </a:cubicBezTo>
                    <a:cubicBezTo>
                      <a:pt x="26" y="137"/>
                      <a:pt x="13" y="37"/>
                      <a:pt x="10" y="10"/>
                    </a:cubicBezTo>
                    <a:close/>
                  </a:path>
                </a:pathLst>
              </a:custGeom>
              <a:solidFill>
                <a:srgbClr val="cc3300"/>
              </a:solidFill>
              <a:ln w="936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Text Box 704"/>
          <p:cNvSpPr/>
          <p:nvPr/>
        </p:nvSpPr>
        <p:spPr>
          <a:xfrm>
            <a:off x="276840" y="212760"/>
            <a:ext cx="8503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алатку привезли             моркови и             свекл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 вечеру продали             привезенных овощ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тонн овощей оста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2"/>
              <p:cNvSpPr txBox="1"/>
              <p:nvPr/>
            </p:nvSpPr>
            <p:spPr>
              <a:xfrm>
                <a:off x="3564000" y="0"/>
                <a:ext cx="857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Object 3"/>
              <p:cNvSpPr txBox="1"/>
              <p:nvPr/>
            </p:nvSpPr>
            <p:spPr>
              <a:xfrm>
                <a:off x="6227640" y="0"/>
                <a:ext cx="89856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4"/>
              <p:cNvSpPr txBox="1"/>
              <p:nvPr/>
            </p:nvSpPr>
            <p:spPr>
              <a:xfrm>
                <a:off x="4140360" y="765000"/>
                <a:ext cx="8571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5"/>
              <p:cNvSpPr txBox="1"/>
              <p:nvPr/>
            </p:nvSpPr>
            <p:spPr>
              <a:xfrm>
                <a:off x="3811680" y="5018040"/>
                <a:ext cx="14986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6"/>
              <p:cNvSpPr txBox="1"/>
              <p:nvPr/>
            </p:nvSpPr>
            <p:spPr>
              <a:xfrm>
                <a:off x="3716280" y="3181320"/>
                <a:ext cx="14605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7"/>
              <p:cNvSpPr txBox="1"/>
              <p:nvPr/>
            </p:nvSpPr>
            <p:spPr>
              <a:xfrm>
                <a:off x="6865920" y="3133800"/>
                <a:ext cx="1378080" cy="14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Text Box 711"/>
          <p:cNvSpPr/>
          <p:nvPr/>
        </p:nvSpPr>
        <p:spPr>
          <a:xfrm>
            <a:off x="3601440" y="2222640"/>
            <a:ext cx="171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20000"/>
                </a:solidFill>
                <a:latin typeface="Arial"/>
              </a:rPr>
              <a:t>Бы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12"/>
          <p:cNvSpPr/>
          <p:nvPr/>
        </p:nvSpPr>
        <p:spPr>
          <a:xfrm>
            <a:off x="6228720" y="2222640"/>
            <a:ext cx="28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20000"/>
                </a:solidFill>
                <a:latin typeface="Arial"/>
              </a:rPr>
              <a:t>Продан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66536E-006 L 0.7882 0.11348 E">
                                      <p:cBhvr>
                                        <p:cTn id="5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2771640" y="1007640"/>
            <a:ext cx="6228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девизом нашего урока будут такие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Думать - коллек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Решать - оператив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Отвечать - дока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Бороться - стар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И открытия нас ждут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1221463800_0lik"/>
          <p:cNvPicPr/>
          <p:nvPr/>
        </p:nvPicPr>
        <p:blipFill>
          <a:blip r:embed="rId1"/>
          <a:stretch/>
        </p:blipFill>
        <p:spPr>
          <a:xfrm>
            <a:off x="115920" y="1066680"/>
            <a:ext cx="2766960" cy="5888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549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Вариант 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94920" y="1483920"/>
            <a:ext cx="4040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 школе 85 учеников приняли участие в олимпиаде, что составляет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ех учеников. Сколько учеников в этой школ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2) В саду 50 деревьев, яблони. Сколько яблонь растут в сад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1640" y="549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Вариант 2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643280" y="1557000"/>
            <a:ext cx="4042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) В ремонте школы приняли участие 94 ученика, что составляетвсех учащихся школы. Сколько учеников в школе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2) Турист прошёл 50% пути, что составляет 16км. Каков путь туриста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" descr=""/>
          <p:cNvPicPr/>
          <p:nvPr/>
        </p:nvPicPr>
        <p:blipFill>
          <a:blip r:embed="rId1"/>
          <a:stretch/>
        </p:blipFill>
        <p:spPr>
          <a:xfrm>
            <a:off x="611280" y="3213000"/>
            <a:ext cx="276120" cy="5526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3"/>
          <p:cNvSpPr/>
          <p:nvPr/>
        </p:nvSpPr>
        <p:spPr>
          <a:xfrm>
            <a:off x="0" y="1009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2"/>
          <a:stretch/>
        </p:blipFill>
        <p:spPr>
          <a:xfrm>
            <a:off x="539640" y="4941720"/>
            <a:ext cx="36036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24000" y="-89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8000" y="333000"/>
            <a:ext cx="8928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Дроб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Правильные, неправильны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Складываем, умножаем, дели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нтересные, с дробной чертой, числителем и знаменател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Calibri"/>
              </a:rPr>
              <a:t>Дробные выражен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Что нового вы узнали сегодня н а уроке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Из чего «состоит» дробное выражение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Каким может быть числитель и знаменатель дробного выражения?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3700" spc="-1" strike="noStrike">
                <a:solidFill>
                  <a:srgbClr val="000000"/>
                </a:solidFill>
                <a:latin typeface="Calibri"/>
              </a:rPr>
              <a:t>урок окончен.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"/>
          <p:cNvSpPr/>
          <p:nvPr/>
        </p:nvSpPr>
        <p:spPr>
          <a:xfrm>
            <a:off x="214200" y="753840"/>
            <a:ext cx="7286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428760" y="500040"/>
          <a:ext cx="8572320" cy="485784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485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Вот закончился урок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одведём сейчас итог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Мы много вспомнили, друзь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Без этого никак нельз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равила мы повторил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На практике их примен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Задачи, находя решенье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Развивают мышлень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Память и вним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Закрепляли зн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А теперь, внимание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Домашнее задани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Не вызовет оно проблем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Решенье ход известен всем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Урок закончен, друзья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MS Mincho"/>
                        </a:rPr>
                        <a:t>До скорого свидань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556" name="Picture 15" descr="frog21"/>
          <p:cNvPicPr/>
          <p:nvPr/>
        </p:nvPicPr>
        <p:blipFill>
          <a:blip r:embed="rId1"/>
          <a:stretch/>
        </p:blipFill>
        <p:spPr>
          <a:xfrm>
            <a:off x="428760" y="4572000"/>
            <a:ext cx="1358640" cy="17049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Рисунок132"/>
          <p:cNvPicPr/>
          <p:nvPr/>
        </p:nvPicPr>
        <p:blipFill>
          <a:blip r:embed="rId2"/>
          <a:stretch/>
        </p:blipFill>
        <p:spPr>
          <a:xfrm>
            <a:off x="2286000" y="4200480"/>
            <a:ext cx="42861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C 0.0191 -0.02106 0.03855 -0.0419 0.05921 -0.05509 C 0.07987 -0.06852 0.10191 -0.0743 0.12431 -0.07986 E">
                                      <p:cBhvr>
                                        <p:cTn id="71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43 -0.07986 C 0.14444 -0.1169 0.16493 -0.1537 0.18316 -0.17407 C 0.20156 -0.19444 0.21753 -0.19838 0.23402 -0.20208 E">
                                      <p:cBhvr>
                                        <p:cTn id="74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402 -0.20208 C 0.25243 -0.24583 0.271 -0.28958 0.29045 -0.30694 C 0.30972 -0.3243 0.3302 -0.31574 0.35069 -0.30694 E">
                                      <p:cBhvr>
                                        <p:cTn id="77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069 -0.30695 C 0.34739 -0.34908 0.34375 -0.39259 0.35104 -0.42222 C 0.35885 -0.45255 0.37621 -0.47593 0.39791 -0.48704 C 0.41961 -0.49838 0.45121 -0.49398 0.48211 -0.48958 E">
                                      <p:cBhvr>
                                        <p:cTn id="80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194 -0.48982 C 0.52552 -0.51111 0.56979 -0.53241 0.61076 -0.53774 C 0.65156 -0.54283 0.68941 -0.53195 0.7276 -0.52084 E">
                                      <p:cBhvr>
                                        <p:cTn id="83" dur="5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76 -0.52083 C 0.75885 -0.5412 0.7901 -0.56158 0.81927 -0.56528 C 0.84843 -0.56898 0.87066 -0.55972 0.9026 -0.54306 C 0.93454 -0.52639 0.97274 -0.49583 1.01093 -0.46528 E">
                                      <p:cBhvr>
                                        <p:cTn id="86" dur="10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10, 716 (а, е) с. 114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№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705 с. 113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c00000"/>
                </a:solidFill>
                <a:latin typeface="Arno Pro Display"/>
              </a:rPr>
              <a:t>До свидания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Picture 3" descr="MAGGIONI"/>
          <p:cNvPicPr/>
          <p:nvPr/>
        </p:nvPicPr>
        <p:blipFill>
          <a:blip r:embed="rId1"/>
          <a:stretch/>
        </p:blipFill>
        <p:spPr>
          <a:xfrm>
            <a:off x="6372360" y="0"/>
            <a:ext cx="2435040" cy="2367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0" descr="робот"/>
          <p:cNvPicPr/>
          <p:nvPr/>
        </p:nvPicPr>
        <p:blipFill>
          <a:blip r:embed="rId2"/>
          <a:stretch/>
        </p:blipFill>
        <p:spPr>
          <a:xfrm>
            <a:off x="684360" y="3213000"/>
            <a:ext cx="1523880" cy="28083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9" descr="002"/>
          <p:cNvPicPr/>
          <p:nvPr/>
        </p:nvPicPr>
        <p:blipFill>
          <a:blip r:embed="rId3"/>
          <a:stretch/>
        </p:blipFill>
        <p:spPr>
          <a:xfrm>
            <a:off x="5435640" y="3360600"/>
            <a:ext cx="30718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4762800" cy="20574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684360" y="31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) 1,4: 0,7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) 0,3: (5-1,4)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Рисунок11"/>
          <p:cNvPicPr/>
          <p:nvPr/>
        </p:nvPicPr>
        <p:blipFill>
          <a:blip r:embed="rId2"/>
          <a:stretch/>
        </p:blipFill>
        <p:spPr>
          <a:xfrm>
            <a:off x="6659640" y="476280"/>
            <a:ext cx="2381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5280" y="404640"/>
            <a:ext cx="8137440" cy="604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Алгоритм деления дроб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1. Деление заменить умножени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2. Делитель заменить числом, обратны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3. Выполнить умножение по известному алгорит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62120" y="609480"/>
            <a:ext cx="7626240" cy="505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Правило деление дроб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919080" y="2381400"/>
            <a:ext cx="7182000" cy="3063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1440" y="1875240"/>
            <a:ext cx="20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5338800" cy="2057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324000" y="310500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2) 1,4: 0,7=14:7=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3) 0,3: (5-1,4)= 0,3:3,6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числит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8416800" cy="3524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250920" y="434520"/>
            <a:ext cx="8677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0 учебника, прочитать и проговорить прави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е двух чисел или выражений, в котором знак деления обозначен чертой, называют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робным выражени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 дробными выражениями можно выполнять действия по тем же правилам, что и с обыкновенными дробям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1. Найдем значение выражения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Реш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78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936360" cy="1467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79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64803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а</cp:lastModifiedBy>
  <dcterms:modified xsi:type="dcterms:W3CDTF">2014-12-25T20:40:49Z</dcterms:modified>
  <cp:revision>55</cp:revision>
  <dc:subject/>
  <dc:title>6 класс</dc:title>
</cp:coreProperties>
</file>