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2ED-4F7D-4F4A-9157-95526817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06D-F3F2-4429-A984-5C08D840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053-C0D3-4B01-98BA-B56A6021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A0C-6828-4374-8E41-A59590E7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88EF-8446-4B70-86B0-CDE9819F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605-E4AE-4D19-9FA3-DE18F8EA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4C79-0CD9-4909-B96C-3682517E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F04-8841-44D0-8BAC-DC2CC39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1834-8102-4CC8-BCAA-A7B49E1A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CA7C-0E37-4F36-AFFB-1AC182A2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45C7-03C3-41DA-9653-BD0C07F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06E-FA2F-4B7E-B720-B5A8130B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88A7-B933-4BD2-BA35-2C0A164A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2E0A-915A-4C10-93F3-C641670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7840-D7B3-4089-AE3E-468563BD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B787-5F3B-4959-86FA-A11EB731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F9BE-CC62-4BDB-8B4E-1098DD9A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172-7124-4B41-904D-215578F7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DC2-3ACE-4C07-B4AC-E5CEC529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F71-B624-4866-9FA4-ED891EB8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5E4-E9E0-4A3B-8692-786824D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779-4F11-4F21-A3A3-2264BDAE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693-3876-4D3E-B214-03DA3EB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BCC-9DDE-4E34-8BC0-969CC44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5C92-28D1-45C1-9346-21D6FD2915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ED44-7D8F-42A1-9DD0-8CFE8236C5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пись первой половины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е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911320" cy="324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911320" cy="3240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11280" y="436572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Г. Венецианов.«На жатве. Лето». Середина 182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716360" y="4365720"/>
            <a:ext cx="30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Г. Венецианов. «Пастушок с дудкой». 1820-е го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тический реализм – жанр искусства, сочетающий остроту постановки коренных социальных проблем, широту исторического охвата с живописным изображением конкретных жизненных явл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ставители критического реализма: Федотов П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2976840" cy="331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851280" cy="2874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900000" y="450864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. А. Федотов. «Свежий кавалер». 1846. Третьяковская гале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43280" y="4508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. А. Федотов. «Сватовство майора». 1848 год. Третьяковская гале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рхитектура первой половины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е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цизм – стиль в архитекту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ека, одной из важнейших черт которого явилось обращение к образам и формам античного зодчества (ордерная система с колоннами) как идеальному эстетическому этало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характерным элементом классицистической постройки является портик, увенчанный фронтоном или аттиком и эффектно выделяющий центральную часть зд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384360" cy="2527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24000" y="3141720"/>
            <a:ext cx="3816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ывший дом Гагариных (Екатерининская больница) у Петровских ворот в Москве (1786-1790; архитектор М. Ф. Казаков). Перестроен в 1820-х годах архитектором О. И. Бове, который украсил его великолепным 12-колонным портиком ионического орд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3313080" cy="247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500720" y="342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500720" y="3141720"/>
            <a:ext cx="46432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ывший дом Баташова, построенный архитекторами Р. Р. Казаковым и М. П. Кисельниковым, — прекрасный образец зрелого классицизма. На пилонах ворот установлены фигуры лежащих львов, изготовленные на чугунно-литейных заводах в Выксе. Дом уцелел во время пожара 1812 года. В 1876 был куплен городом для устройства больницы (Яузская больниц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мпир – поздний классицизм первой трети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века. Стиль отражал идеи политического триумфа и мощи России, в это время осуществляются особо грандиозные градостроительные мероприятия особенно в Петербурге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11280" y="3429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нкт-Петербург. Адмиралтейство. Современный вид — 1806-23, архитектор А. Д. Заха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132000" y="3429000"/>
            <a:ext cx="28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занский собор Санкт-Петербурга. Здание собора является монументальным памятником архитектуры русского ампира (архитектор А. Н. Воронихин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615636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6012000" y="3357720"/>
            <a:ext cx="313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ександровская колонна (или «Александрийский столп») — памятник победы русского народа в Отечественной войне 1812 года — была установлена в 1830-34 (архитектор А. А. Монферран) и названа в честь императора Александра 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о-византийский сти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698400" y="4138560"/>
            <a:ext cx="257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55640" y="4076640"/>
            <a:ext cx="324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 Кремлевский дворец. До 1917 — московская резиденция российских императоров, место парадных приемов. Построен в 1839-49 К. А. Тоном при участи других архитектор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3097080" cy="2313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4500720" y="3860640"/>
            <a:ext cx="352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ание Оружейной палаты Московского Кремля было построено в 1844-1851 гг. на территории Кремля известным русским архитектором К.А. Тоном на месте разобранного Конюшенного дво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мантизм – направление в европейском искусстве первой половины 19 века, выдвигавшее на первый план индивидуальность, наделявшее ее идеальными устремлениями, чертами, жаждой совершенства и обнов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ставители романтизма: Кипренский О.А., Тропинин В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1050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826920" y="400536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. А. Кипренский. «Портрет лейб-гусарского полковника Евграфа Давыдова». 18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10500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859280" y="4005360"/>
            <a:ext cx="30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С. Пушкин. Портрет работы О. А. Кипренского (1827, Третьяковская галерея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2913120" cy="3241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87280" y="422100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Тропинин. «Кружевница». 1823 год. Третьяковская гале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2913120" cy="3241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4859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932360" y="422100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Тропинин. «Портрет неизвестного в халате с трубкой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зм – в изобразительном искусстве, направление, сложившееся в художественных академия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VI-XI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в. и основанное на догматическом следовании внешним формам классического искусства. Академизм способствовал систематизации художественного образования, закреплению классических традиций, которые им превращались, однако, в систему «вечных» канонов и предписаний. Считая современную действительность недостойной «высокого»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Классицизм – художественный стиль и эстетическое направление в литературе и искусстве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XVII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начала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вв., одной из важных черт которого являлось обращение к образам и формам античной литературы и искусства как идеальному эстетическому эталону. Классический образ тяготеет к образу, в котором жизнь остановлена в своем идеально вечном облике, он – особое зеркало, где индивидуальное превращается в родовое, временное в вечное, реальное в идеальное, история в миф, он изображает то, что есть везде и чего нет нигде в реальности; он – торжество разума и порядка над хаосом и текучей эмпирией жизн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едставители классицизма: Иванов А.А., Брюллов К.П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558960" cy="396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84360" y="4581360"/>
            <a:ext cx="3097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А. Иванов. «Явление Христа народу» (1837-57, Третьяковская галерея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2263680" cy="2519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4859280" y="371628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ександр Иванов. Олива. Третьяковская галерея в Моск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975040" cy="33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2975040" cy="331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971640" y="4221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. П. Брюллов. «Последний день Помпеи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003640" y="4221000"/>
            <a:ext cx="3313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. П. Брюллов. «Всадница». Портрет Джованины и Амацилии Паччини, воспитаниц гр. Самойловой Ю. П. 183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Бытовой жанр – посвященный повседневной частной и общественной жизни. В задачи бытового жанра входит не только достоверное изображение увиденных в жизни взаимоотношений и поведения людей, но и раскрытие внутреннего смысла и общественного содержания повседневных бытовых явлений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 1-й половине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ека в эстетическом утверждении повседневности важную роль сыграло правдивое, но одностороннее, пленяющее поэтическим простодушием и трогательной искренностью изображение светлых, безоблачных сторон быта крестьянства и городских демократических слоев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едставители бытового жанра: Венецианов А.Г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1:01:44Z</dcterms:created>
  <dc:creator>home</dc:creator>
  <dc:description/>
  <dc:language>en-US</dc:language>
  <cp:lastModifiedBy>admin</cp:lastModifiedBy>
  <dcterms:modified xsi:type="dcterms:W3CDTF">2017-01-12T19:29:48Z</dcterms:modified>
  <cp:revision>6</cp:revision>
  <dc:subject/>
  <dc:title>Золотой век русской культуры</dc:title>
</cp:coreProperties>
</file>