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0027-07E0-4A8E-B1C0-A60F1511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0425-749B-4002-B452-17EFAEA7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D9B-D6D6-41B8-A144-DB8B726C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681-D524-486A-81FC-E2DC10317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74DD-25EA-472E-B13C-CD58F288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B40E-0898-459E-8B1E-7F6144A6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2E3A-5666-4358-A0D9-84B28FD2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BE636-B2AF-4DB7-A44F-DAF103A1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76BA-A292-486C-BF14-C84A72A2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FBDB-970C-4D8F-AC5B-8EEA9CE4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4A49-022A-4E89-8FCF-2D2D83FC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BED4-46A7-4155-8791-FA9004C4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FE27-51DC-45E6-8D44-EE2D5855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1FE6-A5EF-4F4D-B114-2EBCD24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BC87-98D1-4984-8A08-4C3360C5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F46B-A7F5-46E5-9359-EC9899C0A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8B97-DA9D-45A1-83DB-77724C59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F987-AA08-4FB2-A08F-1AA778D7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295-6768-4B6F-A4F9-9D5323C0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FFEF-345F-46AB-9508-7CE57E00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9F2C-C2BF-4C6C-A10C-94AD7860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839F-07C1-4A91-B4D8-2501E11F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FD0-CCFE-491D-A8BC-EEBCFBE4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4B1-803B-41D6-B10D-BAB4BE96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2924-617C-4DA9-A076-4A34D1284D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8C9-7F22-4AE3-89CB-1251BF9EE03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hyperlink" Target="http://prezentacii.com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вопись первой половины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е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2911320" cy="3240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911320" cy="3240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611280" y="4365720"/>
            <a:ext cx="30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Г. Венецианов.«На жатве. Лето». Середина 1820-х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716360" y="4365720"/>
            <a:ext cx="30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Г. Венецианов. «Пастушок с дудкой». 1820-е го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ритический реализм – жанр искусства, сочетающий остроту постановки коренных социальных проблем, широту исторического охвата с живописным изображением конкретных жизненных явлени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ставители критического реализма: Федотов П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2976840" cy="3313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3851280" cy="28749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900000" y="4508640"/>
            <a:ext cx="316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. А. Федотов. «Свежий кавалер». 1846. Третьяковская гале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43280" y="4508640"/>
            <a:ext cx="345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. А. Федотов. «Сватовство майора». 1848 год. Третьяковская гале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Архитектура первой половины 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XIX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век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лассицизм – стиль в архитектуре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ека, одной из важнейших черт которого явилось обращение к образам и формам античного зодчества (ордерная система с колоннами) как идеальному эстетическому эталон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иболее характерным элементом классицистической постройки является портик, увенчанный фронтоном или аттиком и эффектно выделяющий центральную часть зд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384360" cy="2527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24000" y="3141720"/>
            <a:ext cx="3816360" cy="33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ывший дом Гагариных (Екатерининская больница) у Петровских ворот в Москве (1786-1790; архитектор М. Ф. Казаков). Перестроен в 1820-х годах архитектором О. И. Бове, который украсил его великолепным 12-колонным портиком ионического орд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3313080" cy="2473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4500720" y="3429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500720" y="3141720"/>
            <a:ext cx="46432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ывший дом Баташова, построенный архитекторами Р. Р. Казаковым и М. П. Кисельниковым, — прекрасный образец зрелого классицизма. На пилонах ворот установлены фигуры лежащих львов, изготовленные на чугунно-литейных заводах в Выксе. Дом уцелел во время пожара 1812 года. В 1876 был куплен городом для устройства больницы (Яузская больница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мпир – поздний классицизм первой трети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века. Стиль отражал идеи политического триумфа и мощи России, в это время осуществляются особо грандиозные градостроительные мероприятия особенно в Петербурге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11280" y="3429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нкт-Петербург. Адмиралтейство. Современный вид — 1806-23, архитектор А. Д. Захаро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334800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3132000" y="3429000"/>
            <a:ext cx="28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занский собор Санкт-Петербурга. Здание собора является монументальным памятником архитектуры русского ампира (архитектор А. Н. Воронихин)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Picture 10" descr=""/>
          <p:cNvPicPr/>
          <p:nvPr/>
        </p:nvPicPr>
        <p:blipFill>
          <a:blip r:embed="rId3"/>
          <a:stretch/>
        </p:blipFill>
        <p:spPr>
          <a:xfrm>
            <a:off x="6156360" y="40464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11"/>
          <p:cNvSpPr/>
          <p:nvPr/>
        </p:nvSpPr>
        <p:spPr>
          <a:xfrm>
            <a:off x="6012000" y="3357720"/>
            <a:ext cx="3132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ександровская колонна (или «Александрийский столп») — памятник победы русского народа в Отечественной войне 1812 года — была установлена в 1830-34 (архитектор А. А. Монферран) и названа в честь императора Александра 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усско-византийский сти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2459160" cy="27370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698400" y="4138560"/>
            <a:ext cx="257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55640" y="4076640"/>
            <a:ext cx="324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ольшой Кремлевский дворец. До 1917 — московская резиденция российских императоров, место парадных приемов. Построен в 1839-49 К. А. Тоном при участи других архитекторов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3097080" cy="2313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4500720" y="3860640"/>
            <a:ext cx="3528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дание Оружейной палаты Московского Кремля было построено в 1844-1851 гг. на территории Кремля известным русским архитектором К.А. Тоном на месте разобранного Конюшенного дво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3786120" y="0"/>
            <a:ext cx="2214720" cy="428760"/>
          </a:xfrm>
          <a:prstGeom prst="rect">
            <a:avLst/>
          </a:prstGeom>
          <a:solidFill>
            <a:srgbClr val="732600"/>
          </a:solidFill>
          <a:ln w="38160">
            <a:solidFill>
              <a:srgbClr val="ffeb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Times New Roman"/>
                <a:hlinkClick r:id="rId3"/>
              </a:rPr>
              <a:t>Prezentacii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омантизм – направление в европейском искусстве первой половины 19 века, выдвигавшее на первый план индивидуальность, наделявшее ее идеальными устремлениями, чертами, жаждой совершенства и обнов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едставители романтизма: Кипренский О.А., Тропинин В.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3105000" cy="3456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826920" y="4005360"/>
            <a:ext cx="30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. А. Кипренский. «Портрет лейб-гусарского полковника Евграфа Давыдова». 1809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6" descr=""/>
          <p:cNvPicPr/>
          <p:nvPr/>
        </p:nvPicPr>
        <p:blipFill>
          <a:blip r:embed="rId2"/>
          <a:stretch/>
        </p:blipFill>
        <p:spPr>
          <a:xfrm>
            <a:off x="4788000" y="333360"/>
            <a:ext cx="310500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4859280" y="4005360"/>
            <a:ext cx="3025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С. Пушкин. Портрет работы О. А. Кипренского (1827, Третьяковская галерея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2913120" cy="32414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187280" y="422100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Тропинин. «Кружевница». 1823 год. Третьяковская галере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2913120" cy="3241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7"/>
          <p:cNvSpPr/>
          <p:nvPr/>
        </p:nvSpPr>
        <p:spPr>
          <a:xfrm>
            <a:off x="4859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932360" y="4221000"/>
            <a:ext cx="252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. А. Тропинин. «Портрет неизвестного в халате с трубкой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адемизм – в изобразительном искусстве, направление, сложившееся в художественных академия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VI-XIX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в. и основанное на догматическом следовании внешним формам классического искусства. Академизм способствовал систематизации художественного образования, закреплению классических традиций, которые им превращались, однако, в систему «вечных» канонов и предписаний. Считая современную действительность недостойной «высокого» искусст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Классицизм – художественный стиль и эстетическое направление в литературе и искусстве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XVII-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начала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XIX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 вв., одной из важных черт которого являлось обращение к образам и формам античной литературы и искусства как идеальному эстетическому эталону. Классический образ тяготеет к образу, в котором жизнь остановлена в своем идеально вечном облике, он – особое зеркало, где индивидуальное превращается в родовое, временное в вечное, реальное в идеальное, история в миф, он изображает то, что есть везде и чего нет нигде в реальности; он – торжество разума и порядка над хаосом и текучей эмпирией жизни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едставители классицизма: Иванов А.А., Брюллов К.П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3558960" cy="3960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684360" y="4581360"/>
            <a:ext cx="3097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. А. Иванов. «Явление Христа народу» (1837-57, Третьяковская галерея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2263680" cy="2519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4859280" y="371628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лександр Иванов. Олива. Третьяковская галерея в Моск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2975040" cy="331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003640" y="549360"/>
            <a:ext cx="2975040" cy="3311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971640" y="4221000"/>
            <a:ext cx="27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. П. Брюллов. «Последний день Помпеи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5003640" y="4221000"/>
            <a:ext cx="33134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. П. Брюллов. «Всадница». Портрет Джованины и Амацилии Паччини, воспитаниц гр. Самойловой Ю. П. 183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Бытовой жанр – посвященный повседневной частной и общественной жизни. В задачи бытового жанра входит не только достоверное изображение увиденных в жизни взаимоотношений и поведения людей, но и раскрытие внутреннего смысла и общественного содержания повседневных бытовых явлений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 1-й половине </a:t>
            </a:r>
            <a:r>
              <a:rPr b="0" lang="en-US" sz="25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века в эстетическом утверждении повседневности важную роль сыграло правдивое, но одностороннее, пленяющее поэтическим простодушием и трогательной искренностью изображение светлых, безоблачных сторон быта крестьянства и городских демократических слоев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</a:rPr>
              <a:t>Представители бытового жанра: Венецианов А.Г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11:01:44Z</dcterms:created>
  <dc:creator>home</dc:creator>
  <dc:description/>
  <dc:language>en-US</dc:language>
  <cp:lastModifiedBy>admin</cp:lastModifiedBy>
  <dcterms:modified xsi:type="dcterms:W3CDTF">2017-01-12T19:29:48Z</dcterms:modified>
  <cp:revision>6</cp:revision>
  <dc:subject/>
  <dc:title>Золотой век русской культуры</dc:title>
</cp:coreProperties>
</file>