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B527-C15B-4F13-89CF-53736890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97B-4C0E-4990-9038-7B3F53B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994F1-8530-4A77-BB7A-309516F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ADBE3-93EC-426A-8209-E0D9C84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F81AB-0DDA-422B-A01B-1CEB4FD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A5C11-CC61-4683-A32F-DF93132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7EE7-5C15-4548-814F-9097196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43E27-71CD-45BC-9378-E11E2E0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576D6-196E-44BD-A565-E6F4AD7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0D857-40D7-44A0-93BA-BFCCD9B1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2BA3A-1FEF-48C5-9A91-BF0D1001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6F3-121A-494A-8B99-588C29CC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6CB-6167-43B7-9E03-73483320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59B1-376E-4003-8E7D-14BA66F4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A2E2-78DA-4825-BC57-D3CE6C8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629F-4AAA-4BA5-9267-1B08CBA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671-D22C-43DE-8737-28F776AF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FB8C-2764-4685-B7A8-611F2B50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556-8AC2-416F-9FD5-4C6554D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D640-B619-4B06-9F46-4B228E8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A17-1811-4309-B4FF-B6D8659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6F7-D56E-461F-93FB-BF77E57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2748-03B6-493C-8EF1-29EF23A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C3B-7AB0-4E7C-B81E-896162B2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4E52-E566-47C5-9B68-02C5C1F6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C30-6207-47F8-90B7-34015F4C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C8A3-D152-4551-A747-B5D3E7F2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61B9-47E1-4AF8-AB9B-B547F105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8182-C930-48EF-AF69-A3B76D1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EBA5-C20E-41B1-A395-DAD3D3D3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F796-99EB-49D8-B790-B99E2FB2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EBC-6516-4632-81B5-4D9FDF2B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BF48-3BAD-4A24-BE83-74C419FB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C687-719D-4D7E-8084-04EB1AD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FFFD-BED2-4998-AFB7-4498E450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C2F0-0255-4B1C-BBC4-FBA3863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8A0E-2EE9-488E-ABB3-8778DCE6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F72A-6DE8-4CFF-8F0E-A3BEA33A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28D03-21F5-4E97-AB47-A3E7019A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D6C30-E72F-4761-A5A3-5316D4DB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BECE-F7BF-46AE-82CA-5E0FB399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FA57-293E-46D1-8553-1D5400A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A90-0DF2-4C7E-AA47-0F4012E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FB2D-3EC6-4B9C-BC50-452C7B8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61DF-B76E-41A3-869A-804AAE0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956E-B153-427A-ACF8-36BE9D6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9F365-461E-478E-B527-54469039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067C-16CC-4AA1-B9CC-9D54636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CEE4-3676-4C88-8BAC-1E0CF99A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3C6B-707D-4C4A-A86E-9C592E45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D6EF-BDED-4835-8998-9D2183A2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5BB0-012D-4D0B-A5BB-571310AA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3062-B481-4880-8284-9582C8DA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ED8-2379-4E7F-8841-709DA635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956C-2212-46C2-BF8C-01E7B98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9F9F-2A88-4697-8C5E-D4473AD7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6248-105A-4B6C-859C-08EBD813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3C90-F79B-4499-8ABE-792AECDA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6B49-67C9-4DA2-8A83-2F39E67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DDE5-B579-4FB6-8F58-1018A41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4FAF-C378-4F84-92E1-97C8C18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AB8EE-10ED-4699-8EA4-3B74C84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6B72-B84A-46F1-9DBD-5D01EB1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87D7-145F-459A-994D-29CB14C1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F58-E7A4-47D3-956D-D2F06F4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6788-7BEC-4CAD-B031-F2DC5CA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900A-95B9-4721-86AB-CEB3150D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50E6-17C4-45C3-AEB2-10F7FB7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6655-05F4-4F5C-9532-4E932FF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B63E-9E8C-4B35-885D-A15523C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E9DE-FA41-41AC-A255-3209BAA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C13CB-25DD-4C81-BCA9-87B45F1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16E5D-4642-4BE8-A78A-429AA49E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16861-E8FA-4B3E-9C3C-A49FF448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E098-C0C2-45D2-895D-F60EFD0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DA1-1E7A-40A9-B4AE-F5FEAE30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D782-F482-4D78-881E-B67EA907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B4A0-0106-408D-A788-042E50FD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28A86-8B51-429E-863F-9127894C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37FD-2925-4DE6-98FE-28AAA006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1516-5BEE-484E-B6B7-3DE3B5B0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4186-E86F-496D-97F6-6130537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92205-07A9-4455-B8E7-6C1AD6F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8554-7139-4538-AA4C-FA41526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2AE6-F83A-4331-87C3-0544C54C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AEBB-022E-4983-AEA2-F644C968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44E-7F0B-4AE3-800C-17CF8B2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66E6-C035-47C4-BA6B-6075A9C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FF20-E072-4F4D-A412-034E0D6F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057E2-02AD-4BF4-ACDC-5DDF6CC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AADA-209C-4079-B784-E266D7F8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7F750-1E40-4B96-8C04-D3C16821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78A32-523B-472F-BA29-D4CB252F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53843-B295-42AD-96A8-8B022217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7FACC-4831-48D9-8050-129EF9E1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D24D6-23EB-4404-8AE0-B94E0D4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5B59-99BE-4965-99E6-A0ED66A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406-9639-48F6-B725-0B3659A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7BA5-BCF4-4151-8199-7D1E712B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A6361-FDB9-41C5-95E9-6CA56CA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BA740-B608-4171-8439-92BA14C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5705-2613-474A-99C9-674CF64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7F24-DF33-4BA9-AFBB-A5AD4838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738D7-90AF-4BE4-8876-756D39F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FBC59-E89D-49AA-B7BF-C399A0C8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5662-323C-407B-8FCC-FEBA0ABC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0422E-22E3-4450-8477-33B0D7D2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5AA15-69E8-4149-A378-E77C510D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F109-5D19-4CB2-8133-5F7578DC31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479C-6A63-4BA0-9AF1-06FD95C266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99E-A058-4BA7-A7C0-76CE221940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D60-FCED-44F4-BBCF-F709F20656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8B9-9ED6-4E2F-BA9B-A1C29DD1F3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D29-35B7-4DBB-AD37-3A77F86605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327-3850-4BE1-963A-AC95F9CB22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0534-D6A9-4C94-B903-D5204CC3F0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AB3-5D8D-4979-9634-D3960A62DE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2868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a22e"/>
                </a:solidFill>
                <a:latin typeface="Franklin Gothic Medium"/>
                <a:ea typeface="DokChampa"/>
              </a:rPr>
              <a:t>ОРГАНИЗАЦИОННО-ПРАВОВЫЕ ФОРМЫ ПРЕДПРИЯТИЙ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28440" y="4857480"/>
            <a:ext cx="77864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3329"/>
                </a:solidFill>
                <a:latin typeface="Franklin Gothic Book"/>
              </a:rPr>
              <a:t>Разработала: Коваленко Е.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3329"/>
                </a:solidFill>
                <a:latin typeface="Franklin Gothic Book"/>
              </a:rPr>
              <a:t>Калининград 2015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11040" y="5718240"/>
            <a:ext cx="8375760" cy="1006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480" y="428760"/>
            <a:ext cx="83581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ым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ризнается товарищество, участники которого (полные товарищи) в соответствии с заключенным между ними договором занимаются предпринимательской деятельностью от имени товарищества и несу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ую ответственность по обязательствам не только вложенным капиталом, но и всем своим личным имущество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311040" y="580392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57120" y="530280"/>
            <a:ext cx="8501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вариществом на вере (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андитным товариществом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признается товарищество, в котором наряду с участниками, осуществляющими от имени товарищества предпринимательскую деятельность и отвечающими по обязательствам товарищества своим имуществом (полными товарищами), имеется один или несколько участников - вкладчиков (коммандитистов), которые несут риск убытков, связанных с деятельностью товарищества, в пределах сумм внесенных ими вкладов и не принимают участия в осуществлении товариществом предпринимательской деятель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360360" y="5419800"/>
            <a:ext cx="8326440" cy="15415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-360" y="428400"/>
            <a:ext cx="8929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м с ограниченной ответственностью признается учрежденное одним или несколькими лицами общества, уставный капитал которого разделен на доли определенных учредительными документами размеров; участники общества с ограниченной ответственностью не отвечают по его обязательствам и несут риск убытков, связанных с деятельностью общества, в пределах стоимости внесенных ими вклад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506520" y="5565600"/>
            <a:ext cx="8351640" cy="15415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213840" y="35676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м с дополнительной ответственностью признается учрежденное одним или несколькими лицами общество, уставный капитал которого разделен на доли определенных учредительными документами размеров; участники такого общества солидарно несут субсидиарную ответственность по его обязательствам своим имуществом в одинаковом для всех кратном размере к стоимости их вкладов, определяемом учредительными документами обществ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311040" y="4979880"/>
            <a:ext cx="8375760" cy="1451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ное общество (АО)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это коммерческая организация, уставный капитал которой разделен на определенное число акций, удостоверяющих обязательственные права участников по отношению к обществ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ы не отвечают по обязательствам общества и несут риск убытков, связанных с его деятельностью, в пределах стоимости принадлежащих им акц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6145200" y="5877000"/>
            <a:ext cx="2730600" cy="9874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429080" y="213840"/>
            <a:ext cx="4500720" cy="635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Недостатки АО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реждение акционерного общества – дело сложное и трудоемко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ляется объектом двойного налогообложения - как самостоятельное юридическое лицо платит налог с прибыли; прибыль, распределяемая между акционерами в качестве дивиденда, облагается налогом еще раз как личные доходы граждан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рудность в принятии единого реш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0" y="214200"/>
            <a:ext cx="4572000" cy="635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стоинства А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бщества несут ограниченную ответств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купли-продажи доли участия (акций) несложная; в случае смерти акционера его доля переходит к наследн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форма является более эффективной для привлечения дополнительного капитала на развитие производства, то есть можно взять заем, т.е. выпустить больше акций, продать их и увеличить капитал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11040" y="5913360"/>
            <a:ext cx="8375760" cy="987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-360" y="357120"/>
            <a:ext cx="8929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 признается дочерним, если другое (основное) хозяйственное общество   или товарищество в силу преобладающего участия в его уставном капитале, либо в соответствии с заключенным между ними договором, либо иным образом имеет возможность определять решения, принимаемые таким общество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чернее общество не отвечает по долгам основного общества (товарищества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ое общество (товарищество) отвечает солидарно с дочерним обществом по сделкам, заключенным последним во исполнение таких указан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лучае несостоятельности (банкротства) дочернего общества по вине основного общества (товарищества) последнее несет субсидиарную ответственность по его долга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астники (акционеры) дочернего общества вправе требовать возмещения основным обществом (товариществом) убытков, причиненных по его вине дочернему обществу, если иное не установлено законами о хозяйственных обществах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311040" y="5430960"/>
            <a:ext cx="8375760" cy="1006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85840" y="64296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 признается зависимым, если другое (преобладающее, участвующее) общество имеет более 20 % голосующих акций АО или 20 % уставного капитала ОО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, которое приобрело более 20 % голосующих акций АО или 20 % уставного капитала ООО, обязано незамедлительно публиковать сведения об этом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311040" y="580392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85840" y="52992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го ведения предпринимательской деятельности путем объединения имущественных паевых взносов, а также при личном трудовом участии членов кооператив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быль распределяется между участниками в соответствии с их трудовым участие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лены производственного кооператива несут ответственность по его обязательствам общим имуществом, а при его недостаточности - и своим собственным имуществ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11040" y="4979880"/>
            <a:ext cx="8375760" cy="1451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28760" y="42876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ерческая организация, не     наделенная правом собственности на закрепленное за ней собственником имуществ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 по способу управления имуществом делятся на: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, основанное </a:t>
            </a:r>
            <a:r>
              <a:rPr b="1" i="1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праве хозяйственного ведения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, основанное </a:t>
            </a:r>
            <a:r>
              <a:rPr b="1" i="1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праве оперативного управления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-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федеральное казенное предприятие»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11040" y="5730840"/>
            <a:ext cx="8375760" cy="993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57120" y="49968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иные личные неимущественные права, нести обязанности, быть истцом и ответчиком в суде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353880" y="5645160"/>
            <a:ext cx="8332920" cy="865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285840" y="571320"/>
            <a:ext cx="84009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енные и религиозные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коммерческие партнерств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требительские кооперативы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реждения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втономные некоммерческие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циальные, благотворительные и иные фонды, ассоциации и союзы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ации в других формах, предусмотренных федеральными закон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55440" y="4979880"/>
            <a:ext cx="8631360" cy="1592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85840" y="42876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коммерческие организации могут создаваться для достижения социальных, благотворительных, культурных, образовательных, научных и управленческих целей, в целях охраны здоровья граждан, развития физической культуры и спорта, удовлетворения духовных потребностей граждан, защиты прав, законных интересов граждан и организаций, разрешения споров и конфликтов, оказания юридической помощи, а также в иных целях, направленных на достижение общественных бла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11040" y="576756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йте понятие юридического лиц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являются коммерческим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являются некоммерческим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четыре признака юридического лиц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дприятия относятся к хозяйственным обществам, их учредительные документы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дприятия относятся к хозяйственным товариществам, какие учредительные документы они должны иметь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ишите организационно-правовую форму производственных кооперативов и муниципальных унитарных предприяти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считаются некоммерческими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60360" y="5730840"/>
            <a:ext cx="8497800" cy="993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56760" y="428400"/>
            <a:ext cx="85726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Организационное единств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коллектив с его структурой и порядком управления, которые отражены в документах предприятия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Обособленное имуществ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имущество предприятия – основные и оборотные средства, которые предприятие может самостоятельно приобретать, учитывать, использовать, продавать, списывать, платить налоги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Имущественная ответствен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приятие несет ответственность по своим обязательствам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Выступление в гражданских делах от своего имени 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приятие имеет право выступать от своего имени в суде в качестве истца или ответчика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14200" y="35676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Некоммерческая организация</a:t>
            </a:r>
            <a:r>
              <a:rPr b="0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юридическое лицо, не ставящее в качестве основной цели своей деятельности извлечение прибыли и не распределяющие прибыль между участниками; получаемая прибыль используется для саморазвития, достижения конкретных результатов организации.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Коммерческая организация</a:t>
            </a:r>
            <a:r>
              <a:rPr b="0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цель – получение прибыли и распределение её между всеми участниками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2" descr=""/>
          <p:cNvPicPr/>
          <p:nvPr/>
        </p:nvPicPr>
        <p:blipFill>
          <a:blip r:embed="rId1"/>
          <a:stretch/>
        </p:blipFill>
        <p:spPr>
          <a:xfrm>
            <a:off x="506520" y="530280"/>
            <a:ext cx="8180280" cy="5114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0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643960" cy="61437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"/>
          <p:cNvSpPr/>
          <p:nvPr/>
        </p:nvSpPr>
        <p:spPr>
          <a:xfrm>
            <a:off x="0" y="38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328680" y="5754600"/>
            <a:ext cx="852948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3840" y="28548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ое товарищество (ст.69-81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варищество на вере (ст.82-86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 с ограниченной ответственностью (ст.87-94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 с дополнительной ответственностью (ст.95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ное общество (открытое и закрытое) (ст.96-104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ственные кооперативы (ст.107-112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осударственное и муниципальное унитарные предприятия (ст.113-115 ГК РФ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311040" y="5389560"/>
            <a:ext cx="83757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413" name="Organization Chart 3"/>
          <p:cNvGrpSpPr/>
          <p:nvPr/>
        </p:nvGrpSpPr>
        <p:grpSpPr>
          <a:xfrm>
            <a:off x="500040" y="500040"/>
            <a:ext cx="8183160" cy="5000400"/>
            <a:chOff x="500040" y="500040"/>
            <a:chExt cx="8183160" cy="5000400"/>
          </a:xfrm>
        </p:grpSpPr>
        <p:cxnSp>
          <p:nvCxnSpPr>
            <p:cNvPr id="414" name="_s1028"/>
            <p:cNvCxnSpPr>
              <a:stCxn id="415" idx="2"/>
              <a:endCxn id="416" idx="3"/>
            </p:cNvCxnSpPr>
            <p:nvPr/>
          </p:nvCxnSpPr>
          <p:spPr>
            <a:xfrm rot="10800000">
              <a:off x="4553280" y="3356640"/>
              <a:ext cx="279720" cy="1823400"/>
            </a:xfrm>
            <a:prstGeom prst="bentConnector2">
              <a:avLst/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17" name="_s1029"/>
            <p:cNvCxnSpPr>
              <a:stCxn id="418" idx="2"/>
              <a:endCxn id="416" idx="3"/>
            </p:cNvCxnSpPr>
            <p:nvPr/>
          </p:nvCxnSpPr>
          <p:spPr>
            <a:xfrm rot="10800000">
              <a:off x="4553280" y="3356640"/>
              <a:ext cx="279720" cy="754200"/>
            </a:xfrm>
            <a:prstGeom prst="bentConnector2">
              <a:avLst/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19" name="_s1030"/>
            <p:cNvCxnSpPr>
              <a:stCxn id="420" idx="0"/>
              <a:endCxn id="421" idx="3"/>
            </p:cNvCxnSpPr>
            <p:nvPr/>
          </p:nvCxnSpPr>
          <p:spPr>
            <a:xfrm flipV="1" rot="16200000">
              <a:off x="6939360" y="1581120"/>
              <a:ext cx="357840" cy="176580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2" name="_s1031"/>
            <p:cNvCxnSpPr>
              <a:stCxn id="423" idx="0"/>
              <a:endCxn id="421" idx="3"/>
            </p:cNvCxnSpPr>
            <p:nvPr/>
          </p:nvCxnSpPr>
          <p:spPr>
            <a:xfrm flipV="1" rot="16200000">
              <a:off x="6097680" y="2422800"/>
              <a:ext cx="357840" cy="8244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4" name="_s1032"/>
            <p:cNvCxnSpPr>
              <a:stCxn id="416" idx="0"/>
              <a:endCxn id="421" idx="3"/>
            </p:cNvCxnSpPr>
            <p:nvPr/>
          </p:nvCxnSpPr>
          <p:spPr>
            <a:xfrm flipH="1" flipV="1" rot="5400000">
              <a:off x="5254200" y="1661400"/>
              <a:ext cx="357840" cy="160560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5" name="_s1033"/>
            <p:cNvCxnSpPr>
              <a:stCxn id="426" idx="0"/>
              <a:endCxn id="427" idx="3"/>
            </p:cNvCxnSpPr>
            <p:nvPr/>
          </p:nvCxnSpPr>
          <p:spPr>
            <a:xfrm flipV="1" rot="16200000">
              <a:off x="2307600" y="2003040"/>
              <a:ext cx="357840" cy="92196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8" name="_s1034"/>
            <p:cNvCxnSpPr>
              <a:stCxn id="429" idx="0"/>
              <a:endCxn id="427" idx="3"/>
            </p:cNvCxnSpPr>
            <p:nvPr/>
          </p:nvCxnSpPr>
          <p:spPr>
            <a:xfrm flipH="1" flipV="1" rot="5400000">
              <a:off x="1464120" y="2080800"/>
              <a:ext cx="357840" cy="76644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30" name="_s1035"/>
            <p:cNvCxnSpPr>
              <a:stCxn id="421" idx="0"/>
              <a:endCxn id="431" idx="3"/>
            </p:cNvCxnSpPr>
            <p:nvPr/>
          </p:nvCxnSpPr>
          <p:spPr>
            <a:xfrm flipV="1" rot="16200000">
              <a:off x="5043600" y="300600"/>
              <a:ext cx="357840" cy="2183760"/>
            </a:xfrm>
            <a:prstGeom prst="bentConnector3">
              <a:avLst>
                <a:gd name="adj1" fmla="val 31218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32" name="_s1036"/>
            <p:cNvCxnSpPr>
              <a:stCxn id="427" idx="0"/>
              <a:endCxn id="431" idx="3"/>
            </p:cNvCxnSpPr>
            <p:nvPr/>
          </p:nvCxnSpPr>
          <p:spPr>
            <a:xfrm flipH="1" flipV="1" rot="5400000">
              <a:off x="2937960" y="378720"/>
              <a:ext cx="357840" cy="2028240"/>
            </a:xfrm>
            <a:prstGeom prst="bentConnector3">
              <a:avLst>
                <a:gd name="adj1" fmla="val 31218"/>
              </a:avLst>
            </a:prstGeom>
            <a:ln w="28440">
              <a:solidFill>
                <a:srgbClr val="fbeec9"/>
              </a:solidFill>
              <a:miter/>
            </a:ln>
          </p:spPr>
        </p:cxnSp>
        <p:sp>
          <p:nvSpPr>
            <p:cNvPr id="431" name="_s1037"/>
            <p:cNvSpPr/>
            <p:nvPr/>
          </p:nvSpPr>
          <p:spPr>
            <a:xfrm>
              <a:off x="3447000" y="50004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0a22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Хозяй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товари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и об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8"/>
            <p:cNvSpPr/>
            <p:nvPr/>
          </p:nvSpPr>
          <p:spPr>
            <a:xfrm>
              <a:off x="1342800" y="157140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5644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озяй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9"/>
            <p:cNvSpPr/>
            <p:nvPr/>
          </p:nvSpPr>
          <p:spPr>
            <a:xfrm>
              <a:off x="5553720" y="157140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5644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озяй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0"/>
            <p:cNvSpPr/>
            <p:nvPr/>
          </p:nvSpPr>
          <p:spPr>
            <a:xfrm>
              <a:off x="50004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л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41"/>
            <p:cNvSpPr/>
            <p:nvPr/>
          </p:nvSpPr>
          <p:spPr>
            <a:xfrm>
              <a:off x="218484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а ве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42"/>
            <p:cNvSpPr/>
            <p:nvPr/>
          </p:nvSpPr>
          <p:spPr>
            <a:xfrm>
              <a:off x="387000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кционер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43"/>
            <p:cNvSpPr/>
            <p:nvPr/>
          </p:nvSpPr>
          <p:spPr>
            <a:xfrm>
              <a:off x="555516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 ограничен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ветств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44"/>
            <p:cNvSpPr/>
            <p:nvPr/>
          </p:nvSpPr>
          <p:spPr>
            <a:xfrm>
              <a:off x="7240320" y="264312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 дополните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ветств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45"/>
            <p:cNvSpPr/>
            <p:nvPr/>
          </p:nvSpPr>
          <p:spPr>
            <a:xfrm>
              <a:off x="4833000" y="371448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крыт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1046"/>
            <p:cNvSpPr/>
            <p:nvPr/>
          </p:nvSpPr>
          <p:spPr>
            <a:xfrm>
              <a:off x="4833000" y="478620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акрыт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311040" y="5138640"/>
            <a:ext cx="8375760" cy="15368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85480" y="529920"/>
            <a:ext cx="84294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ыми товариществами и обществами признаются коммерческие организации с разделенным на доли (вклады) учредителей (участников) уставным (складочным) капиталом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3840" y="356760"/>
            <a:ext cx="40006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Достоинства обществ, товариществ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гко организоват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ономические (материальные, трудовые, финансовые) возможности многократно возрастают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никает возможность привлекать к работе квалифицированных специалисто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286160" y="428760"/>
            <a:ext cx="4572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 в финансовых рес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значное понимание цел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ая ответственность партнеров не только за свои собственные решения, но и за последствия действий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пределения меры каждого в доходе или убытке фирмы, разделе им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22:05:48Z</dcterms:created>
  <dc:creator>Matvei</dc:creator>
  <dc:description/>
  <dc:language>en-US</dc:language>
  <cp:lastModifiedBy>ADMIN</cp:lastModifiedBy>
  <dcterms:modified xsi:type="dcterms:W3CDTF">2017-01-13T07:34:00Z</dcterms:modified>
  <cp:revision>58</cp:revision>
  <dc:subject/>
  <dc:title>Организационно-правовые формы предпринимательской деятельности</dc:title>
</cp:coreProperties>
</file>