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A89-26A6-458C-91B4-106B8A254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1B2-F112-44B6-A1EA-BD9436F8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05C68-1BE4-47C0-9268-9EC69E93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FF247-A0B6-4BC8-A374-000ACCD9D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7EC141-38F9-4F24-87A9-F740D0D1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BDE7C-FFDA-4448-8676-FC4E4CF1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4F96C-2412-4509-9F88-8992595D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A693F1-E526-4EE6-9A7C-3C66946D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7C35C-2F34-4E94-80B1-C5F3AEC8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0204F-D96B-4B00-B0A2-2380A9D2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B693E-5516-4484-BAF0-2744B261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F36-C15C-4E70-8C80-836506EB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9CE-FF9D-47EC-8262-83D09CEA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45A-7333-439C-A354-65CC72E6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AF6D-C04A-40E3-AEEB-112C80A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E39-0130-494F-B6E6-601080B5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9908-C8D6-4DC3-B95B-43BC4806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B3ECB-63F2-454A-AD59-CCD286F7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0044-D1AE-4414-AC91-E972250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2023-C042-4A82-BCA7-DD096B91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856-45C6-4912-94A5-FE08104D9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0ED5-A526-46ED-BA83-19139DAA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3AF-080F-4094-A42B-797057A0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94E0-1C06-4A40-BAA4-C477FE14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CCEC-BE97-4A1E-B08D-6854C30CF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A38F-2C8F-4ACE-BFFC-27D391F2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856E3-1E99-4AA3-AA4B-0588BBBE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EF522-87B0-4976-9194-2CE948ABA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9C62-45C7-46B5-9155-9DDA51A0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AE5F-E15E-4CB7-B6E9-E5788106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EE5B1-594B-4E59-9BFA-6ED0B7F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506-F135-47F5-A85D-C828FDF9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49D2-E9DD-4ADD-B848-C479EB995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80B72-CA43-4398-9E30-2583C74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AD7A0-ACB1-4B37-9BF4-A8AE838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8F96-2570-4557-89B2-2D1697CA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F7606-8155-493A-9C1E-857DC69D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5B70E-27C4-4F57-A826-CE85C4DA3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0CFD0-0BC8-4403-B6CE-DE4B6818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F338-636E-491F-B419-B2501BCB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77B21-C72E-4CF0-9217-5AB8C5E9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9AC1-0534-4A6D-BB89-62303E48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39E7-2A16-4871-BF89-D53625C8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BA7EC-C33C-4290-84F3-EE2ABDC6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3F641-9EF4-40C8-A5E1-1EF7E379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AC29-5985-445F-B8C3-608C0002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B6301-3D53-4C23-8231-023C51FB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9ECC-B058-47CA-87E0-B74B5FA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BC531-D240-4E77-9B34-E579FAF1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1B9B5-60E4-416F-9FE3-17F079C7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C7C4-9743-413B-A1A4-2257CDCF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4492-0615-4E19-BBEF-7681B901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5EB5E-94CE-4233-8B5A-4E98D38C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D1EE-0A2A-4298-88EC-0134F180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3677A-E8BB-4688-AFAF-ED100B9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147A9-4C3A-43F1-B675-C17909EE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1F406-2FE5-4A18-AEBE-CB87B083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F3B5-6999-434C-B63B-07928277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A03ED-AABF-49E3-B765-8CF271E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BD501-C99E-49E3-8B6F-3586A5E2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09027-0FCF-478C-95EF-47E227D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6A50B-9E7D-4E35-9593-69DCC58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97990-DC79-4A55-998A-1EC4A1A2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3A240-0614-49FE-B280-2A9FB81C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4AD3-8D0A-4024-8661-0C3E8365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61447-C45F-4ECB-A80C-8E3F1082F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62C88-23F4-4DAD-BDC6-58015309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2A419-A717-447A-A4FF-32D279FB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1E961-40D0-4797-B864-B5CCA3B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FF6D9-7FE9-4C10-927E-48BD706C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6C63-ACD1-41EE-9C97-259D694C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387DA-D6A0-4848-943F-C6993CC7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95E7-964D-433E-BDF0-4C4510D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7EC49-7DC5-4CD3-BB5A-EC39D22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8C70-66E3-4EBE-B173-A3F27354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C3E-75CD-4960-BEF6-98621336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23297-175F-4A0E-A1F6-134D9587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008A6-6505-4C32-9E5F-06E3A874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A1D5E-076B-43F0-A99E-7BEBC103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B78A-076D-4356-8556-28E09575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22F3A-2188-4FFC-BE9F-9CB6E9AA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34FA7-BFCC-4F32-92E9-5E99E478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A49AEB-D946-43E2-9728-DEF02F2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EC26A-D3D4-4AB9-B4D1-680E6E3B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3A6575-FABF-4D1A-BCA2-0D9D1507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33CB9-F216-4239-9105-52110F1A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594-705C-4D78-933A-0A11AD6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E2971-6943-4374-959E-9A5C1029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3F678-4A6E-4F8F-B5ED-C6C3EFBD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A596-135D-449C-9CD8-9DCB5570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DE119-DDC7-444B-8CB9-1FA9BE239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7B6B5-B437-435A-88EB-37B5A06C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CBA67-9887-4C63-8D97-2E9D7578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9D226-CB5D-46D8-91E1-F0EE539F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24305-0443-45A4-AAEC-5B8E8BB8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42CAA-2CBA-4A05-A1CC-DA4B38DD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C6469-DC4A-470F-8848-4A918F00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D10-F0AF-4B91-B214-504E9D11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C56F8-04EC-4F1F-AD63-28C04903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06C2-E7B9-4852-BE35-C55878F7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F86A0-7E79-4454-9365-D940C0B6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ADC8F-ECB0-4232-8959-F45D4C04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FE775-A257-4D4F-8076-71E2CD8C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B245D-F0B7-4831-A678-35C612C5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3E0AC-14A0-458A-8979-5444ABB8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E58B6-9220-42D1-8094-7FE10950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3BB13-5C4E-426F-870C-026B0D27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C9301D-520C-4852-8032-63A11A7F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F31-E5BD-4B17-8D99-EE1C9E7969A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412D-5720-4BD5-8A8B-2A72497FD1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6CB9-9DC3-46A3-B2D3-0B101FD585D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3C1E-E86C-4054-BB43-E300E5C5164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039B-9EA0-4368-9B94-E0ECA25898D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7628-1B18-4868-AABD-B08E3B378F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C4B3-8808-43E8-AED1-788052B51F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5B40-F15E-4F31-8F75-AF88FBE358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F333-BBAA-4F55-A912-E548933351C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6760" y="500040"/>
            <a:ext cx="828684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0a22e"/>
                </a:solidFill>
                <a:latin typeface="Franklin Gothic Medium"/>
                <a:ea typeface="DokChampa"/>
              </a:rPr>
              <a:t>ОРГАНИЗАЦИОННО-ПРАВОВЫЕ ФОРМЫ ПРЕДПРИЯТИЙ</a:t>
            </a:r>
            <a:endParaRPr b="0" lang="en-US" sz="4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28440" y="4857480"/>
            <a:ext cx="77864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3329"/>
                </a:solidFill>
                <a:latin typeface="Franklin Gothic Book"/>
              </a:rPr>
              <a:t>Разработала: Коваленко Е.А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43329"/>
                </a:solidFill>
                <a:latin typeface="Franklin Gothic Book"/>
              </a:rPr>
              <a:t>Калининград 2015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311040" y="5718240"/>
            <a:ext cx="8375760" cy="10065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285480" y="428760"/>
            <a:ext cx="83581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ым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признается товарищество, участники которого (полные товарищи) в соответствии с заключенным между ними договором занимаются предпринимательской деятельностью от имени товарищества и несу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ую ответственность по обязательствам не только вложенным капиталом, но и всем своим личным имущество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311040" y="580392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 txBox="1"/>
          <p:nvPr/>
        </p:nvSpPr>
        <p:spPr>
          <a:xfrm>
            <a:off x="357120" y="530280"/>
            <a:ext cx="8501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вариществом на вере (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андитным товариществом</a:t>
            </a: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) признается товарищество, в котором наряду с участниками, осуществляющими от имени товарищества предпринимательскую деятельность и отвечающими по обязательствам товарищества своим имуществом (полными товарищами), имеется один или несколько участников - вкладчиков (коммандитистов), которые несут риск убытков, связанных с деятельностью товарищества, в пределах сумм внесенных ими вкладов и не принимают участия в осуществлении товариществом предпринимательской деятельности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360360" y="5419800"/>
            <a:ext cx="8326440" cy="15415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-360" y="428400"/>
            <a:ext cx="89298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м с ограниченной ответственностью признается учрежденное одним или несколькими лицами общества, уставный капитал которого разделен на доли определенных учредительными документами размеров; участники общества с ограниченной ответственностью не отвечают по его обязательствам и несут риск убытков, связанных с деятельностью общества, в пределах стоимости внесенных ими вклад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506520" y="5565600"/>
            <a:ext cx="8351640" cy="15415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213840" y="35676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м с дополнительной ответственностью признается учрежденное одним или несколькими лицами общество, уставный капитал которого разделен на доли определенных учредительными документами размеров; участники такого общества солидарно несут субсидиарную ответственность по его обязательствам своим имуществом в одинаковом для всех кратном размере к стоимости их вкладов, определяемом учредительными документами обществ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Заголовок 1" descr=""/>
          <p:cNvPicPr/>
          <p:nvPr/>
        </p:nvPicPr>
        <p:blipFill>
          <a:blip r:embed="rId1"/>
          <a:stretch/>
        </p:blipFill>
        <p:spPr>
          <a:xfrm>
            <a:off x="311040" y="4979880"/>
            <a:ext cx="8375760" cy="1451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ное общество (АО) </a:t>
            </a: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- это коммерческая организация, уставный капитал которой разделен на определенное число акций, удостоверяющих обязательственные права участников по отношению к обществу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ы не отвечают по обязательствам общества и несут риск убытков, связанных с его деятельностью, в пределах стоимости принадлежащих им акц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6145200" y="5877000"/>
            <a:ext cx="2730600" cy="9874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4429080" y="213840"/>
            <a:ext cx="4500720" cy="635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Недостатки АО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реждение акционерного общества – дело сложное и трудоемкое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Является объектом двойного налогообложения - как самостоятельное юридическое лицо платит налог с прибыли; прибыль, распределяемая между акционерами в качестве дивиденда, облагается налогом еще раз как личные доходы граждан;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рудность в принятии единого решения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7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0" y="214200"/>
            <a:ext cx="4572000" cy="6357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стоинства А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общества несут ограниченную ответствен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купли-продажи доли участия (акций) несложная; в случае смерти акционера его доля переходит к наследник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a22e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форма является более эффективной для привлечения дополнительного капитала на развитие производства, то есть можно взять заем, т.е. выпустить больше акций, продать их и увеличить капитал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11040" y="5913360"/>
            <a:ext cx="8375760" cy="9874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-360" y="357120"/>
            <a:ext cx="8929800" cy="57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 признается дочерним, если другое (основное) хозяйственное общество   или товарищество в силу преобладающего участия в его уставном капитале, либо в соответствии с заключенным между ними договором, либо иным образом имеет возможность определять решения, принимаемые таким общество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чернее общество не отвечает по долгам основного общества (товарищества)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сновное общество (товарищество) отвечает солидарно с дочерним обществом по сделкам, заключенным последним во исполнение таких указаний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 случае несостоятельности (банкротства) дочернего общества по вине основного общества (товарищества) последнее несет субсидиарную ответственность по его долгам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астники (акционеры) дочернего общества вправе требовать возмещения основным обществом (товариществом) убытков, причиненных по его вине дочернему обществу, если иное не установлено законами о хозяйственных обществах.</a:t>
            </a:r>
            <a:endParaRPr b="0" lang="en-US" sz="2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311040" y="5430960"/>
            <a:ext cx="8375760" cy="10062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285840" y="64296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 признается зависимым, если другое (преобладающее, участвующее) общество имеет более 20 % голосующих акций АО или 20 % уставного капитала ООО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ое общество, которое приобрело более 20 % голосующих акций АО или 20 % уставного капитала ООО, обязано незамедлительно публиковать сведения об этом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311040" y="580392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285840" y="529920"/>
            <a:ext cx="85723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обровольное объединение граждан на основе членства для совместного ведения предпринимательской деятельности путем объединения имущественных паевых взносов, а также при личном трудовом участии членов кооператива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ибыль распределяется между участниками в соответствии с их трудовым участием;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члены производственного кооператива несут ответственность по его обязательствам общим имуществом, а при его недостаточности - и своим собственным имуществом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11040" y="4979880"/>
            <a:ext cx="8375760" cy="14511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28760" y="428760"/>
            <a:ext cx="850104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720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оммерческая организация, не     наделенная правом собственности на закрепленное за ней собственником имуществ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 по способу управления имуществом делятся на: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, основанное </a:t>
            </a:r>
            <a:r>
              <a:rPr b="1" i="1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праве хозяйственного ведения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spcBef>
                <a:spcPts val="774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П, основанное </a:t>
            </a:r>
            <a:r>
              <a:rPr b="1" i="1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 праве оперативного управления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- 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	</a:t>
            </a:r>
            <a:r>
              <a:rPr b="0" lang="ru-RU" sz="31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«федеральное казенное предприятие»</a:t>
            </a: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  <a:p>
            <a:pPr indent="457200">
              <a:lnSpc>
                <a:spcPct val="90000"/>
              </a:lnSpc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311040" y="5730840"/>
            <a:ext cx="8375760" cy="993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57120" y="49968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ация, которая имеет в собственности, хозяйственном ведении или оперативном управлении обособленное имущество и отвечает по своим обязательствам этим имуществом, может от своего имени приобретать и осуществлять имущественные и иные личные неимущественные права, нести обязанности, быть истцом и ответчиком в суде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1" descr=""/>
          <p:cNvPicPr/>
          <p:nvPr/>
        </p:nvPicPr>
        <p:blipFill>
          <a:blip r:embed="rId1"/>
          <a:stretch/>
        </p:blipFill>
        <p:spPr>
          <a:xfrm>
            <a:off x="353880" y="5645160"/>
            <a:ext cx="8332920" cy="865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285840" y="571320"/>
            <a:ext cx="84009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енные и религиозные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коммерческие партнерств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требительские кооперативы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учреждения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втономные некоммерческие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социальные, благотворительные и иные фонды, ассоциации и союзы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рганизации в других формах, предусмотренных федеральными закон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55440" y="4979880"/>
            <a:ext cx="8631360" cy="15922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285840" y="428760"/>
            <a:ext cx="857232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екоммерческие организации могут создаваться для достижения социальных, благотворительных, культурных, образовательных, научных и управленческих целей, в целях охраны здоровья граждан, развития физической культуры и спорта, удовлетворения духовных потребностей граждан, защиты прав, законных интересов граждан и организаций, разрешения споров и конфликтов, оказания юридической помощи, а также в иных целях, направленных на достижение общественных благ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11040" y="5767560"/>
            <a:ext cx="8375760" cy="99360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Дайте понятие юридического лиц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являются коммерческим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являются некоммерческими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Назовите четыре признака юридического лица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дприятия относятся к хозяйственным обществам, их учредительные документы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предприятия относятся к хозяйственным товариществам, какие учредительные документы они должны иметь?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пишите организационно-правовую форму производственных кооперативов и муниципальных унитарных предприятий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Какие организации считаются некоммерческими? 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360360" y="5730840"/>
            <a:ext cx="8497800" cy="9939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356760" y="428400"/>
            <a:ext cx="857268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Организационное единство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коллектив с его структурой и порядком управления, которые отражены в документах предприятия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Обособленное имущество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то имущество предприятия – основные и оборотные средства, которые предприятие может самостоятельно приобретать, учитывать, использовать, продавать, списывать, платить налоги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Имущественная ответственность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приятие несет ответственность по своим обязательствам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a22e"/>
                </a:solidFill>
                <a:latin typeface="Times New Roman"/>
                <a:ea typeface="Times New Roman"/>
              </a:rPr>
              <a:t>Выступление в гражданских делах от своего имени </a:t>
            </a:r>
            <a:r>
              <a:rPr b="1" lang="ru-RU" sz="27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едприятие имеет право выступать от своего имени в суде в качестве истца или ответчика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14200" y="356760"/>
            <a:ext cx="871560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Некоммерческая организация</a:t>
            </a:r>
            <a:r>
              <a:rPr b="0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юридическое лицо, не ставящее в качестве основной цели своей деятельности извлечение прибыли и не распределяющие прибыль между участниками; получаемая прибыль используется для саморазвития, достижения конкретных результатов организации.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Коммерческая организация</a:t>
            </a:r>
            <a:r>
              <a:rPr b="0" lang="ru-RU" sz="3400" spc="-1" strike="noStrike" u="sng">
                <a:solidFill>
                  <a:srgbClr val="f0a22e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цель – получение прибыли и распределение её между всеми участниками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262080" indent="-262080">
              <a:lnSpc>
                <a:spcPct val="100000"/>
              </a:lnSpc>
              <a:spcBef>
                <a:spcPts val="85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Содержимое 2" descr=""/>
          <p:cNvPicPr/>
          <p:nvPr/>
        </p:nvPicPr>
        <p:blipFill>
          <a:blip r:embed="rId1"/>
          <a:stretch/>
        </p:blipFill>
        <p:spPr>
          <a:xfrm>
            <a:off x="506520" y="530280"/>
            <a:ext cx="8180280" cy="511488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Рисунок 40" descr=""/>
          <p:cNvPicPr/>
          <p:nvPr/>
        </p:nvPicPr>
        <p:blipFill>
          <a:blip r:embed="rId2"/>
          <a:stretch/>
        </p:blipFill>
        <p:spPr>
          <a:xfrm>
            <a:off x="285840" y="357120"/>
            <a:ext cx="8643960" cy="614376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3"/>
          <p:cNvSpPr/>
          <p:nvPr/>
        </p:nvSpPr>
        <p:spPr>
          <a:xfrm>
            <a:off x="0" y="3848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328680" y="5754600"/>
            <a:ext cx="8529480" cy="9381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213840" y="28548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олное товарищество (ст.69-81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товарищество на вере (ст.82-86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 с ограниченной ответственностью (ст.87-94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общество с дополнительной ответственностью (ст.95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акционерное общество (открытое и закрытое) (ст.96-104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производственные кооперативы (ст.107-112 ГК РФ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государственное и муниципальное унитарные предприятия (ст.113-115 ГК РФ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311040" y="5389560"/>
            <a:ext cx="8375760" cy="1535040"/>
          </a:xfrm>
          <a:prstGeom prst="rect">
            <a:avLst/>
          </a:prstGeom>
          <a:ln w="0">
            <a:noFill/>
          </a:ln>
        </p:spPr>
      </p:pic>
      <p:grpSp>
        <p:nvGrpSpPr>
          <p:cNvPr id="413" name="Organization Chart 3"/>
          <p:cNvGrpSpPr/>
          <p:nvPr/>
        </p:nvGrpSpPr>
        <p:grpSpPr>
          <a:xfrm>
            <a:off x="500040" y="500040"/>
            <a:ext cx="8183160" cy="5000400"/>
            <a:chOff x="500040" y="500040"/>
            <a:chExt cx="8183160" cy="5000400"/>
          </a:xfrm>
        </p:grpSpPr>
        <p:cxnSp>
          <p:nvCxnSpPr>
            <p:cNvPr id="414" name="_s1028"/>
            <p:cNvCxnSpPr>
              <a:stCxn id="415" idx="2"/>
              <a:endCxn id="416" idx="3"/>
            </p:cNvCxnSpPr>
            <p:nvPr/>
          </p:nvCxnSpPr>
          <p:spPr>
            <a:xfrm rot="10800000">
              <a:off x="4553280" y="3356640"/>
              <a:ext cx="279720" cy="1823400"/>
            </a:xfrm>
            <a:prstGeom prst="bentConnector2">
              <a:avLst/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17" name="_s1029"/>
            <p:cNvCxnSpPr>
              <a:stCxn id="418" idx="2"/>
              <a:endCxn id="416" idx="3"/>
            </p:cNvCxnSpPr>
            <p:nvPr/>
          </p:nvCxnSpPr>
          <p:spPr>
            <a:xfrm rot="10800000">
              <a:off x="4553280" y="3356640"/>
              <a:ext cx="279720" cy="754200"/>
            </a:xfrm>
            <a:prstGeom prst="bentConnector2">
              <a:avLst/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19" name="_s1030"/>
            <p:cNvCxnSpPr>
              <a:stCxn id="420" idx="0"/>
              <a:endCxn id="421" idx="3"/>
            </p:cNvCxnSpPr>
            <p:nvPr/>
          </p:nvCxnSpPr>
          <p:spPr>
            <a:xfrm flipV="1" rot="16200000">
              <a:off x="6939360" y="1581120"/>
              <a:ext cx="357840" cy="176580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2" name="_s1031"/>
            <p:cNvCxnSpPr>
              <a:stCxn id="423" idx="0"/>
              <a:endCxn id="421" idx="3"/>
            </p:cNvCxnSpPr>
            <p:nvPr/>
          </p:nvCxnSpPr>
          <p:spPr>
            <a:xfrm flipV="1" rot="16200000">
              <a:off x="6097680" y="2422800"/>
              <a:ext cx="357840" cy="8244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4" name="_s1032"/>
            <p:cNvCxnSpPr>
              <a:stCxn id="416" idx="0"/>
              <a:endCxn id="421" idx="3"/>
            </p:cNvCxnSpPr>
            <p:nvPr/>
          </p:nvCxnSpPr>
          <p:spPr>
            <a:xfrm flipH="1" flipV="1" rot="5400000">
              <a:off x="5254200" y="1661400"/>
              <a:ext cx="357840" cy="160560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5" name="_s1033"/>
            <p:cNvCxnSpPr>
              <a:stCxn id="426" idx="0"/>
              <a:endCxn id="427" idx="3"/>
            </p:cNvCxnSpPr>
            <p:nvPr/>
          </p:nvCxnSpPr>
          <p:spPr>
            <a:xfrm flipV="1" rot="16200000">
              <a:off x="2307600" y="2003040"/>
              <a:ext cx="357840" cy="92196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28" name="_s1034"/>
            <p:cNvCxnSpPr>
              <a:stCxn id="429" idx="0"/>
              <a:endCxn id="427" idx="3"/>
            </p:cNvCxnSpPr>
            <p:nvPr/>
          </p:nvCxnSpPr>
          <p:spPr>
            <a:xfrm flipH="1" flipV="1" rot="5400000">
              <a:off x="1464120" y="2080800"/>
              <a:ext cx="357840" cy="766440"/>
            </a:xfrm>
            <a:prstGeom prst="bentConnector3">
              <a:avLst>
                <a:gd name="adj1" fmla="val 31419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30" name="_s1035"/>
            <p:cNvCxnSpPr>
              <a:stCxn id="421" idx="0"/>
              <a:endCxn id="431" idx="3"/>
            </p:cNvCxnSpPr>
            <p:nvPr/>
          </p:nvCxnSpPr>
          <p:spPr>
            <a:xfrm flipV="1" rot="16200000">
              <a:off x="5043600" y="300600"/>
              <a:ext cx="357840" cy="2183760"/>
            </a:xfrm>
            <a:prstGeom prst="bentConnector3">
              <a:avLst>
                <a:gd name="adj1" fmla="val 31218"/>
              </a:avLst>
            </a:prstGeom>
            <a:ln w="28440">
              <a:solidFill>
                <a:srgbClr val="fbeec9"/>
              </a:solidFill>
              <a:miter/>
            </a:ln>
          </p:spPr>
        </p:cxnSp>
        <p:cxnSp>
          <p:nvCxnSpPr>
            <p:cNvPr id="432" name="_s1036"/>
            <p:cNvCxnSpPr>
              <a:stCxn id="427" idx="0"/>
              <a:endCxn id="431" idx="3"/>
            </p:cNvCxnSpPr>
            <p:nvPr/>
          </p:nvCxnSpPr>
          <p:spPr>
            <a:xfrm flipH="1" flipV="1" rot="5400000">
              <a:off x="2937960" y="378720"/>
              <a:ext cx="357840" cy="2028240"/>
            </a:xfrm>
            <a:prstGeom prst="bentConnector3">
              <a:avLst>
                <a:gd name="adj1" fmla="val 31218"/>
              </a:avLst>
            </a:prstGeom>
            <a:ln w="28440">
              <a:solidFill>
                <a:srgbClr val="fbeec9"/>
              </a:solidFill>
              <a:miter/>
            </a:ln>
          </p:spPr>
        </p:cxnSp>
        <p:sp>
          <p:nvSpPr>
            <p:cNvPr id="431" name="_s1037"/>
            <p:cNvSpPr/>
            <p:nvPr/>
          </p:nvSpPr>
          <p:spPr>
            <a:xfrm>
              <a:off x="3447000" y="50004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0a22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0a2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Хозяйственн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товари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4e3b30"/>
                  </a:solidFill>
                  <a:latin typeface="Arial"/>
                </a:rPr>
                <a:t>и об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1038"/>
            <p:cNvSpPr/>
            <p:nvPr/>
          </p:nvSpPr>
          <p:spPr>
            <a:xfrm>
              <a:off x="1342800" y="157140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5644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озяй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1039"/>
            <p:cNvSpPr/>
            <p:nvPr/>
          </p:nvSpPr>
          <p:spPr>
            <a:xfrm>
              <a:off x="5553720" y="157140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5644e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564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Хозяйств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40"/>
            <p:cNvSpPr/>
            <p:nvPr/>
          </p:nvSpPr>
          <p:spPr>
            <a:xfrm>
              <a:off x="50004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ол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_s1041"/>
            <p:cNvSpPr/>
            <p:nvPr/>
          </p:nvSpPr>
          <p:spPr>
            <a:xfrm>
              <a:off x="218484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на вер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1042"/>
            <p:cNvSpPr/>
            <p:nvPr/>
          </p:nvSpPr>
          <p:spPr>
            <a:xfrm>
              <a:off x="387000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Акционерн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1043"/>
            <p:cNvSpPr/>
            <p:nvPr/>
          </p:nvSpPr>
          <p:spPr>
            <a:xfrm>
              <a:off x="5555160" y="2643120"/>
              <a:ext cx="144432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 ограничен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ветств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_s1044"/>
            <p:cNvSpPr/>
            <p:nvPr/>
          </p:nvSpPr>
          <p:spPr>
            <a:xfrm>
              <a:off x="7240320" y="264312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с дополнительн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ветственность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1045"/>
            <p:cNvSpPr/>
            <p:nvPr/>
          </p:nvSpPr>
          <p:spPr>
            <a:xfrm>
              <a:off x="4833000" y="371448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Открыт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1046"/>
            <p:cNvSpPr/>
            <p:nvPr/>
          </p:nvSpPr>
          <p:spPr>
            <a:xfrm>
              <a:off x="4833000" y="4786200"/>
              <a:ext cx="1442880" cy="714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ad1f1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ad1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Закрыто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1" descr=""/>
          <p:cNvPicPr/>
          <p:nvPr/>
        </p:nvPicPr>
        <p:blipFill>
          <a:blip r:embed="rId1"/>
          <a:stretch/>
        </p:blipFill>
        <p:spPr>
          <a:xfrm>
            <a:off x="311040" y="5138640"/>
            <a:ext cx="8375760" cy="153684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285480" y="529920"/>
            <a:ext cx="84294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Хозяйственными товариществами и обществами признаются коммерческие организации с разделенным на доли (вклады) учредителей (участников) уставным (складочным) капиталом. 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1100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3840" y="356760"/>
            <a:ext cx="4000680" cy="592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4e3b30"/>
                </a:solidFill>
                <a:uFillTx/>
                <a:latin typeface="Times New Roman"/>
                <a:ea typeface="Times New Roman"/>
              </a:rPr>
              <a:t>Достоинства обществ, товариществ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легко организовать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экономические (материальные, трудовые, финансовые) возможности многократно возрастают;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возникает возможность привлекать к работе квалифицированных специалистов.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264960" indent="-26496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Прямоугольник 4"/>
          <p:cNvSpPr/>
          <p:nvPr/>
        </p:nvSpPr>
        <p:spPr>
          <a:xfrm>
            <a:off x="4286160" y="428760"/>
            <a:ext cx="457200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ность в финансовых ресурс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днозначное понимание целе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ая ответственность партнеров не только за свои собственные решения, но и за последствия действий други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ость определения меры каждого в доходе или убытке фирмы, разделе иму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22:05:48Z</dcterms:created>
  <dc:creator>Matvei</dc:creator>
  <dc:description/>
  <dc:language>en-US</dc:language>
  <cp:lastModifiedBy>ADMIN</cp:lastModifiedBy>
  <dcterms:modified xsi:type="dcterms:W3CDTF">2017-01-13T07:34:00Z</dcterms:modified>
  <cp:revision>58</cp:revision>
  <dc:subject/>
  <dc:title>Организационно-правовые формы предпринимательской деятельности</dc:title>
</cp:coreProperties>
</file>