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34.png" ContentType="image/png"/>
  <Override PartName="/ppt/media/image28.png" ContentType="image/png"/>
  <Override PartName="/ppt/media/image38.jpeg" ContentType="image/jpeg"/>
  <Override PartName="/ppt/media/image40.jpeg" ContentType="image/jpeg"/>
  <Override PartName="/ppt/media/image44.jpeg" ContentType="image/jpeg"/>
  <Override PartName="/ppt/media/image9.png" ContentType="image/png"/>
  <Override PartName="/ppt/media/image41.jpeg" ContentType="image/jpeg"/>
  <Override PartName="/ppt/media/image50.jpeg" ContentType="image/jpeg"/>
  <Override PartName="/ppt/media/image46.jpeg" ContentType="image/jpeg"/>
  <Override PartName="/ppt/media/image51.jpeg" ContentType="image/jpeg"/>
  <Override PartName="/ppt/media/image45.jpeg" ContentType="image/jpeg"/>
  <Override PartName="/ppt/media/image55.png" ContentType="image/png"/>
  <Override PartName="/ppt/media/image47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31.jpeg" ContentType="image/jpeg"/>
  <Override PartName="/ppt/media/image48.jpeg" ContentType="image/jpeg"/>
  <Override PartName="/ppt/media/image53.jpeg" ContentType="image/jpeg"/>
  <Override PartName="/ppt/media/image30.png" ContentType="image/png"/>
  <Override PartName="/ppt/media/image13.png" ContentType="image/png"/>
  <Override PartName="/ppt/media/image54.jpeg" ContentType="image/jpe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D3EB-AFC4-4F40-9374-8B01266A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D4C0-499E-4E82-8673-638D2A99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DB9A-CBFA-4517-8D1A-65673C37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3874-9F1A-467E-816C-ADE97B18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FACE-3117-4419-893D-12BDA1D55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839D-BD12-4224-A3E7-A72745C6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FE62-86A3-4245-80F8-8979E888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FFAE-F6EE-4A12-9557-796B6DB7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4F25-A9EE-455F-B7D6-87E505CC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A906-22E5-4EF2-BA52-0C1185A2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F598-687F-4C69-8D65-2E889808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0068-7C7A-4717-9909-76B35D80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47A4-859E-4782-A47D-D3AE6C5B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8F39-BA3D-4A34-B918-E61995DE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77C9-011E-4332-AD02-87630AE0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7B0B-7CCF-4B88-93FA-78CC3F95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5F99-025F-4CBE-BC16-BB60D439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40AA-530D-483A-AAFF-2D09A45B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FFFF-F95F-47E4-B084-AF81D666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7505-494C-4E4F-8E30-6DFA400F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1540-8D12-49B8-A3A3-992B3255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AE0F-8C28-4B8D-8832-4DC034AA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A72F-D75A-4780-B05F-C724DFC1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5434-A8E6-4492-BDE5-9EB477CC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5d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9BB0-DC8A-4082-B73D-1C2B9F164FCB}" type="slidenum">
              <a:rPr b="0" lang="en-US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5d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5598-94C1-403F-A92A-C47CCD7ED659}" type="slidenum">
              <a:rPr b="0" lang="en-US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15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        </a:t>
            </a:r>
            <a:r>
              <a:rPr b="1" i="1" lang="en-US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Крылатые фразы </a:t>
            </a:r>
            <a:br>
              <a:rPr sz="4000"/>
            </a:br>
            <a:r>
              <a:rPr b="1" i="1" lang="en-US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             и их происхождение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009800" y="4776480"/>
            <a:ext cx="7116480" cy="14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Научно-исследовательская работа ученицы 1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1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а класса МКОУ СОШ № 3 г. Карачаевска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Урусовой Мариям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Руководитель Мартынова Т.Г. учитель русского языка и литературы СОШ № 3 г. Карачаевска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3" name="Прямоугольник 3"/>
          <p:cNvSpPr/>
          <p:nvPr/>
        </p:nvSpPr>
        <p:spPr>
          <a:xfrm>
            <a:off x="395280" y="476280"/>
            <a:ext cx="8569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Verdana"/>
              </a:rPr>
              <a:t>МУНИЦИПАЛЬНОЕ КАЗЕННОЕ ОБРАЗОВАТЕЛЬНОЕ УЧРЕЖДЕНИЕ «СРЕДНЯЯ ОБЩЕОБРАЗОВАТЕЛЬНАЯ ШКОЛА № 3 ИМЕНИ Х.У. БОГАТЫРЕ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Verdana"/>
              </a:rPr>
              <a:t>КАРАЧАЕВСКОГО ГОРОДСКОГО ОКРУГ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4" descr="logo.png"/>
          <p:cNvPicPr/>
          <p:nvPr/>
        </p:nvPicPr>
        <p:blipFill>
          <a:blip r:embed="rId1"/>
          <a:stretch/>
        </p:blipFill>
        <p:spPr>
          <a:xfrm>
            <a:off x="3786120" y="858960"/>
            <a:ext cx="1998720" cy="140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57150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Литературные крылатые выражения и афоризмы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3" name="Содержимое 3" descr="176746.jpg"/>
          <p:cNvPicPr/>
          <p:nvPr/>
        </p:nvPicPr>
        <p:blipFill>
          <a:blip r:embed="rId1"/>
          <a:stretch/>
        </p:blipFill>
        <p:spPr>
          <a:xfrm>
            <a:off x="7000920" y="1285920"/>
            <a:ext cx="1697040" cy="157464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4" descr="Alexandr_Sergievich_Pushkin.jpg"/>
          <p:cNvPicPr/>
          <p:nvPr/>
        </p:nvPicPr>
        <p:blipFill>
          <a:blip r:embed="rId2"/>
          <a:srcRect l="18437" t="6333" r="21006" b="34555"/>
          <a:stretch/>
        </p:blipFill>
        <p:spPr>
          <a:xfrm>
            <a:off x="7000920" y="4000680"/>
            <a:ext cx="1714320" cy="208728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5"/>
          <p:cNvSpPr/>
          <p:nvPr/>
        </p:nvSpPr>
        <p:spPr>
          <a:xfrm>
            <a:off x="285840" y="1285920"/>
            <a:ext cx="671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А судьи к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лужить бы рад- прислуживаться тош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итата из комедии А. С. Грибоедова "Горе от ума" (1824), слова Чац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частливые часов не наблюд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итата из комедии А. С. Грибоедова "Горе от ума", слова Соф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 корабля на б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ажение из "Евгения Онегина" А. С. Пушкина, (1832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ир во время чу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Название драматических сцен А. С. Пушкина (1832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Ох, тяжела ты, шапка Мономах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итата из трагедии А. С. Пушкина "Борис Годунов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Литературные крылатые выражения и афоризмы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7" name="Содержимое 3" descr="11185.jpg"/>
          <p:cNvPicPr/>
          <p:nvPr/>
        </p:nvPicPr>
        <p:blipFill>
          <a:blip r:embed="rId1"/>
          <a:stretch/>
        </p:blipFill>
        <p:spPr>
          <a:xfrm>
            <a:off x="6500880" y="1500120"/>
            <a:ext cx="1677960" cy="212256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4"/>
          <p:cNvSpPr/>
          <p:nvPr/>
        </p:nvSpPr>
        <p:spPr>
          <a:xfrm>
            <a:off x="285840" y="2071800"/>
            <a:ext cx="6357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Verdana"/>
              </a:rPr>
              <a:t>Рожденный ползать летать не мо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итата из "Песни о Соколе" М. Горь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зумство храбрых- вот мудрость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еловек-это звучит горд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ahoma"/>
                <a:ea typeface="Times New Roman"/>
              </a:rPr>
              <a:t>И </a:t>
            </a:r>
            <a:r>
              <a:rPr b="1" lang="en-US" sz="1800" spc="-1" strike="noStrike">
                <a:solidFill>
                  <a:srgbClr val="c00000"/>
                </a:solidFill>
                <a:latin typeface="Tahoma"/>
                <a:ea typeface="Tahoma"/>
              </a:rPr>
              <a:t>вечный</a:t>
            </a:r>
            <a:r>
              <a:rPr b="1" lang="en-US" sz="1800" spc="-1" strike="noStrike">
                <a:solidFill>
                  <a:srgbClr val="c00000"/>
                </a:solidFill>
                <a:latin typeface="Tahoma"/>
                <a:ea typeface="Times New Roman"/>
              </a:rPr>
              <a:t> бой! Покой нам только снится</a:t>
            </a:r>
            <a:br>
              <a:rPr sz="1800"/>
            </a:br>
            <a:r>
              <a:rPr b="0" i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итата из стихотворения А.А.Блока “На поле Куликовом” (190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красная Дама. Прекрасная Незнаком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5" descr="01lab1vkh1301735657.jpg"/>
          <p:cNvPicPr/>
          <p:nvPr/>
        </p:nvPicPr>
        <p:blipFill>
          <a:blip r:embed="rId2"/>
          <a:srcRect l="21680" t="10171" r="16256" b="22034"/>
          <a:stretch/>
        </p:blipFill>
        <p:spPr>
          <a:xfrm>
            <a:off x="6500880" y="3786120"/>
            <a:ext cx="167148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Басни Крылова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01" name="Содержимое 3" descr="2122.jpg"/>
          <p:cNvPicPr/>
          <p:nvPr/>
        </p:nvPicPr>
        <p:blipFill>
          <a:blip r:embed="rId1"/>
          <a:srcRect l="0" t="11830" r="0" b="7091"/>
          <a:stretch/>
        </p:blipFill>
        <p:spPr>
          <a:xfrm>
            <a:off x="5786280" y="857160"/>
            <a:ext cx="2603520" cy="278604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4"/>
          <p:cNvSpPr/>
          <p:nvPr/>
        </p:nvSpPr>
        <p:spPr>
          <a:xfrm>
            <a:off x="285840" y="1500120"/>
            <a:ext cx="5429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Рыльце в пух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ажение из басни И. А. Крылова "Лисица и Сурок" (181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двежья усл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ажение возникло из басни И. А. Крылова "Пустынник и Медведь" (180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сильного всегда бессильный винов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ажение возникло из басни И. А. Крылова «Волк и ягненок" (180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Орлам случается и ниже кур спускаться, 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о курам никогда до облак не подняться!</a:t>
            </a: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ажение возникло из басни И. А. Крылова «Орел и курица" (180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Крылатые выражения 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Библии и Корана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04" name="Содержимое 3" descr="pp_bible_1024.jpg"/>
          <p:cNvPicPr/>
          <p:nvPr/>
        </p:nvPicPr>
        <p:blipFill>
          <a:blip r:embed="rId1"/>
          <a:stretch/>
        </p:blipFill>
        <p:spPr>
          <a:xfrm>
            <a:off x="6143760" y="2000160"/>
            <a:ext cx="2476440" cy="185760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4" descr="imghaut_jeunemusulmandetoul.jpg"/>
          <p:cNvPicPr/>
          <p:nvPr/>
        </p:nvPicPr>
        <p:blipFill>
          <a:blip r:embed="rId2"/>
          <a:srcRect l="6380" t="0" r="12771" b="0"/>
          <a:stretch/>
        </p:blipFill>
        <p:spPr>
          <a:xfrm>
            <a:off x="6143760" y="4071960"/>
            <a:ext cx="2500200" cy="231948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5"/>
          <p:cNvSpPr/>
          <p:nvPr/>
        </p:nvSpPr>
        <p:spPr>
          <a:xfrm>
            <a:off x="396720" y="2276640"/>
            <a:ext cx="5572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9216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  <a:ea typeface="Arial"/>
              </a:rPr>
              <a:t>На седьмом н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ажение означает «быть счастливы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анна небес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Библии, манна - пища, которую Бог посылал иудеям каждое утро с неба, когда они шли пустыней в землю обетованную (Исход, 16, 14-16 и 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Лживость – одна из дверей лицем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Хадис рассказал ибн Адийю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  <a:ea typeface="Times New Roman"/>
              </a:rPr>
              <a:t>Если бы речь была серебром, то молчание было бы золо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Пророк Сулейма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Метафоры – афоризмы о разном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«Мозговой штурм»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09800" y="1806120"/>
            <a:ext cx="7124400" cy="455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Быть или не быть - вот в чем вопрос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Начало монолога Гамлета в одноименной трагедии Шекспира в переводе Н.А. Полевого (1837)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Время – деньги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Афоризм из сочинения американского ученого и политического деятеля Франклина (1706-1790) "Совет молодому купцу" (1748)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нание – сила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Выражение английского философа Френсиса Бэкона в "Нравственных и политических очерках" (1597)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олчание - знак согласия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Выражение римского папы (1294-1303) Бонифация VIII в одном из его посланий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Крылатые выражения 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конца </a:t>
            </a: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XX 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века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042560" y="1699920"/>
            <a:ext cx="6134040" cy="40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Процесс пошел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надлежат первому и последнему Президенту СССР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нам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обустроить Россию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ва Нобелевского лауреата А. Солженицина 1990 г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Хотели как лучше, а получилось как всегда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                    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премьер-министр российского                     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правительства В. Черномырдин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11" name="Рисунок 3" descr="439.jpg"/>
          <p:cNvPicPr/>
          <p:nvPr/>
        </p:nvPicPr>
        <p:blipFill>
          <a:blip r:embed="rId1"/>
          <a:stretch/>
        </p:blipFill>
        <p:spPr>
          <a:xfrm>
            <a:off x="7358040" y="1714680"/>
            <a:ext cx="1571760" cy="207000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4" descr="08dcc3f88e37.jpg"/>
          <p:cNvPicPr/>
          <p:nvPr/>
        </p:nvPicPr>
        <p:blipFill>
          <a:blip r:embed="rId2"/>
          <a:stretch/>
        </p:blipFill>
        <p:spPr>
          <a:xfrm>
            <a:off x="7358040" y="3857760"/>
            <a:ext cx="1542960" cy="204768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5" descr="_Picture_file_path_46588.jpg"/>
          <p:cNvPicPr/>
          <p:nvPr/>
        </p:nvPicPr>
        <p:blipFill>
          <a:blip r:embed="rId3"/>
          <a:stretch/>
        </p:blipFill>
        <p:spPr>
          <a:xfrm>
            <a:off x="357120" y="4643280"/>
            <a:ext cx="234324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2" descr="fda17a76e740.jpg"/>
          <p:cNvPicPr/>
          <p:nvPr/>
        </p:nvPicPr>
        <p:blipFill>
          <a:blip r:embed="rId1"/>
          <a:srcRect l="10937" t="0" r="26567" b="3124"/>
          <a:stretch/>
        </p:blipFill>
        <p:spPr>
          <a:xfrm>
            <a:off x="955800" y="1643040"/>
            <a:ext cx="1544400" cy="31910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400" y="571680"/>
            <a:ext cx="63579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Крылатые выражения современного телевидения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16" name="Рисунок 4" descr="c14d8b2741_1958765_2358845.jpg"/>
          <p:cNvPicPr/>
          <p:nvPr/>
        </p:nvPicPr>
        <p:blipFill>
          <a:blip r:embed="rId2"/>
          <a:stretch/>
        </p:blipFill>
        <p:spPr>
          <a:xfrm>
            <a:off x="7072200" y="1714680"/>
            <a:ext cx="1633680" cy="228600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5" descr="1malahh.jpg"/>
          <p:cNvPicPr/>
          <p:nvPr/>
        </p:nvPicPr>
        <p:blipFill>
          <a:blip r:embed="rId3"/>
          <a:srcRect l="7909" t="0" r="9151" b="0"/>
          <a:stretch/>
        </p:blipFill>
        <p:spPr>
          <a:xfrm>
            <a:off x="7072200" y="4214880"/>
            <a:ext cx="1643040" cy="22748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7" descr="x_e28510c1.jpg"/>
          <p:cNvPicPr/>
          <p:nvPr/>
        </p:nvPicPr>
        <p:blipFill>
          <a:blip r:embed="rId4"/>
          <a:stretch/>
        </p:blipFill>
        <p:spPr>
          <a:xfrm>
            <a:off x="7072200" y="357120"/>
            <a:ext cx="1643040" cy="12319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8"/>
          <p:cNvSpPr/>
          <p:nvPr/>
        </p:nvSpPr>
        <p:spPr>
          <a:xfrm>
            <a:off x="2857680" y="1571760"/>
            <a:ext cx="3786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Поле чуд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Кто хочет стать миллионе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Минута сла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Новая вол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Жди ме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Момент ист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Честный понеде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Поеди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ВКонтак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Пусть говор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Большая сти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9" descr="shevchenko_max_30.jpg"/>
          <p:cNvPicPr/>
          <p:nvPr/>
        </p:nvPicPr>
        <p:blipFill>
          <a:blip r:embed="rId5"/>
          <a:stretch/>
        </p:blipFill>
        <p:spPr>
          <a:xfrm>
            <a:off x="928800" y="5214960"/>
            <a:ext cx="1730160" cy="133524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0" descr="19284.jpg"/>
          <p:cNvPicPr/>
          <p:nvPr/>
        </p:nvPicPr>
        <p:blipFill>
          <a:blip r:embed="rId6"/>
          <a:srcRect l="0" t="0" r="0" b="8284"/>
          <a:stretch/>
        </p:blipFill>
        <p:spPr>
          <a:xfrm>
            <a:off x="5572080" y="4786200"/>
            <a:ext cx="1217520" cy="171468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1" descr="pozner-vladimir-vladimirovich_349_1305412003.jpg"/>
          <p:cNvPicPr/>
          <p:nvPr/>
        </p:nvPicPr>
        <p:blipFill>
          <a:blip r:embed="rId7"/>
          <a:stretch/>
        </p:blipFill>
        <p:spPr>
          <a:xfrm>
            <a:off x="3214800" y="5000760"/>
            <a:ext cx="1949400" cy="1476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1280" y="692280"/>
            <a:ext cx="71247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ad1f1f"/>
                </a:solidFill>
                <a:latin typeface="Arial"/>
              </a:rPr>
              <a:t>«Крылатые» выражения рекламы и Интернета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55280" y="1700280"/>
            <a:ext cx="7124760" cy="46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гафон – будущее зависит от тебя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ТС – на шаг впереди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илайн – живи на яркой стороне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арс – все будет в шоколаде!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Verdana"/>
              </a:rPr>
              <a:t>Nuts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– заряжай мозги!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Не тормози – сникерсни!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Пепсикола – живи большими глотками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25" name="Picture 6" descr="roman_man_2"/>
          <p:cNvPicPr/>
          <p:nvPr/>
        </p:nvPicPr>
        <p:blipFill>
          <a:blip r:embed="rId1"/>
          <a:stretch/>
        </p:blipFill>
        <p:spPr>
          <a:xfrm>
            <a:off x="7164360" y="1197000"/>
            <a:ext cx="1785960" cy="2449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2"/>
          <p:cNvSpPr/>
          <p:nvPr/>
        </p:nvSpPr>
        <p:spPr>
          <a:xfrm>
            <a:off x="6858000" y="0"/>
            <a:ext cx="1785960" cy="6858000"/>
          </a:xfrm>
          <a:prstGeom prst="rect">
            <a:avLst/>
          </a:pr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628632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Проблема:</a:t>
            </a: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Место и значение крылатых выражений, слов и афоризмов в лексике современного русского языка»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7" name="Прямоугольник 4"/>
          <p:cNvSpPr/>
          <p:nvPr/>
        </p:nvSpPr>
        <p:spPr>
          <a:xfrm>
            <a:off x="6958080" y="3071880"/>
            <a:ext cx="1571400" cy="714240"/>
          </a:xfrm>
          <a:prstGeom prst="rect">
            <a:avLst/>
          </a:prstGeom>
          <a:gradFill rotWithShape="0">
            <a:gsLst>
              <a:gs pos="0">
                <a:srgbClr val="cca192"/>
              </a:gs>
              <a:gs pos="100000">
                <a:srgbClr val="ddc0b6"/>
              </a:gs>
            </a:gsLst>
            <a:lin ang="5400000"/>
          </a:gradFill>
          <a:ln cap="rnd" w="190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27242"/>
                </a:solidFill>
                <a:latin typeface="Verdana"/>
              </a:rPr>
              <a:t>Род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27242"/>
                </a:solidFill>
                <a:latin typeface="Verdana"/>
              </a:rPr>
              <a:t>«</a:t>
            </a:r>
            <a:r>
              <a:rPr b="0" lang="en-US" sz="1600" spc="-1" strike="noStrike">
                <a:solidFill>
                  <a:srgbClr val="a27242"/>
                </a:solidFill>
                <a:latin typeface="Times New Roman"/>
                <a:ea typeface="Times New Roman"/>
              </a:rPr>
              <a:t>Мыслитель</a:t>
            </a:r>
            <a:r>
              <a:rPr b="0" lang="en-US" sz="1100" spc="-1" strike="noStrike">
                <a:solidFill>
                  <a:srgbClr val="a27242"/>
                </a:solidFill>
                <a:latin typeface="Verdana"/>
              </a:rPr>
              <a:t>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6215040" cy="553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Цели работы: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-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следовать историю возникновения крылатых слов;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проследить лексическое значение крылатых выражений и афоризмов;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показать источники возникновения крылатых слов и выражений в СМИ и сети Интернет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7072200" y="0"/>
            <a:ext cx="1785960" cy="6858000"/>
          </a:xfrm>
          <a:prstGeom prst="rect">
            <a:avLst/>
          </a:pr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5"/>
          <p:cNvSpPr/>
          <p:nvPr/>
        </p:nvSpPr>
        <p:spPr>
          <a:xfrm>
            <a:off x="7286760" y="2428920"/>
            <a:ext cx="1357200" cy="35712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ок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Классификация крылатых слов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806120"/>
            <a:ext cx="8642160" cy="25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Verdana"/>
              </a:rPr>
              <a:t>    </a:t>
            </a: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Античные и библейские мифы, </a:t>
            </a: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народные песни и сказки, </a:t>
            </a: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мировая художественная литература, </a:t>
            </a: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критика, публицистика, мемуары, </a:t>
            </a: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исторические документы, научные сочинения, </a:t>
            </a: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речи политических и общественных деятелей являются обильными источниками крылатых слов.</a:t>
            </a: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3" name="Рисунок 3" descr=""/>
          <p:cNvPicPr/>
          <p:nvPr/>
        </p:nvPicPr>
        <p:blipFill>
          <a:blip r:embed="rId1"/>
          <a:stretch/>
        </p:blipFill>
        <p:spPr>
          <a:xfrm>
            <a:off x="684360" y="4149720"/>
            <a:ext cx="1555560" cy="250344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4" descr=""/>
          <p:cNvPicPr/>
          <p:nvPr/>
        </p:nvPicPr>
        <p:blipFill>
          <a:blip r:embed="rId2"/>
          <a:stretch/>
        </p:blipFill>
        <p:spPr>
          <a:xfrm>
            <a:off x="4716360" y="4149720"/>
            <a:ext cx="1878120" cy="25034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5" descr=""/>
          <p:cNvPicPr/>
          <p:nvPr/>
        </p:nvPicPr>
        <p:blipFill>
          <a:blip r:embed="rId3"/>
          <a:stretch/>
        </p:blipFill>
        <p:spPr>
          <a:xfrm>
            <a:off x="2411280" y="4146480"/>
            <a:ext cx="2089440" cy="25066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6" descr=""/>
          <p:cNvPicPr/>
          <p:nvPr/>
        </p:nvPicPr>
        <p:blipFill>
          <a:blip r:embed="rId4"/>
          <a:stretch/>
        </p:blipFill>
        <p:spPr>
          <a:xfrm>
            <a:off x="6732720" y="4149720"/>
            <a:ext cx="1834920" cy="250344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8"/>
          <p:cNvSpPr/>
          <p:nvPr/>
        </p:nvSpPr>
        <p:spPr>
          <a:xfrm>
            <a:off x="285840" y="928800"/>
            <a:ext cx="69292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рылатые слова многообразны по своему происхождению. Одни из них возникли в отдаленные эпохи, другие — совсем недавно. Культуры различных эпох и стран обогащали их запа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85840" y="676440"/>
            <a:ext cx="585792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Крылатые выражения философов древнего Рима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9" name="Прямоугольник 5"/>
          <p:cNvSpPr/>
          <p:nvPr/>
        </p:nvSpPr>
        <p:spPr>
          <a:xfrm>
            <a:off x="785880" y="1857240"/>
            <a:ext cx="5000400" cy="4786560"/>
          </a:xfrm>
          <a:prstGeom prst="rect">
            <a:avLst/>
          </a:prstGeom>
          <a:solidFill>
            <a:srgbClr val="f0e8e6"/>
          </a:solidFill>
          <a:ln cap="rnd" w="190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  <a:ea typeface="Times New Roman"/>
              </a:rPr>
              <a:t>Цель оправдывает средств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мас Гоббс (1588-1679).</a:t>
            </a:r>
            <a:r>
              <a:rPr b="1" i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  <a:ea typeface="Times New Roman"/>
              </a:rPr>
              <a:t>Человек человеку вол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ажение из "Ослиной комедии" древнеримского писателя Плав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ок. 254-184 гг.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  <a:ea typeface="Times New Roman"/>
              </a:rPr>
              <a:t>Белая во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ажение это, как обозначение редкого, резко отличного от остальных человека, дано в 7-й сатире римского поэта Ювенала (середина I в. - после 127 г. н. э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  <a:ea typeface="Times New Roman"/>
              </a:rPr>
              <a:t>Бумага все терпит (Бумага не красне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ажение восходит к римскому писателю и оратору Цицерону (106 - 43 гг. до н.э.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6858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Крылатые выражения философов Древней Греции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1" name="Прямоугольник 7"/>
          <p:cNvSpPr/>
          <p:nvPr/>
        </p:nvSpPr>
        <p:spPr>
          <a:xfrm>
            <a:off x="428760" y="1500120"/>
            <a:ext cx="6072120" cy="5000760"/>
          </a:xfrm>
          <a:prstGeom prst="rect">
            <a:avLst/>
          </a:prstGeom>
          <a:solidFill>
            <a:srgbClr val="f3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Что и требовалось доказ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й формулой кончается каждое математическое рассуждение великого греческого математика Евкли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III в. до н.э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Из двух зол избрать меньш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ажение, встречающееся в сочинениях древнегреческого философа Аристотеля "Никомахова этика" в форме: "Меньшее из зол надо выбирать". У Цицерона (в сочинении "Об обязанностях") сказано: "Следует не только выбирать из зол наименьшее, но и извлекать из них самих то, что может в них быть хорошего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Троянский ко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ажение принадлежит царю Итаки Одиссею (III в. до н.э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5840" y="676440"/>
            <a:ext cx="59292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Крылатые выражения Древней Руси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3" name="Прямоугольник 6"/>
          <p:cNvSpPr/>
          <p:nvPr/>
        </p:nvSpPr>
        <p:spPr>
          <a:xfrm>
            <a:off x="250920" y="1827360"/>
            <a:ext cx="6215040" cy="4786200"/>
          </a:xfrm>
          <a:prstGeom prst="rect">
            <a:avLst/>
          </a:prstGeom>
          <a:solidFill>
            <a:srgbClr val="f0e8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то к нам с мечом придет – от меча и погибн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ксандр Невский, князь Новгородский 124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Тяжело в учении – легко в бо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. Суворов говорил солдатам при переходе через Аль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ука побежд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кой горделивый заголовок на небольшой книге прозвучал бы как чванливое хвастовство, если бы имя ее автора не было Александр Суворов. Великий русский полководец имел полное право и сам озаглавить так составленное им руководство для боевой подготовки войск. </a:t>
            </a: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яжела ты,шапка Мономах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6760" y="676440"/>
            <a:ext cx="54291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Крылатые выражения Древней Руси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5" name="Прямоугольник 4"/>
          <p:cNvSpPr/>
          <p:nvPr/>
        </p:nvSpPr>
        <p:spPr>
          <a:xfrm>
            <a:off x="250920" y="1700280"/>
            <a:ext cx="5929200" cy="4786200"/>
          </a:xfrm>
          <a:prstGeom prst="rect">
            <a:avLst/>
          </a:prstGeom>
          <a:solidFill>
            <a:srgbClr val="f0e8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1711 г., перед Прусским походом, Петр I направил письмо в недавно учрежденный Сенат. Благодаря сенаторов за их деятельность, он требовал и впредь не медлить необходимыми распоряжениями, "понеже пропущение времени подобно смерти невозвратно". Крылатость слова Петра получили в более краткой форме: "Промедление смерти подобно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В Европу прорубить ок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710 г. При закладке Санкт 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250920" y="2349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Промедление смерти подоб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Verdana"/>
              </a:rPr>
              <a:t>Крылатые выражения </a:t>
            </a:r>
            <a:br>
              <a:rPr sz="3200"/>
            </a:br>
            <a:r>
              <a:rPr b="0" lang="en-US" sz="3200" spc="-1" strike="noStrike">
                <a:solidFill>
                  <a:srgbClr val="990033"/>
                </a:solidFill>
                <a:latin typeface="Verdana"/>
              </a:rPr>
              <a:t>о русском языке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50560" y="1806120"/>
            <a:ext cx="7273800" cy="479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322200" indent="-3222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Verdana"/>
              </a:rPr>
              <a:t>Русский язык в умелых руках и в опытных устах - красив, певуч, выразителен, гибок, послушен, ловок и </a:t>
            </a:r>
            <a:r>
              <a:rPr b="1" lang="en-US" sz="2000" spc="-1" strike="noStrike">
                <a:solidFill>
                  <a:srgbClr val="990033"/>
                </a:solidFill>
                <a:latin typeface="Verdana"/>
              </a:rPr>
              <a:t>вместителен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А. Куприн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Verdana"/>
              </a:rPr>
              <a:t>Нет таких звуков, красок, образов и мыслей - сложных и простых, - для которых не нашлось бы в нашем языке точного выражения.</a:t>
            </a: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К Паустовский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Verdana"/>
              </a:rPr>
              <a:t>Дивишься драгоценности нашего языка: что ни звук, то и подарок: все зернисто, крупно, как сам жемчуг, и, право, иное названье еще драгоценней самой вещи.</a:t>
            </a: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Н. Гоголь</a:t>
            </a: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9" name="Рисунок 4" descr=""/>
          <p:cNvPicPr/>
          <p:nvPr/>
        </p:nvPicPr>
        <p:blipFill>
          <a:blip r:embed="rId1"/>
          <a:stretch/>
        </p:blipFill>
        <p:spPr>
          <a:xfrm>
            <a:off x="6980400" y="4456080"/>
            <a:ext cx="2139840" cy="270684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"/>
          <p:cNvPicPr/>
          <p:nvPr/>
        </p:nvPicPr>
        <p:blipFill>
          <a:blip r:embed="rId2"/>
          <a:stretch/>
        </p:blipFill>
        <p:spPr>
          <a:xfrm>
            <a:off x="7047000" y="1000080"/>
            <a:ext cx="1805040" cy="25290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"/>
          <p:cNvPicPr/>
          <p:nvPr/>
        </p:nvPicPr>
        <p:blipFill>
          <a:blip r:embed="rId3"/>
          <a:stretch/>
        </p:blipFill>
        <p:spPr>
          <a:xfrm>
            <a:off x="7059600" y="2590920"/>
            <a:ext cx="1846440" cy="2766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4T09:28:33Z</dcterms:created>
  <dc:creator>UserSosh3</dc:creator>
  <dc:description/>
  <dc:language>en-US</dc:language>
  <cp:lastModifiedBy>Admin</cp:lastModifiedBy>
  <dcterms:modified xsi:type="dcterms:W3CDTF">2017-01-13T19:19:25Z</dcterms:modified>
  <cp:revision>80</cp:revision>
  <dc:subject/>
  <dc:title>Крылатые фразы  и их происхождение</dc:title>
</cp:coreProperties>
</file>