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33.jpeg" ContentType="image/jpeg"/>
  <Override PartName="/ppt/media/image4.png" ContentType="image/png"/>
  <Override PartName="/ppt/media/image34.png" ContentType="image/png"/>
  <Override PartName="/ppt/media/image28.png" ContentType="image/png"/>
  <Override PartName="/ppt/media/image38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41.jpeg" ContentType="image/jpeg"/>
  <Override PartName="/ppt/media/image50.jpeg" ContentType="image/jpeg"/>
  <Override PartName="/ppt/media/image46.jpeg" ContentType="image/jpeg"/>
  <Override PartName="/ppt/media/image51.jpeg" ContentType="image/jpe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31.jpeg" ContentType="image/jpeg"/>
  <Override PartName="/ppt/media/image48.jpeg" ContentType="image/jpeg"/>
  <Override PartName="/ppt/media/image53.jpeg" ContentType="image/jpeg"/>
  <Override PartName="/ppt/media/image30.png" ContentType="image/png"/>
  <Override PartName="/ppt/media/image13.png" ContentType="image/png"/>
  <Override PartName="/ppt/media/image54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3.jpeg" ContentType="image/jpe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F86-468A-48D6-B795-A38BCDD2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243B-BA00-4654-873E-38C7A623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C3A-5B5B-492F-A1A8-090B6D90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629E-436B-4779-9DA2-19E89B50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F336D-D1ED-4BE6-8D95-521447D30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4348-6430-4AED-99F4-60F9932B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9C29-30F7-4EEC-BF3A-C0B0E824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4536-4E58-4F74-9F4A-9AF95FEA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3A96-3932-4B43-B428-33294C48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DAD8-FAA3-4DE6-8A8B-A8B8C0B8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1624-1277-40D6-A2F7-E4243E4B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1CE9-EFCD-43EB-8361-C42D1CFC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7A523-CD56-4727-89DC-191E6517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0A7C-FAC2-483A-8C9C-ABE50FB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CA98-E4F4-47FD-A5C5-ADF55BA0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75E0-168E-421C-8314-EE753315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EF60-E6ED-4239-9693-2182C01B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EDD-9CC9-4E13-BE59-E93252A0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667-E04E-4378-806B-DE7FBE4B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8CF-9C86-430D-9DBD-2E0E7253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F3A9-B366-4D35-BB2B-A80F0BE6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EA78-7D33-4DB7-A3B2-ABD8811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826-B8B4-4A16-A0F0-E15A7E2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B34-AE65-487A-A1E9-48802DA8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5d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5134-6278-4600-BA4D-40ACD85E26CD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df5d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8000"/>
          </a:bodyPr>
          <a:p>
            <a:pPr marL="301680" indent="-3016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1" marL="653760" indent="-2512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2" marL="10058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3" marL="140796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4" marL="1810440" indent="-200880">
              <a:spcBef>
                <a:spcPts val="7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5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  <a:p>
            <a:pPr lvl="6" marL="1810440" indent="-2008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BDA2-D1C3-44FE-9A54-EA3997EBA92F}" type="slidenum">
              <a:rPr b="0" lang="en-US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5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рылатые фразы </a:t>
            </a:r>
            <a:br>
              <a:rPr sz="4000"/>
            </a:b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  и их происхождение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4776480"/>
            <a:ext cx="711648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Научно-исследовательская работа ученицы 1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а класса МКОУ СОШ № 3 г. Карачаевска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Урусовой Мариям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  <a:ea typeface="Arial"/>
              </a:rPr>
              <a:t>Руководитель Мартынова Т.Г. учитель русского языка и литературы СОШ № 3 г. Карачаевска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3" name="Прямоугольник 3"/>
          <p:cNvSpPr/>
          <p:nvPr/>
        </p:nvSpPr>
        <p:spPr>
          <a:xfrm>
            <a:off x="395280" y="476280"/>
            <a:ext cx="8569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Verdana"/>
              </a:rPr>
              <a:t>МУНИЦИПАЛЬНОЕ КАЗЕННОЕ ОБРАЗОВАТЕЛЬНОЕ УЧРЕЖДЕНИЕ «СРЕДНЯЯ ОБЩЕОБРАЗОВАТЕЛЬНАЯ ШКОЛА № 3 ИМЕНИ Х.У. БОГАТЫРЕ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Verdana"/>
              </a:rPr>
              <a:t>КАРАЧАЕВСКОГО ГОРОДСКОГО ОКРУГ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4" descr="logo.png"/>
          <p:cNvPicPr/>
          <p:nvPr/>
        </p:nvPicPr>
        <p:blipFill>
          <a:blip r:embed="rId1"/>
          <a:stretch/>
        </p:blipFill>
        <p:spPr>
          <a:xfrm>
            <a:off x="3786120" y="858960"/>
            <a:ext cx="1998720" cy="14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57150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Литературные крылатые выражения и афоризм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3" name="Содержимое 3" descr="176746.jpg"/>
          <p:cNvPicPr/>
          <p:nvPr/>
        </p:nvPicPr>
        <p:blipFill>
          <a:blip r:embed="rId1"/>
          <a:stretch/>
        </p:blipFill>
        <p:spPr>
          <a:xfrm>
            <a:off x="7000920" y="1285920"/>
            <a:ext cx="1697040" cy="157464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Alexandr_Sergievich_Pushkin.jpg"/>
          <p:cNvPicPr/>
          <p:nvPr/>
        </p:nvPicPr>
        <p:blipFill>
          <a:blip r:embed="rId2"/>
          <a:srcRect l="18437" t="6333" r="21006" b="34555"/>
          <a:stretch/>
        </p:blipFill>
        <p:spPr>
          <a:xfrm>
            <a:off x="7000920" y="4000680"/>
            <a:ext cx="1714320" cy="20872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5"/>
          <p:cNvSpPr/>
          <p:nvPr/>
        </p:nvSpPr>
        <p:spPr>
          <a:xfrm>
            <a:off x="285840" y="1285920"/>
            <a:ext cx="671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А судьи к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лужить бы рад- прислуживаться тош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комедии А. С. Грибоедова "Горе от ума" (1824), слова Чац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частливые часов не наблю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комедии А. С. Грибоедова "Горе от ума", слова Соф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 корабля на б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из "Евгения Онегина" А. С. Пушкина, (183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ир во время ч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Название драматических сцен А. С. Пушкина (1832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Ох, тяжела ты, шапка Мономах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трагедии А. С. Пушкина "Борис Годунов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Литературные крылатые выражения и афоризм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97" name="Содержимое 3" descr="11185.jpg"/>
          <p:cNvPicPr/>
          <p:nvPr/>
        </p:nvPicPr>
        <p:blipFill>
          <a:blip r:embed="rId1"/>
          <a:stretch/>
        </p:blipFill>
        <p:spPr>
          <a:xfrm>
            <a:off x="6500880" y="1500120"/>
            <a:ext cx="1677960" cy="212256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4"/>
          <p:cNvSpPr/>
          <p:nvPr/>
        </p:nvSpPr>
        <p:spPr>
          <a:xfrm>
            <a:off x="285840" y="2071800"/>
            <a:ext cx="6357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Рожденный ползать летать не мо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"Песни о Соколе" М. Горь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умство храбрых- вот мудрость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еловек-это звучит гор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И 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  <a:ea typeface="Tahoma"/>
              </a:rPr>
              <a:t>вечный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 бой! Покой нам только снится</a:t>
            </a:r>
            <a:br>
              <a:rPr sz="1800"/>
            </a:b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итата из стихотворения А.А.Блока “На поле Куликовом” (1909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красная Дама. Прекрасная Незнаком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5" descr="01lab1vkh1301735657.jpg"/>
          <p:cNvPicPr/>
          <p:nvPr/>
        </p:nvPicPr>
        <p:blipFill>
          <a:blip r:embed="rId2"/>
          <a:srcRect l="21680" t="10171" r="16256" b="22034"/>
          <a:stretch/>
        </p:blipFill>
        <p:spPr>
          <a:xfrm>
            <a:off x="6500880" y="3786120"/>
            <a:ext cx="16714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Басни Крылов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1" name="Содержимое 3" descr="2122.jpg"/>
          <p:cNvPicPr/>
          <p:nvPr/>
        </p:nvPicPr>
        <p:blipFill>
          <a:blip r:embed="rId1"/>
          <a:srcRect l="0" t="11830" r="0" b="7091"/>
          <a:stretch/>
        </p:blipFill>
        <p:spPr>
          <a:xfrm>
            <a:off x="5786280" y="857160"/>
            <a:ext cx="2603520" cy="27860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оугольник 4"/>
          <p:cNvSpPr/>
          <p:nvPr/>
        </p:nvSpPr>
        <p:spPr>
          <a:xfrm>
            <a:off x="285840" y="1500120"/>
            <a:ext cx="5429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Рыльце в пух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из басни И. А. Крылова "Лисица и Сурок" (1813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двежья усл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возникло из басни И. А. Крылова "Пустынник и Медведь" (18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сильного всегда бессильный винов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возникло из басни И. А. Крылова «Волк и ягненок" (18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Орлам случается и ниже кур спускаться, 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о курам никогда до облак не подняться!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возникло из басни И. А. Крылова «Орел и курица" (180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Библии и Коран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04" name="Содержимое 3" descr="pp_bible_1024.jpg"/>
          <p:cNvPicPr/>
          <p:nvPr/>
        </p:nvPicPr>
        <p:blipFill>
          <a:blip r:embed="rId1"/>
          <a:stretch/>
        </p:blipFill>
        <p:spPr>
          <a:xfrm>
            <a:off x="6143760" y="2000160"/>
            <a:ext cx="2476440" cy="185760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4" descr="imghaut_jeunemusulmandetoul.jpg"/>
          <p:cNvPicPr/>
          <p:nvPr/>
        </p:nvPicPr>
        <p:blipFill>
          <a:blip r:embed="rId2"/>
          <a:srcRect l="6380" t="0" r="12771" b="0"/>
          <a:stretch/>
        </p:blipFill>
        <p:spPr>
          <a:xfrm>
            <a:off x="6143760" y="4071960"/>
            <a:ext cx="2500200" cy="2319480"/>
          </a:xfrm>
          <a:prstGeom prst="rect">
            <a:avLst/>
          </a:prstGeom>
          <a:ln w="0">
            <a:noFill/>
          </a:ln>
        </p:spPr>
      </p:pic>
      <p:sp>
        <p:nvSpPr>
          <p:cNvPr id="206" name="Прямоугольник 5"/>
          <p:cNvSpPr/>
          <p:nvPr/>
        </p:nvSpPr>
        <p:spPr>
          <a:xfrm>
            <a:off x="396720" y="2276640"/>
            <a:ext cx="5572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921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Arial"/>
              </a:rPr>
              <a:t>На седьмом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означает «быть счастливы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анна небес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 Библии, манна - пища, которую Бог посылал иудеям каждое утро с неба, когда они шли пустыней в землю обетованную (Исход, 16, 14-16 и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Лживость – одна из дверей лицем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Хадис рассказал ибн Адийю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Если бы речь была серебром, то молчание было бы золот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ророк Сулейм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Метафоры – афоризмы о разном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«Мозговой штурм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09800" y="1806120"/>
            <a:ext cx="7124400" cy="455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Быть или не быть - вот в чем вопрос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Начало монолога Гамлета в одноименной трагедии Шекспира в переводе Н.А. Полевого (1837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Время – деньги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Афоризм из сочинения американского ученого и политического деятеля Франклина (1706-1790) "Совет молодому купцу" (1748)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нание – сила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Выражение английского философа Френсиса Бэкона в "Нравственных и политических очерках" (1597)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олчание - знак согласия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Выражение римского папы (1294-1303) Бонифация VIII в одном из его посланий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Крылатые выражения </a:t>
            </a:r>
            <a:br>
              <a:rPr sz="3200"/>
            </a:b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конца </a:t>
            </a: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XX </a:t>
            </a: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век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42560" y="1699920"/>
            <a:ext cx="6134040" cy="40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Процесс пошел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надлежат первому и последнему Президенту СССР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нам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обустроить Россию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 Нобелевского лауреата А. Солженицина 1990 г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Хотели как лучше, а получилось как всегда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премьер-министр российского                    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правительства В. Черномырдин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1" name="Рисунок 3" descr="439.jpg"/>
          <p:cNvPicPr/>
          <p:nvPr/>
        </p:nvPicPr>
        <p:blipFill>
          <a:blip r:embed="rId1"/>
          <a:stretch/>
        </p:blipFill>
        <p:spPr>
          <a:xfrm>
            <a:off x="7358040" y="1714680"/>
            <a:ext cx="1571760" cy="207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4" descr="08dcc3f88e37.jpg"/>
          <p:cNvPicPr/>
          <p:nvPr/>
        </p:nvPicPr>
        <p:blipFill>
          <a:blip r:embed="rId2"/>
          <a:stretch/>
        </p:blipFill>
        <p:spPr>
          <a:xfrm>
            <a:off x="7358040" y="3857760"/>
            <a:ext cx="1542960" cy="20476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_Picture_file_path_46588.jpg"/>
          <p:cNvPicPr/>
          <p:nvPr/>
        </p:nvPicPr>
        <p:blipFill>
          <a:blip r:embed="rId3"/>
          <a:stretch/>
        </p:blipFill>
        <p:spPr>
          <a:xfrm>
            <a:off x="357120" y="4643280"/>
            <a:ext cx="234324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Рисунок 12" descr="fda17a76e740.jpg"/>
          <p:cNvPicPr/>
          <p:nvPr/>
        </p:nvPicPr>
        <p:blipFill>
          <a:blip r:embed="rId1"/>
          <a:srcRect l="10937" t="0" r="26567" b="3124"/>
          <a:stretch/>
        </p:blipFill>
        <p:spPr>
          <a:xfrm>
            <a:off x="955800" y="1643040"/>
            <a:ext cx="1544400" cy="319104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400" y="571680"/>
            <a:ext cx="6357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современного телевидения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16" name="Рисунок 4" descr="c14d8b2741_1958765_2358845.jpg"/>
          <p:cNvPicPr/>
          <p:nvPr/>
        </p:nvPicPr>
        <p:blipFill>
          <a:blip r:embed="rId2"/>
          <a:stretch/>
        </p:blipFill>
        <p:spPr>
          <a:xfrm>
            <a:off x="7072200" y="1714680"/>
            <a:ext cx="1633680" cy="228600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5" descr="1malahh.jpg"/>
          <p:cNvPicPr/>
          <p:nvPr/>
        </p:nvPicPr>
        <p:blipFill>
          <a:blip r:embed="rId3"/>
          <a:srcRect l="7909" t="0" r="9151" b="0"/>
          <a:stretch/>
        </p:blipFill>
        <p:spPr>
          <a:xfrm>
            <a:off x="7072200" y="4214880"/>
            <a:ext cx="1643040" cy="22748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x_e28510c1.jpg"/>
          <p:cNvPicPr/>
          <p:nvPr/>
        </p:nvPicPr>
        <p:blipFill>
          <a:blip r:embed="rId4"/>
          <a:stretch/>
        </p:blipFill>
        <p:spPr>
          <a:xfrm>
            <a:off x="7072200" y="357120"/>
            <a:ext cx="1643040" cy="1231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8"/>
          <p:cNvSpPr/>
          <p:nvPr/>
        </p:nvSpPr>
        <p:spPr>
          <a:xfrm>
            <a:off x="2857680" y="1571760"/>
            <a:ext cx="3786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ле чуд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Кто хочет стать миллион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инута сл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Новая во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Жди ме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Момент ист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Честный понеде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оеди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ВКонтак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Пусть говор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Verdana"/>
              </a:rPr>
              <a:t>Большая сти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9" descr="shevchenko_max_30.jpg"/>
          <p:cNvPicPr/>
          <p:nvPr/>
        </p:nvPicPr>
        <p:blipFill>
          <a:blip r:embed="rId5"/>
          <a:stretch/>
        </p:blipFill>
        <p:spPr>
          <a:xfrm>
            <a:off x="928800" y="5214960"/>
            <a:ext cx="1730160" cy="13352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0" descr="19284.jpg"/>
          <p:cNvPicPr/>
          <p:nvPr/>
        </p:nvPicPr>
        <p:blipFill>
          <a:blip r:embed="rId6"/>
          <a:srcRect l="0" t="0" r="0" b="8284"/>
          <a:stretch/>
        </p:blipFill>
        <p:spPr>
          <a:xfrm>
            <a:off x="5572080" y="4786200"/>
            <a:ext cx="1217520" cy="17146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1" descr="pozner-vladimir-vladimirovich_349_1305412003.jpg"/>
          <p:cNvPicPr/>
          <p:nvPr/>
        </p:nvPicPr>
        <p:blipFill>
          <a:blip r:embed="rId7"/>
          <a:stretch/>
        </p:blipFill>
        <p:spPr>
          <a:xfrm>
            <a:off x="3214800" y="5000760"/>
            <a:ext cx="1949400" cy="147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692280"/>
            <a:ext cx="71247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ad1f1f"/>
                </a:solidFill>
                <a:latin typeface="Arial"/>
              </a:rPr>
              <a:t>«Крылатые» выражения рекламы и Интернета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55280" y="1700280"/>
            <a:ext cx="7124760" cy="46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гафон – будущее зависит от тебя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ТС – на шаг впереди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илайн – живи на яркой стороне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арс – все будет в шоколаде!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Verdana"/>
              </a:rPr>
              <a:t>Nuts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– заряжай мозги!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Не тормози – сникерсни!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Пепсикола – живи большими глотками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225" name="Picture 6" descr="roman_man_2"/>
          <p:cNvPicPr/>
          <p:nvPr/>
        </p:nvPicPr>
        <p:blipFill>
          <a:blip r:embed="rId1"/>
          <a:stretch/>
        </p:blipFill>
        <p:spPr>
          <a:xfrm>
            <a:off x="7164360" y="1197000"/>
            <a:ext cx="1785960" cy="2449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2"/>
          <p:cNvSpPr/>
          <p:nvPr/>
        </p:nvSpPr>
        <p:spPr>
          <a:xfrm>
            <a:off x="6858000" y="0"/>
            <a:ext cx="1785960" cy="6858000"/>
          </a:xfrm>
          <a:prstGeom prst="rect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2204640"/>
            <a:ext cx="628632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Verdana"/>
              </a:rPr>
              <a:t>Проблема:</a:t>
            </a: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Место и значение крылатых выражений, слов и афоризмов в лексике современного русского языка»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Прямоугольник 4"/>
          <p:cNvSpPr/>
          <p:nvPr/>
        </p:nvSpPr>
        <p:spPr>
          <a:xfrm>
            <a:off x="6958080" y="3071880"/>
            <a:ext cx="1571400" cy="714240"/>
          </a:xfrm>
          <a:prstGeom prst="rect">
            <a:avLst/>
          </a:prstGeom>
          <a:gradFill rotWithShape="0">
            <a:gsLst>
              <a:gs pos="0">
                <a:srgbClr val="cca192"/>
              </a:gs>
              <a:gs pos="100000">
                <a:srgbClr val="ddc0b6"/>
              </a:gs>
            </a:gsLst>
            <a:lin ang="5400000"/>
          </a:gradFill>
          <a:ln cap="rnd" w="190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27242"/>
                </a:solidFill>
                <a:latin typeface="Verdana"/>
              </a:rPr>
              <a:t>Ро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27242"/>
                </a:solidFill>
                <a:latin typeface="Verdana"/>
              </a:rPr>
              <a:t>«</a:t>
            </a:r>
            <a:r>
              <a:rPr b="0" lang="en-US" sz="1600" spc="-1" strike="noStrike">
                <a:solidFill>
                  <a:srgbClr val="a27242"/>
                </a:solidFill>
                <a:latin typeface="Times New Roman"/>
                <a:ea typeface="Times New Roman"/>
              </a:rPr>
              <a:t>Мыслитель</a:t>
            </a:r>
            <a:r>
              <a:rPr b="0" lang="en-US" sz="1100" spc="-1" strike="noStrike">
                <a:solidFill>
                  <a:srgbClr val="a27242"/>
                </a:solidFill>
                <a:latin typeface="Verdana"/>
              </a:rPr>
              <a:t>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6215040" cy="553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Цели работы: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-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следовать историю возникновения крылатых слов;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роследить лексическое значение крылатых выражений и афоризмов;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оказать источники возникновения крылатых слов и выражений в СМИ и сети Интернет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9" name="Прямоугольник 3"/>
          <p:cNvSpPr/>
          <p:nvPr/>
        </p:nvSpPr>
        <p:spPr>
          <a:xfrm>
            <a:off x="7072200" y="0"/>
            <a:ext cx="1785960" cy="6858000"/>
          </a:xfrm>
          <a:prstGeom prst="rect">
            <a:avLst/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5"/>
          <p:cNvSpPr/>
          <p:nvPr/>
        </p:nvSpPr>
        <p:spPr>
          <a:xfrm>
            <a:off x="7286760" y="2428920"/>
            <a:ext cx="1357200" cy="3571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лассификация крылатых слов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0920" y="1806120"/>
            <a:ext cx="8642160" cy="255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Verdana"/>
              </a:rPr>
              <a:t>    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Античные и библейские мифы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народные песни и сказки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мировая художественная литература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критика, публицистика, мемуары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исторические документы, научные сочинения, 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речи политических и общественных деятелей являются обильными источниками крылатых слов.</a:t>
            </a: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3" name="Рисунок 3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1555560" cy="25034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4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1878120" cy="25034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5" descr=""/>
          <p:cNvPicPr/>
          <p:nvPr/>
        </p:nvPicPr>
        <p:blipFill>
          <a:blip r:embed="rId3"/>
          <a:stretch/>
        </p:blipFill>
        <p:spPr>
          <a:xfrm>
            <a:off x="2411280" y="4146480"/>
            <a:ext cx="2089440" cy="25066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6" descr=""/>
          <p:cNvPicPr/>
          <p:nvPr/>
        </p:nvPicPr>
        <p:blipFill>
          <a:blip r:embed="rId4"/>
          <a:stretch/>
        </p:blipFill>
        <p:spPr>
          <a:xfrm>
            <a:off x="6732720" y="4149720"/>
            <a:ext cx="1834920" cy="25034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8"/>
          <p:cNvSpPr/>
          <p:nvPr/>
        </p:nvSpPr>
        <p:spPr>
          <a:xfrm>
            <a:off x="285840" y="928800"/>
            <a:ext cx="69292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Крылатые слова многообразны по своему происхождению. Одни из них возникли в отдаленные эпохи, другие — совсем недавно. Культуры различных эпох и стран обогащали их зап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5840" y="676440"/>
            <a:ext cx="585792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философов древнего Рим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Прямоугольник 5"/>
          <p:cNvSpPr/>
          <p:nvPr/>
        </p:nvSpPr>
        <p:spPr>
          <a:xfrm>
            <a:off x="785880" y="1857240"/>
            <a:ext cx="5000400" cy="4786560"/>
          </a:xfrm>
          <a:prstGeom prst="rect">
            <a:avLst/>
          </a:prstGeom>
          <a:solidFill>
            <a:srgbClr val="f0e8e6"/>
          </a:solidFill>
          <a:ln cap="rnd" w="1908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Цель оправдывает средства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мас Гоббс (1588-1679).</a:t>
            </a:r>
            <a:r>
              <a:rPr b="1" i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  <a:ea typeface="Times New Roman"/>
              </a:rPr>
              <a:t>Человек человеку вол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из "Ослиной комедии" древнеримского писателя Плав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ок. 254-184 гг.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Белая в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это, как обозначение редкого, резко отличного от остальных человека, дано в 7-й сатире римского поэта Ювенала (середина I в. - после 127 г. н. э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Times New Roman"/>
              </a:rPr>
              <a:t>Бумага все терпит (Бумага не красне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восходит к римскому писателю и оратору Цицерону (106 - 43 гг. до н.э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6858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философов Древней Греци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428760" y="1500120"/>
            <a:ext cx="6072120" cy="5000760"/>
          </a:xfrm>
          <a:prstGeom prst="rect">
            <a:avLst/>
          </a:prstGeom>
          <a:solidFill>
            <a:srgbClr val="f3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Что и требовалось д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ой формулой кончается каждое математическое рассуждение великого греческого математика Евкл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II в. до н.э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Из двух зол избрать мень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, встречающееся в сочинениях древнегреческого философа Аристотеля "Никомахова этика" в форме: "Меньшее из зол надо выбирать". У Цицерона (в сочинении "Об обязанностях") сказано: "Следует не только выбирать из зол наименьшее, но и извлекать из них самих то, что может в них быть хорошего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Троянский ко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жение принадлежит царю Итаки Одиссею (III в. до н.э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85840" y="676440"/>
            <a:ext cx="59292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Древней Рус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3" name="Прямоугольник 6"/>
          <p:cNvSpPr/>
          <p:nvPr/>
        </p:nvSpPr>
        <p:spPr>
          <a:xfrm>
            <a:off x="250920" y="1827360"/>
            <a:ext cx="6215040" cy="4786200"/>
          </a:xfrm>
          <a:prstGeom prst="rect">
            <a:avLst/>
          </a:prstGeom>
          <a:solidFill>
            <a:srgbClr val="f0e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то к нам с мечом придет – от меча и погибн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лександр Невский, князь Новгородский 1242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Тяжело в учении – легко в бо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. Суворов говорил солдатам при переходе через Аль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ука побежд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кой горделивый заголовок на небольшой книге прозвучал бы как чванливое хвастовство, если бы имя ее автора не было Александр Суворов. Великий русский полководец имел полное право и сам озаглавить так составленное им руководство для боевой подготовки войск. 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яжела ты,шапка Мономах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6760" y="676440"/>
            <a:ext cx="54291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Verdana"/>
              </a:rPr>
              <a:t>Крылатые выражения Древней Рус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Прямоугольник 4"/>
          <p:cNvSpPr/>
          <p:nvPr/>
        </p:nvSpPr>
        <p:spPr>
          <a:xfrm>
            <a:off x="250920" y="1700280"/>
            <a:ext cx="5929200" cy="4786200"/>
          </a:xfrm>
          <a:prstGeom prst="rect">
            <a:avLst/>
          </a:prstGeom>
          <a:solidFill>
            <a:srgbClr val="f0e8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711 г., перед Прусским походом, Петр I направил письмо в недавно учрежденный Сенат. Благодаря сенаторов за их деятельность, он требовал и впредь не медлить необходимыми распоряжениями, "понеже пропущение времени подобно смерти невозвратно". Крылатость слова Петра получили в более краткой форме: "Промедление смерти подобно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В Европу прорубить ок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10 г. При закладке Санкт 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250920" y="2349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Промедление смерти подоб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fc8"/>
            </a:gs>
            <a:gs pos="100000">
              <a:srgbClr val="b6a16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Крылатые выражения </a:t>
            </a: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Verdana"/>
              </a:rPr>
              <a:t>о русском языке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50560" y="1806120"/>
            <a:ext cx="7273800" cy="479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322200" indent="-3222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Русский язык в умелых руках и в опытных устах - красив, певуч, выразителен, гибок, послушен, ловок и </a:t>
            </a:r>
            <a:r>
              <a:rPr b="1" lang="en-US" sz="2000" spc="-1" strike="noStrike">
                <a:solidFill>
                  <a:srgbClr val="990033"/>
                </a:solidFill>
                <a:latin typeface="Verdana"/>
              </a:rPr>
              <a:t>вместителен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А. Куприн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Нет таких звуков, красок, образов и мыслей - сложных и простых, - для которых не нашлось бы в нашем языке точного выражения.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 Паустовский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Verdana"/>
              </a:rPr>
              <a:t>Дивишься драгоценности нашего языка: что ни звук, то и подарок: все зернисто, крупно, как сам жемчуг, и, право, иное названье еще драгоценней самой вещи.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Н. Гоголь</a:t>
            </a: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9" name="Рисунок 4" descr=""/>
          <p:cNvPicPr/>
          <p:nvPr/>
        </p:nvPicPr>
        <p:blipFill>
          <a:blip r:embed="rId1"/>
          <a:stretch/>
        </p:blipFill>
        <p:spPr>
          <a:xfrm>
            <a:off x="6980400" y="4456080"/>
            <a:ext cx="2139840" cy="27068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"/>
          <p:cNvPicPr/>
          <p:nvPr/>
        </p:nvPicPr>
        <p:blipFill>
          <a:blip r:embed="rId2"/>
          <a:stretch/>
        </p:blipFill>
        <p:spPr>
          <a:xfrm>
            <a:off x="7047000" y="1000080"/>
            <a:ext cx="1805040" cy="252900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"/>
          <p:cNvPicPr/>
          <p:nvPr/>
        </p:nvPicPr>
        <p:blipFill>
          <a:blip r:embed="rId3"/>
          <a:stretch/>
        </p:blipFill>
        <p:spPr>
          <a:xfrm>
            <a:off x="7059600" y="2590920"/>
            <a:ext cx="1846440" cy="2766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09:28:33Z</dcterms:created>
  <dc:creator>UserSosh3</dc:creator>
  <dc:description/>
  <dc:language>en-US</dc:language>
  <cp:lastModifiedBy>Admin</cp:lastModifiedBy>
  <dcterms:modified xsi:type="dcterms:W3CDTF">2017-01-13T19:19:25Z</dcterms:modified>
  <cp:revision>80</cp:revision>
  <dc:subject/>
  <dc:title>Крылатые фразы  и их происхождение</dc:title>
</cp:coreProperties>
</file>