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62C-D2F4-4982-B9AE-7412006B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68C-9F63-44C9-A24F-BC9C6AE7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6E5-B37A-402A-90DC-040038C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C28-E3AA-4327-AB9F-786E4014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145-2095-4A96-924C-16CD213E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F0F-7B30-4748-8B25-AB4A179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589-0371-413A-8728-A5676BAF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CB4-2E91-49DE-AA96-279890EC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28C-1320-466A-B5DE-F6E6034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1C6-8659-4C7C-8AF9-7D7792D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86B-61A9-4C22-9282-E50D0438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966-813F-4E1E-B84B-3E323AA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017D-29DA-4C7A-8847-B46AC267F6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0A37-FDCD-4833-9749-FBB39AEBD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785880" y="1357200"/>
            <a:ext cx="7786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ый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чало истори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00000" y="1052640"/>
            <a:ext cx="2951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619280" y="3333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ижегородская область Арзамасский район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. Водоват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БОУ «ВодоватовскаяС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571840" y="585792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орисова Наталья Викто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ok-t.ru/studopediaru/baza4/551371937851.files/image014.jpg"/>
          <p:cNvPicPr/>
          <p:nvPr/>
        </p:nvPicPr>
        <p:blipFill>
          <a:blip r:embed="rId1"/>
          <a:stretch/>
        </p:blipFill>
        <p:spPr>
          <a:xfrm>
            <a:off x="2928960" y="3286080"/>
            <a:ext cx="3519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785880" y="18572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онтрольно-измерительные матери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УЖАЮЩИЙ МИР 4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ель Яценко Ирин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Картин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yandex.ru/images/search?img_url=http%3A%2F%2Fwallpapers1920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F07-EC22-4846-B501-7E79A18786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F63-D872-45C6-9D65-B8E7BA08B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1.Самой долгой была эпох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обытная 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Средних в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Древн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Нов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0F5B-E6AF-4801-915D-061FFBA680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003-BADD-48ED-9C2F-187702102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2. По мнению учёных, древнейшие люди появи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2 млн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0 тыс.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млн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3762-8C1E-425A-BFC0-A6C659BC2D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B89D-4D58-4901-BA22-8A415F95A9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3. Как добывал себе пищу первобытный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714680" y="200016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лся скотовод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714680" y="2714760"/>
            <a:ext cx="70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ращивал культур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лся рыболов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бирал плоды и кор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13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14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35F-4721-4691-9D82-A9D7C2B519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65AD-D99E-4BCE-8331-781AFAC360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 4. Где на территории России найдены рисунки, сделанные первобытным челове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обытная 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Средних в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Древн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Нов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9C3B-7B7E-452C-B2E9-D23F85A091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03AD-4D7C-4199-ABE8-16BF3DA43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узел 4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1. Как первобытные люди выживали в дикой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или хиж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8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9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одили ог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или групп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овали ору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EE2A-E000-413E-A495-4EDC7B71F3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37D8-F1DD-4C82-9A14-E17179371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узел 4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2. Древние люди изготавли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удия труда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узел 9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стей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6D5-BA58-4259-BCD3-4653259F8B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57E-10F5-4BF8-BD78-495B27B3A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4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 1. Первобытные люди общались при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7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им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узел 13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узел 14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6A9-EC19-4EC2-B34E-A9C96C71B8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A82-264E-4A59-88C8-72B541688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57160" y="857160"/>
            <a:ext cx="7767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357200" y="1857240"/>
            <a:ext cx="47674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2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3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4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2,3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7:28:27Z</dcterms:created>
  <dc:creator>Демидова Т.Л.</dc:creator>
  <dc:description>http://aida.ucoz.ru</dc:description>
  <dc:language>en-US</dc:language>
  <cp:lastModifiedBy>BNW</cp:lastModifiedBy>
  <dcterms:modified xsi:type="dcterms:W3CDTF">2017-01-11T10:24:11Z</dcterms:modified>
  <cp:revision>76</cp:revision>
  <dc:subject/>
  <dc:title>Слайд 1</dc:title>
</cp:coreProperties>
</file>