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177-1EF6-44DA-A80C-4CFA7431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21DE-90DB-45FB-8FCE-3693DA1B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A77-D7F2-4AFB-82A1-2958ED05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E80F-C94F-4159-9FB8-D2954792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BA0F-FD7C-4DCF-9CCF-18C4174C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8ABD-B873-49BD-97D9-9DBF021C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73B-7276-4E48-8659-FA7102D7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997-879C-412F-A17A-D197DC02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1A5-7B33-4B93-8DEE-4D5CE191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6B9D-4C47-49F0-B1E6-08E6972D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4EAF-BD4E-4B44-B9B6-5C809D72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8B0-595E-4DEE-A3D3-0D5536A5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6EA5-2C64-47E2-9E12-06528EF1DAF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1A40D-A741-4C6D-BFA3-43EB818DA7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785880" y="1357200"/>
            <a:ext cx="77868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активный 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Начало истории челове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900000" y="1052640"/>
            <a:ext cx="29512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1619280" y="333360"/>
            <a:ext cx="71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ижегородская область Арзамасский район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. Водоват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МБОУ «ВодоватовскаяС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2571840" y="5857920"/>
            <a:ext cx="45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орисова Наталья Викто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http://ok-t.ru/studopediaru/baza4/551371937851.files/image014.jpg"/>
          <p:cNvPicPr/>
          <p:nvPr/>
        </p:nvPicPr>
        <p:blipFill>
          <a:blip r:embed="rId1"/>
          <a:stretch/>
        </p:blipFill>
        <p:spPr>
          <a:xfrm>
            <a:off x="2928960" y="3286080"/>
            <a:ext cx="35193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785880" y="185724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Контрольно-измерительные материал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КРУЖАЮЩИЙ МИР 4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ель Яценко Ирина Фёд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Картин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ttps://yandex.ru/images/search?img_url=http%3A%2F%2Fwallpapers1920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3A31-6B71-4A4E-A130-4C0EA368E90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1238-B792-493E-A22E-BB19E56487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узел 4"/>
          <p:cNvSpPr/>
          <p:nvPr/>
        </p:nvSpPr>
        <p:spPr>
          <a:xfrm>
            <a:off x="1000080" y="20001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/>
          <p:cNvSpPr/>
          <p:nvPr/>
        </p:nvSpPr>
        <p:spPr>
          <a:xfrm>
            <a:off x="1143000" y="785880"/>
            <a:ext cx="685800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А 1.Самой долгой была эпох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1714680" y="2000160"/>
            <a:ext cx="4714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вобытная 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узел 7"/>
          <p:cNvSpPr/>
          <p:nvPr/>
        </p:nvSpPr>
        <p:spPr>
          <a:xfrm>
            <a:off x="1000080" y="27147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узел 8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узел 9"/>
          <p:cNvSpPr/>
          <p:nvPr/>
        </p:nvSpPr>
        <p:spPr>
          <a:xfrm>
            <a:off x="1000080" y="42861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1714680" y="271476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Средних ве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Древне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Нового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1954-01B0-4058-8043-DC7EB333799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90F3-74D2-4209-A0D4-C8D60C43CA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узел 4"/>
          <p:cNvSpPr/>
          <p:nvPr/>
        </p:nvSpPr>
        <p:spPr>
          <a:xfrm>
            <a:off x="1000080" y="20001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5"/>
          <p:cNvSpPr/>
          <p:nvPr/>
        </p:nvSpPr>
        <p:spPr>
          <a:xfrm>
            <a:off x="1143000" y="785880"/>
            <a:ext cx="685800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А 2. По мнению учёных, древнейшие люди появилис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714680" y="2000160"/>
            <a:ext cx="4714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ее 2 млн лет 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узел 7"/>
          <p:cNvSpPr/>
          <p:nvPr/>
        </p:nvSpPr>
        <p:spPr>
          <a:xfrm>
            <a:off x="1000080" y="27147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узел 8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Блок-схема: узел 9"/>
          <p:cNvSpPr/>
          <p:nvPr/>
        </p:nvSpPr>
        <p:spPr>
          <a:xfrm>
            <a:off x="1000080" y="42861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0"/>
          <p:cNvSpPr/>
          <p:nvPr/>
        </p:nvSpPr>
        <p:spPr>
          <a:xfrm>
            <a:off x="1714680" y="271476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0 тыс. лет 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00 тыс. лет 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 млн лет наза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3832-7369-4D15-B049-FFA1B6FE44B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3268-2F5D-424F-92BC-5F71C04AA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1143000" y="785880"/>
            <a:ext cx="6858000" cy="1214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А 3. Как добывал себе пищу первобытный челов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1714680" y="2000160"/>
            <a:ext cx="5715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лся скотовод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узел 7"/>
          <p:cNvSpPr/>
          <p:nvPr/>
        </p:nvSpPr>
        <p:spPr>
          <a:xfrm>
            <a:off x="1000080" y="278604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узел 8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1714680" y="2714760"/>
            <a:ext cx="7000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ращивал культурные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нимался рыболов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бирал плоды и корен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узел 13"/>
          <p:cNvSpPr/>
          <p:nvPr/>
        </p:nvSpPr>
        <p:spPr>
          <a:xfrm>
            <a:off x="1000080" y="42148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узел 14"/>
          <p:cNvSpPr/>
          <p:nvPr/>
        </p:nvSpPr>
        <p:spPr>
          <a:xfrm>
            <a:off x="1000080" y="207180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A0DF-AC64-45CC-88E4-1B1D44623B3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B4D2-C534-402F-BBFE-30F3A9BBDC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узел 4"/>
          <p:cNvSpPr/>
          <p:nvPr/>
        </p:nvSpPr>
        <p:spPr>
          <a:xfrm>
            <a:off x="1000080" y="20001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285840" y="642960"/>
            <a:ext cx="8858160" cy="13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 4. Где на территории России найдены рисунки, сделанные первобытным человек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1714680" y="2000160"/>
            <a:ext cx="4714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вобытная 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узел 7"/>
          <p:cNvSpPr/>
          <p:nvPr/>
        </p:nvSpPr>
        <p:spPr>
          <a:xfrm>
            <a:off x="1000080" y="27147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лок-схема: узел 8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Блок-схема: узел 9"/>
          <p:cNvSpPr/>
          <p:nvPr/>
        </p:nvSpPr>
        <p:spPr>
          <a:xfrm>
            <a:off x="1000080" y="428616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1714680" y="271476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Средних ве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Древнего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рия Нового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49AE-1896-42A0-9A76-BDA1996AE96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B79B-34BF-4B92-9CBC-31520C64B8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узел 4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5"/>
          <p:cNvSpPr/>
          <p:nvPr/>
        </p:nvSpPr>
        <p:spPr>
          <a:xfrm>
            <a:off x="285840" y="642960"/>
            <a:ext cx="8858160" cy="13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 1. Как первобытные люди выживали в дикой приро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6"/>
          <p:cNvSpPr/>
          <p:nvPr/>
        </p:nvSpPr>
        <p:spPr>
          <a:xfrm>
            <a:off x="1714680" y="2000160"/>
            <a:ext cx="4714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троили хиж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узел 7"/>
          <p:cNvSpPr/>
          <p:nvPr/>
        </p:nvSpPr>
        <p:spPr>
          <a:xfrm>
            <a:off x="1000080" y="278604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узел 8"/>
          <p:cNvSpPr/>
          <p:nvPr/>
        </p:nvSpPr>
        <p:spPr>
          <a:xfrm>
            <a:off x="1000080" y="207180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Блок-схема: узел 9"/>
          <p:cNvSpPr/>
          <p:nvPr/>
        </p:nvSpPr>
        <p:spPr>
          <a:xfrm>
            <a:off x="1000080" y="42148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0"/>
          <p:cNvSpPr/>
          <p:nvPr/>
        </p:nvSpPr>
        <p:spPr>
          <a:xfrm>
            <a:off x="1714680" y="271476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водили ого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или групп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пользовали оруж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EE5C-3C91-4742-9D42-4BE7F04B7F4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FE58-4B58-4D9B-8722-640CBEC5CF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узел 4"/>
          <p:cNvSpPr/>
          <p:nvPr/>
        </p:nvSpPr>
        <p:spPr>
          <a:xfrm>
            <a:off x="1000080" y="207180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5"/>
          <p:cNvSpPr/>
          <p:nvPr/>
        </p:nvSpPr>
        <p:spPr>
          <a:xfrm>
            <a:off x="285840" y="642960"/>
            <a:ext cx="8858160" cy="13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 2. Древние люди изготавлив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рудия труда 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6"/>
          <p:cNvSpPr/>
          <p:nvPr/>
        </p:nvSpPr>
        <p:spPr>
          <a:xfrm>
            <a:off x="1714680" y="2000160"/>
            <a:ext cx="4714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м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Блок-схема: узел 7"/>
          <p:cNvSpPr/>
          <p:nvPr/>
        </p:nvSpPr>
        <p:spPr>
          <a:xfrm>
            <a:off x="1000080" y="278604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Блок-схема: узел 8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Блок-схема: узел 9"/>
          <p:cNvSpPr/>
          <p:nvPr/>
        </p:nvSpPr>
        <p:spPr>
          <a:xfrm>
            <a:off x="1000080" y="42148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1714680" y="271476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ел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стей живо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р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8E70-B3F7-4826-B25E-DF3CF061BAE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3DED-D296-4F4C-9A8D-B4C37A5F93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Блок-схема: узел 4"/>
          <p:cNvSpPr/>
          <p:nvPr/>
        </p:nvSpPr>
        <p:spPr>
          <a:xfrm>
            <a:off x="1000080" y="42148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5"/>
          <p:cNvSpPr/>
          <p:nvPr/>
        </p:nvSpPr>
        <p:spPr>
          <a:xfrm>
            <a:off x="285840" y="642960"/>
            <a:ext cx="8858160" cy="13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 1. Первобытные люди общались при помощ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1714680" y="2000160"/>
            <a:ext cx="47145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9933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узел 7"/>
          <p:cNvSpPr/>
          <p:nvPr/>
        </p:nvSpPr>
        <p:spPr>
          <a:xfrm>
            <a:off x="1000080" y="207180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1714680" y="271476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1714680" y="3429000"/>
            <a:ext cx="5786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жес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2"/>
          <p:cNvSpPr/>
          <p:nvPr/>
        </p:nvSpPr>
        <p:spPr>
          <a:xfrm>
            <a:off x="1714680" y="4214880"/>
            <a:ext cx="56433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рим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Блок-схема: узел 13"/>
          <p:cNvSpPr/>
          <p:nvPr/>
        </p:nvSpPr>
        <p:spPr>
          <a:xfrm>
            <a:off x="1000080" y="350028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Блок-схема: узел 14"/>
          <p:cNvSpPr/>
          <p:nvPr/>
        </p:nvSpPr>
        <p:spPr>
          <a:xfrm>
            <a:off x="1000080" y="2786040"/>
            <a:ext cx="642960" cy="642960"/>
          </a:xfrm>
          <a:prstGeom prst="flowChartConnector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ccff"/>
                                      </p:to>
                                    </p:animClr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8D18-2056-4D63-8009-41584FABB5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A92A-B7C8-4C49-A649-0899DA0D6D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57160" y="857160"/>
            <a:ext cx="7767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357200" y="1857240"/>
            <a:ext cx="476748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1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2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3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 4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1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2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1.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2,3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17:28:27Z</dcterms:created>
  <dc:creator>Демидова Т.Л.</dc:creator>
  <dc:description>http://aida.ucoz.ru</dc:description>
  <dc:language>en-US</dc:language>
  <cp:lastModifiedBy>BNW</cp:lastModifiedBy>
  <dcterms:modified xsi:type="dcterms:W3CDTF">2017-01-11T10:24:11Z</dcterms:modified>
  <cp:revision>76</cp:revision>
  <dc:subject/>
  <dc:title>Слайд 1</dc:title>
</cp:coreProperties>
</file>