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4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3F24-8BE8-4EF6-87F3-A4D86BC52C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FFAB-BEC2-4220-871F-4786B468EB2B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17600" y="878040"/>
            <a:ext cx="4221360" cy="31654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Выбираем 5 деревь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D03-6931-45DC-8BBE-C9AC5C6C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19E-4FA7-41C1-9F64-135ECC35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F30-9C3F-44D6-B4AA-D01B7ECF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CDD-DC03-4391-926D-7B28EC09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0840-202C-4477-B0A9-6D50EB79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C2DE-7A57-48DA-ACAF-9D3DC25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D24A-892D-451D-A4A6-C7A3B3BC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751-48EF-4802-BE04-D8A9F8F5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A536-5A17-4DA6-9E7F-F7FA846B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6EE9-634F-4C5D-8221-3F310FBD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04EC-703F-408A-8219-EFE63173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32A-9152-45F9-ABCD-21E90006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55A6-F437-409A-B60A-2CAC1E1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B880-EEAA-4C3F-BC39-14D4D667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88A-3387-404B-88AF-904BD67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6E7A-8CBB-4F74-9332-9AF1969D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AA33-3F98-41A4-BCDA-F4D49EA5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279F-13A2-4C5A-991F-5F489808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4E57-7A8A-4C66-8915-7270AD33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42B1-B6D1-4C29-A9CE-4D7F5CE3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2B4D-C990-48A7-AD5E-49E3CF96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B834-9112-46C7-BD86-2D290521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494-1419-4D2F-94FE-04DC6A4D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D7FA-6643-4C39-BC94-89C02743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764F-B7A5-4750-A446-078C0195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1981-8FFC-47E2-8F5A-A37D5873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A125-FEC4-4DFE-B5F1-107DC239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F4BE9-3360-48A7-8E5C-293665D0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4D98-6B97-4E9D-ABB4-06A0C7F9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6563-2FA3-42A3-8D98-5A11D8DA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5CE0-2521-4DA9-905D-1962418B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682F-920D-4A43-AEAA-1B5C86D2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CC82-5612-41E2-9D48-A09D9A38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404-76CF-45B9-8A6E-83AC2B8C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4D5B-1946-49B5-84C1-EEB64C14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DC4B-10BA-4F67-B619-31B87C1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7832-EB75-4C21-AE9C-C44693CF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984E-B6E9-46D6-A758-AA6A5D7D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9A863-10F8-43AE-B377-7133E9DD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F1CE-FC17-4B7E-AEBD-99E209C7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7D39-6303-45CA-A1BD-744439D3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3A26D-9899-4B4E-851D-ED1E2D4A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9C3C5-A103-4D67-9656-21C2795F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782-1C45-4A8C-AF36-27C5FBB0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9C2-54D9-4EED-BB6A-DE4472EF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1B1-89BB-4396-B8FE-783AF7F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DD4-A272-464D-8FA3-7968FDC9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9A2-D385-4E7D-AA5A-287FED85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20AB-197D-4FFA-BF81-794AEFA777E8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5A7D-8AE0-4C39-9175-6C7625DB48E8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65C8-B1FB-4370-96E7-37DBC00B10B3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CA5C-3C1F-4796-9680-488ABFD6B6EA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E41D-3903-4CFC-B536-A2157B65A26F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8E0D-DFB2-4C05-A13A-5D39F02C82C7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B0C6-8C3A-4800-8B20-C249D8BEFE56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5C6-1F4B-4987-8C8E-372DA8E00721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2"/>
          <a:stretch/>
        </p:blipFill>
        <p:spPr>
          <a:xfrm>
            <a:off x="7199280" y="5670720"/>
            <a:ext cx="1787400" cy="95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69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Lucida Sans"/>
              </a:rPr>
              <a:t> </a:t>
            </a:r>
            <a:r>
              <a:rPr b="1" lang="ru-RU" sz="2400" spc="-1" strike="noStrike">
                <a:solidFill>
                  <a:srgbClr val="e6e6e6"/>
                </a:solidFill>
                <a:latin typeface="Lucida Sans"/>
              </a:rPr>
              <a:t>ОЦЕНКА ЗАГРЯЗНЕННОСТИ АТМОСФЕРЫ </a:t>
            </a:r>
            <a:br>
              <a:rPr sz="2400"/>
            </a:br>
            <a:r>
              <a:rPr b="1" lang="ru-RU" sz="2400" spc="-1" strike="noStrike">
                <a:solidFill>
                  <a:srgbClr val="e6e6e6"/>
                </a:solidFill>
                <a:latin typeface="Lucida Sans"/>
              </a:rPr>
              <a:t>В ПОСЕЛКЕ АГИНСКОЕ ПО ХВОЕ СОСНЫ ОБЫКНОВЕННОЙ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10920" y="184464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e6e6"/>
                </a:solidFill>
                <a:latin typeface="Lucida Sans"/>
                <a:ea typeface="Lucida Sans Unicode"/>
              </a:rPr>
              <a:t>Автор: Иванов Алексей Максимович,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e6e6"/>
                </a:solidFill>
                <a:latin typeface="Lucida Sans"/>
                <a:ea typeface="Lucida Sans Unicode"/>
              </a:rPr>
              <a:t>ученик 7 класса,  МОУ «АСОШ № 4» ГО «Поселок Агинское»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e6e6"/>
                </a:solidFill>
                <a:latin typeface="Lucida Sans"/>
                <a:ea typeface="Lucida Sans Unicode"/>
              </a:rPr>
              <a:t>Руководитель: Цыренова Долгор Борисовна, учитель географии и экологии 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79280" y="3059280"/>
            <a:ext cx="8569440" cy="2462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Объект исследования: сосны в Центральном парке п. Аги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Предмет исследования: реакция сосны обыкновенной на 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Целью исследования: оценка загрязненности атмосферы в п. Агинское по хвое сосны обыкно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Задачи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1.Охарактеризовать район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2.Заложить пробную площадь в Центральном парке п. Агин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3.Определить оценку загрязненности атмосферы по хвое сосны обыкновен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Для достижения поставленной цели нам необходимо было собрать фактически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Гипотеза: по состоянию хвои сосны обыкновенной возможно определить степень загрязненности атмосферы в п. Аги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Новизна: Исследования состояния сосны обыкновенной на территории Центрального парка нами не проводи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53290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  </a:t>
            </a: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Хлорозы и некрозы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В ответ на воздействие различных стрессоров хвоя сосны меняет свою окраску.                                                                                </a:t>
            </a:r>
            <a:br>
              <a:rPr sz="1400"/>
            </a:b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 ХЛОРОЗ - бледная окраска хвои, побурение или побронзовение.</a:t>
            </a:r>
            <a:br>
              <a:rPr sz="1400"/>
            </a:b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 НЕКРОЗЫ - отмирание ограниченных участков ткани – важные  симптомы повреждений при индикации, иногда довольно специфичные. </a:t>
            </a:r>
            <a:br>
              <a:rPr sz="1400"/>
            </a:br>
            <a:endParaRPr b="1" i="1" lang="en-US" sz="1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14" name="Рисунок 2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838600" cy="20145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1"/>
          <p:cNvSpPr/>
          <p:nvPr/>
        </p:nvSpPr>
        <p:spPr>
          <a:xfrm>
            <a:off x="576360" y="2492280"/>
            <a:ext cx="7740720" cy="94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Для проведения исследований нами были выбрана площадка в Центральном пар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Эти сосны были посажены сотрудниками Агинского территориального отдела Государственной лесной службы Забайкальского кра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На площадке обследовали по пять деревьев 8-15 лет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324000" y="5805360"/>
            <a:ext cx="3671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6e6e6"/>
                </a:solidFill>
                <a:latin typeface="Lucida Sans"/>
                <a:ea typeface="Tahoma"/>
              </a:rPr>
              <a:t>Для начала мы определили степень вытоптанности:</a:t>
            </a:r>
            <a:br>
              <a:rPr sz="1400"/>
            </a:br>
            <a:r>
              <a:rPr b="1" lang="ru-RU" sz="1400" spc="-1" strike="noStrike">
                <a:solidFill>
                  <a:srgbClr val="e6e6e6"/>
                </a:solidFill>
                <a:latin typeface="Lucida Sans"/>
                <a:ea typeface="Tahoma"/>
              </a:rPr>
              <a:t>Как мы видем на рисунке 1 на данном участке вытатывания нет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2808000" cy="210996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4356000" y="5084640"/>
            <a:ext cx="460872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На площадке у 5 деревьев в возрасте 8-15 лет. Мы отбирали по 50 пар хвоинок  второго года жизни осевого побег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А – хвоя первого года жизни осевого побег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Б – хвоя второго года жизни осевого побег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В – хвоя третьего года жизни осевого побега</a:t>
            </a: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3"/>
          <a:stretch/>
        </p:blipFill>
        <p:spPr>
          <a:xfrm>
            <a:off x="5580000" y="3255840"/>
            <a:ext cx="266400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 </a:t>
            </a: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Мы не стали обрывать хвоинки, а посчитали их на месте.</a:t>
            </a:r>
            <a:endParaRPr b="1" i="1" lang="en-US" sz="1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178080" cy="23767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"/>
          <p:cNvSpPr/>
          <p:nvPr/>
        </p:nvSpPr>
        <p:spPr>
          <a:xfrm>
            <a:off x="468360" y="4005360"/>
            <a:ext cx="7775640" cy="729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В сумме было отобрано по 250 хвоинок. Вся хвоя делилась на 3 части: неповрежденная хвоя, хвоя с пятнами и хвоя с признаками усыхания. Подсчитывалось количество хвоинок в каждой групп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2657520" cy="31827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601560" y="4979880"/>
            <a:ext cx="7355160" cy="516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Хлорозы и некрозы у исследуемых растений есть. Это говорит о том, что воздух не совсем чисты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6e6e6"/>
                </a:solidFill>
                <a:latin typeface="Lucida Sans"/>
              </a:rPr>
              <a:t>РАСПОЛОЖЕНИЕ ПЛОЩАДКИ ИССЛЕДОВАНИЯ</a:t>
            </a:r>
            <a:endParaRPr b="1" i="1" lang="en-US" sz="41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399280" cy="501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ся</dc:creator>
  <dc:description/>
  <dc:language>en-US</dc:language>
  <cp:lastModifiedBy>Алеся</cp:lastModifiedBy>
  <dcterms:modified xsi:type="dcterms:W3CDTF">2017-01-14T01:27:30Z</dcterms:modified>
  <cp:revision>1</cp:revision>
  <dc:subject/>
  <dc:title> ОЦЕНКА ЗАГРЯЗНЕННОСТИ АТМОСФЕРЫ  В ПОСЕЛКЕ АГИНСКОЕ ПО ХВОЕ СОСНЫ ОБЫКНОВЕННОЙ</dc:title>
</cp:coreProperties>
</file>