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4920" cy="40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6e6e6"/>
                </a:solidFill>
                <a:latin typeface="Arial"/>
              </a:rPr>
              <a:t>Click to move the slide</a:t>
            </a: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dt" idx="13"/>
          </p:nvPr>
        </p:nvSpPr>
        <p:spPr>
          <a:xfrm>
            <a:off x="4277880" y="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4"/>
          </p:nvPr>
        </p:nvSpPr>
        <p:spPr>
          <a:xfrm>
            <a:off x="-36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5"/>
          </p:nvPr>
        </p:nvSpPr>
        <p:spPr>
          <a:xfrm>
            <a:off x="427788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E1F2-67AD-41E3-A32F-6FEBD7FD0B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CC5A-A544-4494-B4D3-F95062B8659E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17600" y="878040"/>
            <a:ext cx="4221360" cy="31654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060560" y="4349880"/>
            <a:ext cx="4741920" cy="35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ahoma"/>
              </a:rPr>
              <a:t>Выбираем 5 деревь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5F6F-5A06-41DF-91BA-AEEF4247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771-D2DD-4C58-8214-6D3684EC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CA0-5C6C-4CB8-97F6-EF36485A7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740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768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712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740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768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300-9DE7-4558-9E4C-A24C2A85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C5FA-C946-48E3-8230-4F7309B9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D8A5-7B78-444D-BEBD-8B7761F9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72CA-22AB-4A86-87EE-471283F0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938B-5DFD-4175-A1EB-D17A694B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AD75-3710-487F-A42F-BF4F2F7D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106200"/>
            <a:ext cx="7809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1695-B5F4-4EEE-8C0F-4EC14900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85D0-0054-4042-A56B-5131BD3E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4492-033E-4235-A8B5-E8356B8C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805B-499A-4BB1-9608-AEC65D7C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78B2-B2C9-4016-B767-50C85851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3316-37D5-40A4-9E2A-14129F37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E2E5-2FE9-4651-89B4-A2BAF585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740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768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8712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740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768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73C7-6791-4D16-B960-A5E507AD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4C308-E3A2-47E7-8E8D-6BA947C6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166E8-8996-4E1A-9174-21DB5FE3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E5CE3-FE71-4170-A49B-B9313CD5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C5B69-70B1-44E5-B01F-7B3F202D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91CCB-36E2-44C0-A890-8634E449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DC7D-9664-4012-BAF9-F6D18E84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71400" y="106200"/>
            <a:ext cx="7809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63D8A-4680-4A95-99EE-14C66A55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950F3-749F-42EA-8751-E978155F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FA923-C494-4F7C-8155-BFBD4E8E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E0026-F4F8-42C6-8DF9-86AC783E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F21FA-0886-4EF0-96C9-ACA112D8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78486-0D07-4DCA-AFE0-1329480A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740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8768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8712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740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8768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459B4-D345-47D7-91A4-60655AC8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B806A-323B-4E1F-966B-D887306D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074EB-6BA4-450D-BDDA-05040084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4FDE5-25A6-4347-9788-0AB881DC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7E6-69CD-4842-9542-95311E85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CC455-54F1-44E4-A0E5-000E98E7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D9682-04B1-45AC-9028-75FE075D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71400" y="106200"/>
            <a:ext cx="7809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36488-C480-4A44-8D48-813A521F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0DD9F-3988-46A4-B0E5-0DE379CA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7AFDA-2BAF-4A44-B995-A670E54E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411A6-C447-45CE-B54B-E932CECA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81F4C-B200-4F64-9407-DCF098E9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61073-0B29-482E-9767-058BD3A0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740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768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8712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740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768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FC92D-3CBB-4402-9F37-5FEDAF9C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A11D-8297-408D-A084-4EBAD131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71400" y="106200"/>
            <a:ext cx="7809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400" y="106200"/>
            <a:ext cx="7809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DA5-C86E-4791-BEA8-90041B7C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8740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7680" y="20174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8712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8740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7680" y="4274640"/>
            <a:ext cx="247608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63E-7AD4-4094-A79E-05B61B15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7680" y="42746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740-AECA-4036-92A0-F966550B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712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2017440"/>
            <a:ext cx="375264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7120" y="4274640"/>
            <a:ext cx="7689960" cy="20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DE8-FB51-487F-B2D8-9CB7B68E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7B302-9183-4E9F-9956-F109917FC70C}" type="datetime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7762-1887-48AA-B713-8E986A89AD00}" type="slidenum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6C42-09B2-4385-B7B1-0A3C5A874743}" type="datetime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E4E7-1430-4421-A55F-576BDD2C916D}" type="slidenum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D553-58E5-42E6-8341-89691152E918}" type="datetime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66F9-6289-4DBF-A4C6-CDB2E3532846}" type="slidenum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Aft>
                <a:spcPts val="1412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Aft>
                <a:spcPts val="1412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Aft>
                <a:spcPts val="1412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>
              <a:spcBef>
                <a:spcPts val="700"/>
              </a:spcBef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>
              <a:spcBef>
                <a:spcPts val="700"/>
              </a:spcBef>
              <a:buClr>
                <a:srgbClr val="ffff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>
              <a:spcBef>
                <a:spcPts val="700"/>
              </a:spcBef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>
              <a:spcBef>
                <a:spcPts val="7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C1BB-B319-4D0B-8056-98DA1412DA66}" type="datetime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BB34-447B-455F-BAAC-A0C56627FB3E}" type="slidenum">
              <a:rPr b="0" lang="ru-RU" sz="2400" spc="-1" strike="noStrike">
                <a:solidFill>
                  <a:srgbClr val="ffffff"/>
                </a:solidFill>
                <a:latin typeface="Book Antiqua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1400" y="10620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87120" y="2017440"/>
            <a:ext cx="768996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166" name="Рисунок 3" descr=""/>
          <p:cNvPicPr/>
          <p:nvPr/>
        </p:nvPicPr>
        <p:blipFill>
          <a:blip r:embed="rId2"/>
          <a:stretch/>
        </p:blipFill>
        <p:spPr>
          <a:xfrm>
            <a:off x="7199280" y="5670720"/>
            <a:ext cx="1787400" cy="95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8469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6e6e6"/>
                </a:solidFill>
                <a:latin typeface="Lucida Sans"/>
              </a:rPr>
              <a:t> </a:t>
            </a:r>
            <a:r>
              <a:rPr b="1" lang="ru-RU" sz="2400" spc="-1" strike="noStrike">
                <a:solidFill>
                  <a:srgbClr val="e6e6e6"/>
                </a:solidFill>
                <a:latin typeface="Lucida Sans"/>
              </a:rPr>
              <a:t>ОЦЕНКА ЗАГРЯЗНЕННОСТИ АТМОСФЕРЫ </a:t>
            </a:r>
            <a:br>
              <a:rPr sz="2400"/>
            </a:br>
            <a:r>
              <a:rPr b="1" lang="ru-RU" sz="2400" spc="-1" strike="noStrike">
                <a:solidFill>
                  <a:srgbClr val="e6e6e6"/>
                </a:solidFill>
                <a:latin typeface="Lucida Sans"/>
              </a:rPr>
              <a:t>В ПОСЕЛКЕ АГИНСКОЕ ПО ХВОЕ СОСНЫ ОБЫКНОВЕННОЙ</a:t>
            </a:r>
            <a:endParaRPr b="1" i="1" lang="en-US" sz="24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10920" y="1844640"/>
            <a:ext cx="7993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e6e6"/>
                </a:solidFill>
                <a:latin typeface="Lucida Sans"/>
                <a:ea typeface="Lucida Sans Unicode"/>
              </a:rPr>
              <a:t>Автор: Иванов Алексей Максимович,</a:t>
            </a: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e6e6"/>
                </a:solidFill>
                <a:latin typeface="Lucida Sans"/>
                <a:ea typeface="Lucida Sans Unicode"/>
              </a:rPr>
              <a:t>ученик 7 класса,  МОУ «АСОШ № 4» ГО «Поселок Агинское»</a:t>
            </a: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6e6e6"/>
                </a:solidFill>
                <a:latin typeface="Lucida Sans"/>
                <a:ea typeface="Lucida Sans Unicode"/>
              </a:rPr>
              <a:t>Руководитель: Цыренова Долгор Борисовна, учитель географии и экологии </a:t>
            </a:r>
            <a:endParaRPr b="0" lang="en-US" sz="16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2" name="Прямоугольник 1"/>
          <p:cNvSpPr/>
          <p:nvPr/>
        </p:nvSpPr>
        <p:spPr>
          <a:xfrm>
            <a:off x="179280" y="3059280"/>
            <a:ext cx="8569440" cy="2462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Объект исследования: сосны в Центральном парке п. Агинск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Предмет исследования: реакция сосны обыкновенной на загрязнение окружающ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Целью исследования: оценка загрязненности атмосферы в п. Агинское по хвое сосны обыкнов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Задачи исслед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1.Охарактеризовать район исслед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2.Заложить пробную площадь в Центральном парке п. Агинско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3.Определить оценку загрязненности атмосферы по хвое сосны обыкновен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Для достижения поставленной цели нам необходимо было собрать фактически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Гипотеза: по состоянию хвои сосны обыкновенной возможно определить степень загрязненности атмосферы в п. Агинск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Новизна: Исследования состояния сосны обыкновенной на территории Центрального парка нами не проводил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53290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6e6e6"/>
                </a:solidFill>
                <a:latin typeface="Lucida Sans"/>
              </a:rPr>
              <a:t>  </a:t>
            </a:r>
            <a:r>
              <a:rPr b="1" lang="ru-RU" sz="1400" spc="-1" strike="noStrike">
                <a:solidFill>
                  <a:srgbClr val="e6e6e6"/>
                </a:solidFill>
                <a:latin typeface="Lucida Sans"/>
              </a:rPr>
              <a:t>Хлорозы и некрозы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e6e6e6"/>
                </a:solidFill>
                <a:latin typeface="Lucida Sans"/>
              </a:rPr>
              <a:t>В ответ на воздействие различных стрессоров хвоя сосны меняет свою окраску.                                                                                </a:t>
            </a:r>
            <a:br>
              <a:rPr sz="1400"/>
            </a:br>
            <a:r>
              <a:rPr b="1" lang="ru-RU" sz="1400" spc="-1" strike="noStrike">
                <a:solidFill>
                  <a:srgbClr val="e6e6e6"/>
                </a:solidFill>
                <a:latin typeface="Lucida Sans"/>
              </a:rPr>
              <a:t> ХЛОРОЗ - бледная окраска хвои, побурение или побронзовение.</a:t>
            </a:r>
            <a:br>
              <a:rPr sz="1400"/>
            </a:br>
            <a:r>
              <a:rPr b="1" lang="ru-RU" sz="1400" spc="-1" strike="noStrike">
                <a:solidFill>
                  <a:srgbClr val="e6e6e6"/>
                </a:solidFill>
                <a:latin typeface="Lucida Sans"/>
              </a:rPr>
              <a:t> НЕКРОЗЫ - отмирание ограниченных участков ткани – важные  симптомы повреждений при индикации, иногда довольно специфичные. </a:t>
            </a:r>
            <a:br>
              <a:rPr sz="1400"/>
            </a:br>
            <a:endParaRPr b="1" i="1" lang="en-US" sz="1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14" name="Рисунок 2" descr=""/>
          <p:cNvPicPr/>
          <p:nvPr/>
        </p:nvPicPr>
        <p:blipFill>
          <a:blip r:embed="rId1"/>
          <a:stretch/>
        </p:blipFill>
        <p:spPr>
          <a:xfrm>
            <a:off x="5940360" y="333360"/>
            <a:ext cx="2838600" cy="20145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1"/>
          <p:cNvSpPr/>
          <p:nvPr/>
        </p:nvSpPr>
        <p:spPr>
          <a:xfrm>
            <a:off x="576360" y="2492280"/>
            <a:ext cx="7740720" cy="942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Для проведения исследований нами были выбрана площадка в Центральном парк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Эти сосны были посажены сотрудниками Агинского территориального отдела Государственной лесной службы Забайкальского кра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На площадке обследовали по пять деревьев 8-15 лет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Заголовок 1"/>
          <p:cNvSpPr/>
          <p:nvPr/>
        </p:nvSpPr>
        <p:spPr>
          <a:xfrm>
            <a:off x="324000" y="5805360"/>
            <a:ext cx="36716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6e6e6"/>
                </a:solidFill>
                <a:latin typeface="Lucida Sans"/>
                <a:ea typeface="Tahoma"/>
              </a:rPr>
              <a:t>Для начала мы определили степень вытоптанности:</a:t>
            </a:r>
            <a:br>
              <a:rPr sz="1400"/>
            </a:br>
            <a:r>
              <a:rPr b="1" lang="ru-RU" sz="1400" spc="-1" strike="noStrike">
                <a:solidFill>
                  <a:srgbClr val="e6e6e6"/>
                </a:solidFill>
                <a:latin typeface="Lucida Sans"/>
                <a:ea typeface="Tahoma"/>
              </a:rPr>
              <a:t>Как мы видем на рисунке 1 на данном участке вытатывания нет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2"/>
          <a:stretch/>
        </p:blipFill>
        <p:spPr>
          <a:xfrm>
            <a:off x="684360" y="3573360"/>
            <a:ext cx="2808000" cy="210996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1"/>
          <p:cNvSpPr/>
          <p:nvPr/>
        </p:nvSpPr>
        <p:spPr>
          <a:xfrm>
            <a:off x="4356000" y="5084640"/>
            <a:ext cx="460872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Lucida Sans"/>
                <a:ea typeface="Tahoma"/>
              </a:rPr>
              <a:t>На площадке у 5 деревьев в возрасте 8-15 лет. Мы отбирали по 50 пар хвоинок  второго года жизни осевого побег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"/>
                <a:ea typeface="Tahoma"/>
              </a:rPr>
              <a:t>А – хвоя первого года жизни осевого побег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"/>
                <a:ea typeface="Tahoma"/>
              </a:rPr>
              <a:t>Б – хвоя второго года жизни осевого побег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Lucida Sans"/>
                <a:ea typeface="Tahoma"/>
              </a:rPr>
              <a:t>В – хвоя третьего года жизни осевого побега</a:t>
            </a:r>
            <a:r>
              <a:rPr b="1" lang="ru-RU" sz="1400" spc="-1" strike="noStrike">
                <a:solidFill>
                  <a:srgbClr val="000000"/>
                </a:solidFill>
                <a:latin typeface="Lucida Sans"/>
                <a:ea typeface="Tahoma"/>
              </a:rPr>
              <a:t>	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3"/>
          <a:stretch/>
        </p:blipFill>
        <p:spPr>
          <a:xfrm>
            <a:off x="5580000" y="3255840"/>
            <a:ext cx="266400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6e6e6"/>
                </a:solidFill>
                <a:latin typeface="Lucida Sans"/>
              </a:rPr>
              <a:t> </a:t>
            </a:r>
            <a:r>
              <a:rPr b="1" lang="ru-RU" sz="1400" spc="-1" strike="noStrike">
                <a:solidFill>
                  <a:srgbClr val="e6e6e6"/>
                </a:solidFill>
                <a:latin typeface="Lucida Sans"/>
              </a:rPr>
              <a:t>Мы не стали обрывать хвоинки, а посчитали их на месте.</a:t>
            </a:r>
            <a:endParaRPr b="1" i="1" lang="en-US" sz="14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3178080" cy="237672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1"/>
          <p:cNvSpPr/>
          <p:nvPr/>
        </p:nvSpPr>
        <p:spPr>
          <a:xfrm>
            <a:off x="468360" y="4005360"/>
            <a:ext cx="7775640" cy="729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В сумме было отобрано по 250 хвоинок. Вся хвоя делилась на 3 части: неповрежденная хвоя, хвоя с пятнами и хвоя с признаками усыхания. Подсчитывалось количество хвоинок в каждой групп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2657520" cy="3182760"/>
          </a:xfrm>
          <a:prstGeom prst="rect">
            <a:avLst/>
          </a:prstGeom>
          <a:ln w="0">
            <a:noFill/>
          </a:ln>
        </p:spPr>
      </p:pic>
      <p:sp>
        <p:nvSpPr>
          <p:cNvPr id="224" name="Прямоугольник 1"/>
          <p:cNvSpPr/>
          <p:nvPr/>
        </p:nvSpPr>
        <p:spPr>
          <a:xfrm>
            <a:off x="601560" y="4979880"/>
            <a:ext cx="7355160" cy="516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Book Antiqua"/>
                <a:ea typeface="Microsoft YaHei"/>
              </a:rPr>
              <a:t>Хлорозы и некрозы у исследуемых растений есть. Это говорит о том, что воздух не совсем чистый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e6e6e6"/>
                </a:solidFill>
                <a:latin typeface="Lucida Sans"/>
              </a:rPr>
              <a:t>РАСПОЛОЖЕНИЕ ПЛОЩАДКИ ИССЛЕДОВАНИЯ</a:t>
            </a:r>
            <a:endParaRPr b="1" i="1" lang="en-US" sz="41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399280" cy="5011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ся</dc:creator>
  <dc:description/>
  <dc:language>en-US</dc:language>
  <cp:lastModifiedBy>Алеся</cp:lastModifiedBy>
  <dcterms:modified xsi:type="dcterms:W3CDTF">2017-01-14T01:27:30Z</dcterms:modified>
  <cp:revision>1</cp:revision>
  <dc:subject/>
  <dc:title> ОЦЕНКА ЗАГРЯЗНЕННОСТИ АТМОСФЕРЫ  В ПОСЕЛКЕ АГИНСКОЕ ПО ХВОЕ СОСНЫ ОБЫКНОВЕННОЙ</dc:title>
</cp:coreProperties>
</file>