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A7C32-9084-4F9B-A53F-D15EF70BF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E6DF-022A-476E-A96D-5CD0F05937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28D-9EC4-4525-998C-92D80D96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E04-8179-4F9D-BA5A-76740FF1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CEE2-9861-45C8-9626-F86509524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5BAB-87BF-4919-A2C9-7CF64FB53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61F3-177F-497D-8047-F49940E0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02A6-B453-4C90-BE40-EB8C176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390B-D5D3-4B11-8905-C07E896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90D7-6F94-4597-A38F-6ECDACA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EDE1-6B38-4FBD-BAF6-3D453CE5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CD42-F58C-4E18-A280-AD9DB165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613-9096-42C1-BC57-95315600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5B1-9714-40BE-AF1B-AC7BC71E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AF77-18A4-43A2-89A2-2661677A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82A5-86C0-4C23-B890-4DA8CED9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AB89-960F-4C7F-865B-11D707D3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30CE-5F54-4B18-9D7C-7BB172ABA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9D34-F8E2-4808-BC59-64C90EE4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2C32F-6C50-46AF-9236-4F301570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5FC26-3F62-40EC-8AE9-BE1C808C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9CE4C-E31C-40FA-9B2D-0E35BD03B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7970-E248-4018-AC62-2F3160B4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F47A2-640C-4235-8D52-59F066DF3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8CE-D986-4742-A57A-5026900E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98C3B-89E0-48A2-B9A8-A8A4DC08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BC2D-F9FB-4DDA-9D40-194DC59D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112F-9E63-4E3F-9973-24BBCE6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7B98-0BEA-4188-8F70-53B83712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4755E-A5F2-43EF-9030-B2968FF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9CCBB-8B6E-4622-8314-D8334D45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F63BD-2E32-4F27-BDBB-4400C636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831DB-F757-4599-8591-E58A1674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58BD8-6CF2-4F16-BB4A-5C64F1F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1B012-5BFF-41E8-B2F1-86D6F0B1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12D1-6C55-4CD5-9EAE-1FC7F4E0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08E3A-407D-4BF2-9F8B-A55366D6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7C5F-B088-4B0B-9F52-40B9BD70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44E2E-8D63-435B-A080-20F03911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94FA6-2A33-4FDA-AFA1-6E71658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9093-F223-4457-8ACE-785F76A3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B0EA0-B38F-4B4F-B25A-734A602A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B6B0-A65D-43A4-919F-F8B55F58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8AF88-21CA-4A91-A9AC-084759C51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2DE0-EB05-4F1C-8ED2-0CC90D26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BD5-33BB-4EBE-A240-78D91DD3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BD97-F7C0-443D-AE72-2D5F0D6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B08A-A895-4DAD-B6F9-FADF99C7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0730-67C1-495D-922D-5394A4AF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F319-1C83-476F-A304-6AA0F722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21EF-898E-4A53-A4A2-D029495291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69AA-053B-439E-A777-009DA2A78AA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8BD-3EC0-4741-ADD7-86AA66D247F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3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6281-8E2B-43DE-9C8B-F08A58ECB5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8"/>
          <p:cNvSpPr txBox="1"/>
          <p:nvPr/>
        </p:nvSpPr>
        <p:spPr>
          <a:xfrm>
            <a:off x="395280" y="2421000"/>
            <a:ext cx="8496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ое сопровождение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ГОС ООО: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цель, задачи, виды деятельности,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роприятия.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89" name="Picture 3" descr="C:\Users\Администратор\Desktop\i.jpg"/>
          <p:cNvPicPr/>
          <p:nvPr/>
        </p:nvPicPr>
        <p:blipFill>
          <a:blip r:embed="rId2"/>
          <a:stretch/>
        </p:blipFill>
        <p:spPr>
          <a:xfrm>
            <a:off x="4140360" y="189000"/>
            <a:ext cx="4363920" cy="1780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18493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900000" y="2276640"/>
            <a:ext cx="792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3. Психологическое консультирование -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помощь в решении тех проблем, с которыми к психологу обращаются учителя, обучающиеся, родител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826920" y="3213000"/>
            <a:ext cx="831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Verdana"/>
              </a:rPr>
              <a:t>4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. </a:t>
            </a: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Психологическое просвещение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– приобщение педагогического коллектива, учащихся и родителей к психологической культуре: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организации введения ФГОС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методическом сопровождении введения ФГОС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проведение мониторинговых исследований формирования универсальных учебных действий и особенностей адаптации учащихся первых классов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организации и проведении курсов повышения квалификации (кадровое обеспечение введения ФГОС)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участие в информационно- аналитическом обеспечении введения ФГО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Этапы внедрения системы психолого-педагогического сопровождения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 этап - подготовительный (2013-2014 уч.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зучение и анализ модели сопрово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иск и корректировка методических материалов, необходимых для внедрения в школьную практику идеи психолого-педагогического сопрово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ределение стратегии и тактики дальнейшей деятельност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териально-техническое оснащение психологической службы (компьютерное обеспечение, диагностическое и методическое оснащение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2 этап – практический (2014-2018 уч.г.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ведение в школьную практику проведения психолого- педагогического сопровождения в рамках введения ФГОС ОО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иск оптимальных способов контроля за реализацией решений психолого-педагогического сопровожд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3 этап – корректирующий (2016 -2017 уч.г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здание и внедрение мониторинга психологического статуса школьник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рректировка системы психолого–педагогического сопровождения в рамках введения ФГОС ОО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и внедрение инновационных направлений психолого-педагогического сопровождения учебно-воспитательного процес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4 этап – обобщающий (2018 уч.г.)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работка и интерпретация результатов внедрения психолого–педагогического сопровождения в рамках внедрения ФГОС ООО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ерспектив дальнейшего развития школ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C:\Users\user\Downloads\рамки 4\3f8a09160f1c.png"/>
          <p:cNvPicPr/>
          <p:nvPr/>
        </p:nvPicPr>
        <p:blipFill>
          <a:blip r:embed="rId1"/>
          <a:srcRect l="14845" t="4166" r="1094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1142640" y="785880"/>
            <a:ext cx="76770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Verdana"/>
              </a:rPr>
              <a:t>I этап (5 класс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ход учащегося на новую ступень образ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сихолого-педагогическое сопровождение обучающихся V классов направлено на создание условий для успешного обучения учащихся в среднем звене школы. Особое значение придается созданию условий для успешной социально-психологической адаптации к новой социальной ситуации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I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 этап – (6-8 классы)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бота по сопровождению VI–VIII классов определяется запросом со стороны родителей учащихся и администрации 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00"/>
                </a:solidFill>
                <a:latin typeface="Verdana"/>
              </a:rPr>
              <a:t>III </a:t>
            </a:r>
            <a:r>
              <a:rPr b="1" lang="ru-RU" sz="2100" spc="-1" strike="noStrike">
                <a:solidFill>
                  <a:srgbClr val="006600"/>
                </a:solidFill>
                <a:latin typeface="Verdana"/>
              </a:rPr>
              <a:t>этап (9 класс) </a:t>
            </a:r>
            <a:r>
              <a:rPr b="0" lang="ru-RU" sz="1900" spc="-1" strike="noStrike">
                <a:solidFill>
                  <a:srgbClr val="00206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психолого-педагогических элективных курсов, направленных на самоопределение подростков и выбор ими дальнейшего образовательного маршрута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ведение психолого-педагогической диагностики, направленной на определение у учащихся уровня сформированности 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9" name="Группа 4"/>
          <p:cNvGrpSpPr/>
          <p:nvPr/>
        </p:nvGrpSpPr>
        <p:grpSpPr>
          <a:xfrm>
            <a:off x="0" y="4514760"/>
            <a:ext cx="1857240" cy="2129040"/>
            <a:chOff x="0" y="4514760"/>
            <a:chExt cx="1857240" cy="2129040"/>
          </a:xfrm>
        </p:grpSpPr>
        <p:pic>
          <p:nvPicPr>
            <p:cNvPr id="230" name="Picture 30" descr="013">
              <a:hlinkClick r:id="rId2" action="ppaction://hlinksldjump"/>
            </p:cNvPr>
            <p:cNvPicPr/>
            <p:nvPr/>
          </p:nvPicPr>
          <p:blipFill>
            <a:blip r:embed="rId3">
              <a:lum bright="-20000"/>
            </a:blip>
            <a:stretch/>
          </p:blipFill>
          <p:spPr>
            <a:xfrm>
              <a:off x="0" y="4514760"/>
              <a:ext cx="1857240" cy="21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Рисунок 6" descr="logo_short.gif"/>
            <p:cNvPicPr/>
            <p:nvPr/>
          </p:nvPicPr>
          <p:blipFill>
            <a:blip r:embed="rId4"/>
            <a:stretch/>
          </p:blipFill>
          <p:spPr>
            <a:xfrm rot="20986200">
              <a:off x="537120" y="5313960"/>
              <a:ext cx="856440" cy="406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08560" y="4493160"/>
            <a:ext cx="7599600" cy="11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Комплекс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диагностик уровня сформированности УУД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обучающихся в основной образовательной школе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70760" y="3010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ЛИЧНОСТНЫЕ УУД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самооценки «Лесенка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Модифицированный вариант анкеты школьной мотивации Н. Г. Лускан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изучения мотивации обучения школьников при переходе из начальных классов в средние по методике М. Р. Гинзбурга «Изучение учебной мотиваци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школьной тревожности Филипс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направленности на приобретение знаний Е. Ильин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отношения к учению и к учебным предметам Г. Казанце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исследования самооценки Дембо–Рубинштей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0000"/>
                </a:solidFill>
                <a:latin typeface="Verdana"/>
              </a:rPr>
              <a:t>Системно-деятельностный подход предполагает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спитание и развитие качеств личности, отвечающих требованиям информационного общества, инновационной экономики, задачам построения демократического гражданского общества на основе толерантности, диалога культур и уважения многонационального, поликультурного и поликонфессионального состава российского общества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еход к стратегии социального проектирования и конструирования в системе образования на основе разработки содержания и технологий образования, определяющих пути и способы достижения социально желаемого уровня (результата) личностного и познавательного развития обучающихс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иентацию на результаты образования как системообразующий компонент стандарта, где развитие личности обучающегося на основе усвоения универсальных учебных действий, познания и освоения мира составляет цель и основной результат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I–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349360"/>
            <a:ext cx="896472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знавательной потребности В.Юркеви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ориентационная анкета Е.Клим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Профессиональный тип личност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рта самооценки склонносте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требности в достижении Ю. Ор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Терпимый ли вы человек?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особенностей – формирования ценностных ориентаций М. Рокич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оценки уровня развития морального сознания – дилеммы Л. Колбер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атохарактерологический диагностическийопросни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иагностика личностного роста школьников(сформированность уровня воспитанности) П.В Степанова, Д.В. Григорьева, И.В. Кулеш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осник исследования тревожности у старших подростков и юношей Спилбиргера,адаптирован А. Андрее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тивация обучения Журавлевой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842040" y="3010320"/>
            <a:ext cx="7599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явление упорства школьников к умствен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ичностный опросник Кеттелла в модификации Л.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осник для оценки своего упорства Е.Иль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Мюнстерберг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-  Измерение рациона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отребности в достижении Ю. Орл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-опросник уровня субъективного кон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оля Е. Бажин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ЗНАВАТЕЛЬ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уровня развития словесно-логического мышления Л. Переслени, Т. Фотек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ценка сформированности навыков чтения Л. 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ценка самостоятельности решения Л.А. Ясюков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риентацию на результаты образования как системообразующий компонент стандарта, где развитие личности обучающегося на основе усвоения универсальных учебных действий, познания и освоения мира составляет цель и основной результат образова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знание решающей роли содержания образования, способов организации образовательной деятельности и взаимодействия участников об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овательного процесса в достижении целей личностного, социального и познавательного развития обучающихс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ет индивидуальных возрастных, психологических и физиологических особенностей обучающихся, роли и значения видов деятельности и форм общения для определения целей образования и воспитания и путей их достижен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–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сследование уровня креатив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Исследование активности мышления» И.М. Лущихин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Вартего «Круг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II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ШТУР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Е.Ильина «Измерение рациональности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механической понятливости В.П. Захаро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II–IX 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ласс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ст «Каков ваш творческий потенциал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ММУНИКА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зучение периода адаптации учащихся по методике Александровской в 5 класса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V – IX 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классы:</a:t>
            </a:r>
            <a:br>
              <a:rPr sz="4400"/>
            </a:b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КОС (В.Синявский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Индекс сплоченности» Сишор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ика «Оценка отношений подростка с классом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−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циометр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5а и 5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6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7а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беспечение преемственности дошкольного, начального общего, основного и среднего (полного) общего образов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знообразие организационных форм и учет индивидуальных особенностей каждого обучающегося (включая одаренных детей и детей с ограниченными возможностями здоровья), обеспечивающих рост творческого потенциала, познавательных мотивов, обогащение форм взаимодействия со сверстниками и взрослыми в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рантированность достижения планируемых результатов освоения основной образовательной программы начального общего образования, что и создает основу для самостоятельного успешного усвоения обучающимися новых знаний, умений, компетенций, видов и способов деятельност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7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8а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2600" y="4935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00"/>
                </a:solidFill>
                <a:latin typeface="Verdana"/>
              </a:rPr>
              <a:t>Развитие универсальных учебных действий в 8б класс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24000" y="1709640"/>
          <a:ext cx="8640720" cy="4896000"/>
        </p:xfrm>
        <a:graphic>
          <a:graphicData uri="http://schemas.openxmlformats.org/drawingml/2006/table">
            <a:tbl>
              <a:tblPr/>
              <a:tblGrid>
                <a:gridCol w="2911320"/>
                <a:gridCol w="657360"/>
                <a:gridCol w="504720"/>
                <a:gridCol w="673200"/>
                <a:gridCol w="725400"/>
                <a:gridCol w="1109520"/>
                <a:gridCol w="2059200"/>
              </a:tblGrid>
              <a:tr h="303480">
                <a:tc rowSpan="2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учебные дей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ровни развития УУ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намика разви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чност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тивация учебной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равственно-этическая ориент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гуля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ватель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ниверсальные логические действ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тановка и решение пробл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тивные УУ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общен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кооперац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муникация как условие интериор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080" rIns="37080" tIns="37080" bIns="3708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7080" marR="37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115280" y="458064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КОМЕНДАЦИИ ДЛЯ ПЕДАГОГОВ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 РАЗВИТИЮ УНИВЕРСАЛЬНЫХ УЧЕБНЫХ ДЕЙСТВИЙ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Личност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1. Обращайте внимание на развивающую ценность любого задания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2. Прививайте правила моральных норм, нравственного поведения; учите обсуждать, что непонятно, и делиться эмоциями со сверстникам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3. Сопровождайте обучение ситуациями свободного выбора заданий, атмосферой дискуссий, это повышает мотивацию престижности обучения, мотивацию стремления к компетентност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4. Оптимально сочетайте разные методы. Это позволяет раскрыть школьникам новые знания в виде проблем и в то же время не упустить отработку у учащихся приемов и способов работы до уровня навыков и ум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5. Процесс обучения и воспитания осуществляйте постоянно в прямом контакте с детьми как беспрерывный выбор и обоснование своей шкалы ценностей, своих убеждений, взглядов, настроений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6. Будьте готовы всегда к принятию позиции ребенка, пониманию его интересов, мотивов, ценностей, действ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 Уделяйте большое внимание самопроверке детей, обучая их тому, как можно найти и исправить ошибку. Дети по предложенному алгоритму учатся оценивать результаты выполнения задания, учитель учит детей оценивать работу по критериям и самостоятельно выбирать критерии для оцен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 Развивайте у учащихся способность к волевому усилию – выбору в ситуации мотивационного конфликта и к преодолению препятстви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 Подавайте детям пример своей сдержанности, неконфликтности в общении, требуйте этого от них. Этим вы воспитываете в учащихся привычку к самоконтролю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гуля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ывайте формы индивидуальной дифференцированной работы в классе и используйте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· задания разной степени труд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· специально подобранные общеразвивающие упражнения на развитие мышления, речи, воображения, внимания, памяти и пр., занимающие небольшую по времени  часть  урока. При этом по возможности  объединяйте детей в пары, группы, чтобы коллективно решить ту или иную логическую или творческую задач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ммуникативные УУД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1. Организуйте проведение групповых заданий на уроке (развитие умения слушать и вступать в диалог, участвовать в совместном обсуждении проблем, включаться в группу сверстников и строить продуктивное взаимодействие и сотрудничество с окружающими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. Побуждайте школьников соблюдать общепринятые нормы поведения на уроке и правила взаимоотношений с учителем и сверстникам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. Ставьте перед школьниками и обсуждайте вместе с ними поведенческие и социальные проблемы, которые предстоит решать учащимся, моделируйте ситуации, в которых учащиеся должны их реш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4. Провоцируйте у учащихся желание говорить добрые слова в адрес других людей, вооружайте их умением это делать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писок литературы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Диагностическая и коррекционная работа школьного психолога. Под ред. И. В. Дубровиной.М.: 2001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Дубровина И.В., Прихожан А.М., Данилова Е.Е., Дубровина И.В.. «Психология. 5 класс». И.: «Московский психолого-социальный институт», 2007. 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Особенности личностного и профессионального развития субъектов образовательного пространства в современных социально-экономических условиях. Под редакцией Л. М. Митиной М. 2010 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4.Примерная основная образовательная программа образовательного учреждения. Основная школа. М.: «Просвещение» 2011.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5.Примерная программа психолого-педагогического сопровождения образовательных учреждений при переходе на ФГОС ООО. Составитель Серякина А. В.. Научный редактор М. Ю. Михайлина – Саратов: ГАОУ ДПО «СарИПКиПРО», 2012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6.Психолого-педагогическое обеспечение национальной образовательной инициативы «Наша новая школа», под ред. В.В.Рубцова, М,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7.Стандарты второго поколения. Как проектировать универсальные учебные действия. М, 201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8.Хухлаева О.В. Школьная психологическая служба, М,2008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221480" y="2023200"/>
            <a:ext cx="7133040" cy="343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Главное!</a:t>
            </a: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По каким бы стандартам ни учился ребенок, любовь и внимание  необходимы ему, для того чтобы он был счастлив, успешен в учебе. </a:t>
            </a:r>
            <a:br>
              <a:rPr sz="3600"/>
            </a:br>
            <a:r>
              <a:rPr b="0" lang="ru-RU" sz="3600" spc="-1" strike="noStrike">
                <a:solidFill>
                  <a:srgbClr val="006600"/>
                </a:solidFill>
                <a:latin typeface="Monotype Corsiva"/>
              </a:rPr>
              <a:t>Любите ребенка сегодня таким, какой он есть, помогайте ему, берегите его!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Заголовок 1"/>
          <p:cNvSpPr/>
          <p:nvPr/>
        </p:nvSpPr>
        <p:spPr>
          <a:xfrm>
            <a:off x="2627280" y="1125360"/>
            <a:ext cx="5327640" cy="43196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Verdana"/>
              </a:rPr>
              <a:t>Целью</a:t>
            </a:r>
            <a:r>
              <a:rPr b="0" lang="ru-RU" sz="3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2060"/>
                </a:solidFill>
                <a:latin typeface="Verdana"/>
              </a:rPr>
              <a:t>психолого-педагогического сопровождения является создание социально- психологических условий для развития личности обучающихся и их успешного обуч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Содержимое 2"/>
          <p:cNvSpPr/>
          <p:nvPr/>
        </p:nvSpPr>
        <p:spPr>
          <a:xfrm>
            <a:off x="179280" y="981000"/>
            <a:ext cx="8748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истематически отслеживать психолого-педагогический статус ребенка и динамику его психологического развития в процессе школьного  обучения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формировать у обучающихся способности к самопознанию, саморазвитию и самоопределению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Verdana"/>
              </a:rPr>
              <a:t>создавать специальные социально-психологические условия для оказания помощи детям, имеющим проблемы в психологическом развитии, обучении.</a:t>
            </a:r>
            <a:r>
              <a:rPr b="0" lang="ru-RU" sz="2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0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5788080" y="0"/>
            <a:ext cx="33559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11280" y="188640"/>
            <a:ext cx="65534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6600"/>
                </a:solidFill>
                <a:latin typeface="Verdana"/>
              </a:rPr>
              <a:t>ОСНОВНЫЕ НАПРАВЛЕНИЯ          ДЕЯТЕЛЬНОСТИ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3"/>
          <p:cNvSpPr/>
          <p:nvPr/>
        </p:nvSpPr>
        <p:spPr>
          <a:xfrm flipH="1">
            <a:off x="1476000" y="1071720"/>
            <a:ext cx="1095480" cy="106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7308720" y="765000"/>
            <a:ext cx="358920" cy="4032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250920" y="2205000"/>
            <a:ext cx="2952720" cy="109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Диагностико–коррекционная раб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539640" y="4941720"/>
            <a:ext cx="475308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профилактическая работ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5867280" y="4869000"/>
            <a:ext cx="301968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логическое просвеще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5292720" y="1052640"/>
            <a:ext cx="14292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3564000" y="3284640"/>
            <a:ext cx="3672000" cy="76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66ff"/>
                </a:solidFill>
                <a:uFillTx/>
                <a:latin typeface="Verdana"/>
              </a:rPr>
              <a:t>Психологическое консультир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8610480" y="2286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2842920" y="1125360"/>
            <a:ext cx="755640" cy="3743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3" descr="C:\Users\Администратор\Desktop\i.jpg"/>
          <p:cNvPicPr/>
          <p:nvPr/>
        </p:nvPicPr>
        <p:blipFill>
          <a:blip r:embed="rId1"/>
          <a:stretch/>
        </p:blipFill>
        <p:spPr>
          <a:xfrm>
            <a:off x="0" y="0"/>
            <a:ext cx="2340000" cy="95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755640" y="2349360"/>
            <a:ext cx="838836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6666"/>
                </a:solidFill>
                <a:latin typeface="Verdana"/>
              </a:rPr>
              <a:t>1</a:t>
            </a:r>
            <a:r>
              <a:rPr b="0" i="1" lang="ru-RU" sz="1700" spc="-1" strike="noStrike" u="sng">
                <a:solidFill>
                  <a:srgbClr val="006666"/>
                </a:solidFill>
                <a:uFillTx/>
                <a:latin typeface="Verdana"/>
              </a:rPr>
              <a:t>. </a:t>
            </a:r>
            <a:r>
              <a:rPr b="1" i="1" lang="ru-RU" sz="1700" spc="-1" strike="noStrike" u="sng">
                <a:solidFill>
                  <a:srgbClr val="006666"/>
                </a:solidFill>
                <a:uFillTx/>
                <a:latin typeface="Verdana"/>
              </a:rPr>
              <a:t>Диагностико–коррекционная работа (развивающая)- </a:t>
            </a: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выявление особенностей психического развития ребенка, сформированности определенных психологических новообразований, соответствия уровня развития умений, знаний, навыков, личностных и межличностных образований возрастным ориентирам и требованиям общества.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изучение обращения к психологу, поступающего от учителей, родителей, учащихся (определение проблемы, выбор метода исследования);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формулировка заключения об основных характеристиках изучавщихся компонентов пчихического развития или формирования личности школьника (постановка психологического диагноза);</a:t>
            </a:r>
            <a:br>
              <a:rPr sz="1700"/>
            </a:br>
            <a:r>
              <a:rPr b="1" i="1" lang="ru-RU" sz="1700" spc="-1" strike="noStrike">
                <a:solidFill>
                  <a:srgbClr val="006666"/>
                </a:solidFill>
                <a:latin typeface="Verdana"/>
              </a:rPr>
              <a:t>- разработка рекомендаций, программы психокоррекционной работы с учащимися, составление долговременного плана развития способностей или других психологических образований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609480" y="378000"/>
            <a:ext cx="8455320" cy="1871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6"/>
          <p:cNvSpPr/>
          <p:nvPr/>
        </p:nvSpPr>
        <p:spPr>
          <a:xfrm>
            <a:off x="900000" y="2924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2. </a:t>
            </a:r>
            <a:r>
              <a:rPr b="1" i="1" lang="ru-RU" sz="1800" spc="-1" strike="noStrike" u="sng">
                <a:solidFill>
                  <a:srgbClr val="006666"/>
                </a:solidFill>
                <a:uFillTx/>
                <a:latin typeface="Verdana"/>
              </a:rPr>
              <a:t>Психопрофилактическая работа </a:t>
            </a: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– обеспечение решения проблем, связанных с обучением, воспитанием, психическим здоровьем детей: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 разработка и осуществление развивающих программ для учащихся с учетом задач каждого возрастного этапа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выявление психологических особенностей ребенка, которые в дальнейшем могут обусловить отклонения в интеллектуальном или личностном развитии;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Verdana"/>
              </a:rPr>
              <a:t>- предупреждение возможных осложнений в связи с переходом учащихся на следующую возрастную ступен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1T14:58:38Z</dcterms:created>
  <dc:creator>DNA7 X86</dc:creator>
  <dc:description/>
  <dc:language>en-US</dc:language>
  <cp:lastModifiedBy>555</cp:lastModifiedBy>
  <dcterms:modified xsi:type="dcterms:W3CDTF">2016-12-30T03:35:15Z</dcterms:modified>
  <cp:revision>31</cp:revision>
  <dc:subject/>
  <dc:title>Психологическое сопровождение обучающихся по стандартам второго поколения (ФГОС) в начальной школе.</dc:title>
</cp:coreProperties>
</file>