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45912-7DB3-4DA5-BA93-000D2D0E75A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988FE-8B7B-403C-B5E0-C9CCFF4AD60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954F-46E8-4C52-8C5F-32AA4E7CE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6D8B-9E31-4EB2-AA25-CEEF9CE30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0282-24BC-4C2A-82D9-B3F37A2B1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571F-4AD8-4117-BAA0-C82524D7D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5DAB4-4CE2-4A92-BBD1-5C6D6A9DA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BF517-9B24-4AEC-A2DF-1E6C25846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9951E-3F74-4DBB-AEAC-00904481C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E6188-3B6B-4E74-BC24-E03EA3A50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15C9C-7FB4-4D16-B4A8-3469BB493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CF6FF-9C94-4D64-8E2D-EFE344B65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2C318-B2FE-4D2E-AAFB-8651D4E3A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CFE4-3324-46D1-900E-2CE5F998D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99484-7414-40FF-A3E9-755FB8546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17569-FD90-48F8-B2AB-ADDD11CED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19899-CF88-40BC-8BF9-351CA34FE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FEBBF-09AD-4649-82D4-B90AC6BE7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F5C43-4A40-4F6E-A21B-552084608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57B72E-A067-4247-AC63-F0E48EF3A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219C5D-8010-4D0D-B758-7123796CB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6123D6-F2A6-4075-8828-1E6501372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E6D36A-30B9-4A53-A872-E10E47F0C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37A3A5-390D-4760-AED0-CA18806DE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B35E-28F1-4688-9207-8FABB696D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897F6A-1990-4912-89C8-8E314903E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6BE134-5D58-46AF-B6B1-04D1432E1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466BEE-373D-4DA0-BDAD-3A9326FA8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01EA4C-AAD9-44A1-A91D-0AE4FC787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44B5E3-0BFB-47F9-9653-B13364827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5B238E-9550-4ABA-87BB-9EAE2DA56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70C0C5-3D96-482F-9DB4-27EE3E119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E01D61-C151-43DE-AC73-ED29010AF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E912AE-1F70-436D-9804-6A4A6D4AE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920D55-9F6C-421F-90F8-DC4336F8F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1B77-CA32-42FF-A700-986F6D6CB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31502C-894B-4B28-BD35-EA61C1883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D1DF89-35F4-4FFB-B980-3529676B0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E2CA65-7F94-489F-BFDD-A9DA1F15F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DA4E9E-7B88-4DB2-9DCB-88DA55D22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FB9C43-DB56-4D5B-9552-553D012B1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B447B4-07A5-44A1-B254-9C7936786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2729BA-33D4-475F-91F2-355EB1D63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561DFE-CA50-4F69-84BA-561E83A1F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6DE12E-3ECF-46F6-A66D-46494608B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541F-6CA3-418A-838F-3759C213D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9F98-115F-4A17-84F6-AA528ADFB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3A82-6928-4FE3-936D-7F3A2B9B6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D7F0-4D06-41DC-9942-2BC670D44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1BF8-6B17-4FCB-84C0-EC51CC1C7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>
              <a:gd name="textAreaLeft" fmla="*/ 0 w 7958160"/>
              <a:gd name="textAreaRight" fmla="*/ 7958520 w 795816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B24C0-781C-4227-893F-69BFC3076BDC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44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45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6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7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48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FA8E6-3540-4619-B683-B50CBBDDEDFE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>
              <a:gd name="textAreaLeft" fmla="*/ 0 w 7772400"/>
              <a:gd name="textAreaRight" fmla="*/ 7772760 w 777240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22573-BFE9-4F25-BA18-3AF50FD6EA63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134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36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137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F3642-A921-41A7-9BCE-75BF1F4F9C58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7.xml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7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WordArt 8"/>
          <p:cNvSpPr txBox="1"/>
          <p:nvPr/>
        </p:nvSpPr>
        <p:spPr>
          <a:xfrm>
            <a:off x="395280" y="2421000"/>
            <a:ext cx="8496360" cy="31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сихологическое сопровождение </a:t>
            </a:r>
            <a:endParaRPr b="1" i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ФГОС ООО: </a:t>
            </a:r>
            <a:endParaRPr b="1" i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цель, задачи, виды деятельности, </a:t>
            </a:r>
            <a:endParaRPr b="1" i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мероприятия.</a:t>
            </a:r>
            <a:endParaRPr b="1" i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89" name="Picture 3" descr="C:\Users\Администратор\Desktop\i.jpg"/>
          <p:cNvPicPr/>
          <p:nvPr/>
        </p:nvPicPr>
        <p:blipFill>
          <a:blip r:embed="rId2"/>
          <a:stretch/>
        </p:blipFill>
        <p:spPr>
          <a:xfrm>
            <a:off x="4140360" y="189000"/>
            <a:ext cx="4363920" cy="17809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0" descr=""/>
          <p:cNvPicPr/>
          <p:nvPr/>
        </p:nvPicPr>
        <p:blipFill>
          <a:blip r:embed="rId3"/>
          <a:stretch/>
        </p:blipFill>
        <p:spPr>
          <a:xfrm>
            <a:off x="395280" y="260280"/>
            <a:ext cx="184932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6"/>
          <p:cNvSpPr/>
          <p:nvPr/>
        </p:nvSpPr>
        <p:spPr>
          <a:xfrm>
            <a:off x="900000" y="2276640"/>
            <a:ext cx="792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6666"/>
                </a:solidFill>
                <a:uFillTx/>
                <a:latin typeface="Verdana"/>
              </a:rPr>
              <a:t>3. Психологическое консультирование - </a:t>
            </a:r>
            <a:r>
              <a:rPr b="1" i="1" lang="ru-RU" sz="1800" spc="-1" strike="noStrike">
                <a:solidFill>
                  <a:srgbClr val="006666"/>
                </a:solidFill>
                <a:latin typeface="Verdana"/>
              </a:rPr>
              <a:t>помощь в решении тех проблем, с которыми к психологу обращаются учителя, обучающиеся, родител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7" name="Прямоугольник 3" descr=""/>
          <p:cNvPicPr/>
          <p:nvPr/>
        </p:nvPicPr>
        <p:blipFill>
          <a:blip r:embed="rId1"/>
          <a:stretch/>
        </p:blipFill>
        <p:spPr>
          <a:xfrm>
            <a:off x="609480" y="378000"/>
            <a:ext cx="8455320" cy="187164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8"/>
          <p:cNvSpPr/>
          <p:nvPr/>
        </p:nvSpPr>
        <p:spPr>
          <a:xfrm>
            <a:off x="826920" y="3213000"/>
            <a:ext cx="83170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66"/>
                </a:solidFill>
                <a:latin typeface="Verdana"/>
              </a:rPr>
              <a:t>4</a:t>
            </a:r>
            <a:r>
              <a:rPr b="1" i="1" lang="ru-RU" sz="1800" spc="-1" strike="noStrike">
                <a:solidFill>
                  <a:srgbClr val="006666"/>
                </a:solidFill>
                <a:latin typeface="Verdana"/>
              </a:rPr>
              <a:t>. </a:t>
            </a:r>
            <a:r>
              <a:rPr b="1" i="1" lang="ru-RU" sz="1800" spc="-1" strike="noStrike" u="sng">
                <a:solidFill>
                  <a:srgbClr val="006666"/>
                </a:solidFill>
                <a:uFillTx/>
                <a:latin typeface="Verdana"/>
              </a:rPr>
              <a:t>Психологическое просвещение </a:t>
            </a:r>
            <a:r>
              <a:rPr b="1" i="1" lang="ru-RU" sz="1800" spc="-1" strike="noStrike">
                <a:solidFill>
                  <a:srgbClr val="006666"/>
                </a:solidFill>
                <a:latin typeface="Verdana"/>
              </a:rPr>
              <a:t>– приобщение педагогического коллектива, учащихся и родителей к психологической культуре:</a:t>
            </a:r>
            <a:br>
              <a:rPr sz="1800"/>
            </a:br>
            <a:r>
              <a:rPr b="1" i="1" lang="ru-RU" sz="1800" spc="-1" strike="noStrike">
                <a:solidFill>
                  <a:srgbClr val="006666"/>
                </a:solidFill>
                <a:latin typeface="Verdana"/>
              </a:rPr>
              <a:t>- участие в организации введения ФГОС;</a:t>
            </a:r>
            <a:br>
              <a:rPr sz="1800"/>
            </a:br>
            <a:r>
              <a:rPr b="1" i="1" lang="ru-RU" sz="1800" spc="-1" strike="noStrike">
                <a:solidFill>
                  <a:srgbClr val="006666"/>
                </a:solidFill>
                <a:latin typeface="Verdana"/>
              </a:rPr>
              <a:t>- участие в методическом сопровождении введения ФГОС;</a:t>
            </a:r>
            <a:br>
              <a:rPr sz="1800"/>
            </a:br>
            <a:r>
              <a:rPr b="1" i="1" lang="ru-RU" sz="1800" spc="-1" strike="noStrike">
                <a:solidFill>
                  <a:srgbClr val="006666"/>
                </a:solidFill>
                <a:latin typeface="Verdana"/>
              </a:rPr>
              <a:t>- проведение мониторинговых исследований формирования универсальных учебных действий и особенностей адаптации учащихся первых классов;</a:t>
            </a:r>
            <a:br>
              <a:rPr sz="1800"/>
            </a:br>
            <a:r>
              <a:rPr b="1" i="1" lang="ru-RU" sz="1800" spc="-1" strike="noStrike">
                <a:solidFill>
                  <a:srgbClr val="006666"/>
                </a:solidFill>
                <a:latin typeface="Verdana"/>
              </a:rPr>
              <a:t>- участие в организации и проведении курсов повышения квалификации (кадровое обеспечение введения ФГОС);</a:t>
            </a:r>
            <a:br>
              <a:rPr sz="1800"/>
            </a:br>
            <a:r>
              <a:rPr b="1" i="1" lang="ru-RU" sz="1800" spc="-1" strike="noStrike">
                <a:solidFill>
                  <a:srgbClr val="006666"/>
                </a:solidFill>
                <a:latin typeface="Verdana"/>
              </a:rPr>
              <a:t>- участие в информационно- аналитическом обеспечении введения ФГОС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Этапы внедрения системы психолого-педагогического сопровождения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1 этап - подготовительный (2013-2014 уч.г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•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изучение и анализ модели сопровождения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•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оиск и корректировка методических материалов, необходимых для внедрения в школьную практику идеи психолого-педагогического сопровождения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•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определение стратегии и тактики дальнейшей деятельности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•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материально-техническое оснащение психологической службы (компьютерное обеспечение, диагностическое и методическое оснащение)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2 этап – практический (2014-2018 уч.г.)</a:t>
            </a:r>
            <a:br>
              <a:rPr sz="3600"/>
            </a:b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ведение в школьную практику проведения психолого- педагогического сопровождения в рамках введения ФГОС ООО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оиск оптимальных способов контроля за реализацией решений психолого-педагогического сопровождения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3 этап – корректирующий (2016 -2017 уч.г)</a:t>
            </a:r>
            <a:br>
              <a:rPr sz="3600"/>
            </a:b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оздание и внедрение мониторинга психологического статуса школьника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корректировка системы психолого–педагогического сопровождения в рамках введения ФГОС ООО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определение и внедрение инновационных направлений психолого-педагогического сопровождения учебно-воспитательного процесс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4 этап – обобщающий (2018 уч.г.)</a:t>
            </a:r>
            <a:br>
              <a:rPr sz="3600"/>
            </a:b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обработка и интерпретация результатов внедрения психолого–педагогического сопровождения в рамках внедрения ФГОС ООО,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определение перспектив дальнейшего развития школы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3" descr="C:\Users\user\Downloads\рамки 4\3f8a09160f1c.png"/>
          <p:cNvPicPr/>
          <p:nvPr/>
        </p:nvPicPr>
        <p:blipFill>
          <a:blip r:embed="rId1"/>
          <a:srcRect l="14845" t="4166" r="10940" b="312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 txBox="1"/>
          <p:nvPr/>
        </p:nvSpPr>
        <p:spPr>
          <a:xfrm>
            <a:off x="1142640" y="785880"/>
            <a:ext cx="7677000" cy="56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Verdana"/>
              </a:rPr>
              <a:t>I этап (5 класс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ереход учащегося на новую ступень образовани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сихолого-педагогическое сопровождение обучающихся V классов направлено на создание условий для успешного обучения учащихся в среднем звене школы. Особое значение придается созданию условий для успешной социально-психологической адаптации к новой социальной ситуации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6600"/>
                </a:solidFill>
                <a:latin typeface="Verdana"/>
              </a:rPr>
              <a:t>II</a:t>
            </a:r>
            <a:r>
              <a:rPr b="1" lang="ru-RU" sz="2100" spc="-1" strike="noStrike">
                <a:solidFill>
                  <a:srgbClr val="006600"/>
                </a:solidFill>
                <a:latin typeface="Verdana"/>
              </a:rPr>
              <a:t> этап – (6-8 классы).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Работа по сопровождению VI–VIII классов определяется запросом со стороны родителей учащихся и администрации образовательного учреждени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6600"/>
                </a:solidFill>
                <a:latin typeface="Verdana"/>
              </a:rPr>
              <a:t>III </a:t>
            </a:r>
            <a:r>
              <a:rPr b="1" lang="ru-RU" sz="2100" spc="-1" strike="noStrike">
                <a:solidFill>
                  <a:srgbClr val="006600"/>
                </a:solidFill>
                <a:latin typeface="Verdana"/>
              </a:rPr>
              <a:t>этап (9 класс) </a:t>
            </a:r>
            <a:r>
              <a:rPr b="0" lang="ru-RU" sz="1900" spc="-1" strike="noStrike">
                <a:solidFill>
                  <a:srgbClr val="002060"/>
                </a:solidFill>
                <a:latin typeface="Verdana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роведение психолого-педагогических элективных курсов, направленных на самоопределение подростков и выбор ими дальнейшего образовательного маршрута.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роведение психолого-педагогической диагностики, направленной на определение у учащихся уровня сформированности универсальных учебных действий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29" name="Группа 4"/>
          <p:cNvGrpSpPr/>
          <p:nvPr/>
        </p:nvGrpSpPr>
        <p:grpSpPr>
          <a:xfrm>
            <a:off x="0" y="4514760"/>
            <a:ext cx="1857240" cy="2129040"/>
            <a:chOff x="0" y="4514760"/>
            <a:chExt cx="1857240" cy="2129040"/>
          </a:xfrm>
        </p:grpSpPr>
        <p:pic>
          <p:nvPicPr>
            <p:cNvPr id="230" name="Picture 30" descr="013">
              <a:hlinkClick r:id="rId2" action="ppaction://hlinksldjump"/>
            </p:cNvPr>
            <p:cNvPicPr/>
            <p:nvPr/>
          </p:nvPicPr>
          <p:blipFill>
            <a:blip r:embed="rId3">
              <a:lum bright="-20000"/>
            </a:blip>
            <a:stretch/>
          </p:blipFill>
          <p:spPr>
            <a:xfrm>
              <a:off x="0" y="4514760"/>
              <a:ext cx="1857240" cy="2129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Рисунок 6" descr="logo_short.gif"/>
            <p:cNvPicPr/>
            <p:nvPr/>
          </p:nvPicPr>
          <p:blipFill>
            <a:blip r:embed="rId4"/>
            <a:stretch/>
          </p:blipFill>
          <p:spPr>
            <a:xfrm rot="20986200">
              <a:off x="537120" y="5313960"/>
              <a:ext cx="856440" cy="406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808560" y="4493160"/>
            <a:ext cx="7599600" cy="11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250560" y="33300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66"/>
                </a:solidFill>
                <a:latin typeface="Arial"/>
              </a:rPr>
              <a:t>Комплекс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66"/>
                </a:solidFill>
                <a:latin typeface="Arial"/>
              </a:rPr>
              <a:t>диагностик уровня сформированности УУД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66"/>
                </a:solidFill>
                <a:latin typeface="Arial"/>
              </a:rPr>
              <a:t>обучающихся в основной образовательной школе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770760" y="3010320"/>
            <a:ext cx="7599600" cy="11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Arial"/>
              </a:rPr>
              <a:t>      </a:t>
            </a:r>
            <a:r>
              <a:rPr b="1" lang="ru-RU" sz="4000" spc="-1" strike="noStrike">
                <a:solidFill>
                  <a:srgbClr val="006666"/>
                </a:solidFill>
                <a:latin typeface="Arial"/>
              </a:rPr>
              <a:t>ЛИЧНОСТНЫЕ УУД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V </a:t>
            </a:r>
            <a:r>
              <a:rPr b="1" lang="ru-RU" sz="4400" spc="-1" strike="noStrike">
                <a:solidFill>
                  <a:srgbClr val="003366"/>
                </a:solidFill>
                <a:latin typeface="Arial"/>
              </a:rPr>
              <a:t>класс:</a:t>
            </a:r>
            <a:br>
              <a:rPr sz="4400"/>
            </a:b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–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Изучение самооценки «Лесенка»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- Модифицированный вариант анкеты школьной мотивации Н. Г. Лускановой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–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Методика изучения мотивации обучения школьников при переходе из начальных классов в средние по методике М. Р. Гинзбурга «Изучение учебной мотивации»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V – IX </a:t>
            </a:r>
            <a:r>
              <a:rPr b="1" lang="ru-RU" sz="4400" spc="-1" strike="noStrike">
                <a:solidFill>
                  <a:srgbClr val="003366"/>
                </a:solidFill>
                <a:latin typeface="Arial"/>
              </a:rPr>
              <a:t>классы:</a:t>
            </a:r>
            <a:br>
              <a:rPr sz="4400"/>
            </a:b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–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Тест школьной тревожности Филипс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–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Изучение направленности на приобретение знаний Е. Ильин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–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Изучение отношения к учению и к учебным предметам Г. Казанцев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–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Методика исследования самооценки Дембо–Рубинштейн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990000"/>
                </a:solidFill>
                <a:latin typeface="Verdana"/>
              </a:rPr>
              <a:t>Системно-деятельностный подход предполагает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41360" indent="-441360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оспитание и развитие качеств личности, отвечающих требованиям информационного общества, инновационной экономики, задачам построения демократического гражданского общества на основе толерантности, диалога культур и уважения многонационального, поликультурного и поликонфессионального состава российского общества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41360" indent="-441360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ереход к стратегии социального проектирования и конструирования в системе образования на основе разработки содержания и технологий образования, определяющих пути и способы достижения социально желаемого уровня (результата) личностного и познавательного развития обучающихся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41360" indent="-441360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риентацию на результаты образования как системообразующий компонент стандарта, где развитие личности обучающегося на основе усвоения универсальных учебных действий, познания и освоения мира составляет цель и основной результат образовани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41360" indent="-441360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VIII–IX </a:t>
            </a:r>
            <a:r>
              <a:rPr b="1" lang="ru-RU" sz="4400" spc="-1" strike="noStrike">
                <a:solidFill>
                  <a:srgbClr val="003366"/>
                </a:solidFill>
                <a:latin typeface="Arial"/>
              </a:rPr>
              <a:t>классы:</a:t>
            </a:r>
            <a:br>
              <a:rPr sz="4400"/>
            </a:b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2349360"/>
            <a:ext cx="896472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−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Изучение познавательной потребности В.Юркевич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−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рофориентационная анкета Е.Климов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−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Тест «Профессиональный тип личности»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−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Карта самооценки склонностей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−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Изучение потребности в достижении Ю. Орлов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−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Тест «Терпимый ли вы человек?»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−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Изучение особенностей – формирования ценностных ориентаций М. Рокич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−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Методика оценки уровня развития морального сознания – дилеммы Л. Колберг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−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атохарактерологический диагностическийопросник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−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Диагностика личностного роста школьников(сформированность уровня воспитанности) П.В Степанова, Д.В. Григорьева, И.В. Кулешовой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IX </a:t>
            </a:r>
            <a:r>
              <a:rPr b="1" lang="ru-RU" sz="4400" spc="-1" strike="noStrike">
                <a:solidFill>
                  <a:srgbClr val="003366"/>
                </a:solidFill>
                <a:latin typeface="Arial"/>
              </a:rPr>
              <a:t>классы:</a:t>
            </a:r>
            <a:br>
              <a:rPr sz="4400"/>
            </a:b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−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Опросник исследования тревожности у старших подростков и юношей Спилбиргера,адаптирован А. Андреевой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−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Мотивация обучения Журавлевой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842040" y="3010320"/>
            <a:ext cx="7599600" cy="11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Arial"/>
              </a:rPr>
              <a:t>РЕГУЛЯТИВНЫЕ УУД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V – IX </a:t>
            </a:r>
            <a:r>
              <a:rPr b="1" lang="ru-RU" sz="4400" spc="-1" strike="noStrike">
                <a:solidFill>
                  <a:srgbClr val="003366"/>
                </a:solidFill>
                <a:latin typeface="Arial"/>
              </a:rPr>
              <a:t>классы:</a:t>
            </a:r>
            <a:br>
              <a:rPr sz="4400"/>
            </a:b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−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ыявление упорства школьников к умственной деятельност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V </a:t>
            </a:r>
            <a:r>
              <a:rPr b="1" lang="ru-RU" sz="4400" spc="-1" strike="noStrike">
                <a:solidFill>
                  <a:srgbClr val="003366"/>
                </a:solidFill>
                <a:latin typeface="Arial"/>
              </a:rPr>
              <a:t>класс:</a:t>
            </a:r>
            <a:br>
              <a:rPr sz="4400"/>
            </a:b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−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Изучение периода адаптации учащихся по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методике Александровской в 5 классах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−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Личностный опросник Кеттелла в модификации Л.А. Ясюковой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VI – IX </a:t>
            </a:r>
            <a:r>
              <a:rPr b="1" lang="ru-RU" sz="4400" spc="-1" strike="noStrike">
                <a:solidFill>
                  <a:srgbClr val="003366"/>
                </a:solidFill>
                <a:latin typeface="Arial"/>
              </a:rPr>
              <a:t>классы:</a:t>
            </a:r>
            <a:br>
              <a:rPr sz="4400"/>
            </a:b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−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Опросник для оценки своего упорства Е.Ильин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−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Тест Мюнстерберг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VII – IX </a:t>
            </a:r>
            <a:r>
              <a:rPr b="1" lang="ru-RU" sz="4400" spc="-1" strike="noStrike">
                <a:solidFill>
                  <a:srgbClr val="003366"/>
                </a:solidFill>
                <a:latin typeface="Arial"/>
              </a:rPr>
              <a:t>классы:</a:t>
            </a:r>
            <a:br>
              <a:rPr sz="4400"/>
            </a:b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-  Измерение рациональност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−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Изучение потребности в достижении Ю. Орлов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−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Тест-опросник уровня субъективного кон-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троля Е. Бажин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ОЗНАВАТЕЛЬНЫЕ УУД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V </a:t>
            </a:r>
            <a:r>
              <a:rPr b="1" lang="ru-RU" sz="4400" spc="-1" strike="noStrike">
                <a:solidFill>
                  <a:srgbClr val="003366"/>
                </a:solidFill>
                <a:latin typeface="Arial"/>
              </a:rPr>
              <a:t>класс:</a:t>
            </a:r>
            <a:br>
              <a:rPr sz="4400"/>
            </a:b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–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Изучение периода адаптации учащихся по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методике Александровской в 5 классах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−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Определение уровня развития словесно-логического мышления Л. Переслени, Т. Фотеков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−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Оценка сформированности навыков чтения Л. А. Ясюковой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−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Оценка самостоятельности решения Л.А. Ясюковой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риентацию на результаты образования как системообразующий компонент стандарта, где развитие личности обучающегося на основе усвоения универсальных учебных действий, познания и освоения мира составляет цель и основной результат образовани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ризнание решающей роли содержания образования, способов организации образовательной деятельности и взаимодействия участников об-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разовательного процесса в достижении целей личностного, социального и познавательного развития обучающихся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учет индивидуальных возрастных, психологических и физиологических особенностей обучающихся, роли и значения видов деятельности и форм общения для определения целей образования и воспитания и путей их достижени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V–IX </a:t>
            </a:r>
            <a:r>
              <a:rPr b="1" lang="ru-RU" sz="4400" spc="-1" strike="noStrike">
                <a:solidFill>
                  <a:srgbClr val="003366"/>
                </a:solidFill>
                <a:latin typeface="Arial"/>
              </a:rPr>
              <a:t>классы</a:t>
            </a:r>
            <a:br>
              <a:rPr sz="4400"/>
            </a:b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−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Исследование уровня креативност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−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Методика «Исследование активности мышления» И.М. Лущихиной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VI – IX </a:t>
            </a:r>
            <a:r>
              <a:rPr b="1" lang="ru-RU" sz="4400" spc="-1" strike="noStrike">
                <a:solidFill>
                  <a:srgbClr val="003366"/>
                </a:solidFill>
                <a:latin typeface="Arial"/>
              </a:rPr>
              <a:t>классы:</a:t>
            </a:r>
            <a:br>
              <a:rPr sz="4400"/>
            </a:b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−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Методика Вартего «Круги»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VII – IX </a:t>
            </a:r>
            <a:r>
              <a:rPr b="1" lang="ru-RU" sz="4400" spc="-1" strike="noStrike">
                <a:solidFill>
                  <a:srgbClr val="003366"/>
                </a:solidFill>
                <a:latin typeface="Arial"/>
              </a:rPr>
              <a:t>классы:</a:t>
            </a:r>
            <a:br>
              <a:rPr sz="4400"/>
            </a:b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−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Методика «ШТУР»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−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Методика Е.Ильина «Измерение рациональности»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−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Тест механической понятливости В.П. Захаров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VIII–IX </a:t>
            </a: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классы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Тест «Каков ваш творческий потенциал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КОММУНИКАТИВНЫЕ УУД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V </a:t>
            </a:r>
            <a:r>
              <a:rPr b="1" lang="ru-RU" sz="4400" spc="-1" strike="noStrike">
                <a:solidFill>
                  <a:srgbClr val="003366"/>
                </a:solidFill>
                <a:latin typeface="Arial"/>
              </a:rPr>
              <a:t>класс:</a:t>
            </a:r>
            <a:br>
              <a:rPr sz="4400"/>
            </a:b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−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Изучение периода адаптации учащихся по методике Александровской в 5 классах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V – IX </a:t>
            </a:r>
            <a:r>
              <a:rPr b="1" lang="ru-RU" sz="4400" spc="-1" strike="noStrike">
                <a:solidFill>
                  <a:srgbClr val="003366"/>
                </a:solidFill>
                <a:latin typeface="Arial"/>
              </a:rPr>
              <a:t>классы:</a:t>
            </a:r>
            <a:br>
              <a:rPr sz="4400"/>
            </a:b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−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Методика КОС (В.Синявский)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−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Методика «Индекс сплоченности» Сишор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−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Методика «Оценка отношений подростка с классом»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−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оциометри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42600" y="49356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660000"/>
                </a:solidFill>
                <a:latin typeface="Verdana"/>
              </a:rPr>
              <a:t>Развитие универсальных учебных действий в 5а и 5б классе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324000" y="1709640"/>
          <a:ext cx="8640720" cy="4896000"/>
        </p:xfrm>
        <a:graphic>
          <a:graphicData uri="http://schemas.openxmlformats.org/drawingml/2006/table">
            <a:tbl>
              <a:tblPr/>
              <a:tblGrid>
                <a:gridCol w="2911320"/>
                <a:gridCol w="657360"/>
                <a:gridCol w="504720"/>
                <a:gridCol w="673200"/>
                <a:gridCol w="725400"/>
                <a:gridCol w="1109520"/>
                <a:gridCol w="2059200"/>
              </a:tblGrid>
              <a:tr h="303480">
                <a:tc rowSpan="2">
                  <a:txBody>
                    <a:bodyPr lIns="37080" rIns="37080" tIns="37080" bIns="3708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ниверсальные учебные действ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37080" rIns="37080" tIns="37080" bIns="3708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ровни развития УУ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инамика развит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б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Личностные УУ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880"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амоопредел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240"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амооценк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отивация учебной деятельност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равственно-этическая ориентац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160"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егулятивные УУ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знавательные УУ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ниверсальные логические действ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240"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становка и решение проблем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160"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ммуникативные УУ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ммуникация как общени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ммуникация как кооперац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3240"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ммуникация как условие интериориз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42600" y="49356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660000"/>
                </a:solidFill>
                <a:latin typeface="Verdana"/>
              </a:rPr>
              <a:t>Развитие универсальных учебных действий в 6 классе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324000" y="1709640"/>
          <a:ext cx="8640720" cy="4896000"/>
        </p:xfrm>
        <a:graphic>
          <a:graphicData uri="http://schemas.openxmlformats.org/drawingml/2006/table">
            <a:tbl>
              <a:tblPr/>
              <a:tblGrid>
                <a:gridCol w="2911320"/>
                <a:gridCol w="657360"/>
                <a:gridCol w="504720"/>
                <a:gridCol w="673200"/>
                <a:gridCol w="725400"/>
                <a:gridCol w="1109520"/>
                <a:gridCol w="2059200"/>
              </a:tblGrid>
              <a:tr h="303480">
                <a:tc rowSpan="2">
                  <a:txBody>
                    <a:bodyPr lIns="37080" rIns="37080" tIns="37080" bIns="3708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ниверсальные учебные действ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37080" rIns="37080" tIns="37080" bIns="3708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ровни развития УУ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инамика развит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Личностные УУ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880"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амоопредел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240"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амооценк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отивация учебной деятельност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равственно-этическая ориентац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160"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егулятивные УУ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знавательные УУ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ниверсальные логические действ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240"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становка и решение проблем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160"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ммуникативные УУ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ммуникация как общени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ммуникация как кооперац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3240"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ммуникация как условие интериориз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42600" y="49356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660000"/>
                </a:solidFill>
                <a:latin typeface="Verdana"/>
              </a:rPr>
              <a:t>Развитие универсальных учебных действий в 7а классе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324000" y="1709640"/>
          <a:ext cx="8640720" cy="4896000"/>
        </p:xfrm>
        <a:graphic>
          <a:graphicData uri="http://schemas.openxmlformats.org/drawingml/2006/table">
            <a:tbl>
              <a:tblPr/>
              <a:tblGrid>
                <a:gridCol w="2911320"/>
                <a:gridCol w="657360"/>
                <a:gridCol w="504720"/>
                <a:gridCol w="673200"/>
                <a:gridCol w="725400"/>
                <a:gridCol w="1109520"/>
                <a:gridCol w="2059200"/>
              </a:tblGrid>
              <a:tr h="303480">
                <a:tc rowSpan="2">
                  <a:txBody>
                    <a:bodyPr lIns="37080" rIns="37080" tIns="37080" bIns="3708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ниверсальные учебные действ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37080" rIns="37080" tIns="37080" bIns="3708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ровни развития УУ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инамика развит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Личностные УУ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880"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амоопредел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240"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амооценк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отивация учебной деятельност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равственно-этическая ориентац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160"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егулятивные УУ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знавательные УУ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ниверсальные логические действ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240"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становка и решение проблем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160"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ммуникативные УУ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ммуникация как общени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ммуникация как кооперац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3240"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ммуникация как условие интериориз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беспечение преемственности дошкольного, начального общего, основного и среднего (полного) общего образования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разнообразие организационных форм и учет индивидуальных особенностей каждого обучающегося (включая одаренных детей и детей с ограниченными возможностями здоровья), обеспечивающих рост творческого потенциала, познавательных мотивов, обогащение форм взаимодействия со сверстниками и взрослыми в познавательной деятельности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гарантированность достижения планируемых результатов освоения основной образовательной программы начального общего образования, что и создает основу для самостоятельного успешного усвоения обучающимися новых знаний, умений, компетенций, видов и способов деятельност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42600" y="49356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660000"/>
                </a:solidFill>
                <a:latin typeface="Verdana"/>
              </a:rPr>
              <a:t>Развитие универсальных учебных действий в 7б классе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324000" y="1709640"/>
          <a:ext cx="8640720" cy="4896000"/>
        </p:xfrm>
        <a:graphic>
          <a:graphicData uri="http://schemas.openxmlformats.org/drawingml/2006/table">
            <a:tbl>
              <a:tblPr/>
              <a:tblGrid>
                <a:gridCol w="2911320"/>
                <a:gridCol w="657360"/>
                <a:gridCol w="504720"/>
                <a:gridCol w="673200"/>
                <a:gridCol w="725400"/>
                <a:gridCol w="1109520"/>
                <a:gridCol w="2059200"/>
              </a:tblGrid>
              <a:tr h="303480">
                <a:tc rowSpan="2">
                  <a:txBody>
                    <a:bodyPr lIns="37080" rIns="37080" tIns="37080" bIns="3708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ниверсальные учебные действ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37080" rIns="37080" tIns="37080" bIns="3708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ровни развития УУ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инамика развит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б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б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б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Личностные УУ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880"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амоопредел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240"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амооценк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отивация учебной деятельност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равственно-этическая ориентац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160"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егулятивные УУ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знавательные УУ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ниверсальные логические действ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240"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становка и решение проблем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160"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ммуникативные УУ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ммуникация как общени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ммуникация как кооперац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3240"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ммуникация как условие интериориз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42600" y="49356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660000"/>
                </a:solidFill>
                <a:latin typeface="Verdana"/>
              </a:rPr>
              <a:t>Развитие универсальных учебных действий в 8а классе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324000" y="1709640"/>
          <a:ext cx="8640720" cy="4896000"/>
        </p:xfrm>
        <a:graphic>
          <a:graphicData uri="http://schemas.openxmlformats.org/drawingml/2006/table">
            <a:tbl>
              <a:tblPr/>
              <a:tblGrid>
                <a:gridCol w="2911320"/>
                <a:gridCol w="657360"/>
                <a:gridCol w="504720"/>
                <a:gridCol w="673200"/>
                <a:gridCol w="725400"/>
                <a:gridCol w="1109520"/>
                <a:gridCol w="2059200"/>
              </a:tblGrid>
              <a:tr h="303480">
                <a:tc rowSpan="2">
                  <a:txBody>
                    <a:bodyPr lIns="37080" rIns="37080" tIns="37080" bIns="3708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ниверсальные учебные действ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37080" rIns="37080" tIns="37080" bIns="3708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ровни развития УУ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инамика развит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Личностные УУ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880"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амоопредел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240"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амооценк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отивация учебной деятельност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равственно-этическая ориентац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160"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егулятивные УУ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знавательные УУ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ниверсальные логические действ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240"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становка и решение проблем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160"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ммуникативные УУ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ммуникация как общени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ммуникация как кооперац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3240"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ммуникация как условие интериориз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42600" y="49356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660000"/>
                </a:solidFill>
                <a:latin typeface="Verdana"/>
              </a:rPr>
              <a:t>Развитие универсальных учебных действий в 8б классе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324000" y="1709640"/>
          <a:ext cx="8640720" cy="4896000"/>
        </p:xfrm>
        <a:graphic>
          <a:graphicData uri="http://schemas.openxmlformats.org/drawingml/2006/table">
            <a:tbl>
              <a:tblPr/>
              <a:tblGrid>
                <a:gridCol w="2911320"/>
                <a:gridCol w="657360"/>
                <a:gridCol w="504720"/>
                <a:gridCol w="673200"/>
                <a:gridCol w="725400"/>
                <a:gridCol w="1109520"/>
                <a:gridCol w="2059200"/>
              </a:tblGrid>
              <a:tr h="303480">
                <a:tc rowSpan="2">
                  <a:txBody>
                    <a:bodyPr lIns="37080" rIns="37080" tIns="37080" bIns="3708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ниверсальные учебные действ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37080" rIns="37080" tIns="37080" bIns="3708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ровни развития УУ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инамика развит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б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б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б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б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Личностные УУ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880"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амоопредел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240"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амооценк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отивация учебной деятельност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равственно-этическая ориентац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160"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егулятивные УУ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знавательные УУ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ниверсальные логические действ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240"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становка и решение проблем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160"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ммуникативные УУ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ммуникация как общени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ммуникация как кооперац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3240"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ммуникация как условие интериориз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1115280" y="4580640"/>
            <a:ext cx="778032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РЕКОМЕНДАЦИИ ДЛЯ ПЕДАГОГОВ </a:t>
            </a:r>
            <a:br>
              <a:rPr sz="3600"/>
            </a:b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О РАЗВИТИЮ УНИВЕРСАЛЬНЫХ УЧЕБНЫХ ДЕЙСТВИЙ</a:t>
            </a:r>
            <a:br>
              <a:rPr sz="3600"/>
            </a:b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Личностные УУД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1. Обращайте внимание на развивающую ценность любого задания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2. Прививайте правила моральных норм, нравственного поведения; учите обсуждать, что непонятно, и делиться эмоциями со сверстниками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3. Сопровождайте обучение ситуациями свободного выбора заданий, атмосферой дискуссий, это повышает мотивацию престижности обучения, мотивацию стремления к компетентности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4. Оптимально сочетайте разные методы. Это позволяет раскрыть школьникам новые знания в виде проблем и в то же время не упустить отработку у учащихся приемов и способов работы до уровня навыков и умений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5. Процесс обучения и воспитания осуществляйте постоянно в прямом контакте с детьми как беспрерывный выбор и обоснование своей шкалы ценностей, своих убеждений, взглядов, настроений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6. Будьте готовы всегда к принятию позиции ребенка, пониманию его интересов, мотивов, ценностей, действий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Регулятивные УУД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1. Уделяйте большое внимание самопроверке детей, обучая их тому, как можно найти и исправить ошибку. Дети по предложенному алгоритму учатся оценивать результаты выполнения задания, учитель учит детей оценивать работу по критериям и самостоятельно выбирать критерии для оценки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2. Развивайте у учащихся способность к волевому усилию – выбору в ситуации мотивационного конфликта и к преодолению препятствий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3. Подавайте детям пример своей сдержанности, неконфликтности в общении, требуйте этого от них. Этим вы воспитываете в учащихся привычку к самоконтролю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Регулятивные УУД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Учитывайте формы индивидуальной дифференцированной работы в классе и используйте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· задания разной степени трудности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· специально подобранные общеразвивающие упражнения на развитие мышления, речи, воображения, внимания, памяти и пр., занимающие небольшую по времени  часть  урока. При этом по возможности  объединяйте детей в пары, группы, чтобы коллективно решить ту или иную логическую или творческую задачу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Коммуникативные УУД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1. Организуйте проведение групповых заданий на уроке (развитие умения слушать и вступать в диалог, участвовать в совместном обсуждении проблем, включаться в группу сверстников и строить продуктивное взаимодействие и сотрудничество с окружающими)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2. Побуждайте школьников соблюдать общепринятые нормы поведения на уроке и правила взаимоотношений с учителем и сверстниками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3. Ставьте перед школьниками и обсуждайте вместе с ними поведенческие и социальные проблемы, которые предстоит решать учащимся, моделируйте ситуации, в которых учащиеся должны их решать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4. Провоцируйте у учащихся желание говорить добрые слова в адрес других людей, вооружайте их умением это делать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Список литературы</a:t>
            </a:r>
            <a:br>
              <a:rPr sz="3600"/>
            </a:b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1.Диагностическая и коррекционная работа школьного психолога. Под ред. И. В. Дубровиной.М.: 2001.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2.Дубровина И.В., Прихожан А.М., Данилова Е.Е., Дубровина И.В.. «Психология. 5 класс». И.: «Московский психолого-социальный институт», 2007. 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3.Особенности личностного и профессионального развития субъектов образовательного пространства в современных социально-экономических условиях. Под редакцией Л. М. Митиной М. 2010 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4.Примерная основная образовательная программа образовательного учреждения. Основная школа. М.: «Просвещение» 2011.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5.Примерная программа психолого-педагогического сопровождения образовательных учреждений при переходе на ФГОС ООО. Составитель Серякина А. В.. Научный редактор М. Ю. Михайлина – Саратов: ГАОУ ДПО «СарИПКиПРО», 2012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6.Психолого-педагогическое обеспечение национальной образовательной инициативы «Наша новая школа», под ред. В.В.Рубцова, М, 201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7.Стандарты второго поколения. Как проектировать универсальные учебные действия. М, 201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8.Хухлаева О.В. Школьная психологическая служба, М,2008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 txBox="1"/>
          <p:nvPr/>
        </p:nvSpPr>
        <p:spPr>
          <a:xfrm>
            <a:off x="1221480" y="2023200"/>
            <a:ext cx="7133040" cy="343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Monotype Corsiva"/>
              </a:rPr>
              <a:t>Главное!</a:t>
            </a:r>
            <a:r>
              <a:rPr b="0" lang="ru-RU" sz="3600" spc="-1" strike="noStrike">
                <a:solidFill>
                  <a:srgbClr val="006600"/>
                </a:solidFill>
                <a:latin typeface="Monotype Corsiva"/>
              </a:rPr>
              <a:t> 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006600"/>
                </a:solidFill>
                <a:latin typeface="Monotype Corsiva"/>
              </a:rPr>
              <a:t>По каким бы стандартам ни учился ребенок, любовь и внимание  необходимы ему, для того чтобы он был счастлив, успешен в учебе. </a:t>
            </a:r>
            <a:br>
              <a:rPr sz="3600"/>
            </a:br>
            <a:r>
              <a:rPr b="0" lang="ru-RU" sz="3600" spc="-1" strike="noStrike">
                <a:solidFill>
                  <a:srgbClr val="006600"/>
                </a:solidFill>
                <a:latin typeface="Monotype Corsiva"/>
              </a:rPr>
              <a:t>Любите ребенка сегодня таким, какой он есть, помогайте ему, берегите его!</a:t>
            </a:r>
            <a:br>
              <a:rPr sz="3600"/>
            </a:b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Заголовок 1"/>
          <p:cNvSpPr/>
          <p:nvPr/>
        </p:nvSpPr>
        <p:spPr>
          <a:xfrm>
            <a:off x="2627280" y="1125360"/>
            <a:ext cx="5327640" cy="4319640"/>
          </a:xfrm>
          <a:prstGeom prst="rect">
            <a:avLst/>
          </a:prstGeom>
          <a:solidFill>
            <a:srgbClr val="99ff99"/>
          </a:solidFill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00000"/>
                </a:solidFill>
                <a:latin typeface="Verdana"/>
              </a:rPr>
              <a:t>Целью</a:t>
            </a:r>
            <a:r>
              <a:rPr b="0" lang="ru-RU" sz="30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002060"/>
                </a:solidFill>
                <a:latin typeface="Verdana"/>
              </a:rPr>
              <a:t>психолого-педагогического сопровождения является создание социально- психологических условий для развития личности обучающихся и их успешного обучения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Содержимое 2"/>
          <p:cNvSpPr/>
          <p:nvPr/>
        </p:nvSpPr>
        <p:spPr>
          <a:xfrm>
            <a:off x="179280" y="981000"/>
            <a:ext cx="87487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Verdana"/>
              </a:rPr>
              <a:t>Задачи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Verdana"/>
              </a:rPr>
              <a:t>систематически отслеживать психолого-педагогический статус ребенка и динамику его психологического развития в процессе школьного  обучения;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Verdana"/>
              </a:rPr>
              <a:t>формировать у обучающихся способности к самопознанию, саморазвитию и самоопределению;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Verdana"/>
              </a:rPr>
              <a:t>создавать специальные социально-психологические условия для оказания помощи детям, имеющим проблемы в психологическом развитии, обучении.</a:t>
            </a:r>
            <a:r>
              <a:rPr b="0" lang="ru-RU" sz="2800" spc="-1" strike="noStrike">
                <a:solidFill>
                  <a:srgbClr val="00206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0" name="Picture 3" descr="C:\Users\Администратор\Desktop\i.jpg"/>
          <p:cNvPicPr/>
          <p:nvPr/>
        </p:nvPicPr>
        <p:blipFill>
          <a:blip r:embed="rId1"/>
          <a:stretch/>
        </p:blipFill>
        <p:spPr>
          <a:xfrm>
            <a:off x="5788080" y="0"/>
            <a:ext cx="3355920" cy="13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11280" y="188640"/>
            <a:ext cx="655344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100" spc="-1" strike="noStrike">
                <a:solidFill>
                  <a:srgbClr val="006600"/>
                </a:solidFill>
                <a:latin typeface="Verdana"/>
              </a:rPr>
              <a:t>ОСНОВНЫЕ НАПРАВЛЕНИЯ          ДЕЯТЕЛЬНОСТИ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Line 3"/>
          <p:cNvSpPr/>
          <p:nvPr/>
        </p:nvSpPr>
        <p:spPr>
          <a:xfrm flipH="1">
            <a:off x="1476000" y="1071720"/>
            <a:ext cx="1095480" cy="10620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Line 5"/>
          <p:cNvSpPr/>
          <p:nvPr/>
        </p:nvSpPr>
        <p:spPr>
          <a:xfrm>
            <a:off x="7308720" y="765000"/>
            <a:ext cx="358920" cy="40323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250920" y="2205000"/>
            <a:ext cx="2952720" cy="10994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 u="sng">
                <a:solidFill>
                  <a:srgbClr val="0066ff"/>
                </a:solidFill>
                <a:uFillTx/>
                <a:latin typeface="Verdana"/>
              </a:rPr>
              <a:t>Диагностико–коррекционная работа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Rectangle 8"/>
          <p:cNvSpPr/>
          <p:nvPr/>
        </p:nvSpPr>
        <p:spPr>
          <a:xfrm>
            <a:off x="539640" y="4941720"/>
            <a:ext cx="4753080" cy="764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 u="sng">
                <a:solidFill>
                  <a:srgbClr val="0066ff"/>
                </a:solidFill>
                <a:uFillTx/>
                <a:latin typeface="Verdana"/>
              </a:rPr>
              <a:t>Психопрофилактическая работа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Rectangle 9"/>
          <p:cNvSpPr/>
          <p:nvPr/>
        </p:nvSpPr>
        <p:spPr>
          <a:xfrm>
            <a:off x="5867280" y="4869000"/>
            <a:ext cx="3019680" cy="764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 u="sng">
                <a:solidFill>
                  <a:srgbClr val="0066ff"/>
                </a:solidFill>
                <a:uFillTx/>
                <a:latin typeface="Verdana"/>
              </a:rPr>
              <a:t>Психологическое просвещение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Line 11"/>
          <p:cNvSpPr/>
          <p:nvPr/>
        </p:nvSpPr>
        <p:spPr>
          <a:xfrm>
            <a:off x="5292720" y="1052640"/>
            <a:ext cx="142920" cy="21603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Rectangle 12"/>
          <p:cNvSpPr/>
          <p:nvPr/>
        </p:nvSpPr>
        <p:spPr>
          <a:xfrm>
            <a:off x="3564000" y="3284640"/>
            <a:ext cx="3672000" cy="764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 u="sng">
                <a:solidFill>
                  <a:srgbClr val="0066ff"/>
                </a:solidFill>
                <a:uFillTx/>
                <a:latin typeface="Verdana"/>
              </a:rPr>
              <a:t>Психологическое консультирование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8610480" y="228600"/>
            <a:ext cx="2895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Line 15"/>
          <p:cNvSpPr/>
          <p:nvPr/>
        </p:nvSpPr>
        <p:spPr>
          <a:xfrm flipH="1">
            <a:off x="2842920" y="1125360"/>
            <a:ext cx="755640" cy="37436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1" name="Picture 3" descr="C:\Users\Администратор\Desktop\i.jpg"/>
          <p:cNvPicPr/>
          <p:nvPr/>
        </p:nvPicPr>
        <p:blipFill>
          <a:blip r:embed="rId1"/>
          <a:stretch/>
        </p:blipFill>
        <p:spPr>
          <a:xfrm>
            <a:off x="0" y="0"/>
            <a:ext cx="2340000" cy="95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Прямоугольник 3" descr=""/>
          <p:cNvPicPr/>
          <p:nvPr/>
        </p:nvPicPr>
        <p:blipFill>
          <a:blip r:embed="rId1"/>
          <a:stretch/>
        </p:blipFill>
        <p:spPr>
          <a:xfrm>
            <a:off x="609480" y="378000"/>
            <a:ext cx="8455320" cy="1871640"/>
          </a:xfrm>
          <a:prstGeom prst="rect">
            <a:avLst/>
          </a:prstGeom>
          <a:ln w="0">
            <a:noFill/>
          </a:ln>
        </p:spPr>
      </p:pic>
      <p:sp>
        <p:nvSpPr>
          <p:cNvPr id="213" name="Rectangle 5"/>
          <p:cNvSpPr/>
          <p:nvPr/>
        </p:nvSpPr>
        <p:spPr>
          <a:xfrm>
            <a:off x="755640" y="2349360"/>
            <a:ext cx="8388360" cy="37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6666"/>
                </a:solidFill>
                <a:latin typeface="Verdana"/>
              </a:rPr>
              <a:t>1</a:t>
            </a:r>
            <a:r>
              <a:rPr b="0" i="1" lang="ru-RU" sz="1700" spc="-1" strike="noStrike" u="sng">
                <a:solidFill>
                  <a:srgbClr val="006666"/>
                </a:solidFill>
                <a:uFillTx/>
                <a:latin typeface="Verdana"/>
              </a:rPr>
              <a:t>. </a:t>
            </a:r>
            <a:r>
              <a:rPr b="1" i="1" lang="ru-RU" sz="1700" spc="-1" strike="noStrike" u="sng">
                <a:solidFill>
                  <a:srgbClr val="006666"/>
                </a:solidFill>
                <a:uFillTx/>
                <a:latin typeface="Verdana"/>
              </a:rPr>
              <a:t>Диагностико–коррекционная работа (развивающая)- </a:t>
            </a:r>
            <a:r>
              <a:rPr b="1" i="1" lang="ru-RU" sz="1700" spc="-1" strike="noStrike">
                <a:solidFill>
                  <a:srgbClr val="006666"/>
                </a:solidFill>
                <a:latin typeface="Verdana"/>
              </a:rPr>
              <a:t>выявление особенностей психического развития ребенка, сформированности определенных психологических новообразований, соответствия уровня развития умений, знаний, навыков, личностных и межличностных образований возрастным ориентирам и требованиям общества.</a:t>
            </a:r>
            <a:br>
              <a:rPr sz="1700"/>
            </a:br>
            <a:r>
              <a:rPr b="1" i="1" lang="ru-RU" sz="1700" spc="-1" strike="noStrike">
                <a:solidFill>
                  <a:srgbClr val="006666"/>
                </a:solidFill>
                <a:latin typeface="Verdana"/>
              </a:rPr>
              <a:t>- изучение обращения к психологу, поступающего от учителей, родителей, учащихся (определение проблемы, выбор метода исследования);</a:t>
            </a:r>
            <a:br>
              <a:rPr sz="1700"/>
            </a:br>
            <a:r>
              <a:rPr b="1" i="1" lang="ru-RU" sz="1700" spc="-1" strike="noStrike">
                <a:solidFill>
                  <a:srgbClr val="006666"/>
                </a:solidFill>
                <a:latin typeface="Verdana"/>
              </a:rPr>
              <a:t>- формулировка заключения об основных характеристиках изучавщихся компонентов пчихического развития или формирования личности школьника (постановка психологического диагноза);</a:t>
            </a:r>
            <a:br>
              <a:rPr sz="1700"/>
            </a:br>
            <a:r>
              <a:rPr b="1" i="1" lang="ru-RU" sz="1700" spc="-1" strike="noStrike">
                <a:solidFill>
                  <a:srgbClr val="006666"/>
                </a:solidFill>
                <a:latin typeface="Verdana"/>
              </a:rPr>
              <a:t>- разработка рекомендаций, программы психокоррекционной работы с учащимися, составление долговременного плана развития способностей или других психологических образований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Прямоугольник 3" descr=""/>
          <p:cNvPicPr/>
          <p:nvPr/>
        </p:nvPicPr>
        <p:blipFill>
          <a:blip r:embed="rId1"/>
          <a:stretch/>
        </p:blipFill>
        <p:spPr>
          <a:xfrm>
            <a:off x="609480" y="378000"/>
            <a:ext cx="8455320" cy="1871640"/>
          </a:xfrm>
          <a:prstGeom prst="rect">
            <a:avLst/>
          </a:prstGeom>
          <a:ln w="0">
            <a:noFill/>
          </a:ln>
        </p:spPr>
      </p:pic>
      <p:sp>
        <p:nvSpPr>
          <p:cNvPr id="215" name="Rectangle 6"/>
          <p:cNvSpPr/>
          <p:nvPr/>
        </p:nvSpPr>
        <p:spPr>
          <a:xfrm>
            <a:off x="900000" y="2924280"/>
            <a:ext cx="7993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66"/>
                </a:solidFill>
                <a:latin typeface="Verdana"/>
              </a:rPr>
              <a:t>2. </a:t>
            </a:r>
            <a:r>
              <a:rPr b="1" i="1" lang="ru-RU" sz="1800" spc="-1" strike="noStrike" u="sng">
                <a:solidFill>
                  <a:srgbClr val="006666"/>
                </a:solidFill>
                <a:uFillTx/>
                <a:latin typeface="Verdana"/>
              </a:rPr>
              <a:t>Психопрофилактическая работа </a:t>
            </a:r>
            <a:r>
              <a:rPr b="1" i="1" lang="ru-RU" sz="1800" spc="-1" strike="noStrike">
                <a:solidFill>
                  <a:srgbClr val="006666"/>
                </a:solidFill>
                <a:latin typeface="Verdana"/>
              </a:rPr>
              <a:t>– обеспечение решения проблем, связанных с обучением, воспитанием, психическим здоровьем детей:</a:t>
            </a:r>
            <a:br>
              <a:rPr sz="1800"/>
            </a:br>
            <a:r>
              <a:rPr b="1" i="1" lang="ru-RU" sz="1800" spc="-1" strike="noStrike">
                <a:solidFill>
                  <a:srgbClr val="006666"/>
                </a:solidFill>
                <a:latin typeface="Verdana"/>
              </a:rPr>
              <a:t>-  разработка и осуществление развивающих программ для учащихся с учетом задач каждого возрастного этапа;</a:t>
            </a:r>
            <a:br>
              <a:rPr sz="1800"/>
            </a:br>
            <a:r>
              <a:rPr b="1" i="1" lang="ru-RU" sz="1800" spc="-1" strike="noStrike">
                <a:solidFill>
                  <a:srgbClr val="006666"/>
                </a:solidFill>
                <a:latin typeface="Verdana"/>
              </a:rPr>
              <a:t>- выявление психологических особенностей ребенка, которые в дальнейшем могут обусловить отклонения в интеллектуальном или личностном развитии;</a:t>
            </a:r>
            <a:br>
              <a:rPr sz="1800"/>
            </a:br>
            <a:r>
              <a:rPr b="1" i="1" lang="ru-RU" sz="1800" spc="-1" strike="noStrike">
                <a:solidFill>
                  <a:srgbClr val="006666"/>
                </a:solidFill>
                <a:latin typeface="Verdana"/>
              </a:rPr>
              <a:t>- предупреждение возможных осложнений в связи с переходом учащихся на следующую возрастную ступен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1T14:58:38Z</dcterms:created>
  <dc:creator>DNA7 X86</dc:creator>
  <dc:description/>
  <dc:language>en-US</dc:language>
  <cp:lastModifiedBy>555</cp:lastModifiedBy>
  <dcterms:modified xsi:type="dcterms:W3CDTF">2016-12-30T03:35:15Z</dcterms:modified>
  <cp:revision>31</cp:revision>
  <dc:subject/>
  <dc:title>Психологическое сопровождение обучающихся по стандартам второго поколения (ФГОС) в начальной школе.</dc:title>
</cp:coreProperties>
</file>