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956-25C1-4213-AF0A-6E55311E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9B9-35C7-439A-B33E-6F41BAD0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CE6-2F37-4403-8F96-19C72329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5C4-6876-4335-8C69-86B91B2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DC77-498D-4B8E-9F27-BBF5B38B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2856-741B-438F-B58B-1D32A845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DB73-D2D1-4E31-BD9A-660E8A78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19E3-1B08-4E64-9FE8-904A9F7D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F59B-2CFA-4A04-B69D-5B16F5B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D12-1658-49CD-9EE5-2064622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53C6-9B30-4D54-ADF1-D039291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6C8-8550-4884-A184-287F2656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424D-DABB-4C32-A509-28B9245F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F8FE-BE66-4638-B60C-53F3FD9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1EF4-D4BE-4A28-AE7B-B85E26DE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B161-2E7B-4098-86DC-A9427EC5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5012-A267-4034-825B-6B606402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19AB4-8E75-4708-AC48-21791952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909DC-C8B4-441F-8681-BA13731F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6F008-6D5F-471F-9EEB-41B152C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9391C-E1CA-4018-BFD4-372EA3B4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43A46-6ABF-4C43-A9D5-8049B0B5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A41-80EF-4A40-872D-26C3155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7AE72-5600-4059-94D1-3668E68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6836B-4040-4F4B-A549-E801E66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8E94A-BEA2-44FC-B557-3E1562A7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3E1A4-9563-42B2-924D-CCE2FDFA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98ABF-A4E0-4015-8C8D-5722115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0012D-154A-4441-B761-7B0E8FCE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17B52-1F46-473C-B43E-430F9F50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AFF5-0DD7-4761-8C43-8171EA47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C41CF-A1AF-491E-9B99-BE151B8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12846-B29A-4BF4-B1D2-AD8BF61F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78C-C88F-40DB-BC44-940E537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9352-5EAE-4113-924E-435C4DE6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E4BD3-7541-4D50-B0B2-1107D8E8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25C8-C39A-4618-BC3E-D0A2261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FE0A3-11E4-4B05-BCD9-D04FFF8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6637-9F39-4D88-9687-686AF7B1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DF5AE-357D-487A-9DCD-127890DB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4F14-D402-425C-8551-4037FF1A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03635-A625-4D77-A576-6B1C0DD2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8DDA-333B-4F46-BB2A-632AB88F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8AA8E-F2E7-429E-A7ED-3D1264FD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F6E-735D-4B1B-BDD7-437C146E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4B471-71B3-41BE-9FFA-AD7298A4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AEFED-20A0-4A11-9448-A019E02E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E4C32-783F-4376-B427-8566D487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92369-A252-4920-A184-EC8EED30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C22D2B-847C-489A-A1C0-FC03FFC4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0365A-A013-434A-88BE-C9C06C1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9F2C2-E35E-4545-B716-6445A00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4299C-75A2-486C-89B7-F63E866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EC454-FE68-42FB-88BB-0C99B599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73160-D9B4-426E-902D-D597A71B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88A-43FA-448A-9375-6C46E42D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098A6-7D16-4B08-A34A-98C34A91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98203-2E1F-4A98-B152-FAA1EA01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47260-40EC-4048-886E-7815E98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57D00-A3D6-490E-8B87-FB03ABF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8C420-A494-4545-8F54-941C103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1AE07-83A1-4BE6-A976-9BE7DFC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7B189-4D36-4DA8-B806-13260632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05545-C573-441D-A9CF-D3EF4DD8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9715B-5444-4474-93B3-2F19D43D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C589F-5C1C-4BD5-A2B1-F66A81B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CA6-4271-4521-9C25-66712A08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E2094-B11D-498A-9440-83BB51D5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032E8-711D-47DF-9A2F-50D771FD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3AA10-D658-410C-9C5A-DEF87898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94BBE-859A-4C33-AFDC-C50CB330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88B50-FEE3-4D83-ABC9-E4A34A30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8B824-720A-48DD-AF86-4CD3ACFB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FEBFF-194F-4EA6-85ED-1BCD291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9C8B5-C2D7-427F-8D18-28661E1B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E86BA-A6E1-4331-9D93-BD99DFAD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344FE-1020-4909-8605-B49BC11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BF7-2AFC-4F2A-929E-BB9CAB69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844C7-B8FD-49DB-9F26-6FD522E5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4DD7D-A553-4252-B43C-9BA1AC1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3CC92-9161-4F4A-9089-9D9B843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BFBEF-E900-4673-838C-9A5F80AC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FD285-7044-42B9-9EA2-ED288602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D76-2106-40C3-BC06-78A84899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1FD-592A-4000-B505-6A37B2FE9C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74D-75A0-49A6-B9D6-C9039E29E9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BBA-E00C-4A4C-84FD-EFE56F26BE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339A-121B-498A-A6DC-5BD1AC7C55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5F9D-C5FE-4587-A05A-4563D8322E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5407-1A3D-4A3C-A0C9-8872C65671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C7B8-12B8-4736-AA5C-33E6457EA1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0" i="1" lang="ru-RU" sz="2900" spc="-1" strike="noStrike">
                <a:solidFill>
                  <a:srgbClr val="575f6d"/>
                </a:solidFill>
                <a:latin typeface="Century Schoolbook"/>
              </a:rPr>
              <a:t>УМНОЖЕНИЕ ДЕСЯТИЧНЫХ  ДРОБЕЙ</a:t>
            </a:r>
            <a:br>
              <a:rPr sz="2900"/>
            </a:br>
            <a:r>
              <a:rPr b="0" i="1" lang="ru-RU" sz="2900" spc="-1" strike="noStrike">
                <a:solidFill>
                  <a:srgbClr val="575f6d"/>
                </a:solidFill>
                <a:latin typeface="Century Schoolbook"/>
              </a:rPr>
              <a:t>                       </a:t>
            </a:r>
            <a:br>
              <a:rPr sz="16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6" descr="J0216708"/>
          <p:cNvPicPr/>
          <p:nvPr/>
        </p:nvPicPr>
        <p:blipFill>
          <a:blip r:embed="rId1"/>
          <a:stretch/>
        </p:blipFill>
        <p:spPr>
          <a:xfrm>
            <a:off x="1071720" y="2357280"/>
            <a:ext cx="4108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3300"/>
                </a:solidFill>
                <a:latin typeface="Comic Sans MS"/>
              </a:rPr>
              <a:t>УМНОЖЕНИЕ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81280" cy="2578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809880" cy="2697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4"/>
          <a:stretch/>
        </p:blipFill>
        <p:spPr>
          <a:xfrm>
            <a:off x="4267080" y="3657600"/>
            <a:ext cx="4419720" cy="232884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7"/>
          <p:cNvSpPr/>
          <p:nvPr/>
        </p:nvSpPr>
        <p:spPr>
          <a:xfrm>
            <a:off x="7467480" y="64008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39d"/>
              </a:gs>
              <a:gs pos="50000">
                <a:srgbClr val="ffffff"/>
              </a:gs>
              <a:gs pos="100000">
                <a:srgbClr val="fff3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Times New Roman"/>
                <a:ea typeface="Calibri"/>
              </a:rPr>
              <a:t>СКОЛЬКО ЦИФР ПОСЛЕ ЗАПЯТОЙ ДОЛЖНО СТОЯТЬ В ПРОИЗВЕДЕНИИ ЧИСЕЛ?</a:t>
            </a:r>
            <a:br>
              <a:rPr sz="21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8,6 И 0,95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24,5793 И 6,401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0,81 И 2,309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0,37 И 102</a:t>
            </a:r>
            <a:br>
              <a:rPr sz="900"/>
            </a:br>
            <a:endParaRPr b="0" lang="en-US" sz="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286000" y="1428480"/>
            <a:ext cx="5929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8,6 и 0,95                  0,81 и 2,30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0,37 и 108                 24,5793 и6,40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2571840" y="28576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вьте правильно запя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2286000" y="34290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∙0,4=2500                   8,75∙0,17=14875                                                  0,8∙1,92=1536                    8,5∙0,3=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ОЛНИТЕ УПРАЖН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ейчас мы отдохн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ки, ноги разомне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задания да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ответы подбер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верно – хлопн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неверно – топн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0,5∙0,6=0,3;    0,8∙0,9=7,2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1∙0,3=1,23;  5,28∙10=52,8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,5∙0,4=0,6;    3.2∙0,2=0,64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gradFill rotWithShape="0">
            <a:gsLst>
              <a:gs pos="0">
                <a:srgbClr val="fffda3"/>
              </a:gs>
              <a:gs pos="50000">
                <a:srgbClr val="ffffff"/>
              </a:gs>
              <a:gs pos="100000">
                <a:srgbClr val="fffda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УСТНАЯ ПРОВЕРОЧНАЯ РАБОТА</a:t>
            </a:r>
            <a:r>
              <a:rPr b="0" lang="ru-RU" sz="3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28600" y="1905120"/>
                <a:ext cx="2157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2714760" y="1928880"/>
                <a:ext cx="917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Text Box 6"/>
          <p:cNvSpPr/>
          <p:nvPr/>
        </p:nvSpPr>
        <p:spPr>
          <a:xfrm>
            <a:off x="914400" y="685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умн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643280" y="1143000"/>
            <a:ext cx="0" cy="5410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447920" y="1219320"/>
            <a:ext cx="236196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Вариа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5257800" y="1219320"/>
            <a:ext cx="236232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bdb"/>
                </a:solidFill>
                <a:latin typeface="Arial"/>
              </a:rPr>
              <a:t>Вариант</a:t>
            </a: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228600" y="2590920"/>
                <a:ext cx="20574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2786040" y="2571840"/>
                <a:ext cx="914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228600" y="3276720"/>
                <a:ext cx="251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2743200" y="3276720"/>
                <a:ext cx="142236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4"/>
              <p:cNvSpPr txBox="1"/>
              <p:nvPr/>
            </p:nvSpPr>
            <p:spPr>
              <a:xfrm>
                <a:off x="228600" y="3962520"/>
                <a:ext cx="2281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,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15"/>
              <p:cNvSpPr txBox="1"/>
              <p:nvPr/>
            </p:nvSpPr>
            <p:spPr>
              <a:xfrm>
                <a:off x="2714760" y="3929040"/>
                <a:ext cx="1547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16"/>
              <p:cNvSpPr txBox="1"/>
              <p:nvPr/>
            </p:nvSpPr>
            <p:spPr>
              <a:xfrm>
                <a:off x="228600" y="4648320"/>
                <a:ext cx="25066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17"/>
              <p:cNvSpPr txBox="1"/>
              <p:nvPr/>
            </p:nvSpPr>
            <p:spPr>
              <a:xfrm>
                <a:off x="2743200" y="4648320"/>
                <a:ext cx="117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18"/>
              <p:cNvSpPr txBox="1"/>
              <p:nvPr/>
            </p:nvSpPr>
            <p:spPr>
              <a:xfrm>
                <a:off x="4857840" y="2000160"/>
                <a:ext cx="2093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9"/>
              <p:cNvSpPr txBox="1"/>
              <p:nvPr/>
            </p:nvSpPr>
            <p:spPr>
              <a:xfrm>
                <a:off x="7215120" y="2000160"/>
                <a:ext cx="86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0"/>
              <p:cNvSpPr txBox="1"/>
              <p:nvPr/>
            </p:nvSpPr>
            <p:spPr>
              <a:xfrm>
                <a:off x="4724280" y="2514600"/>
                <a:ext cx="2629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315200" y="2514600"/>
                <a:ext cx="1276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2"/>
              <p:cNvSpPr txBox="1"/>
              <p:nvPr/>
            </p:nvSpPr>
            <p:spPr>
              <a:xfrm>
                <a:off x="4786200" y="3143160"/>
                <a:ext cx="2514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3"/>
              <p:cNvSpPr txBox="1"/>
              <p:nvPr/>
            </p:nvSpPr>
            <p:spPr>
              <a:xfrm>
                <a:off x="7358040" y="3214800"/>
                <a:ext cx="1066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4"/>
              <p:cNvSpPr txBox="1"/>
              <p:nvPr/>
            </p:nvSpPr>
            <p:spPr>
              <a:xfrm>
                <a:off x="4857840" y="385776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5"/>
              <p:cNvSpPr txBox="1"/>
              <p:nvPr/>
            </p:nvSpPr>
            <p:spPr>
              <a:xfrm>
                <a:off x="7358040" y="3857760"/>
                <a:ext cx="990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6"/>
              <p:cNvSpPr txBox="1"/>
              <p:nvPr/>
            </p:nvSpPr>
            <p:spPr>
              <a:xfrm>
                <a:off x="4876920" y="4572000"/>
                <a:ext cx="2117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27"/>
              <p:cNvSpPr txBox="1"/>
              <p:nvPr/>
            </p:nvSpPr>
            <p:spPr>
              <a:xfrm>
                <a:off x="7286760" y="4572000"/>
                <a:ext cx="1047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ОЛНИТЬ САМОСТОЯТЕЛЬНО УМНОЖЕНИЕ ДЕСЯТИЧНЫХ Д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5076720" cy="928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1500120" y="4429080"/>
            <a:ext cx="6043680" cy="1214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5929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"/>
          <p:cNvSpPr/>
          <p:nvPr/>
        </p:nvSpPr>
        <p:spPr>
          <a:xfrm>
            <a:off x="642960" y="106128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умножить десятичную дробь на 0,1; 0,01; 0,001?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колько цифр и в какую сторону надо перенести запятую при умножении на 0,001?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улируйте правило умножения на десятичную дробь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до сделать при умножении на </a:t>
            </a:r>
            <a:r>
              <a:rPr b="1" i="1" lang="ru-RU" sz="2400" spc="-1" strike="noStrike">
                <a:solidFill>
                  <a:srgbClr val="002bb8"/>
                </a:solidFill>
                <a:latin typeface="Arial"/>
                <a:ea typeface="Times New Roman"/>
              </a:rPr>
              <a:t>десятичную дроб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если в произведении меньше цифр, чем надо отделить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23880" y="2209680"/>
          <a:ext cx="6096240" cy="3353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353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рочитать теоретический материал п.36  на стр. 214. учеб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ыполнить письменн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базовый уровень №1432 выполните умножение, №1390 решение задачи на нахождение площади прямоугольника стр.2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овышенный уровень №1401 придумайте задачу, которая решалась бы умножением, №1403 найти значение произведения трех множителей, №1400 увеличение числ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олимпиадный уровень № 1404 найти значение выражения, используя распределительное свойство умножения, №1424 решите логическую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Подготовить устный рассказ «Для чего человеку нужны десятичные дроб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0"/>
          <p:cNvSpPr/>
          <p:nvPr/>
        </p:nvSpPr>
        <p:spPr>
          <a:xfrm>
            <a:off x="1835280" y="2060640"/>
            <a:ext cx="5976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ПОКАЖИ  СВО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НАСТРО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и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4" descr="4d123fbc6b642667114737f0590440a5"/>
          <p:cNvPicPr/>
          <p:nvPr/>
        </p:nvPicPr>
        <p:blipFill>
          <a:blip r:embed="rId1"/>
          <a:stretch/>
        </p:blipFill>
        <p:spPr>
          <a:xfrm>
            <a:off x="395280" y="5084640"/>
            <a:ext cx="2800440" cy="995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6" descr="26a8bc3773f1f0871eb342d8d742252b"/>
          <p:cNvPicPr/>
          <p:nvPr/>
        </p:nvPicPr>
        <p:blipFill>
          <a:blip r:embed="rId2"/>
          <a:stretch/>
        </p:blipFill>
        <p:spPr>
          <a:xfrm>
            <a:off x="6804000" y="501336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WordArt 28"/>
          <p:cNvSpPr txBox="1"/>
          <p:nvPr/>
        </p:nvSpPr>
        <p:spPr>
          <a:xfrm>
            <a:off x="0" y="189000"/>
            <a:ext cx="6588000" cy="22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fca00"/>
                </a:solidFill>
                <a:latin typeface="Times New Roman"/>
              </a:rPr>
              <a:t>ит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fca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785520"/>
            <a:ext cx="74674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ЫПОЛНИТЬ ДЕЙСТВИЯ С  ДЕСЯТИЧНЫМИ ДРОБЯМ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643200" cy="1643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4714920" y="1785960"/>
            <a:ext cx="3786120" cy="12859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642960" y="3429000"/>
            <a:ext cx="3643200" cy="357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/>
          <p:cNvPicPr/>
          <p:nvPr/>
        </p:nvPicPr>
        <p:blipFill>
          <a:blip r:embed="rId4"/>
          <a:stretch/>
        </p:blipFill>
        <p:spPr>
          <a:xfrm>
            <a:off x="714240" y="3929040"/>
            <a:ext cx="3714840" cy="285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"/>
          <p:cNvPicPr/>
          <p:nvPr/>
        </p:nvPicPr>
        <p:blipFill>
          <a:blip r:embed="rId5"/>
          <a:stretch/>
        </p:blipFill>
        <p:spPr>
          <a:xfrm>
            <a:off x="5143680" y="3429000"/>
            <a:ext cx="3143160" cy="357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"/>
          <p:cNvPicPr/>
          <p:nvPr/>
        </p:nvPicPr>
        <p:blipFill>
          <a:blip r:embed="rId6"/>
          <a:stretch/>
        </p:blipFill>
        <p:spPr>
          <a:xfrm>
            <a:off x="5286240" y="3929040"/>
            <a:ext cx="3000600" cy="285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"/>
          <p:cNvPicPr/>
          <p:nvPr/>
        </p:nvPicPr>
        <p:blipFill>
          <a:blip r:embed="rId7"/>
          <a:stretch/>
        </p:blipFill>
        <p:spPr>
          <a:xfrm>
            <a:off x="3000240" y="4500720"/>
            <a:ext cx="2928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АСПРЕДЕЛИТЕ ДАННЫЕ ВЫРАЖЕНИЯ НА ГРУППЫ ПО СТОЛБИКАМ, ВЫПОЛНИТЕ ДЕЙСТВИЯ И ОТВЕТ ОБОСНУЙТЕ.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71680" y="2000160"/>
          <a:ext cx="7467480" cy="3468600"/>
        </p:xfrm>
        <a:graphic>
          <a:graphicData uri="http://schemas.openxmlformats.org/drawingml/2006/table">
            <a:tbl>
              <a:tblPr/>
              <a:tblGrid>
                <a:gridCol w="2489040"/>
                <a:gridCol w="2489040"/>
                <a:gridCol w="2489400"/>
              </a:tblGrid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3∙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-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5∙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6-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4+0,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1- 0,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4+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8∙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1-0,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∙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0,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4∙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∙0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7∙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+0,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ловек идет со скоростью 4,6 км/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е расстояние он пройд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 за 3 ч; б) за 0,1 ч; в) за 0,3 ч?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Е ЗАДАЧ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500040" y="171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 ч человек пройдет 4,6 • 3, то есть 13,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 0,1 ч, то есть за       ч, человек пройдет в 10 раз меньше, чем за 1 ч, то есть он пройдет (4,6 : 10) км, или 0,46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Так как 0,3 =       ч, то путь, пройденный за 0,3 ч, втрое больше пути, пройденного за 0,1 ч. Он равен (0,46 • 3) км, то есть 1,3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3643200" y="2214720"/>
                <a:ext cx="428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714760" y="3643200"/>
                <a:ext cx="428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ДЕЛАЙТЕ ОБОБЩЕНИЕ ПО СЛЕДУЮЩИМ ПРЕДЛОЖЕНИЯМ ЗАДАЧИ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 как путь равен произведению скорости движения и времени, то надо считать, чт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6 • 0,1 = 0,46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т же результат получается при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лении  4,6 на 10,  то есть 4,6 : 10 = 0,46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тите внимание на то, что один и тот же ответ получается при различных действиях с дробями, сделайте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 как при различных действиях получились равные значени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6 • 0,1 = 0,46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6  : 10  = 0,46,   т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Умножить число на 0,1;   0,01;  0,001 —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 же само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разделить его на 10, 100, 1000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ЧТОБЫ УМНОЖИТЬ ДЕСЯТИЧНЫЕ ДРОБИ, НУЖНО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писать числа в столб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ножить их не обращая внимания на запяты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читать количество знаков после запятой в обоих множителя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оизведении отделить запятой справа получившееся число зна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260280"/>
            <a:ext cx="4464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натураль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680000" y="260280"/>
            <a:ext cx="432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75"/>
          <p:cNvGrpSpPr/>
          <p:nvPr/>
        </p:nvGrpSpPr>
        <p:grpSpPr>
          <a:xfrm>
            <a:off x="6227640" y="873000"/>
            <a:ext cx="2376720" cy="1390680"/>
            <a:chOff x="6227640" y="873000"/>
            <a:chExt cx="2376720" cy="1390680"/>
          </a:xfrm>
        </p:grpSpPr>
        <p:sp>
          <p:nvSpPr>
            <p:cNvPr id="379" name="Text Box 405"/>
            <p:cNvSpPr/>
            <p:nvPr/>
          </p:nvSpPr>
          <p:spPr>
            <a:xfrm>
              <a:off x="8064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06"/>
            <p:cNvSpPr/>
            <p:nvPr/>
          </p:nvSpPr>
          <p:spPr>
            <a:xfrm>
              <a:off x="741672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407"/>
            <p:cNvSpPr/>
            <p:nvPr/>
          </p:nvSpPr>
          <p:spPr>
            <a:xfrm>
              <a:off x="6840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08"/>
            <p:cNvSpPr/>
            <p:nvPr/>
          </p:nvSpPr>
          <p:spPr>
            <a:xfrm>
              <a:off x="622764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23"/>
            <p:cNvSpPr/>
            <p:nvPr/>
          </p:nvSpPr>
          <p:spPr>
            <a:xfrm>
              <a:off x="6443640" y="119700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657"/>
          <p:cNvGrpSpPr/>
          <p:nvPr/>
        </p:nvGrpSpPr>
        <p:grpSpPr>
          <a:xfrm>
            <a:off x="7451640" y="1881360"/>
            <a:ext cx="1115640" cy="1427040"/>
            <a:chOff x="7451640" y="1881360"/>
            <a:chExt cx="1115640" cy="1427040"/>
          </a:xfrm>
        </p:grpSpPr>
        <p:sp>
          <p:nvSpPr>
            <p:cNvPr id="385" name="Text Box 410"/>
            <p:cNvSpPr/>
            <p:nvPr/>
          </p:nvSpPr>
          <p:spPr>
            <a:xfrm>
              <a:off x="8027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15"/>
            <p:cNvSpPr/>
            <p:nvPr/>
          </p:nvSpPr>
          <p:spPr>
            <a:xfrm>
              <a:off x="7451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24"/>
            <p:cNvSpPr/>
            <p:nvPr/>
          </p:nvSpPr>
          <p:spPr>
            <a:xfrm>
              <a:off x="7738920" y="2241720"/>
              <a:ext cx="539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73"/>
          <p:cNvGrpSpPr/>
          <p:nvPr/>
        </p:nvGrpSpPr>
        <p:grpSpPr>
          <a:xfrm>
            <a:off x="5653080" y="5084640"/>
            <a:ext cx="2951280" cy="1371960"/>
            <a:chOff x="5653080" y="5084640"/>
            <a:chExt cx="2951280" cy="1371960"/>
          </a:xfrm>
        </p:grpSpPr>
        <p:sp>
          <p:nvSpPr>
            <p:cNvPr id="389" name="Text Box 416"/>
            <p:cNvSpPr/>
            <p:nvPr/>
          </p:nvSpPr>
          <p:spPr>
            <a:xfrm>
              <a:off x="8064360" y="5084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17"/>
            <p:cNvSpPr/>
            <p:nvPr/>
          </p:nvSpPr>
          <p:spPr>
            <a:xfrm>
              <a:off x="745344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18"/>
            <p:cNvSpPr/>
            <p:nvPr/>
          </p:nvSpPr>
          <p:spPr>
            <a:xfrm>
              <a:off x="6877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9"/>
            <p:cNvSpPr/>
            <p:nvPr/>
          </p:nvSpPr>
          <p:spPr>
            <a:xfrm>
              <a:off x="626436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0"/>
            <p:cNvSpPr/>
            <p:nvPr/>
          </p:nvSpPr>
          <p:spPr>
            <a:xfrm>
              <a:off x="5653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25"/>
          <p:cNvSpPr/>
          <p:nvPr/>
        </p:nvSpPr>
        <p:spPr>
          <a:xfrm>
            <a:off x="5904000" y="544500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26"/>
          <p:cNvSpPr/>
          <p:nvPr/>
        </p:nvSpPr>
        <p:spPr>
          <a:xfrm>
            <a:off x="5651640" y="166536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rc 427"/>
          <p:cNvSpPr/>
          <p:nvPr/>
        </p:nvSpPr>
        <p:spPr>
          <a:xfrm flipV="1">
            <a:off x="6840360" y="1988280"/>
            <a:ext cx="1764000" cy="1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428"/>
          <p:cNvSpPr/>
          <p:nvPr/>
        </p:nvSpPr>
        <p:spPr>
          <a:xfrm flipV="1">
            <a:off x="6840360" y="1988280"/>
            <a:ext cx="1764000" cy="1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rc 429"/>
          <p:cNvSpPr/>
          <p:nvPr/>
        </p:nvSpPr>
        <p:spPr>
          <a:xfrm flipV="1">
            <a:off x="8136000" y="2959920"/>
            <a:ext cx="503280" cy="181080"/>
          </a:xfrm>
          <a:prstGeom prst="pie">
            <a:avLst/>
          </a:pr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78"/>
          <p:cNvSpPr/>
          <p:nvPr/>
        </p:nvSpPr>
        <p:spPr>
          <a:xfrm>
            <a:off x="6192720" y="321300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79"/>
          <p:cNvSpPr/>
          <p:nvPr/>
        </p:nvSpPr>
        <p:spPr>
          <a:xfrm>
            <a:off x="900000" y="1773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486"/>
          <p:cNvGrpSpPr/>
          <p:nvPr/>
        </p:nvGrpSpPr>
        <p:grpSpPr>
          <a:xfrm>
            <a:off x="1547640" y="909720"/>
            <a:ext cx="1728720" cy="1390680"/>
            <a:chOff x="1547640" y="909720"/>
            <a:chExt cx="1728720" cy="1390680"/>
          </a:xfrm>
        </p:grpSpPr>
        <p:sp>
          <p:nvSpPr>
            <p:cNvPr id="402" name="Text Box 482"/>
            <p:cNvSpPr/>
            <p:nvPr/>
          </p:nvSpPr>
          <p:spPr>
            <a:xfrm>
              <a:off x="273672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83"/>
            <p:cNvSpPr/>
            <p:nvPr/>
          </p:nvSpPr>
          <p:spPr>
            <a:xfrm>
              <a:off x="216036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84"/>
            <p:cNvSpPr/>
            <p:nvPr/>
          </p:nvSpPr>
          <p:spPr>
            <a:xfrm>
              <a:off x="154764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85"/>
            <p:cNvSpPr/>
            <p:nvPr/>
          </p:nvSpPr>
          <p:spPr>
            <a:xfrm>
              <a:off x="1763640" y="123372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510"/>
          <p:cNvGrpSpPr/>
          <p:nvPr/>
        </p:nvGrpSpPr>
        <p:grpSpPr>
          <a:xfrm>
            <a:off x="1547640" y="3033720"/>
            <a:ext cx="1692360" cy="1371960"/>
            <a:chOff x="1547640" y="3033720"/>
            <a:chExt cx="1692360" cy="1371960"/>
          </a:xfrm>
        </p:grpSpPr>
        <p:sp>
          <p:nvSpPr>
            <p:cNvPr id="407" name="Text Box 488"/>
            <p:cNvSpPr/>
            <p:nvPr/>
          </p:nvSpPr>
          <p:spPr>
            <a:xfrm>
              <a:off x="270036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89"/>
            <p:cNvSpPr/>
            <p:nvPr/>
          </p:nvSpPr>
          <p:spPr>
            <a:xfrm>
              <a:off x="216072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490"/>
            <p:cNvSpPr/>
            <p:nvPr/>
          </p:nvSpPr>
          <p:spPr>
            <a:xfrm>
              <a:off x="154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491"/>
          <p:cNvSpPr/>
          <p:nvPr/>
        </p:nvSpPr>
        <p:spPr>
          <a:xfrm>
            <a:off x="1727280" y="551664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492"/>
          <p:cNvSpPr/>
          <p:nvPr/>
        </p:nvSpPr>
        <p:spPr>
          <a:xfrm flipV="1">
            <a:off x="2158920" y="2023920"/>
            <a:ext cx="104472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94"/>
          <p:cNvSpPr/>
          <p:nvPr/>
        </p:nvSpPr>
        <p:spPr>
          <a:xfrm>
            <a:off x="1368360" y="3141720"/>
            <a:ext cx="19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09"/>
          <p:cNvGrpSpPr/>
          <p:nvPr/>
        </p:nvGrpSpPr>
        <p:grpSpPr>
          <a:xfrm>
            <a:off x="2087640" y="1952640"/>
            <a:ext cx="1152360" cy="1419480"/>
            <a:chOff x="2087640" y="1952640"/>
            <a:chExt cx="1152360" cy="1419480"/>
          </a:xfrm>
        </p:grpSpPr>
        <p:sp>
          <p:nvSpPr>
            <p:cNvPr id="414" name="Text Box 481"/>
            <p:cNvSpPr/>
            <p:nvPr/>
          </p:nvSpPr>
          <p:spPr>
            <a:xfrm>
              <a:off x="2700360" y="20001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95"/>
            <p:cNvSpPr/>
            <p:nvPr/>
          </p:nvSpPr>
          <p:spPr>
            <a:xfrm>
              <a:off x="2087640" y="1952640"/>
              <a:ext cx="539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655"/>
          <p:cNvGrpSpPr/>
          <p:nvPr/>
        </p:nvGrpSpPr>
        <p:grpSpPr>
          <a:xfrm>
            <a:off x="971640" y="4076640"/>
            <a:ext cx="1692360" cy="1371960"/>
            <a:chOff x="971640" y="4076640"/>
            <a:chExt cx="1692360" cy="1371960"/>
          </a:xfrm>
        </p:grpSpPr>
        <p:sp>
          <p:nvSpPr>
            <p:cNvPr id="417" name="Text Box 512"/>
            <p:cNvSpPr/>
            <p:nvPr/>
          </p:nvSpPr>
          <p:spPr>
            <a:xfrm>
              <a:off x="2124000" y="4076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513"/>
            <p:cNvSpPr/>
            <p:nvPr/>
          </p:nvSpPr>
          <p:spPr>
            <a:xfrm>
              <a:off x="151128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514"/>
            <p:cNvSpPr/>
            <p:nvPr/>
          </p:nvSpPr>
          <p:spPr>
            <a:xfrm>
              <a:off x="97164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Line 543"/>
          <p:cNvSpPr/>
          <p:nvPr/>
        </p:nvSpPr>
        <p:spPr>
          <a:xfrm>
            <a:off x="863640" y="526572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56"/>
          <p:cNvGrpSpPr/>
          <p:nvPr/>
        </p:nvGrpSpPr>
        <p:grpSpPr>
          <a:xfrm>
            <a:off x="863640" y="5229360"/>
            <a:ext cx="2376360" cy="1371960"/>
            <a:chOff x="863640" y="5229360"/>
            <a:chExt cx="2376360" cy="1371960"/>
          </a:xfrm>
        </p:grpSpPr>
        <p:sp>
          <p:nvSpPr>
            <p:cNvPr id="422" name="Text Box 545"/>
            <p:cNvSpPr/>
            <p:nvPr/>
          </p:nvSpPr>
          <p:spPr>
            <a:xfrm>
              <a:off x="270036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546"/>
            <p:cNvSpPr/>
            <p:nvPr/>
          </p:nvSpPr>
          <p:spPr>
            <a:xfrm>
              <a:off x="2124000" y="522936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547"/>
            <p:cNvSpPr/>
            <p:nvPr/>
          </p:nvSpPr>
          <p:spPr>
            <a:xfrm>
              <a:off x="144000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48"/>
            <p:cNvSpPr/>
            <p:nvPr/>
          </p:nvSpPr>
          <p:spPr>
            <a:xfrm>
              <a:off x="86364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551"/>
          <p:cNvSpPr/>
          <p:nvPr/>
        </p:nvSpPr>
        <p:spPr>
          <a:xfrm>
            <a:off x="287280" y="375300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rc 658"/>
          <p:cNvSpPr/>
          <p:nvPr/>
        </p:nvSpPr>
        <p:spPr>
          <a:xfrm flipV="1">
            <a:off x="8101080" y="2959920"/>
            <a:ext cx="503280" cy="181080"/>
          </a:xfrm>
          <a:prstGeom prst="pie">
            <a:avLst/>
          </a:pr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59"/>
          <p:cNvSpPr/>
          <p:nvPr/>
        </p:nvSpPr>
        <p:spPr>
          <a:xfrm>
            <a:off x="5435640" y="530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66"/>
          <p:cNvGrpSpPr/>
          <p:nvPr/>
        </p:nvGrpSpPr>
        <p:grpSpPr>
          <a:xfrm>
            <a:off x="6227640" y="3033720"/>
            <a:ext cx="2376720" cy="1371960"/>
            <a:chOff x="6227640" y="3033720"/>
            <a:chExt cx="2376720" cy="1371960"/>
          </a:xfrm>
        </p:grpSpPr>
        <p:sp>
          <p:nvSpPr>
            <p:cNvPr id="430" name="Text Box 661"/>
            <p:cNvSpPr/>
            <p:nvPr/>
          </p:nvSpPr>
          <p:spPr>
            <a:xfrm>
              <a:off x="8064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662"/>
            <p:cNvSpPr/>
            <p:nvPr/>
          </p:nvSpPr>
          <p:spPr>
            <a:xfrm>
              <a:off x="741672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663"/>
            <p:cNvSpPr/>
            <p:nvPr/>
          </p:nvSpPr>
          <p:spPr>
            <a:xfrm>
              <a:off x="6840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664"/>
            <p:cNvSpPr/>
            <p:nvPr/>
          </p:nvSpPr>
          <p:spPr>
            <a:xfrm>
              <a:off x="622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667"/>
          <p:cNvGrpSpPr/>
          <p:nvPr/>
        </p:nvGrpSpPr>
        <p:grpSpPr>
          <a:xfrm>
            <a:off x="5616720" y="4041720"/>
            <a:ext cx="2376000" cy="1371960"/>
            <a:chOff x="5616720" y="4041720"/>
            <a:chExt cx="2376000" cy="1371960"/>
          </a:xfrm>
        </p:grpSpPr>
        <p:sp>
          <p:nvSpPr>
            <p:cNvPr id="435" name="Text Box 668"/>
            <p:cNvSpPr/>
            <p:nvPr/>
          </p:nvSpPr>
          <p:spPr>
            <a:xfrm>
              <a:off x="7453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669"/>
            <p:cNvSpPr/>
            <p:nvPr/>
          </p:nvSpPr>
          <p:spPr>
            <a:xfrm>
              <a:off x="680544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670"/>
            <p:cNvSpPr/>
            <p:nvPr/>
          </p:nvSpPr>
          <p:spPr>
            <a:xfrm>
              <a:off x="6229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671"/>
            <p:cNvSpPr/>
            <p:nvPr/>
          </p:nvSpPr>
          <p:spPr>
            <a:xfrm>
              <a:off x="561672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672"/>
          <p:cNvSpPr/>
          <p:nvPr/>
        </p:nvSpPr>
        <p:spPr>
          <a:xfrm>
            <a:off x="5076720" y="3789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674"/>
          <p:cNvSpPr/>
          <p:nvPr/>
        </p:nvSpPr>
        <p:spPr>
          <a:xfrm flipV="1">
            <a:off x="2124000" y="6308640"/>
            <a:ext cx="104472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676"/>
          <p:cNvSpPr/>
          <p:nvPr/>
        </p:nvSpPr>
        <p:spPr>
          <a:xfrm flipV="1">
            <a:off x="2158920" y="2023920"/>
            <a:ext cx="104472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679"/>
          <p:cNvGrpSpPr/>
          <p:nvPr/>
        </p:nvGrpSpPr>
        <p:grpSpPr>
          <a:xfrm>
            <a:off x="6300720" y="6200280"/>
            <a:ext cx="2340000" cy="181080"/>
            <a:chOff x="6300720" y="6200280"/>
            <a:chExt cx="2340000" cy="181080"/>
          </a:xfrm>
        </p:grpSpPr>
        <p:sp>
          <p:nvSpPr>
            <p:cNvPr id="443" name="Arc 677"/>
            <p:cNvSpPr/>
            <p:nvPr/>
          </p:nvSpPr>
          <p:spPr>
            <a:xfrm flipV="1">
              <a:off x="6300720" y="6199920"/>
              <a:ext cx="503280" cy="181080"/>
            </a:xfrm>
            <a:prstGeom prst="pie">
              <a:avLst/>
            </a:pr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678"/>
            <p:cNvSpPr/>
            <p:nvPr/>
          </p:nvSpPr>
          <p:spPr>
            <a:xfrm flipV="1">
              <a:off x="6877080" y="6199920"/>
              <a:ext cx="1763640" cy="179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481"/>
          <p:cNvSpPr/>
          <p:nvPr/>
        </p:nvSpPr>
        <p:spPr>
          <a:xfrm>
            <a:off x="2214720" y="2000160"/>
            <a:ext cx="539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2085 C 0.10868 0.04819 0.15833 0.11747 0.17483 0.20621 C 0.19132 0.29495 0.17778 0.43721 0.15781 0.51112 C 0.13785 0.58503 0.08316 0.62952 0.05521 0.64991 C 0.02726 0.67029 0.00868 0.65222 -0.00972 0.63415 E">
                                      <p:cBhvr>
                                        <p:cTn id="7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3" presetSubtype="1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8.34106E-008 C -0.02413 0.00602 -0.04826 0.01228 -0.07135 0.02618 C -0.09444 0.04008 -0.12031 0.06487 -0.13888 0.08341 C -0.15746 0.10195 -0.16649 0.1133 -0.18316 0.13693 C -0.19982 0.16057 -0.22517 0.19532 -0.23888 0.22544 C -0.2526 0.25556 -0.26041 0.28568 -0.26493 0.31719 C -0.26944 0.3487 -0.26892 0.38299 -0.26614 0.41427 C -0.26336 0.44555 -0.25729 0.47637 -0.24809 0.5044 C -0.23888 0.53244 -0.22343 0.56024 -0.21041 0.58248 C -0.19739 0.60473 -0.19218 0.62419 -0.17013 0.63786 C -0.14809 0.65153 -0.10642 0.66798 -0.07795 0.66404 C -0.04947 0.6601 -0.01545 0.62419 0.00105 0.61353 E">
                                      <p:cBhvr>
                                        <p:cTn id="164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574 C -0.01858 0.01967 -0.03872 0.02361 -0.06719 0.02963 C -0.09566 0.03565 -0.13889 0.04236 -0.16979 0.05208 C -0.2007 0.0618 -0.22726 0.07153 -0.25295 0.08842 C -0.27865 0.10532 -0.30608 0.13541 -0.32431 0.1544 C -0.34254 0.17338 -0.34879 0.18055 -0.36268 0.20301 C -0.37656 0.22546 -0.39792 0.25787 -0.40816 0.28958 C -0.4184 0.32129 -0.42535 0.36157 -0.42379 0.39375 C -0.42222 0.42569 -0.41198 0.45926 -0.39844 0.48194 C -0.3849 0.50463 -0.36198 0.52083 -0.34254 0.53055 C -0.32309 0.54028 -0.30226 0.54143 -0.28212 0.54074 C -0.26198 0.54004 -0.23611 0.53773 -0.2217 0.52639 C -0.20729 0.51504 -0.20087 0.48379 -0.19531 0.47268 E">
                                      <p:cBhvr>
                                        <p:cTn id="174" dur="3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3" presetSubtype="32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8:10:41Z</dcterms:created>
  <dc:creator>Татьяна Петровна</dc:creator>
  <dc:description/>
  <dc:language>en-US</dc:language>
  <cp:lastModifiedBy>Admin</cp:lastModifiedBy>
  <dcterms:modified xsi:type="dcterms:W3CDTF">2016-03-16T08:07:32Z</dcterms:modified>
  <cp:revision>56</cp:revision>
  <dc:subject/>
  <dc:title>Слайд 1</dc:title>
</cp:coreProperties>
</file>