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gif" ContentType="image/gif"/>
  <Override PartName="/ppt/media/image3.png" ContentType="image/png"/>
  <Override PartName="/ppt/media/image16.gif" ContentType="image/gif"/>
  <Override PartName="/ppt/media/image1.wmf" ContentType="image/x-wmf"/>
  <Override PartName="/ppt/media/image2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977B-0BD6-49C7-88D0-DDE91676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30D-A483-4718-953E-F19371B2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0B66-68CA-4916-9F94-A1B7CDDF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6F58-287B-4BC7-B342-7D30A978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1847-FE9E-4557-97CE-D597F31D5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A9B0-B254-4820-ACD6-5CBB7B46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9AD1-303F-4F78-A6F8-02E32437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0446-BA20-4999-99A8-1981D207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78E7-3EA3-40F2-A290-82D950BA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973C-47C4-4DC4-9FEA-B24D297A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C1E2-93BD-42D3-8DAA-202DAF6D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0DA-B769-4180-B165-A0EE0780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0091-4047-4F96-8498-AE19770A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FAC7-26A4-4CB4-AFB0-F0046893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2745-6895-457A-AF33-C78A760F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9186-63AF-48F0-9DDA-743B9725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38F1-98B4-4939-BBCC-825AE003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1FE6B-0BFD-4392-8D58-91C24FFC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0C7A7B-9BAB-45A1-BC46-7B3AE7ED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E6719-C1E1-4156-B999-6DCDDA10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4CC1C-98DF-4C23-A025-3EC211D4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AB368-A606-40C2-96BC-6768C6A2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7FB-5F70-41D7-AEB1-31BEACFB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4D0DB-7286-471C-902E-C1CD5A47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F913F6-7E1E-4834-BDC8-9D9BA9FB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DABAF-66B4-4D4A-99BE-6D891C96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F6967-B6C2-400E-8B94-807A0896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B7F71-25D5-4D3E-BCA2-BF1AFBF5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92BD0F-173B-438B-9990-4B4A0A1F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62DCB-F976-4C2C-BC67-CA13001CC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F2F62-630F-40DD-940E-23CFD62B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A0523-9412-4BE6-9D1B-2F043D6A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17719-3C80-422F-B0BC-D8653AC3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388-3A71-4190-90C8-70FAC563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6E929-C40B-432A-B02F-4E1AE7FB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D6098-D2D2-485E-BDC9-EDD104C2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49075-B364-4B10-93D1-1C6974D8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C889D-DC4A-42D6-B3C7-55926482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DA9DE-EB48-4CA7-931A-45844EC5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492A7-6ED3-402C-B2B8-7A6E7FD4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EBE8E-233D-4F0E-9DFB-69A56B147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86C2A-4F56-4134-8A8E-A5A27CEB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61ACA-D955-4A20-8631-575A653C9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B2EE9F-F964-4C5E-BDCC-7381E6A2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FBAD-CFA4-4439-9B18-BFB629D6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BB57CB-3236-4FB7-8D4D-49D140CB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8A61CB-0F2A-44E7-8BDA-A645BB9C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967BBB-C3FF-45FF-BF07-59AB5542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0E17EB-3D61-4E02-951F-8B7BF289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26ADB-A27C-485C-A1E2-B46087A9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4CA1FA-ACC8-4421-8849-A7D822F2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3E335E-F1B5-40B6-8EAF-A8442615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A69827-7310-4AB2-A60B-67ADD968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9C304-74B2-40AC-9106-453710D9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A02BED-8572-4213-BB56-033386CB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79D7-6C9E-4FE4-A27A-5F414A9D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D228E4-3F3D-446D-89CB-13BDA28C0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A0AB8C-EDB3-4E17-998E-9022FC28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FBA194-8E72-4724-A9EA-1349FDAB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D3E72C-D1F2-435E-B828-F46987B7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00FA51-4967-4D63-9A84-B737A1CB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AA7DEC-5D59-4E9B-ABE5-9574317F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8A7379-E3BB-4B21-B0F0-D168C1DB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BDC5E4-06BD-44B6-B195-F9189461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44F001-E308-4035-A91F-9F6CAA22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C0C29D-8D75-487D-ABC5-41C75DA7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56F-17A5-443E-81E7-9F8B9D12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EBE7DB-6983-4595-95AE-9F3A6BF8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24D00-23C4-44C8-B4D3-0DD34037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0D5C2F-1C86-475B-8251-C9D44351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977FB2-668D-47D8-A31E-978F3B26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CFB715-CAF1-4A4A-BFE1-BAE8075A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6EBD63-1DA3-4C4A-8F83-D8754101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D35D15-F12C-408F-A47D-B0C36EA8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E9591B-03EC-4F9F-9C59-B7A9736E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D13FDD-B4D7-4C44-A278-EFE79B5F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A02F1B-DDE7-41C9-8B01-A764A85E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4D7E-3347-4D62-94C8-39E997FC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E9B08B-D9B3-4D19-9225-5A40EDA5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D1B0D9-94D2-45DE-BA6B-D37296AF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36274F-AB57-4D55-9BEA-7B6C0513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641796-3AF4-453C-8ECE-B8D3C9F3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3DBA08-C1FB-45B4-BEEF-6ED49CFF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7A8-02A9-4E04-AC82-5A133B62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3184-B5DA-478B-B50D-23125AF8803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EF82-0666-4497-8816-1D736671030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848E-1D1D-4BFA-B197-4BCBADE85A7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C6DC-8197-4C7D-99DC-64C76A48B6C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4774-0E54-4E21-8817-6C80863F0F4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05A1-8762-4ECF-96C5-89DC4E99359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F36E-8163-4E94-B0B5-54007653B50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428400"/>
            <a:ext cx="746748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0" i="1" lang="ru-RU" sz="29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0" i="1" lang="ru-RU" sz="2900" spc="-1" strike="noStrike">
                <a:solidFill>
                  <a:srgbClr val="575f6d"/>
                </a:solidFill>
                <a:latin typeface="Century Schoolbook"/>
              </a:rPr>
              <a:t>УМНОЖЕНИЕ ДЕСЯТИЧНЫХ  ДРОБЕЙ</a:t>
            </a:r>
            <a:br>
              <a:rPr sz="2900"/>
            </a:br>
            <a:r>
              <a:rPr b="0" i="1" lang="ru-RU" sz="2900" spc="-1" strike="noStrike">
                <a:solidFill>
                  <a:srgbClr val="575f6d"/>
                </a:solidFill>
                <a:latin typeface="Century Schoolbook"/>
              </a:rPr>
              <a:t>                       </a:t>
            </a:r>
            <a:br>
              <a:rPr sz="1600"/>
            </a:b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56" descr="J0216708"/>
          <p:cNvPicPr/>
          <p:nvPr/>
        </p:nvPicPr>
        <p:blipFill>
          <a:blip r:embed="rId1"/>
          <a:stretch/>
        </p:blipFill>
        <p:spPr>
          <a:xfrm>
            <a:off x="1071720" y="2357280"/>
            <a:ext cx="41083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3300"/>
                </a:solidFill>
                <a:latin typeface="Comic Sans MS"/>
              </a:rPr>
              <a:t>УМНОЖЕНИЕ</a:t>
            </a:r>
            <a:endParaRPr b="0" lang="en-US" sz="43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581280" cy="257832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"/>
          <p:cNvPicPr/>
          <p:nvPr/>
        </p:nvPicPr>
        <p:blipFill>
          <a:blip r:embed="rId2"/>
          <a:stretch/>
        </p:blipFill>
        <p:spPr>
          <a:xfrm>
            <a:off x="4419720" y="533520"/>
            <a:ext cx="3352680" cy="2657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5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3809880" cy="2697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" descr=""/>
          <p:cNvPicPr/>
          <p:nvPr/>
        </p:nvPicPr>
        <p:blipFill>
          <a:blip r:embed="rId4"/>
          <a:stretch/>
        </p:blipFill>
        <p:spPr>
          <a:xfrm>
            <a:off x="4267080" y="3657600"/>
            <a:ext cx="4419720" cy="2328840"/>
          </a:xfrm>
          <a:prstGeom prst="rect">
            <a:avLst/>
          </a:prstGeom>
          <a:ln w="0">
            <a:noFill/>
          </a:ln>
        </p:spPr>
      </p:pic>
      <p:sp>
        <p:nvSpPr>
          <p:cNvPr id="451" name="AutoShape 7"/>
          <p:cNvSpPr/>
          <p:nvPr/>
        </p:nvSpPr>
        <p:spPr>
          <a:xfrm>
            <a:off x="7467480" y="6400800"/>
            <a:ext cx="1676520" cy="457200"/>
          </a:xfrm>
          <a:custGeom>
            <a:avLst/>
            <a:gdLst>
              <a:gd name="textAreaLeft" fmla="*/ 29520 w 1676520"/>
              <a:gd name="textAreaRight" fmla="*/ 1647000 w 1676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9160" h="21600">
                <a:moveTo>
                  <a:pt x="0" y="0"/>
                </a:moveTo>
                <a:lnTo>
                  <a:pt x="79160" y="0"/>
                </a:lnTo>
                <a:lnTo>
                  <a:pt x="79160" y="21600"/>
                </a:lnTo>
                <a:lnTo>
                  <a:pt x="0" y="21600"/>
                </a:lnTo>
                <a:close/>
              </a:path>
              <a:path fill="lightenLess" w="79160" h="21600">
                <a:moveTo>
                  <a:pt x="0" y="0"/>
                </a:moveTo>
                <a:lnTo>
                  <a:pt x="79160" y="0"/>
                </a:lnTo>
                <a:lnTo>
                  <a:pt x="77760" y="1400"/>
                </a:lnTo>
                <a:lnTo>
                  <a:pt x="1400" y="1400"/>
                </a:lnTo>
                <a:close/>
              </a:path>
              <a:path fill="darken" w="79160" h="21600">
                <a:moveTo>
                  <a:pt x="79160" y="0"/>
                </a:moveTo>
                <a:lnTo>
                  <a:pt x="79160" y="21600"/>
                </a:lnTo>
                <a:lnTo>
                  <a:pt x="77760" y="20200"/>
                </a:lnTo>
                <a:lnTo>
                  <a:pt x="77760" y="1400"/>
                </a:lnTo>
                <a:close/>
              </a:path>
              <a:path fill="darkenLess" w="79160" h="21600">
                <a:moveTo>
                  <a:pt x="7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760" y="20200"/>
                </a:lnTo>
                <a:close/>
              </a:path>
              <a:path fill="lighten" w="7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39d"/>
              </a:gs>
              <a:gs pos="50000">
                <a:srgbClr val="ffffff"/>
              </a:gs>
              <a:gs pos="100000">
                <a:srgbClr val="fff3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00"/>
                </a:solidFill>
                <a:latin typeface="Times New Roman"/>
                <a:ea typeface="Calibri"/>
              </a:rPr>
              <a:t>СКОЛЬКО ЦИФР ПОСЛЕ ЗАПЯТОЙ ДОЛЖНО СТОЯТЬ В ПРОИЗВЕДЕНИИ ЧИСЕЛ?</a:t>
            </a:r>
            <a:br>
              <a:rPr sz="2100"/>
            </a:b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8,6 И 0,95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24,5793 И 6,401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0,81 И 2,309</a:t>
            </a:r>
            <a:br>
              <a:rPr sz="900"/>
            </a:b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Calibri"/>
              </a:rPr>
              <a:t>0,37 И 102</a:t>
            </a:r>
            <a:br>
              <a:rPr sz="900"/>
            </a:br>
            <a:endParaRPr b="0" lang="en-US" sz="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2286000" y="1428480"/>
            <a:ext cx="5929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8,6 и 0,95                  0,81 и 2,309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0,37 и 108                 24,5793 и6,40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Прямоугольник 3"/>
          <p:cNvSpPr/>
          <p:nvPr/>
        </p:nvSpPr>
        <p:spPr>
          <a:xfrm>
            <a:off x="2571840" y="285768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вьте правильно запят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4"/>
          <p:cNvSpPr/>
          <p:nvPr/>
        </p:nvSpPr>
        <p:spPr>
          <a:xfrm>
            <a:off x="2286000" y="342900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,25∙0,4=2500                   8,75∙0,17=14875                                                  0,8∙1,92=1536                    8,5∙0,3=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ЫПОЛНИТЕ УПРАЖН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сейчас мы отдохне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уки, ноги разомнем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Я задания да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 ответы подберу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сли верно – хлопнем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неверно – топн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0,5∙0,6=0,3;    0,8∙0,9=7,2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,1∙0,3=1,23;  5,28∙10=52,8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,5∙0,4=0,6;    3.2∙0,2=0,64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gradFill rotWithShape="0">
            <a:gsLst>
              <a:gs pos="0">
                <a:srgbClr val="fffda3"/>
              </a:gs>
              <a:gs pos="50000">
                <a:srgbClr val="ffffff"/>
              </a:gs>
              <a:gs pos="100000">
                <a:srgbClr val="fffda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1" lang="ru-RU" sz="2600" spc="-1" strike="noStrike">
                <a:solidFill>
                  <a:srgbClr val="ff0000"/>
                </a:solidFill>
                <a:latin typeface="Comic Sans MS"/>
              </a:rPr>
              <a:t>УСТНАЯ ПРОВЕРОЧНАЯ РАБОТА</a:t>
            </a:r>
            <a:r>
              <a:rPr b="0" lang="ru-RU" sz="34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4"/>
              <p:cNvSpPr txBox="1"/>
              <p:nvPr/>
            </p:nvSpPr>
            <p:spPr>
              <a:xfrm>
                <a:off x="228600" y="1905120"/>
                <a:ext cx="215748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0,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Object 5"/>
              <p:cNvSpPr txBox="1"/>
              <p:nvPr/>
            </p:nvSpPr>
            <p:spPr>
              <a:xfrm>
                <a:off x="2714760" y="1928880"/>
                <a:ext cx="9172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Text Box 6"/>
          <p:cNvSpPr/>
          <p:nvPr/>
        </p:nvSpPr>
        <p:spPr>
          <a:xfrm>
            <a:off x="914400" y="685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ть умно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7"/>
          <p:cNvSpPr/>
          <p:nvPr/>
        </p:nvSpPr>
        <p:spPr>
          <a:xfrm>
            <a:off x="4643280" y="1143000"/>
            <a:ext cx="0" cy="5410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1447920" y="1219320"/>
            <a:ext cx="2361960" cy="520560"/>
          </a:xfrm>
          <a:prstGeom prst="rect">
            <a:avLst/>
          </a:prstGeom>
          <a:solidFill>
            <a:srgbClr val="fff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26507"/>
                </a:solidFill>
                <a:latin typeface="Arial"/>
              </a:rPr>
              <a:t>Вариант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5257800" y="1219320"/>
            <a:ext cx="2362320" cy="520560"/>
          </a:xfrm>
          <a:prstGeom prst="rect">
            <a:avLst/>
          </a:prstGeom>
          <a:solidFill>
            <a:srgbClr val="fff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b0bdb"/>
                </a:solidFill>
                <a:latin typeface="Arial"/>
              </a:rPr>
              <a:t>Вариант</a:t>
            </a:r>
            <a:r>
              <a:rPr b="0" lang="ru-RU" sz="2800" spc="-1" strike="noStrike">
                <a:solidFill>
                  <a:srgbClr val="126507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10"/>
              <p:cNvSpPr txBox="1"/>
              <p:nvPr/>
            </p:nvSpPr>
            <p:spPr>
              <a:xfrm>
                <a:off x="228600" y="2590920"/>
                <a:ext cx="20574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11"/>
              <p:cNvSpPr txBox="1"/>
              <p:nvPr/>
            </p:nvSpPr>
            <p:spPr>
              <a:xfrm>
                <a:off x="2786040" y="2571840"/>
                <a:ext cx="914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12"/>
              <p:cNvSpPr txBox="1"/>
              <p:nvPr/>
            </p:nvSpPr>
            <p:spPr>
              <a:xfrm>
                <a:off x="228600" y="3276720"/>
                <a:ext cx="2514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13"/>
              <p:cNvSpPr txBox="1"/>
              <p:nvPr/>
            </p:nvSpPr>
            <p:spPr>
              <a:xfrm>
                <a:off x="2743200" y="3276720"/>
                <a:ext cx="142236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36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14"/>
              <p:cNvSpPr txBox="1"/>
              <p:nvPr/>
            </p:nvSpPr>
            <p:spPr>
              <a:xfrm>
                <a:off x="228600" y="3962520"/>
                <a:ext cx="22813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7,8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15"/>
              <p:cNvSpPr txBox="1"/>
              <p:nvPr/>
            </p:nvSpPr>
            <p:spPr>
              <a:xfrm>
                <a:off x="2714760" y="3929040"/>
                <a:ext cx="15476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7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Object 16"/>
              <p:cNvSpPr txBox="1"/>
              <p:nvPr/>
            </p:nvSpPr>
            <p:spPr>
              <a:xfrm>
                <a:off x="228600" y="4648320"/>
                <a:ext cx="25066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47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Object 17"/>
              <p:cNvSpPr txBox="1"/>
              <p:nvPr/>
            </p:nvSpPr>
            <p:spPr>
              <a:xfrm>
                <a:off x="2743200" y="4648320"/>
                <a:ext cx="1176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Object 18"/>
              <p:cNvSpPr txBox="1"/>
              <p:nvPr/>
            </p:nvSpPr>
            <p:spPr>
              <a:xfrm>
                <a:off x="4857840" y="2000160"/>
                <a:ext cx="20937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Object 19"/>
              <p:cNvSpPr txBox="1"/>
              <p:nvPr/>
            </p:nvSpPr>
            <p:spPr>
              <a:xfrm>
                <a:off x="7215120" y="2000160"/>
                <a:ext cx="8636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Object 20"/>
              <p:cNvSpPr txBox="1"/>
              <p:nvPr/>
            </p:nvSpPr>
            <p:spPr>
              <a:xfrm>
                <a:off x="4724280" y="2514600"/>
                <a:ext cx="2629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Object 21"/>
              <p:cNvSpPr txBox="1"/>
              <p:nvPr/>
            </p:nvSpPr>
            <p:spPr>
              <a:xfrm>
                <a:off x="7315200" y="2514600"/>
                <a:ext cx="1276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Object 22"/>
              <p:cNvSpPr txBox="1"/>
              <p:nvPr/>
            </p:nvSpPr>
            <p:spPr>
              <a:xfrm>
                <a:off x="4786200" y="3143160"/>
                <a:ext cx="25146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14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0" name="Object 23"/>
              <p:cNvSpPr txBox="1"/>
              <p:nvPr/>
            </p:nvSpPr>
            <p:spPr>
              <a:xfrm>
                <a:off x="7358040" y="3214800"/>
                <a:ext cx="10666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5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1" name="Object 24"/>
              <p:cNvSpPr txBox="1"/>
              <p:nvPr/>
            </p:nvSpPr>
            <p:spPr>
              <a:xfrm>
                <a:off x="4857840" y="3857760"/>
                <a:ext cx="22096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,</m:t>
                    </m:r>
                    <m:r>
                      <m:t xml:space="preserve">7</m:t>
                    </m:r>
                    <m:r>
                      <m:t xml:space="preserve">⋅</m:t>
                    </m:r>
                    <m:r>
                      <m:t xml:space="preserve">0,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Object 25"/>
              <p:cNvSpPr txBox="1"/>
              <p:nvPr/>
            </p:nvSpPr>
            <p:spPr>
              <a:xfrm>
                <a:off x="7358040" y="3857760"/>
                <a:ext cx="99072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26"/>
              <p:cNvSpPr txBox="1"/>
              <p:nvPr/>
            </p:nvSpPr>
            <p:spPr>
              <a:xfrm>
                <a:off x="4876920" y="4572000"/>
                <a:ext cx="2117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27"/>
              <p:cNvSpPr txBox="1"/>
              <p:nvPr/>
            </p:nvSpPr>
            <p:spPr>
              <a:xfrm>
                <a:off x="7286760" y="4572000"/>
                <a:ext cx="10476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ЫПОЛНИТЬ САМОСТОЯТЕЛЬНО УМНОЖЕНИЕ ДЕСЯТИЧНЫХ ДРОБЕЙ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1500120" y="3143160"/>
            <a:ext cx="5076720" cy="928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" descr=""/>
          <p:cNvPicPr/>
          <p:nvPr/>
        </p:nvPicPr>
        <p:blipFill>
          <a:blip r:embed="rId2"/>
          <a:stretch/>
        </p:blipFill>
        <p:spPr>
          <a:xfrm>
            <a:off x="1500120" y="4429080"/>
            <a:ext cx="6043680" cy="12146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" descr=""/>
          <p:cNvPicPr/>
          <p:nvPr/>
        </p:nvPicPr>
        <p:blipFill>
          <a:blip r:embed="rId3"/>
          <a:stretch/>
        </p:blipFill>
        <p:spPr>
          <a:xfrm>
            <a:off x="1428840" y="1928880"/>
            <a:ext cx="59292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"/>
          <p:cNvSpPr/>
          <p:nvPr/>
        </p:nvSpPr>
        <p:spPr>
          <a:xfrm>
            <a:off x="642960" y="1061280"/>
            <a:ext cx="7572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умножить десятичную дробь на 0,1; 0,01; 0,001? 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сколько цифр и в какую сторону надо перенести запятую при умножении на 0,001? 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формулируйте правило умножения на десятичную дробь. 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адо сделать при умножении на </a:t>
            </a:r>
            <a:r>
              <a:rPr b="1" i="1" lang="ru-RU" sz="2400" spc="-1" strike="noStrike">
                <a:solidFill>
                  <a:srgbClr val="002bb8"/>
                </a:solidFill>
                <a:latin typeface="Arial"/>
                <a:ea typeface="Times New Roman"/>
              </a:rPr>
              <a:t>десятичную дроб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если в произведении меньше цифр, чем надо отделить запят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ДОМАШНЕЕ ЗАДА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1523880" y="2209680"/>
          <a:ext cx="6096240" cy="3353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3530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Прочитать теоретический материал п.36  на стр. 214. учеб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Выполнить письменн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базовый уровень №1432 выполните умножение, №1390 решение задачи на нахождение площади прямоугольника стр.2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повышенный уровень №1401 придумайте задачу, которая решалась бы умножением, №1403 найти значение произведения трех множителей, №1400 увеличение числ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олимпиадный уровень № 1404 найти значение выражения, используя распределительное свойство умножения, №1424 решите логическую задач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Подготовить устный рассказ «Для чего человеку нужны десятичные дроби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0"/>
          <p:cNvSpPr/>
          <p:nvPr/>
        </p:nvSpPr>
        <p:spPr>
          <a:xfrm>
            <a:off x="1835280" y="2060640"/>
            <a:ext cx="5976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ПОКАЖИ  СВОЁ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НАСТРО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Monotype Corsiva"/>
              </a:rPr>
              <a:t>и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24" descr="4d123fbc6b642667114737f0590440a5"/>
          <p:cNvPicPr/>
          <p:nvPr/>
        </p:nvPicPr>
        <p:blipFill>
          <a:blip r:embed="rId1"/>
          <a:stretch/>
        </p:blipFill>
        <p:spPr>
          <a:xfrm>
            <a:off x="395280" y="5084640"/>
            <a:ext cx="2800440" cy="9954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6" descr="26a8bc3773f1f0871eb342d8d742252b"/>
          <p:cNvPicPr/>
          <p:nvPr/>
        </p:nvPicPr>
        <p:blipFill>
          <a:blip r:embed="rId2"/>
          <a:stretch/>
        </p:blipFill>
        <p:spPr>
          <a:xfrm>
            <a:off x="6804000" y="5013360"/>
            <a:ext cx="1231920" cy="123192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WordArt 28"/>
          <p:cNvSpPr txBox="1"/>
          <p:nvPr/>
        </p:nvSpPr>
        <p:spPr>
          <a:xfrm>
            <a:off x="0" y="189000"/>
            <a:ext cx="6588000" cy="223200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fca00"/>
                </a:solidFill>
                <a:latin typeface="Times New Roman"/>
              </a:rPr>
              <a:t>ито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fca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785520"/>
            <a:ext cx="74674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</a:t>
            </a: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ВЫПОЛНИТЬ ДЕЙСТВИЯ С  ДЕСЯТИЧНЫМИ ДРОБЯМИ</a:t>
            </a:r>
            <a:endParaRPr b="0" lang="en-US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040" y="1500120"/>
            <a:ext cx="3643200" cy="16430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4714920" y="1785960"/>
            <a:ext cx="3786120" cy="128592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9" descr=""/>
          <p:cNvPicPr/>
          <p:nvPr/>
        </p:nvPicPr>
        <p:blipFill>
          <a:blip r:embed="rId3"/>
          <a:stretch/>
        </p:blipFill>
        <p:spPr>
          <a:xfrm>
            <a:off x="642960" y="3429000"/>
            <a:ext cx="3643200" cy="357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" descr=""/>
          <p:cNvPicPr/>
          <p:nvPr/>
        </p:nvPicPr>
        <p:blipFill>
          <a:blip r:embed="rId4"/>
          <a:stretch/>
        </p:blipFill>
        <p:spPr>
          <a:xfrm>
            <a:off x="714240" y="3929040"/>
            <a:ext cx="3714840" cy="2858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1" descr=""/>
          <p:cNvPicPr/>
          <p:nvPr/>
        </p:nvPicPr>
        <p:blipFill>
          <a:blip r:embed="rId5"/>
          <a:stretch/>
        </p:blipFill>
        <p:spPr>
          <a:xfrm>
            <a:off x="5143680" y="3429000"/>
            <a:ext cx="3143160" cy="3571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"/>
          <p:cNvPicPr/>
          <p:nvPr/>
        </p:nvPicPr>
        <p:blipFill>
          <a:blip r:embed="rId6"/>
          <a:stretch/>
        </p:blipFill>
        <p:spPr>
          <a:xfrm>
            <a:off x="5286240" y="3929040"/>
            <a:ext cx="3000600" cy="2858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3" descr=""/>
          <p:cNvPicPr/>
          <p:nvPr/>
        </p:nvPicPr>
        <p:blipFill>
          <a:blip r:embed="rId7"/>
          <a:stretch/>
        </p:blipFill>
        <p:spPr>
          <a:xfrm>
            <a:off x="3000240" y="4500720"/>
            <a:ext cx="29289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5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РАСПРЕДЕЛИТЕ ДАННЫЕ ВЫРАЖЕНИЯ НА ГРУППЫ ПО СТОЛБИКАМ, ВЫПОЛНИТЕ ДЕЙСТВИЯ И ОТВЕТ ОБОСНУЙТЕ.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571680" y="2000160"/>
          <a:ext cx="7467480" cy="3468600"/>
        </p:xfrm>
        <a:graphic>
          <a:graphicData uri="http://schemas.openxmlformats.org/drawingml/2006/table">
            <a:tbl>
              <a:tblPr/>
              <a:tblGrid>
                <a:gridCol w="2489040"/>
                <a:gridCol w="2489040"/>
                <a:gridCol w="2489400"/>
              </a:tblGrid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0,3∙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-0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,25∙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26-0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4+0,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1- 0,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34+0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18∙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1-0,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7∙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-0,4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4∙0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69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2∙0,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4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7∙0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+0,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ЗАДАЧ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еловек идет со скоростью 4,6 км/ч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акое расстояние он пройдет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) за 3 ч; б) за 0,1 ч; в) за 0,3 ч?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РЕШЕНИЕ ЗАДАЧ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Прямоугольник 2"/>
          <p:cNvSpPr/>
          <p:nvPr/>
        </p:nvSpPr>
        <p:spPr>
          <a:xfrm>
            <a:off x="500040" y="171468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3 ч человек пройдет 4,6 • 3, то есть 13,8 к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За 0,1 ч, то есть за       ч, человек пройдет в 10 раз меньше, чем за 1 ч, то есть он пройдет (4,6 : 10) км, или 0,46 к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Так как 0,3 =       ч, то путь, пройденный за 0,3 ч, втрое больше пути, пройденного за 0,1 ч. Он равен (0,46 • 3) км, то есть 1,38 км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Object 2"/>
              <p:cNvSpPr txBox="1"/>
              <p:nvPr/>
            </p:nvSpPr>
            <p:spPr>
              <a:xfrm>
                <a:off x="3643200" y="2214720"/>
                <a:ext cx="4287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Object 3"/>
              <p:cNvSpPr txBox="1"/>
              <p:nvPr/>
            </p:nvSpPr>
            <p:spPr>
              <a:xfrm>
                <a:off x="2714760" y="3643200"/>
                <a:ext cx="4284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СДЕЛАЙТЕ ОБОБЩЕНИЕ ПО СЛЕДУЮЩИМ ПРЕДЛОЖЕНИЯМ ЗАДАЧИ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 как путь равен произведению скорости движения и времени, то надо считать, что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,6 • 0,1 = 0,46.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от же результат получается при 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елении  4,6 на 10,  то есть 4,6 : 10 = 0,46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ратите внимание на то, что один и тот же ответ получается при различных действиях с дробями, сделайте выво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          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ЫВОД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к как при различных действиях получились равные значения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,6 • 0,1 = 0,46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,6  : 10  = 0,46,   то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 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Умножить число на 0,1;   0,01;  0,001 —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о же самое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разделить его на 10, 100, 1000»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ЧТОБЫ УМНОЖИТЬ ДЕСЯТИЧНЫЕ ДРОБИ, НУЖНО: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писать числа в столби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множить их не обращая внимания на запяты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считать количество знаков после запятой в обоих множителя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произведении отделить запятой справа получившееся число зна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4"/>
          <p:cNvSpPr/>
          <p:nvPr/>
        </p:nvSpPr>
        <p:spPr>
          <a:xfrm>
            <a:off x="0" y="260280"/>
            <a:ext cx="4464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Умножение десятичной дроби на натуральное чис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4680000" y="260280"/>
            <a:ext cx="43210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Умножение десятичной дроби на десятичную др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475"/>
          <p:cNvGrpSpPr/>
          <p:nvPr/>
        </p:nvGrpSpPr>
        <p:grpSpPr>
          <a:xfrm>
            <a:off x="6227640" y="873000"/>
            <a:ext cx="2376720" cy="1390680"/>
            <a:chOff x="6227640" y="873000"/>
            <a:chExt cx="2376720" cy="1390680"/>
          </a:xfrm>
        </p:grpSpPr>
        <p:sp>
          <p:nvSpPr>
            <p:cNvPr id="379" name="Text Box 405"/>
            <p:cNvSpPr/>
            <p:nvPr/>
          </p:nvSpPr>
          <p:spPr>
            <a:xfrm>
              <a:off x="8064360" y="87300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406"/>
            <p:cNvSpPr/>
            <p:nvPr/>
          </p:nvSpPr>
          <p:spPr>
            <a:xfrm>
              <a:off x="7416720" y="87300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407"/>
            <p:cNvSpPr/>
            <p:nvPr/>
          </p:nvSpPr>
          <p:spPr>
            <a:xfrm>
              <a:off x="6840360" y="87300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408"/>
            <p:cNvSpPr/>
            <p:nvPr/>
          </p:nvSpPr>
          <p:spPr>
            <a:xfrm>
              <a:off x="6227640" y="87300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423"/>
            <p:cNvSpPr/>
            <p:nvPr/>
          </p:nvSpPr>
          <p:spPr>
            <a:xfrm>
              <a:off x="6443640" y="1197000"/>
              <a:ext cx="5396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657"/>
          <p:cNvGrpSpPr/>
          <p:nvPr/>
        </p:nvGrpSpPr>
        <p:grpSpPr>
          <a:xfrm>
            <a:off x="7451640" y="1881360"/>
            <a:ext cx="1115640" cy="1427040"/>
            <a:chOff x="7451640" y="1881360"/>
            <a:chExt cx="1115640" cy="1427040"/>
          </a:xfrm>
        </p:grpSpPr>
        <p:sp>
          <p:nvSpPr>
            <p:cNvPr id="385" name="Text Box 410"/>
            <p:cNvSpPr/>
            <p:nvPr/>
          </p:nvSpPr>
          <p:spPr>
            <a:xfrm>
              <a:off x="8027640" y="18813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415"/>
            <p:cNvSpPr/>
            <p:nvPr/>
          </p:nvSpPr>
          <p:spPr>
            <a:xfrm>
              <a:off x="7451640" y="18813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424"/>
            <p:cNvSpPr/>
            <p:nvPr/>
          </p:nvSpPr>
          <p:spPr>
            <a:xfrm>
              <a:off x="7738920" y="2241720"/>
              <a:ext cx="5392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673"/>
          <p:cNvGrpSpPr/>
          <p:nvPr/>
        </p:nvGrpSpPr>
        <p:grpSpPr>
          <a:xfrm>
            <a:off x="5653080" y="5084640"/>
            <a:ext cx="2951280" cy="1371960"/>
            <a:chOff x="5653080" y="5084640"/>
            <a:chExt cx="2951280" cy="1371960"/>
          </a:xfrm>
        </p:grpSpPr>
        <p:sp>
          <p:nvSpPr>
            <p:cNvPr id="389" name="Text Box 416"/>
            <p:cNvSpPr/>
            <p:nvPr/>
          </p:nvSpPr>
          <p:spPr>
            <a:xfrm>
              <a:off x="8064360" y="508464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417"/>
            <p:cNvSpPr/>
            <p:nvPr/>
          </p:nvSpPr>
          <p:spPr>
            <a:xfrm>
              <a:off x="7453440" y="5084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18"/>
            <p:cNvSpPr/>
            <p:nvPr/>
          </p:nvSpPr>
          <p:spPr>
            <a:xfrm>
              <a:off x="6877080" y="5084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19"/>
            <p:cNvSpPr/>
            <p:nvPr/>
          </p:nvSpPr>
          <p:spPr>
            <a:xfrm>
              <a:off x="6264360" y="5084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420"/>
            <p:cNvSpPr/>
            <p:nvPr/>
          </p:nvSpPr>
          <p:spPr>
            <a:xfrm>
              <a:off x="5653080" y="5084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425"/>
          <p:cNvSpPr/>
          <p:nvPr/>
        </p:nvSpPr>
        <p:spPr>
          <a:xfrm>
            <a:off x="5904000" y="5445000"/>
            <a:ext cx="539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26"/>
          <p:cNvSpPr/>
          <p:nvPr/>
        </p:nvSpPr>
        <p:spPr>
          <a:xfrm>
            <a:off x="5651640" y="1665360"/>
            <a:ext cx="539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rc 427"/>
          <p:cNvSpPr/>
          <p:nvPr/>
        </p:nvSpPr>
        <p:spPr>
          <a:xfrm flipV="1">
            <a:off x="6840360" y="1988280"/>
            <a:ext cx="1764000" cy="179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rc 428"/>
          <p:cNvSpPr/>
          <p:nvPr/>
        </p:nvSpPr>
        <p:spPr>
          <a:xfrm flipV="1">
            <a:off x="6840360" y="1988280"/>
            <a:ext cx="1764000" cy="179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rc 429"/>
          <p:cNvSpPr/>
          <p:nvPr/>
        </p:nvSpPr>
        <p:spPr>
          <a:xfrm flipV="1">
            <a:off x="8136000" y="2959920"/>
            <a:ext cx="503280" cy="181080"/>
          </a:xfrm>
          <a:prstGeom prst="pie">
            <a:avLst/>
          </a:pr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478"/>
          <p:cNvSpPr/>
          <p:nvPr/>
        </p:nvSpPr>
        <p:spPr>
          <a:xfrm>
            <a:off x="6192720" y="321300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79"/>
          <p:cNvSpPr/>
          <p:nvPr/>
        </p:nvSpPr>
        <p:spPr>
          <a:xfrm>
            <a:off x="900000" y="1773360"/>
            <a:ext cx="540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Tahoma"/>
              </a:rPr>
              <a:t>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Group 486"/>
          <p:cNvGrpSpPr/>
          <p:nvPr/>
        </p:nvGrpSpPr>
        <p:grpSpPr>
          <a:xfrm>
            <a:off x="1547640" y="909720"/>
            <a:ext cx="1728720" cy="1390680"/>
            <a:chOff x="1547640" y="909720"/>
            <a:chExt cx="1728720" cy="1390680"/>
          </a:xfrm>
        </p:grpSpPr>
        <p:sp>
          <p:nvSpPr>
            <p:cNvPr id="402" name="Text Box 482"/>
            <p:cNvSpPr/>
            <p:nvPr/>
          </p:nvSpPr>
          <p:spPr>
            <a:xfrm>
              <a:off x="2736720" y="909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483"/>
            <p:cNvSpPr/>
            <p:nvPr/>
          </p:nvSpPr>
          <p:spPr>
            <a:xfrm>
              <a:off x="2160360" y="909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484"/>
            <p:cNvSpPr/>
            <p:nvPr/>
          </p:nvSpPr>
          <p:spPr>
            <a:xfrm>
              <a:off x="1547640" y="909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485"/>
            <p:cNvSpPr/>
            <p:nvPr/>
          </p:nvSpPr>
          <p:spPr>
            <a:xfrm>
              <a:off x="1763640" y="1233720"/>
              <a:ext cx="5396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7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Group 510"/>
          <p:cNvGrpSpPr/>
          <p:nvPr/>
        </p:nvGrpSpPr>
        <p:grpSpPr>
          <a:xfrm>
            <a:off x="1547640" y="3033720"/>
            <a:ext cx="1692360" cy="1371960"/>
            <a:chOff x="1547640" y="3033720"/>
            <a:chExt cx="1692360" cy="1371960"/>
          </a:xfrm>
        </p:grpSpPr>
        <p:sp>
          <p:nvSpPr>
            <p:cNvPr id="407" name="Text Box 488"/>
            <p:cNvSpPr/>
            <p:nvPr/>
          </p:nvSpPr>
          <p:spPr>
            <a:xfrm>
              <a:off x="2700360" y="3033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489"/>
            <p:cNvSpPr/>
            <p:nvPr/>
          </p:nvSpPr>
          <p:spPr>
            <a:xfrm>
              <a:off x="2160720" y="3033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490"/>
            <p:cNvSpPr/>
            <p:nvPr/>
          </p:nvSpPr>
          <p:spPr>
            <a:xfrm>
              <a:off x="1547640" y="303372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491"/>
          <p:cNvSpPr/>
          <p:nvPr/>
        </p:nvSpPr>
        <p:spPr>
          <a:xfrm>
            <a:off x="1727280" y="5516640"/>
            <a:ext cx="539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rc 492"/>
          <p:cNvSpPr/>
          <p:nvPr/>
        </p:nvSpPr>
        <p:spPr>
          <a:xfrm flipV="1">
            <a:off x="2158920" y="2023920"/>
            <a:ext cx="104472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494"/>
          <p:cNvSpPr/>
          <p:nvPr/>
        </p:nvSpPr>
        <p:spPr>
          <a:xfrm>
            <a:off x="1368360" y="3141720"/>
            <a:ext cx="190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509"/>
          <p:cNvGrpSpPr/>
          <p:nvPr/>
        </p:nvGrpSpPr>
        <p:grpSpPr>
          <a:xfrm>
            <a:off x="2087640" y="1952640"/>
            <a:ext cx="1152360" cy="1419480"/>
            <a:chOff x="2087640" y="1952640"/>
            <a:chExt cx="1152360" cy="1419480"/>
          </a:xfrm>
        </p:grpSpPr>
        <p:sp>
          <p:nvSpPr>
            <p:cNvPr id="414" name="Text Box 481"/>
            <p:cNvSpPr/>
            <p:nvPr/>
          </p:nvSpPr>
          <p:spPr>
            <a:xfrm>
              <a:off x="2700360" y="20001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495"/>
            <p:cNvSpPr/>
            <p:nvPr/>
          </p:nvSpPr>
          <p:spPr>
            <a:xfrm>
              <a:off x="2087640" y="1952640"/>
              <a:ext cx="539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655"/>
          <p:cNvGrpSpPr/>
          <p:nvPr/>
        </p:nvGrpSpPr>
        <p:grpSpPr>
          <a:xfrm>
            <a:off x="971640" y="4076640"/>
            <a:ext cx="1692360" cy="1371960"/>
            <a:chOff x="971640" y="4076640"/>
            <a:chExt cx="1692360" cy="1371960"/>
          </a:xfrm>
        </p:grpSpPr>
        <p:sp>
          <p:nvSpPr>
            <p:cNvPr id="417" name="Text Box 512"/>
            <p:cNvSpPr/>
            <p:nvPr/>
          </p:nvSpPr>
          <p:spPr>
            <a:xfrm>
              <a:off x="2124000" y="407664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513"/>
            <p:cNvSpPr/>
            <p:nvPr/>
          </p:nvSpPr>
          <p:spPr>
            <a:xfrm>
              <a:off x="1511280" y="4076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514"/>
            <p:cNvSpPr/>
            <p:nvPr/>
          </p:nvSpPr>
          <p:spPr>
            <a:xfrm>
              <a:off x="971640" y="407664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Line 543"/>
          <p:cNvSpPr/>
          <p:nvPr/>
        </p:nvSpPr>
        <p:spPr>
          <a:xfrm>
            <a:off x="863640" y="5265720"/>
            <a:ext cx="241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656"/>
          <p:cNvGrpSpPr/>
          <p:nvPr/>
        </p:nvGrpSpPr>
        <p:grpSpPr>
          <a:xfrm>
            <a:off x="863640" y="5229360"/>
            <a:ext cx="2376360" cy="1371960"/>
            <a:chOff x="863640" y="5229360"/>
            <a:chExt cx="2376360" cy="1371960"/>
          </a:xfrm>
        </p:grpSpPr>
        <p:sp>
          <p:nvSpPr>
            <p:cNvPr id="422" name="Text Box 545"/>
            <p:cNvSpPr/>
            <p:nvPr/>
          </p:nvSpPr>
          <p:spPr>
            <a:xfrm>
              <a:off x="2700360" y="52293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546"/>
            <p:cNvSpPr/>
            <p:nvPr/>
          </p:nvSpPr>
          <p:spPr>
            <a:xfrm>
              <a:off x="2124000" y="522936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547"/>
            <p:cNvSpPr/>
            <p:nvPr/>
          </p:nvSpPr>
          <p:spPr>
            <a:xfrm>
              <a:off x="1440000" y="52293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548"/>
            <p:cNvSpPr/>
            <p:nvPr/>
          </p:nvSpPr>
          <p:spPr>
            <a:xfrm>
              <a:off x="863640" y="522936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Text Box 551"/>
          <p:cNvSpPr/>
          <p:nvPr/>
        </p:nvSpPr>
        <p:spPr>
          <a:xfrm>
            <a:off x="287280" y="3753000"/>
            <a:ext cx="539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rc 658"/>
          <p:cNvSpPr/>
          <p:nvPr/>
        </p:nvSpPr>
        <p:spPr>
          <a:xfrm flipV="1">
            <a:off x="8101080" y="2959920"/>
            <a:ext cx="503280" cy="181080"/>
          </a:xfrm>
          <a:prstGeom prst="pie">
            <a:avLst/>
          </a:pr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659"/>
          <p:cNvSpPr/>
          <p:nvPr/>
        </p:nvSpPr>
        <p:spPr>
          <a:xfrm>
            <a:off x="5435640" y="5300640"/>
            <a:ext cx="3168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666"/>
          <p:cNvGrpSpPr/>
          <p:nvPr/>
        </p:nvGrpSpPr>
        <p:grpSpPr>
          <a:xfrm>
            <a:off x="6227640" y="3033720"/>
            <a:ext cx="2376720" cy="1371960"/>
            <a:chOff x="6227640" y="3033720"/>
            <a:chExt cx="2376720" cy="1371960"/>
          </a:xfrm>
        </p:grpSpPr>
        <p:sp>
          <p:nvSpPr>
            <p:cNvPr id="430" name="Text Box 661"/>
            <p:cNvSpPr/>
            <p:nvPr/>
          </p:nvSpPr>
          <p:spPr>
            <a:xfrm>
              <a:off x="8064360" y="303372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662"/>
            <p:cNvSpPr/>
            <p:nvPr/>
          </p:nvSpPr>
          <p:spPr>
            <a:xfrm>
              <a:off x="7416720" y="303372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663"/>
            <p:cNvSpPr/>
            <p:nvPr/>
          </p:nvSpPr>
          <p:spPr>
            <a:xfrm>
              <a:off x="6840360" y="303372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664"/>
            <p:cNvSpPr/>
            <p:nvPr/>
          </p:nvSpPr>
          <p:spPr>
            <a:xfrm>
              <a:off x="6227640" y="3033720"/>
              <a:ext cx="54000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667"/>
          <p:cNvGrpSpPr/>
          <p:nvPr/>
        </p:nvGrpSpPr>
        <p:grpSpPr>
          <a:xfrm>
            <a:off x="5616720" y="4041720"/>
            <a:ext cx="2376000" cy="1371960"/>
            <a:chOff x="5616720" y="4041720"/>
            <a:chExt cx="2376000" cy="1371960"/>
          </a:xfrm>
        </p:grpSpPr>
        <p:sp>
          <p:nvSpPr>
            <p:cNvPr id="435" name="Text Box 668"/>
            <p:cNvSpPr/>
            <p:nvPr/>
          </p:nvSpPr>
          <p:spPr>
            <a:xfrm>
              <a:off x="7453080" y="4041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669"/>
            <p:cNvSpPr/>
            <p:nvPr/>
          </p:nvSpPr>
          <p:spPr>
            <a:xfrm>
              <a:off x="6805440" y="4041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670"/>
            <p:cNvSpPr/>
            <p:nvPr/>
          </p:nvSpPr>
          <p:spPr>
            <a:xfrm>
              <a:off x="6229080" y="4041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671"/>
            <p:cNvSpPr/>
            <p:nvPr/>
          </p:nvSpPr>
          <p:spPr>
            <a:xfrm>
              <a:off x="5616720" y="4041720"/>
              <a:ext cx="539640" cy="13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672"/>
          <p:cNvSpPr/>
          <p:nvPr/>
        </p:nvSpPr>
        <p:spPr>
          <a:xfrm>
            <a:off x="5076720" y="3789360"/>
            <a:ext cx="540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rc 674"/>
          <p:cNvSpPr/>
          <p:nvPr/>
        </p:nvSpPr>
        <p:spPr>
          <a:xfrm flipV="1">
            <a:off x="2124000" y="6308640"/>
            <a:ext cx="104472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rc 676"/>
          <p:cNvSpPr/>
          <p:nvPr/>
        </p:nvSpPr>
        <p:spPr>
          <a:xfrm flipV="1">
            <a:off x="2158920" y="2023920"/>
            <a:ext cx="104472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679"/>
          <p:cNvGrpSpPr/>
          <p:nvPr/>
        </p:nvGrpSpPr>
        <p:grpSpPr>
          <a:xfrm>
            <a:off x="6300720" y="6200280"/>
            <a:ext cx="2340000" cy="181080"/>
            <a:chOff x="6300720" y="6200280"/>
            <a:chExt cx="2340000" cy="181080"/>
          </a:xfrm>
        </p:grpSpPr>
        <p:sp>
          <p:nvSpPr>
            <p:cNvPr id="443" name="Arc 677"/>
            <p:cNvSpPr/>
            <p:nvPr/>
          </p:nvSpPr>
          <p:spPr>
            <a:xfrm flipV="1">
              <a:off x="6300720" y="6199920"/>
              <a:ext cx="503280" cy="181080"/>
            </a:xfrm>
            <a:prstGeom prst="pie">
              <a:avLst/>
            </a:prstGeom>
            <a:noFill/>
            <a:ln w="101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rc 678"/>
            <p:cNvSpPr/>
            <p:nvPr/>
          </p:nvSpPr>
          <p:spPr>
            <a:xfrm flipV="1">
              <a:off x="6877080" y="6199920"/>
              <a:ext cx="1763640" cy="17964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Text Box 481"/>
          <p:cNvSpPr/>
          <p:nvPr/>
        </p:nvSpPr>
        <p:spPr>
          <a:xfrm>
            <a:off x="2214720" y="2000160"/>
            <a:ext cx="5396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" dur="3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 -0.02085 C 0.10868 0.04819 0.15833 0.11747 0.17483 0.20621 C 0.19132 0.29495 0.17778 0.43721 0.15781 0.51112 C 0.13785 0.58503 0.08316 0.62952 0.05521 0.64991 C 0.02726 0.67029 0.00868 0.65222 -0.00972 0.63415 E">
                                      <p:cBhvr>
                                        <p:cTn id="76" dur="2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evt="end">
                                        <p:tn val="75"/>
                                      </p:cond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3" presetSubtype="16" repeatCount="2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 repeatCount="5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100000001490116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3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3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23" presetSubtype="16" repeatCount="2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23" presetSubtype="16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8.34106E-008 C -0.02413 0.00602 -0.04826 0.01228 -0.07135 0.02618 C -0.09444 0.04008 -0.12031 0.06487 -0.13888 0.08341 C -0.15746 0.10195 -0.16649 0.1133 -0.18316 0.13693 C -0.19982 0.16057 -0.22517 0.19532 -0.23888 0.22544 C -0.2526 0.25556 -0.26041 0.28568 -0.26493 0.31719 C -0.26944 0.3487 -0.26892 0.38299 -0.26614 0.41427 C -0.26336 0.44555 -0.25729 0.47637 -0.24809 0.5044 C -0.23888 0.53244 -0.22343 0.56024 -0.21041 0.58248 C -0.19739 0.60473 -0.19218 0.62419 -0.17013 0.63786 C -0.14809 0.65153 -0.10642 0.66798 -0.07795 0.66404 C -0.04947 0.6601 -0.01545 0.62419 0.00105 0.61353 E">
                                      <p:cBhvr>
                                        <p:cTn id="164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3"/>
                                      </p:cond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1574 C -0.01858 0.01967 -0.03872 0.02361 -0.06719 0.02963 C -0.09566 0.03565 -0.13889 0.04236 -0.16979 0.05208 C -0.2007 0.0618 -0.22726 0.07153 -0.25295 0.08842 C -0.27865 0.10532 -0.30608 0.13541 -0.32431 0.1544 C -0.34254 0.17338 -0.34879 0.18055 -0.36268 0.20301 C -0.37656 0.22546 -0.39792 0.25787 -0.40816 0.28958 C -0.4184 0.32129 -0.42535 0.36157 -0.42379 0.39375 C -0.42222 0.42569 -0.41198 0.45926 -0.39844 0.48194 C -0.3849 0.50463 -0.36198 0.52083 -0.34254 0.53055 C -0.32309 0.54028 -0.30226 0.54143 -0.28212 0.54074 C -0.26198 0.54004 -0.23611 0.53773 -0.2217 0.52639 C -0.20729 0.51504 -0.20087 0.48379 -0.19531 0.47268 E">
                                      <p:cBhvr>
                                        <p:cTn id="174" dur="3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evt="end">
                                        <p:tn val="173"/>
                                      </p:cond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hold" presetClass="entr" presetID="22" presetSubtype="2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2" nodeType="after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3" presetSubtype="32" repeatCount="3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4T18:10:41Z</dcterms:created>
  <dc:creator>Татьяна Петровна</dc:creator>
  <dc:description/>
  <dc:language>en-US</dc:language>
  <cp:lastModifiedBy>Admin</cp:lastModifiedBy>
  <dcterms:modified xsi:type="dcterms:W3CDTF">2016-03-16T08:07:32Z</dcterms:modified>
  <cp:revision>56</cp:revision>
  <dc:subject/>
  <dc:title>Слайд 1</dc:title>
</cp:coreProperties>
</file>