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FC6-AAEA-44BF-8AE9-DC817C56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1BD-0ADE-489A-8CAB-A3F08319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B36-2C28-443F-B16F-EE35A8D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647-2D3E-490A-AC4D-C5ABBE78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522-8CBF-46A2-AD11-CE19143E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4BA-34F3-4516-ADE2-FF7D1A9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C9E-2CAB-40CB-81C8-6D2BEF1A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681-0F07-4CC6-82A3-B6DD5D4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494-902C-4795-8A74-02A7E1F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623-C483-4172-8920-E9D74EF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2B3-FF0D-4875-8988-ACAE538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976-9068-484D-A76A-29D21E2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0B74-2B20-49C0-A951-9D352DEFE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00000" y="476280"/>
            <a:ext cx="7848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Дидактическая игра в начальной школе,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как средство активизации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знавательной деятельности учащихся.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Школьные комплексы и их влияние на жизнь человека"/>
          <p:cNvPicPr/>
          <p:nvPr/>
        </p:nvPicPr>
        <p:blipFill>
          <a:blip r:embed="rId2"/>
          <a:stretch/>
        </p:blipFill>
        <p:spPr>
          <a:xfrm>
            <a:off x="5148360" y="4076640"/>
            <a:ext cx="3348000" cy="228276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бесе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187280" y="126828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Заседание учёных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8" name="Picture 8" descr="Шапки-конфедератки, шапочки магистров и ученых VK"/>
          <p:cNvPicPr/>
          <p:nvPr/>
        </p:nvPicPr>
        <p:blipFill>
          <a:blip r:embed="rId2"/>
          <a:stretch/>
        </p:blipFill>
        <p:spPr>
          <a:xfrm>
            <a:off x="5796000" y="1700280"/>
            <a:ext cx="2857320" cy="21906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119" name="WordArt 11"/>
          <p:cNvSpPr txBox="1"/>
          <p:nvPr/>
        </p:nvSpPr>
        <p:spPr>
          <a:xfrm>
            <a:off x="1116000" y="249228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Круглый стол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2"/>
          <p:cNvSpPr txBox="1"/>
          <p:nvPr/>
        </p:nvSpPr>
        <p:spPr>
          <a:xfrm>
            <a:off x="1116000" y="386064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есс-конференц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Если скучно на уроках... . &quot; WWW.OPEN.AZ - ОТКРОЙ ДЛЯ СЕБЯ АЗЕРБАЙДЖАН!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515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G_1165"/>
          <p:cNvPicPr/>
          <p:nvPr/>
        </p:nvPicPr>
        <p:blipFill>
          <a:blip r:embed="rId3"/>
          <a:srcRect l="0" t="24714" r="0" b="0"/>
          <a:stretch/>
        </p:blipFill>
        <p:spPr>
          <a:xfrm>
            <a:off x="971640" y="189000"/>
            <a:ext cx="3657600" cy="367164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4" name="Picture 8" descr="IMG_1150"/>
          <p:cNvPicPr/>
          <p:nvPr/>
        </p:nvPicPr>
        <p:blipFill>
          <a:blip r:embed="rId4"/>
          <a:stretch/>
        </p:blipFill>
        <p:spPr>
          <a:xfrm>
            <a:off x="5705640" y="189000"/>
            <a:ext cx="3132000" cy="417672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5" name="Picture 9" descr="IMG_1176"/>
          <p:cNvPicPr/>
          <p:nvPr/>
        </p:nvPicPr>
        <p:blipFill>
          <a:blip r:embed="rId5"/>
          <a:srcRect l="4575" t="7502" r="2012" b="22420"/>
          <a:stretch/>
        </p:blipFill>
        <p:spPr>
          <a:xfrm>
            <a:off x="1116000" y="3618000"/>
            <a:ext cx="3240000" cy="324000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6" name="Picture 10" descr="Фото1163"/>
          <p:cNvPicPr/>
          <p:nvPr/>
        </p:nvPicPr>
        <p:blipFill>
          <a:blip r:embed="rId6"/>
          <a:srcRect l="0" t="12832" r="0" b="0"/>
          <a:stretch/>
        </p:blipFill>
        <p:spPr>
          <a:xfrm>
            <a:off x="4859280" y="4005360"/>
            <a:ext cx="4176720" cy="273024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755640" y="333360"/>
            <a:ext cx="81374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... без педагогической игры на уро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возможно увлечь учеников в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ний и нравственных переживаний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елать их активными участниками 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ворцами урока".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003640" y="378936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.А.Амонашви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Picture 9" descr="Семинар Ш. А. Амонашвили &quot;Ребенок: развитие, взросление, сво…"/>
          <p:cNvPicPr/>
          <p:nvPr/>
        </p:nvPicPr>
        <p:blipFill>
          <a:blip r:embed="rId2"/>
          <a:stretch/>
        </p:blipFill>
        <p:spPr>
          <a:xfrm>
            <a:off x="1042920" y="3789360"/>
            <a:ext cx="3673440" cy="275580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116000" y="583200"/>
            <a:ext cx="5832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16000" y="15674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дленный процесс освоения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187280" y="30376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ные особенности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116000" y="40186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о сформирована познавательная мотив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1116000" y="404640"/>
            <a:ext cx="41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2844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ПРИНЦИПЫ:</a:t>
            </a:r>
            <a:endParaRPr b="1" i="1" lang="en-US" sz="1800" spc="1" strike="noStrike">
              <a:ln cap="rnd" w="2844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140360" y="148428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актив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2843280" y="2205000"/>
            <a:ext cx="55832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личностной значим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2700360" y="3284640"/>
            <a:ext cx="579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заинтересован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2627280" y="4221000"/>
            <a:ext cx="5943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коммуникатив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211640" y="5229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дидактизма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1116000" y="476280"/>
            <a:ext cx="41212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cc"/>
                  </a:solidFill>
                  <a:prstDash val="sysDot"/>
                  <a:miter/>
                </a:ln>
                <a:solidFill>
                  <a:srgbClr val="000000"/>
                </a:solidFill>
                <a:latin typeface="Arial"/>
              </a:rPr>
              <a:t>ФУНКЦИИ:</a:t>
            </a:r>
            <a:endParaRPr b="1" lang="en-US" sz="1800" spc="1" strike="noStrike">
              <a:ln w="9360">
                <a:solidFill>
                  <a:srgbClr val="0000cc"/>
                </a:solidFill>
                <a:prstDash val="sysDot"/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403280" y="1413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обучающ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1763640" y="2421000"/>
            <a:ext cx="43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воспитательн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484360" y="3500280"/>
            <a:ext cx="475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ориентационн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2987640" y="4365720"/>
            <a:ext cx="590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мотивационно-побудительна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627280" y="260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утешеств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187280" y="119700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Математическая сказ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187280" y="1844640"/>
            <a:ext cx="61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Остров таинственных чисел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187280" y="249228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Неизвестная плане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258920" y="314172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Заколдованный лес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72" name="Picture 8" descr="Математика 5 класс открытые уроки - Файловый архив"/>
          <p:cNvPicPr/>
          <p:nvPr/>
        </p:nvPicPr>
        <p:blipFill>
          <a:blip r:embed="rId2"/>
          <a:srcRect l="854" t="3387" r="854" b="4639"/>
          <a:stretch/>
        </p:blipFill>
        <p:spPr>
          <a:xfrm>
            <a:off x="5796000" y="4437000"/>
            <a:ext cx="3168720" cy="2224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73" name="Picture 9" descr="Презентация по математике &quot;Путешествие по стране &quot;Математика&quot;&quot; - скачать бесплатно"/>
          <p:cNvPicPr/>
          <p:nvPr/>
        </p:nvPicPr>
        <p:blipFill>
          <a:blip r:embed="rId3"/>
          <a:srcRect l="3658" t="-2134" r="1231" b="17384"/>
          <a:stretch/>
        </p:blipFill>
        <p:spPr>
          <a:xfrm>
            <a:off x="179280" y="4869000"/>
            <a:ext cx="2808360" cy="1873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74" name="Picture 10" descr="Enchanted Garden Wallpaper - Viewing Gallery"/>
          <p:cNvPicPr/>
          <p:nvPr/>
        </p:nvPicPr>
        <p:blipFill>
          <a:blip r:embed="rId4"/>
          <a:stretch/>
        </p:blipFill>
        <p:spPr>
          <a:xfrm>
            <a:off x="3132000" y="3860640"/>
            <a:ext cx="2448000" cy="153036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75" name="WordArt 11"/>
          <p:cNvSpPr txBox="1"/>
          <p:nvPr/>
        </p:nvSpPr>
        <p:spPr>
          <a:xfrm>
            <a:off x="3276720" y="5084640"/>
            <a:ext cx="20620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лдованный л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2627280" y="260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оруч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1654200" y="4005360"/>
            <a:ext cx="1584360" cy="863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2050920" y="4005360"/>
            <a:ext cx="719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pic>
        <p:nvPicPr>
          <p:cNvPr id="80" name="Picture 20" descr="Красный шар с отражением - Стоковое векторное изображение Aleksandr Rozhkov #31005121"/>
          <p:cNvPicPr/>
          <p:nvPr/>
        </p:nvPicPr>
        <p:blipFill>
          <a:blip r:embed="rId2"/>
          <a:srcRect l="65656" t="17094" r="0" b="0"/>
          <a:stretch/>
        </p:blipFill>
        <p:spPr>
          <a:xfrm>
            <a:off x="2050920" y="1413000"/>
            <a:ext cx="1317600" cy="273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Миссия &quot;Фотошоп&quot; Клипарты и скрап наборы: Клипарт - Воздушные шарики"/>
          <p:cNvPicPr/>
          <p:nvPr/>
        </p:nvPicPr>
        <p:blipFill>
          <a:blip r:embed="rId3"/>
          <a:srcRect l="0" t="0" r="37901" b="16448"/>
          <a:stretch/>
        </p:blipFill>
        <p:spPr>
          <a:xfrm>
            <a:off x="1042920" y="620640"/>
            <a:ext cx="1481040" cy="3889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22"/>
          <p:cNvSpPr txBox="1"/>
          <p:nvPr/>
        </p:nvSpPr>
        <p:spPr>
          <a:xfrm>
            <a:off x="1222200" y="2276640"/>
            <a:ext cx="7891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 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1293840" y="981000"/>
            <a:ext cx="789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 6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24"/>
          <p:cNvSpPr txBox="1"/>
          <p:nvPr/>
        </p:nvSpPr>
        <p:spPr>
          <a:xfrm>
            <a:off x="2158920" y="170172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 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6946920" y="4726080"/>
            <a:ext cx="792000" cy="863640"/>
          </a:xfrm>
          <a:prstGeom prst="ellipse">
            <a:avLst/>
          </a:prstGeom>
          <a:solidFill>
            <a:srgbClr val="e2f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6"/>
          <p:cNvSpPr/>
          <p:nvPr/>
        </p:nvSpPr>
        <p:spPr>
          <a:xfrm>
            <a:off x="5830920" y="504180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7738920" y="5041800"/>
            <a:ext cx="1187640" cy="289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8"/>
          <p:cNvSpPr/>
          <p:nvPr/>
        </p:nvSpPr>
        <p:spPr>
          <a:xfrm rot="18148200">
            <a:off x="7289640" y="419400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9"/>
          <p:cNvSpPr/>
          <p:nvPr/>
        </p:nvSpPr>
        <p:spPr>
          <a:xfrm rot="3021600">
            <a:off x="6066000" y="4266720"/>
            <a:ext cx="11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0"/>
          <p:cNvSpPr/>
          <p:nvPr/>
        </p:nvSpPr>
        <p:spPr>
          <a:xfrm rot="3021600">
            <a:off x="7361280" y="5851080"/>
            <a:ext cx="1187640" cy="288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1"/>
          <p:cNvSpPr/>
          <p:nvPr/>
        </p:nvSpPr>
        <p:spPr>
          <a:xfrm rot="18148200">
            <a:off x="6208560" y="592272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164360" y="4797360"/>
            <a:ext cx="4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6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93" name="Picture 36" descr="Картинки звездочки"/>
          <p:cNvPicPr/>
          <p:nvPr/>
        </p:nvPicPr>
        <p:blipFill>
          <a:blip r:embed="rId4"/>
          <a:stretch/>
        </p:blipFill>
        <p:spPr>
          <a:xfrm>
            <a:off x="8172360" y="1989000"/>
            <a:ext cx="77652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Картинки звездочки"/>
          <p:cNvPicPr/>
          <p:nvPr/>
        </p:nvPicPr>
        <p:blipFill>
          <a:blip r:embed="rId5"/>
          <a:stretch/>
        </p:blipFill>
        <p:spPr>
          <a:xfrm>
            <a:off x="7451640" y="1484280"/>
            <a:ext cx="776520" cy="73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Картинки звездочки"/>
          <p:cNvPicPr/>
          <p:nvPr/>
        </p:nvPicPr>
        <p:blipFill>
          <a:blip r:embed="rId6"/>
          <a:stretch/>
        </p:blipFill>
        <p:spPr>
          <a:xfrm>
            <a:off x="8028000" y="836640"/>
            <a:ext cx="776160" cy="731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9"/>
          <p:cNvSpPr/>
          <p:nvPr/>
        </p:nvSpPr>
        <p:spPr>
          <a:xfrm>
            <a:off x="6443640" y="981000"/>
            <a:ext cx="1655640" cy="165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0"/>
          <p:cNvSpPr txBox="1"/>
          <p:nvPr/>
        </p:nvSpPr>
        <p:spPr>
          <a:xfrm>
            <a:off x="7380360" y="40464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8" name="Picture 60" descr="картинки и анимации. - Самое интересное в блогах"/>
          <p:cNvPicPr/>
          <p:nvPr/>
        </p:nvPicPr>
        <p:blipFill>
          <a:blip r:embed="rId7"/>
          <a:srcRect l="941" t="35447" r="0" b="0"/>
          <a:stretch/>
        </p:blipFill>
        <p:spPr>
          <a:xfrm>
            <a:off x="3995640" y="907920"/>
            <a:ext cx="1613160" cy="184464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99" name="WordArt 61"/>
          <p:cNvSpPr txBox="1"/>
          <p:nvPr/>
        </p:nvSpPr>
        <p:spPr>
          <a:xfrm>
            <a:off x="4284720" y="2781360"/>
            <a:ext cx="9604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+2=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62"/>
          <p:cNvSpPr txBox="1"/>
          <p:nvPr/>
        </p:nvSpPr>
        <p:spPr>
          <a:xfrm>
            <a:off x="4284720" y="3141720"/>
            <a:ext cx="9604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63"/>
          <p:cNvSpPr txBox="1"/>
          <p:nvPr/>
        </p:nvSpPr>
        <p:spPr>
          <a:xfrm>
            <a:off x="4284720" y="3500280"/>
            <a:ext cx="960480" cy="2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+2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65" descr="Путешествие в страну занимательной математики 1 класс презентация"/>
          <p:cNvPicPr/>
          <p:nvPr/>
        </p:nvPicPr>
        <p:blipFill>
          <a:blip r:embed="rId8"/>
          <a:stretch/>
        </p:blipFill>
        <p:spPr>
          <a:xfrm>
            <a:off x="3276720" y="4581360"/>
            <a:ext cx="2717640" cy="20466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редполож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Picture 8" descr="Круглые часы картинка на прозрачном фоне скачать картинки, клипарты, фото, обои, рисунки, иконки, шрифты, векторный, растровый к"/>
          <p:cNvPicPr/>
          <p:nvPr/>
        </p:nvPicPr>
        <p:blipFill>
          <a:blip r:embed="rId2"/>
          <a:srcRect l="22947" t="19991" r="24404" b="28016"/>
          <a:stretch/>
        </p:blipFill>
        <p:spPr>
          <a:xfrm>
            <a:off x="118728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Символика юридической тематики - Клипарты - - Проекты для скачивания - фотоархив-клипарт"/>
          <p:cNvPicPr/>
          <p:nvPr/>
        </p:nvPicPr>
        <p:blipFill>
          <a:blip r:embed="rId3"/>
          <a:stretch/>
        </p:blipFill>
        <p:spPr>
          <a:xfrm>
            <a:off x="5003640" y="3645000"/>
            <a:ext cx="3810240" cy="29052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07" name="Picture 37" descr="Фетиши корейских дорам. . Народная десятка! . - Cтатьи пользователей - Блог - Азия-ТВ: аниме и дорамы онлайн"/>
          <p:cNvPicPr/>
          <p:nvPr/>
        </p:nvPicPr>
        <p:blipFill>
          <a:blip r:embed="rId4"/>
          <a:stretch/>
        </p:blipFill>
        <p:spPr>
          <a:xfrm>
            <a:off x="3276720" y="1125360"/>
            <a:ext cx="2004840" cy="250524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108" name="Rectangle 39"/>
          <p:cNvSpPr/>
          <p:nvPr/>
        </p:nvSpPr>
        <p:spPr>
          <a:xfrm>
            <a:off x="1113840" y="12229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Что было бы..?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433480" y="134028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Что бы я сделал...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11" descr="МАТЕМАТИЧЕСКИЕ ЗАГАДКИ ДЛЯ МЛАДШИХ ШКОЛЬНИКОВ - МАТЕМАТИЧЕСКИЕ ЗАДАЧКИ-ГОЛОВОЛОМКИ - МАТЕМАТИЧЕСКИЕ ГОЛОВОЛОМКИ - Каталог статей"/>
          <p:cNvPicPr/>
          <p:nvPr/>
        </p:nvPicPr>
        <p:blipFill>
          <a:blip r:embed="rId2"/>
          <a:stretch/>
        </p:blipFill>
        <p:spPr>
          <a:xfrm>
            <a:off x="4211640" y="1628640"/>
            <a:ext cx="4084560" cy="2521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13" name="Picture 13" descr="Математические головоломки для 5 класса с ответами"/>
          <p:cNvPicPr/>
          <p:nvPr/>
        </p:nvPicPr>
        <p:blipFill>
          <a:blip r:embed="rId3"/>
          <a:stretch/>
        </p:blipFill>
        <p:spPr>
          <a:xfrm>
            <a:off x="1258920" y="1413000"/>
            <a:ext cx="2305080" cy="1981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14" name="Picture 15" descr="Иллюстрация 1 из 3 для Детям о цифрах и числах. Стихи, загадки Лабиринт - книги. Источник: Лабиринт"/>
          <p:cNvPicPr/>
          <p:nvPr/>
        </p:nvPicPr>
        <p:blipFill>
          <a:blip r:embed="rId4"/>
          <a:srcRect l="1776" t="3006" r="1460" b="8223"/>
          <a:stretch/>
        </p:blipFill>
        <p:spPr>
          <a:xfrm>
            <a:off x="1332000" y="4365720"/>
            <a:ext cx="3889440" cy="215892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9:28:11Z</dcterms:created>
  <dc:creator>1</dc:creator>
  <dc:description/>
  <dc:language>en-US</dc:language>
  <cp:lastModifiedBy>User</cp:lastModifiedBy>
  <dcterms:modified xsi:type="dcterms:W3CDTF">2015-04-12T18:58:05Z</dcterms:modified>
  <cp:revision>7</cp:revision>
  <dc:subject/>
  <dc:title>Слайд 1</dc:title>
</cp:coreProperties>
</file>